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33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54C-895B-43C9-85C1-05DC38E4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BDD-94BE-426B-9FA2-B94ADE79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CDA-FD3E-4860-86A9-46C050DB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2A8-B221-442A-BBFE-21E9C057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25D6B-5B40-43F8-B3E6-223F0C59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BA2C6-E078-4051-8BE4-C4ACBB9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38BC1-6F8F-4A4D-806F-91A2FCE3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DDB8F-1138-4853-8C5A-F186043E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39D2-A656-4073-A560-D6BEDCC0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3F21E-48E6-4ECF-B907-E6231190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C4761-2A2C-4FF1-8E43-FF1869D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8C4-8948-45EF-B92E-1DDF444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04B67-99FB-4529-B5B8-E2712CB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FFB90-66BC-4FEE-9BB2-89B0439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9CAA1-3549-47BC-81FC-F8C9990D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B62CD-9278-4E07-B6F8-7558A82C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E78CE-5D6A-4FCA-82B4-1C689DDF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ED65-FAF9-4B02-9761-3D198793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276D-B78E-427D-989A-90FAC7AF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E7A3-5CDB-4BD5-BB3A-59E1FC99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7411-3156-416C-8D2A-60EEAB13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F82F-BFA6-4128-B847-BFEE898E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D10-15A1-45FF-B4A9-8141F0D2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FB4C-8CB7-4A71-A922-84F583F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D44D-034F-4D1F-AADE-A056981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C837-EDC0-420C-BF28-9DC4E85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22FB-F7A5-471E-8C12-E299FA2F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C5E9-07EF-4CB2-9DE0-A273DF21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FC31-8759-46FE-8B75-C415DF92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895B-910B-4A2B-80F5-FAE182F1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88534-E119-4BD2-ACD5-BD49B6C4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73BE39-C08C-4A64-8B13-2704DB22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38E8F-C160-41A1-934E-B72F07A3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A3A-2604-43B4-A649-8351C0FD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F5C58-A796-409C-8368-8241EBFB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E5B5A-0E51-40CC-B280-9D89AA02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A65C1-C097-489C-872A-8E293010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290AE-C7C8-458B-ABD8-4B79EE73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E9809-3E2D-444E-A992-9839610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8A35F-F3B4-47AB-8BEE-79667737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B0170-D01B-4F31-A6A7-5F794F83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7851C-A148-4BFE-A03C-99C90B44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84C36-B17C-40DF-9394-6DA019EC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0BAD4-ACFD-442F-8BAD-7868339B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8BD-7B10-45F4-B4C1-3B004317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53DA-68E0-4C5F-93E1-B1BC800C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E141-6196-4B4B-B537-A4BFA288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33EF-61B8-4F5D-B08B-45C7BEE8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E10A1-25B2-445A-950D-DCD2ABFA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1835B-6E5C-41BB-93DB-E138F76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969F-5B60-477E-883E-7F1F8EE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928CF-6035-4086-99CF-1BBFD15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F4317-46C2-499E-A5CE-868AF95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993A2-8810-453C-9E29-0CDB9B41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0B68-A2A7-4981-ACFE-2ACBAD5D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76E-F612-4CC8-B76B-8637D5EC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EC0F8-46EC-4ACE-BEED-051EA5B9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F56-5BA9-4A90-BCF0-F7C3029D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C20-5D56-42C9-8286-B1551FD2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B93-1F77-4CB8-ADEF-AED900A6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8033-2C0D-47B9-B033-92DAF6105DBC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3779-D671-4C25-AEC8-CEEF47163F6A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C433-595F-4CAF-8D43-19AB516AE5A7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6BFC-6481-444F-BFF0-13B188156CEE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Сапегина Светлана Пименовна, учитель начальных классов первой категории МОУ СОШ п.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28E0-27D5-4B83-A57C-B7E43CDD5628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image" Target="../media/image33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924000" y="3700080"/>
            <a:ext cx="483876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аева А.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Дигор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217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5"/>
          <p:cNvSpPr/>
          <p:nvPr/>
        </p:nvSpPr>
        <p:spPr>
          <a:xfrm>
            <a:off x="971640" y="692280"/>
            <a:ext cx="3600360" cy="3528720"/>
          </a:xfrm>
          <a:prstGeom prst="ellipse">
            <a:avLst/>
          </a:prstGeom>
          <a:solidFill>
            <a:srgbClr val="dafb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971640" y="2421000"/>
            <a:ext cx="3600360" cy="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5219640" y="333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Разделите с помощью перегибания на четы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р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128240" y="4724280"/>
            <a:ext cx="63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Получили четвёртую до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Это одна четвёрт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3257640" y="2695680"/>
            <a:ext cx="7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 flipH="1" flipV="1">
            <a:off x="4211640" y="3141360"/>
            <a:ext cx="3456000" cy="208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 flipV="1">
            <a:off x="2771640" y="2349000"/>
            <a:ext cx="0" cy="187164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2771640" y="692280"/>
            <a:ext cx="0" cy="172872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4"/>
          <p:cNvSpPr/>
          <p:nvPr/>
        </p:nvSpPr>
        <p:spPr>
          <a:xfrm>
            <a:off x="755640" y="549360"/>
            <a:ext cx="3600360" cy="3529080"/>
          </a:xfrm>
          <a:prstGeom prst="ellipse">
            <a:avLst/>
          </a:prstGeom>
          <a:solidFill>
            <a:srgbClr val="dafb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755640" y="2421000"/>
            <a:ext cx="3600360" cy="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2556000" y="549360"/>
            <a:ext cx="0" cy="352908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649400" y="404640"/>
            <a:ext cx="3624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Если кажд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четвёртую ча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разделить попола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то получи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одна восьмая часть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 flipV="1">
            <a:off x="2627280" y="1125360"/>
            <a:ext cx="1224000" cy="1224000"/>
          </a:xfrm>
          <a:prstGeom prst="line">
            <a:avLst/>
          </a:prstGeom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 flipH="1">
            <a:off x="1332000" y="2349360"/>
            <a:ext cx="1295280" cy="1224000"/>
          </a:xfrm>
          <a:prstGeom prst="line">
            <a:avLst/>
          </a:prstGeom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2484360" y="2349360"/>
            <a:ext cx="1368360" cy="1152720"/>
          </a:xfrm>
          <a:prstGeom prst="line">
            <a:avLst/>
          </a:prstGeom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 flipV="1">
            <a:off x="1186920" y="1196640"/>
            <a:ext cx="1295640" cy="1152360"/>
          </a:xfrm>
          <a:prstGeom prst="line">
            <a:avLst/>
          </a:prstGeom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3493800" y="242100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/8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 flipH="1">
            <a:off x="4140360" y="3068640"/>
            <a:ext cx="86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23804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74"/>
          <p:cNvGrpSpPr/>
          <p:nvPr/>
        </p:nvGrpSpPr>
        <p:grpSpPr>
          <a:xfrm>
            <a:off x="4067280" y="1916280"/>
            <a:ext cx="1296720" cy="2089080"/>
            <a:chOff x="4067280" y="1916280"/>
            <a:chExt cx="1296720" cy="2089080"/>
          </a:xfrm>
        </p:grpSpPr>
        <p:sp>
          <p:nvSpPr>
            <p:cNvPr id="258" name="Line 6"/>
            <p:cNvSpPr/>
            <p:nvPr/>
          </p:nvSpPr>
          <p:spPr>
            <a:xfrm>
              <a:off x="4067280" y="2924280"/>
              <a:ext cx="1296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WordArt 7"/>
            <p:cNvSpPr txBox="1"/>
            <p:nvPr/>
          </p:nvSpPr>
          <p:spPr>
            <a:xfrm>
              <a:off x="4356000" y="1916280"/>
              <a:ext cx="3621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260" name="WordArt 8"/>
            <p:cNvSpPr txBox="1"/>
            <p:nvPr/>
          </p:nvSpPr>
          <p:spPr>
            <a:xfrm>
              <a:off x="4356000" y="3141720"/>
              <a:ext cx="5749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1042920" y="1916280"/>
            <a:ext cx="936720" cy="2017440"/>
            <a:chOff x="1042920" y="1916280"/>
            <a:chExt cx="936720" cy="2017440"/>
          </a:xfrm>
        </p:grpSpPr>
        <p:sp>
          <p:nvSpPr>
            <p:cNvPr id="262" name="WordArt 4"/>
            <p:cNvSpPr txBox="1"/>
            <p:nvPr/>
          </p:nvSpPr>
          <p:spPr>
            <a:xfrm>
              <a:off x="1258920" y="1916280"/>
              <a:ext cx="360360" cy="72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263" name="WordArt 5"/>
            <p:cNvSpPr txBox="1"/>
            <p:nvPr/>
          </p:nvSpPr>
          <p:spPr>
            <a:xfrm>
              <a:off x="1258920" y="3141720"/>
              <a:ext cx="647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1042920" y="2924280"/>
              <a:ext cx="936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75"/>
          <p:cNvGrpSpPr/>
          <p:nvPr/>
        </p:nvGrpSpPr>
        <p:grpSpPr>
          <a:xfrm>
            <a:off x="6877080" y="1844640"/>
            <a:ext cx="1224000" cy="2160360"/>
            <a:chOff x="6877080" y="1844640"/>
            <a:chExt cx="1224000" cy="2160360"/>
          </a:xfrm>
        </p:grpSpPr>
        <p:sp>
          <p:nvSpPr>
            <p:cNvPr id="266" name="WordArt 10"/>
            <p:cNvSpPr txBox="1"/>
            <p:nvPr/>
          </p:nvSpPr>
          <p:spPr>
            <a:xfrm>
              <a:off x="7166160" y="1844640"/>
              <a:ext cx="360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267" name="WordArt 11"/>
            <p:cNvSpPr txBox="1"/>
            <p:nvPr/>
          </p:nvSpPr>
          <p:spPr>
            <a:xfrm>
              <a:off x="7237440" y="3141360"/>
              <a:ext cx="50328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 flipV="1">
              <a:off x="6877080" y="2852640"/>
              <a:ext cx="1224000" cy="1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16"/>
          <p:cNvGrpSpPr/>
          <p:nvPr/>
        </p:nvGrpSpPr>
        <p:grpSpPr>
          <a:xfrm>
            <a:off x="3780000" y="4365720"/>
            <a:ext cx="1936080" cy="1797120"/>
            <a:chOff x="3780000" y="4365720"/>
            <a:chExt cx="1936080" cy="1797120"/>
          </a:xfrm>
        </p:grpSpPr>
        <p:grpSp>
          <p:nvGrpSpPr>
            <p:cNvPr id="270" name="Group 17"/>
            <p:cNvGrpSpPr/>
            <p:nvPr/>
          </p:nvGrpSpPr>
          <p:grpSpPr>
            <a:xfrm>
              <a:off x="3780000" y="4365720"/>
              <a:ext cx="1936080" cy="1797120"/>
              <a:chOff x="3780000" y="4365720"/>
              <a:chExt cx="1936080" cy="1797120"/>
            </a:xfrm>
          </p:grpSpPr>
          <p:grpSp>
            <p:nvGrpSpPr>
              <p:cNvPr id="271" name="Group 18"/>
              <p:cNvGrpSpPr/>
              <p:nvPr/>
            </p:nvGrpSpPr>
            <p:grpSpPr>
              <a:xfrm>
                <a:off x="4716360" y="4365720"/>
                <a:ext cx="999720" cy="1797120"/>
                <a:chOff x="4716360" y="4365720"/>
                <a:chExt cx="999720" cy="1797120"/>
              </a:xfrm>
            </p:grpSpPr>
            <p:sp>
              <p:nvSpPr>
                <p:cNvPr id="272" name="Freeform 19"/>
                <p:cNvSpPr/>
                <p:nvPr/>
              </p:nvSpPr>
              <p:spPr>
                <a:xfrm>
                  <a:off x="4716360" y="4972320"/>
                  <a:ext cx="999720" cy="119052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190520"/>
                    <a:gd name="textAreaBottom" fmla="*/ 1190880 h 1190520"/>
                  </a:gdLst>
                  <a:ahLst/>
                  <a:rect l="textAreaLeft" t="textAreaTop" r="textAreaRight" b="textAreaBottom"/>
                  <a:pathLst>
                    <a:path w="630" h="750">
                      <a:moveTo>
                        <a:pt x="630" y="0"/>
                      </a:moveTo>
                      <a:lnTo>
                        <a:pt x="606" y="14"/>
                      </a:lnTo>
                      <a:lnTo>
                        <a:pt x="594" y="29"/>
                      </a:lnTo>
                      <a:lnTo>
                        <a:pt x="570" y="43"/>
                      </a:lnTo>
                      <a:lnTo>
                        <a:pt x="546" y="57"/>
                      </a:lnTo>
                      <a:lnTo>
                        <a:pt x="534" y="57"/>
                      </a:lnTo>
                      <a:lnTo>
                        <a:pt x="510" y="71"/>
                      </a:lnTo>
                      <a:lnTo>
                        <a:pt x="486" y="85"/>
                      </a:lnTo>
                      <a:lnTo>
                        <a:pt x="468" y="85"/>
                      </a:lnTo>
                      <a:lnTo>
                        <a:pt x="444" y="99"/>
                      </a:lnTo>
                      <a:lnTo>
                        <a:pt x="414" y="99"/>
                      </a:lnTo>
                      <a:lnTo>
                        <a:pt x="402" y="114"/>
                      </a:lnTo>
                      <a:lnTo>
                        <a:pt x="378" y="114"/>
                      </a:lnTo>
                      <a:lnTo>
                        <a:pt x="348" y="128"/>
                      </a:lnTo>
                      <a:lnTo>
                        <a:pt x="336" y="128"/>
                      </a:lnTo>
                      <a:lnTo>
                        <a:pt x="306" y="128"/>
                      </a:lnTo>
                      <a:lnTo>
                        <a:pt x="276" y="142"/>
                      </a:lnTo>
                      <a:lnTo>
                        <a:pt x="258" y="142"/>
                      </a:lnTo>
                      <a:lnTo>
                        <a:pt x="228" y="142"/>
                      </a:lnTo>
                      <a:lnTo>
                        <a:pt x="198" y="156"/>
                      </a:lnTo>
                      <a:lnTo>
                        <a:pt x="186" y="156"/>
                      </a:lnTo>
                      <a:lnTo>
                        <a:pt x="156" y="156"/>
                      </a:lnTo>
                      <a:lnTo>
                        <a:pt x="126" y="156"/>
                      </a:lnTo>
                      <a:lnTo>
                        <a:pt x="108" y="156"/>
                      </a:lnTo>
                      <a:lnTo>
                        <a:pt x="78" y="170"/>
                      </a:lnTo>
                      <a:lnTo>
                        <a:pt x="48" y="170"/>
                      </a:lnTo>
                      <a:lnTo>
                        <a:pt x="30" y="170"/>
                      </a:lnTo>
                      <a:lnTo>
                        <a:pt x="0" y="170"/>
                      </a:lnTo>
                      <a:lnTo>
                        <a:pt x="0" y="750"/>
                      </a:lnTo>
                      <a:lnTo>
                        <a:pt x="30" y="750"/>
                      </a:lnTo>
                      <a:lnTo>
                        <a:pt x="48" y="750"/>
                      </a:lnTo>
                      <a:lnTo>
                        <a:pt x="78" y="750"/>
                      </a:lnTo>
                      <a:lnTo>
                        <a:pt x="108" y="736"/>
                      </a:lnTo>
                      <a:lnTo>
                        <a:pt x="126" y="736"/>
                      </a:lnTo>
                      <a:lnTo>
                        <a:pt x="156" y="736"/>
                      </a:lnTo>
                      <a:lnTo>
                        <a:pt x="186" y="736"/>
                      </a:lnTo>
                      <a:lnTo>
                        <a:pt x="198" y="736"/>
                      </a:lnTo>
                      <a:lnTo>
                        <a:pt x="228" y="722"/>
                      </a:lnTo>
                      <a:lnTo>
                        <a:pt x="258" y="722"/>
                      </a:lnTo>
                      <a:lnTo>
                        <a:pt x="276" y="722"/>
                      </a:lnTo>
                      <a:lnTo>
                        <a:pt x="306" y="708"/>
                      </a:lnTo>
                      <a:lnTo>
                        <a:pt x="336" y="708"/>
                      </a:lnTo>
                      <a:lnTo>
                        <a:pt x="348" y="708"/>
                      </a:lnTo>
                      <a:lnTo>
                        <a:pt x="378" y="694"/>
                      </a:lnTo>
                      <a:lnTo>
                        <a:pt x="402" y="694"/>
                      </a:lnTo>
                      <a:lnTo>
                        <a:pt x="414" y="680"/>
                      </a:lnTo>
                      <a:lnTo>
                        <a:pt x="444" y="680"/>
                      </a:lnTo>
                      <a:lnTo>
                        <a:pt x="468" y="666"/>
                      </a:lnTo>
                      <a:lnTo>
                        <a:pt x="486" y="666"/>
                      </a:lnTo>
                      <a:lnTo>
                        <a:pt x="510" y="651"/>
                      </a:lnTo>
                      <a:lnTo>
                        <a:pt x="534" y="637"/>
                      </a:lnTo>
                      <a:lnTo>
                        <a:pt x="546" y="637"/>
                      </a:lnTo>
                      <a:lnTo>
                        <a:pt x="570" y="623"/>
                      </a:lnTo>
                      <a:lnTo>
                        <a:pt x="594" y="609"/>
                      </a:lnTo>
                      <a:lnTo>
                        <a:pt x="606" y="595"/>
                      </a:lnTo>
                      <a:lnTo>
                        <a:pt x="630" y="581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20"/>
                <p:cNvSpPr/>
                <p:nvPr/>
              </p:nvSpPr>
              <p:spPr>
                <a:xfrm>
                  <a:off x="4716360" y="4365720"/>
                  <a:ext cx="999720" cy="87624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630" h="552">
                      <a:moveTo>
                        <a:pt x="630" y="382"/>
                      </a:moveTo>
                      <a:lnTo>
                        <a:pt x="606" y="396"/>
                      </a:lnTo>
                      <a:lnTo>
                        <a:pt x="594" y="411"/>
                      </a:lnTo>
                      <a:lnTo>
                        <a:pt x="570" y="425"/>
                      </a:lnTo>
                      <a:lnTo>
                        <a:pt x="546" y="439"/>
                      </a:lnTo>
                      <a:lnTo>
                        <a:pt x="534" y="439"/>
                      </a:lnTo>
                      <a:lnTo>
                        <a:pt x="510" y="453"/>
                      </a:lnTo>
                      <a:lnTo>
                        <a:pt x="486" y="467"/>
                      </a:lnTo>
                      <a:lnTo>
                        <a:pt x="468" y="467"/>
                      </a:lnTo>
                      <a:lnTo>
                        <a:pt x="444" y="481"/>
                      </a:lnTo>
                      <a:lnTo>
                        <a:pt x="414" y="481"/>
                      </a:lnTo>
                      <a:lnTo>
                        <a:pt x="402" y="496"/>
                      </a:lnTo>
                      <a:lnTo>
                        <a:pt x="378" y="496"/>
                      </a:lnTo>
                      <a:lnTo>
                        <a:pt x="348" y="510"/>
                      </a:lnTo>
                      <a:lnTo>
                        <a:pt x="336" y="510"/>
                      </a:lnTo>
                      <a:lnTo>
                        <a:pt x="306" y="510"/>
                      </a:lnTo>
                      <a:lnTo>
                        <a:pt x="276" y="524"/>
                      </a:lnTo>
                      <a:lnTo>
                        <a:pt x="258" y="524"/>
                      </a:lnTo>
                      <a:lnTo>
                        <a:pt x="228" y="524"/>
                      </a:lnTo>
                      <a:lnTo>
                        <a:pt x="198" y="538"/>
                      </a:lnTo>
                      <a:lnTo>
                        <a:pt x="186" y="538"/>
                      </a:lnTo>
                      <a:lnTo>
                        <a:pt x="156" y="538"/>
                      </a:lnTo>
                      <a:lnTo>
                        <a:pt x="126" y="538"/>
                      </a:lnTo>
                      <a:lnTo>
                        <a:pt x="108" y="538"/>
                      </a:lnTo>
                      <a:lnTo>
                        <a:pt x="78" y="552"/>
                      </a:lnTo>
                      <a:lnTo>
                        <a:pt x="48" y="552"/>
                      </a:lnTo>
                      <a:lnTo>
                        <a:pt x="30" y="552"/>
                      </a:lnTo>
                      <a:lnTo>
                        <a:pt x="0" y="552"/>
                      </a:lnTo>
                      <a:lnTo>
                        <a:pt x="0" y="0"/>
                      </a:lnTo>
                      <a:lnTo>
                        <a:pt x="63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21"/>
              <p:cNvGrpSpPr/>
              <p:nvPr/>
            </p:nvGrpSpPr>
            <p:grpSpPr>
              <a:xfrm>
                <a:off x="3780000" y="4365720"/>
                <a:ext cx="990360" cy="1797120"/>
                <a:chOff x="3780000" y="4365720"/>
                <a:chExt cx="990360" cy="1797120"/>
              </a:xfrm>
            </p:grpSpPr>
            <p:sp>
              <p:nvSpPr>
                <p:cNvPr id="275" name="Freeform 22"/>
                <p:cNvSpPr/>
                <p:nvPr/>
              </p:nvSpPr>
              <p:spPr>
                <a:xfrm>
                  <a:off x="3780000" y="4972320"/>
                  <a:ext cx="990360" cy="119052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190520"/>
                    <a:gd name="textAreaBottom" fmla="*/ 1190880 h 1190520"/>
                  </a:gdLst>
                  <a:ahLst/>
                  <a:rect l="textAreaLeft" t="textAreaTop" r="textAreaRight" b="textAreaBottom"/>
                  <a:pathLst>
                    <a:path w="624" h="750">
                      <a:moveTo>
                        <a:pt x="624" y="170"/>
                      </a:moveTo>
                      <a:lnTo>
                        <a:pt x="594" y="170"/>
                      </a:lnTo>
                      <a:lnTo>
                        <a:pt x="582" y="170"/>
                      </a:lnTo>
                      <a:lnTo>
                        <a:pt x="546" y="170"/>
                      </a:lnTo>
                      <a:lnTo>
                        <a:pt x="516" y="156"/>
                      </a:lnTo>
                      <a:lnTo>
                        <a:pt x="504" y="156"/>
                      </a:lnTo>
                      <a:lnTo>
                        <a:pt x="474" y="156"/>
                      </a:lnTo>
                      <a:lnTo>
                        <a:pt x="444" y="156"/>
                      </a:lnTo>
                      <a:lnTo>
                        <a:pt x="426" y="156"/>
                      </a:lnTo>
                      <a:lnTo>
                        <a:pt x="396" y="142"/>
                      </a:lnTo>
                      <a:lnTo>
                        <a:pt x="366" y="142"/>
                      </a:lnTo>
                      <a:lnTo>
                        <a:pt x="354" y="142"/>
                      </a:lnTo>
                      <a:lnTo>
                        <a:pt x="324" y="128"/>
                      </a:lnTo>
                      <a:lnTo>
                        <a:pt x="294" y="128"/>
                      </a:lnTo>
                      <a:lnTo>
                        <a:pt x="282" y="128"/>
                      </a:lnTo>
                      <a:lnTo>
                        <a:pt x="252" y="114"/>
                      </a:lnTo>
                      <a:lnTo>
                        <a:pt x="222" y="114"/>
                      </a:lnTo>
                      <a:lnTo>
                        <a:pt x="210" y="99"/>
                      </a:lnTo>
                      <a:lnTo>
                        <a:pt x="180" y="99"/>
                      </a:lnTo>
                      <a:lnTo>
                        <a:pt x="156" y="85"/>
                      </a:lnTo>
                      <a:lnTo>
                        <a:pt x="144" y="85"/>
                      </a:lnTo>
                      <a:lnTo>
                        <a:pt x="120" y="71"/>
                      </a:lnTo>
                      <a:lnTo>
                        <a:pt x="90" y="57"/>
                      </a:lnTo>
                      <a:lnTo>
                        <a:pt x="78" y="57"/>
                      </a:lnTo>
                      <a:lnTo>
                        <a:pt x="54" y="43"/>
                      </a:lnTo>
                      <a:lnTo>
                        <a:pt x="36" y="29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581"/>
                      </a:lnTo>
                      <a:lnTo>
                        <a:pt x="24" y="595"/>
                      </a:lnTo>
                      <a:lnTo>
                        <a:pt x="36" y="609"/>
                      </a:lnTo>
                      <a:lnTo>
                        <a:pt x="54" y="623"/>
                      </a:lnTo>
                      <a:lnTo>
                        <a:pt x="78" y="637"/>
                      </a:lnTo>
                      <a:lnTo>
                        <a:pt x="90" y="637"/>
                      </a:lnTo>
                      <a:lnTo>
                        <a:pt x="120" y="651"/>
                      </a:lnTo>
                      <a:lnTo>
                        <a:pt x="144" y="666"/>
                      </a:lnTo>
                      <a:lnTo>
                        <a:pt x="156" y="666"/>
                      </a:lnTo>
                      <a:lnTo>
                        <a:pt x="180" y="680"/>
                      </a:lnTo>
                      <a:lnTo>
                        <a:pt x="210" y="680"/>
                      </a:lnTo>
                      <a:lnTo>
                        <a:pt x="222" y="694"/>
                      </a:lnTo>
                      <a:lnTo>
                        <a:pt x="252" y="694"/>
                      </a:lnTo>
                      <a:lnTo>
                        <a:pt x="282" y="708"/>
                      </a:lnTo>
                      <a:lnTo>
                        <a:pt x="294" y="708"/>
                      </a:lnTo>
                      <a:lnTo>
                        <a:pt x="324" y="708"/>
                      </a:lnTo>
                      <a:lnTo>
                        <a:pt x="354" y="722"/>
                      </a:lnTo>
                      <a:lnTo>
                        <a:pt x="366" y="722"/>
                      </a:lnTo>
                      <a:lnTo>
                        <a:pt x="396" y="722"/>
                      </a:lnTo>
                      <a:lnTo>
                        <a:pt x="426" y="736"/>
                      </a:lnTo>
                      <a:lnTo>
                        <a:pt x="444" y="736"/>
                      </a:lnTo>
                      <a:lnTo>
                        <a:pt x="474" y="736"/>
                      </a:lnTo>
                      <a:lnTo>
                        <a:pt x="504" y="736"/>
                      </a:lnTo>
                      <a:lnTo>
                        <a:pt x="516" y="736"/>
                      </a:lnTo>
                      <a:lnTo>
                        <a:pt x="546" y="750"/>
                      </a:lnTo>
                      <a:lnTo>
                        <a:pt x="582" y="750"/>
                      </a:lnTo>
                      <a:lnTo>
                        <a:pt x="594" y="750"/>
                      </a:lnTo>
                      <a:lnTo>
                        <a:pt x="624" y="750"/>
                      </a:lnTo>
                      <a:lnTo>
                        <a:pt x="624" y="17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23"/>
                <p:cNvSpPr/>
                <p:nvPr/>
              </p:nvSpPr>
              <p:spPr>
                <a:xfrm>
                  <a:off x="3780000" y="4365720"/>
                  <a:ext cx="990360" cy="87624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624" h="552">
                      <a:moveTo>
                        <a:pt x="624" y="552"/>
                      </a:moveTo>
                      <a:lnTo>
                        <a:pt x="594" y="552"/>
                      </a:lnTo>
                      <a:lnTo>
                        <a:pt x="582" y="552"/>
                      </a:lnTo>
                      <a:lnTo>
                        <a:pt x="546" y="552"/>
                      </a:lnTo>
                      <a:lnTo>
                        <a:pt x="516" y="538"/>
                      </a:lnTo>
                      <a:lnTo>
                        <a:pt x="504" y="538"/>
                      </a:lnTo>
                      <a:lnTo>
                        <a:pt x="474" y="538"/>
                      </a:lnTo>
                      <a:lnTo>
                        <a:pt x="444" y="538"/>
                      </a:lnTo>
                      <a:lnTo>
                        <a:pt x="426" y="538"/>
                      </a:lnTo>
                      <a:lnTo>
                        <a:pt x="396" y="524"/>
                      </a:lnTo>
                      <a:lnTo>
                        <a:pt x="366" y="524"/>
                      </a:lnTo>
                      <a:lnTo>
                        <a:pt x="354" y="524"/>
                      </a:lnTo>
                      <a:lnTo>
                        <a:pt x="324" y="510"/>
                      </a:lnTo>
                      <a:lnTo>
                        <a:pt x="294" y="510"/>
                      </a:lnTo>
                      <a:lnTo>
                        <a:pt x="282" y="510"/>
                      </a:lnTo>
                      <a:lnTo>
                        <a:pt x="252" y="496"/>
                      </a:lnTo>
                      <a:lnTo>
                        <a:pt x="222" y="496"/>
                      </a:lnTo>
                      <a:lnTo>
                        <a:pt x="210" y="481"/>
                      </a:lnTo>
                      <a:lnTo>
                        <a:pt x="180" y="481"/>
                      </a:lnTo>
                      <a:lnTo>
                        <a:pt x="156" y="467"/>
                      </a:lnTo>
                      <a:lnTo>
                        <a:pt x="144" y="467"/>
                      </a:lnTo>
                      <a:lnTo>
                        <a:pt x="120" y="453"/>
                      </a:lnTo>
                      <a:lnTo>
                        <a:pt x="90" y="439"/>
                      </a:lnTo>
                      <a:lnTo>
                        <a:pt x="78" y="439"/>
                      </a:lnTo>
                      <a:lnTo>
                        <a:pt x="54" y="425"/>
                      </a:lnTo>
                      <a:lnTo>
                        <a:pt x="36" y="411"/>
                      </a:lnTo>
                      <a:lnTo>
                        <a:pt x="24" y="396"/>
                      </a:lnTo>
                      <a:lnTo>
                        <a:pt x="0" y="382"/>
                      </a:lnTo>
                      <a:lnTo>
                        <a:pt x="624" y="0"/>
                      </a:lnTo>
                      <a:lnTo>
                        <a:pt x="624" y="55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7" name="Oval 24"/>
            <p:cNvSpPr/>
            <p:nvPr/>
          </p:nvSpPr>
          <p:spPr>
            <a:xfrm>
              <a:off x="4356000" y="479736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25"/>
            <p:cNvSpPr/>
            <p:nvPr/>
          </p:nvSpPr>
          <p:spPr>
            <a:xfrm>
              <a:off x="4356000" y="551808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26"/>
            <p:cNvSpPr/>
            <p:nvPr/>
          </p:nvSpPr>
          <p:spPr>
            <a:xfrm>
              <a:off x="5005080" y="494208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27"/>
            <p:cNvSpPr/>
            <p:nvPr/>
          </p:nvSpPr>
          <p:spPr>
            <a:xfrm>
              <a:off x="5076720" y="537372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72"/>
          <p:cNvGrpSpPr/>
          <p:nvPr/>
        </p:nvGrpSpPr>
        <p:grpSpPr>
          <a:xfrm>
            <a:off x="299880" y="3892680"/>
            <a:ext cx="2368800" cy="2373120"/>
            <a:chOff x="299880" y="3892680"/>
            <a:chExt cx="2368800" cy="2373120"/>
          </a:xfrm>
        </p:grpSpPr>
        <p:grpSp>
          <p:nvGrpSpPr>
            <p:cNvPr id="282" name="Group 47"/>
            <p:cNvGrpSpPr/>
            <p:nvPr/>
          </p:nvGrpSpPr>
          <p:grpSpPr>
            <a:xfrm>
              <a:off x="299880" y="3892680"/>
              <a:ext cx="1400040" cy="1527120"/>
              <a:chOff x="299880" y="3892680"/>
              <a:chExt cx="1400040" cy="1527120"/>
            </a:xfrm>
          </p:grpSpPr>
          <p:grpSp>
            <p:nvGrpSpPr>
              <p:cNvPr id="283" name="Group 48"/>
              <p:cNvGrpSpPr/>
              <p:nvPr/>
            </p:nvGrpSpPr>
            <p:grpSpPr>
              <a:xfrm>
                <a:off x="299880" y="3892680"/>
                <a:ext cx="1400040" cy="1527120"/>
                <a:chOff x="299880" y="3892680"/>
                <a:chExt cx="1400040" cy="1527120"/>
              </a:xfrm>
            </p:grpSpPr>
            <p:sp>
              <p:nvSpPr>
                <p:cNvPr id="284" name="Rectangle 49"/>
                <p:cNvSpPr/>
                <p:nvPr/>
              </p:nvSpPr>
              <p:spPr>
                <a:xfrm>
                  <a:off x="299880" y="4498920"/>
                  <a:ext cx="1400040" cy="920880"/>
                </a:xfrm>
                <a:prstGeom prst="rect">
                  <a:avLst/>
                </a:pr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50"/>
                <p:cNvSpPr/>
                <p:nvPr/>
              </p:nvSpPr>
              <p:spPr>
                <a:xfrm>
                  <a:off x="299880" y="3892680"/>
                  <a:ext cx="1400040" cy="606240"/>
                </a:xfrm>
                <a:custGeom>
                  <a:avLst/>
                  <a:gdLst>
                    <a:gd name="textAreaLeft" fmla="*/ 0 w 1400040"/>
                    <a:gd name="textAreaRight" fmla="*/ 1400400 w 140004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2" h="382">
                      <a:moveTo>
                        <a:pt x="0" y="382"/>
                      </a:moveTo>
                      <a:lnTo>
                        <a:pt x="0" y="368"/>
                      </a:lnTo>
                      <a:lnTo>
                        <a:pt x="0" y="354"/>
                      </a:lnTo>
                      <a:lnTo>
                        <a:pt x="0" y="340"/>
                      </a:lnTo>
                      <a:lnTo>
                        <a:pt x="6" y="326"/>
                      </a:lnTo>
                      <a:lnTo>
                        <a:pt x="6" y="311"/>
                      </a:lnTo>
                      <a:lnTo>
                        <a:pt x="12" y="297"/>
                      </a:lnTo>
                      <a:lnTo>
                        <a:pt x="18" y="269"/>
                      </a:lnTo>
                      <a:lnTo>
                        <a:pt x="24" y="269"/>
                      </a:lnTo>
                      <a:lnTo>
                        <a:pt x="30" y="241"/>
                      </a:lnTo>
                      <a:lnTo>
                        <a:pt x="36" y="226"/>
                      </a:lnTo>
                      <a:lnTo>
                        <a:pt x="42" y="212"/>
                      </a:lnTo>
                      <a:lnTo>
                        <a:pt x="54" y="198"/>
                      </a:lnTo>
                      <a:lnTo>
                        <a:pt x="60" y="184"/>
                      </a:lnTo>
                      <a:lnTo>
                        <a:pt x="66" y="170"/>
                      </a:lnTo>
                      <a:lnTo>
                        <a:pt x="84" y="156"/>
                      </a:lnTo>
                      <a:lnTo>
                        <a:pt x="96" y="142"/>
                      </a:lnTo>
                      <a:lnTo>
                        <a:pt x="102" y="127"/>
                      </a:lnTo>
                      <a:lnTo>
                        <a:pt x="120" y="113"/>
                      </a:lnTo>
                      <a:lnTo>
                        <a:pt x="132" y="99"/>
                      </a:lnTo>
                      <a:lnTo>
                        <a:pt x="144" y="85"/>
                      </a:lnTo>
                      <a:lnTo>
                        <a:pt x="156" y="71"/>
                      </a:lnTo>
                      <a:lnTo>
                        <a:pt x="174" y="57"/>
                      </a:lnTo>
                      <a:lnTo>
                        <a:pt x="186" y="57"/>
                      </a:lnTo>
                      <a:lnTo>
                        <a:pt x="204" y="42"/>
                      </a:lnTo>
                      <a:lnTo>
                        <a:pt x="228" y="14"/>
                      </a:lnTo>
                      <a:lnTo>
                        <a:pt x="234" y="14"/>
                      </a:lnTo>
                      <a:lnTo>
                        <a:pt x="258" y="0"/>
                      </a:lnTo>
                      <a:lnTo>
                        <a:pt x="882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Oval 51"/>
              <p:cNvSpPr/>
              <p:nvPr/>
            </p:nvSpPr>
            <p:spPr>
              <a:xfrm>
                <a:off x="949320" y="425124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52"/>
              <p:cNvSpPr/>
              <p:nvPr/>
            </p:nvSpPr>
            <p:spPr>
              <a:xfrm>
                <a:off x="517320" y="4035240"/>
                <a:ext cx="2160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53"/>
            <p:cNvGrpSpPr/>
            <p:nvPr/>
          </p:nvGrpSpPr>
          <p:grpSpPr>
            <a:xfrm>
              <a:off x="299880" y="4468680"/>
              <a:ext cx="1400400" cy="1528920"/>
              <a:chOff x="299880" y="4468680"/>
              <a:chExt cx="1400400" cy="1528920"/>
            </a:xfrm>
          </p:grpSpPr>
          <p:grpSp>
            <p:nvGrpSpPr>
              <p:cNvPr id="289" name="Group 54"/>
              <p:cNvGrpSpPr/>
              <p:nvPr/>
            </p:nvGrpSpPr>
            <p:grpSpPr>
              <a:xfrm>
                <a:off x="299880" y="4468680"/>
                <a:ext cx="1400400" cy="1528920"/>
                <a:chOff x="299880" y="4468680"/>
                <a:chExt cx="1400400" cy="1528920"/>
              </a:xfrm>
            </p:grpSpPr>
            <p:sp>
              <p:nvSpPr>
                <p:cNvPr id="290" name="Freeform 55"/>
                <p:cNvSpPr/>
                <p:nvPr/>
              </p:nvSpPr>
              <p:spPr>
                <a:xfrm>
                  <a:off x="299880" y="4468680"/>
                  <a:ext cx="409680" cy="1528920"/>
                </a:xfrm>
                <a:custGeom>
                  <a:avLst/>
                  <a:gdLst>
                    <a:gd name="textAreaLeft" fmla="*/ 0 w 409680"/>
                    <a:gd name="textAreaRight" fmla="*/ 410040 w 409680"/>
                    <a:gd name="textAreaTop" fmla="*/ 0 h 1528920"/>
                    <a:gd name="textAreaBottom" fmla="*/ 1529280 h 1528920"/>
                  </a:gdLst>
                  <a:ahLst/>
                  <a:rect l="textAreaLeft" t="textAreaTop" r="textAreaRight" b="textAreaBottom"/>
                  <a:pathLst>
                    <a:path w="258" h="963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0" y="609"/>
                      </a:lnTo>
                      <a:lnTo>
                        <a:pt x="0" y="637"/>
                      </a:lnTo>
                      <a:lnTo>
                        <a:pt x="6" y="651"/>
                      </a:lnTo>
                      <a:lnTo>
                        <a:pt x="6" y="665"/>
                      </a:lnTo>
                      <a:lnTo>
                        <a:pt x="12" y="680"/>
                      </a:lnTo>
                      <a:lnTo>
                        <a:pt x="18" y="694"/>
                      </a:lnTo>
                      <a:lnTo>
                        <a:pt x="24" y="708"/>
                      </a:lnTo>
                      <a:lnTo>
                        <a:pt x="30" y="722"/>
                      </a:lnTo>
                      <a:lnTo>
                        <a:pt x="36" y="750"/>
                      </a:lnTo>
                      <a:lnTo>
                        <a:pt x="42" y="750"/>
                      </a:lnTo>
                      <a:lnTo>
                        <a:pt x="54" y="764"/>
                      </a:lnTo>
                      <a:lnTo>
                        <a:pt x="60" y="793"/>
                      </a:lnTo>
                      <a:lnTo>
                        <a:pt x="66" y="793"/>
                      </a:lnTo>
                      <a:lnTo>
                        <a:pt x="84" y="821"/>
                      </a:lnTo>
                      <a:lnTo>
                        <a:pt x="96" y="835"/>
                      </a:lnTo>
                      <a:lnTo>
                        <a:pt x="102" y="835"/>
                      </a:lnTo>
                      <a:lnTo>
                        <a:pt x="120" y="864"/>
                      </a:lnTo>
                      <a:lnTo>
                        <a:pt x="132" y="878"/>
                      </a:lnTo>
                      <a:lnTo>
                        <a:pt x="144" y="878"/>
                      </a:lnTo>
                      <a:lnTo>
                        <a:pt x="156" y="892"/>
                      </a:lnTo>
                      <a:lnTo>
                        <a:pt x="174" y="906"/>
                      </a:lnTo>
                      <a:lnTo>
                        <a:pt x="186" y="920"/>
                      </a:lnTo>
                      <a:lnTo>
                        <a:pt x="204" y="934"/>
                      </a:lnTo>
                      <a:lnTo>
                        <a:pt x="228" y="948"/>
                      </a:lnTo>
                      <a:lnTo>
                        <a:pt x="234" y="963"/>
                      </a:lnTo>
                      <a:lnTo>
                        <a:pt x="258" y="963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56"/>
                <p:cNvSpPr/>
                <p:nvPr/>
              </p:nvSpPr>
              <p:spPr>
                <a:xfrm>
                  <a:off x="709560" y="4468680"/>
                  <a:ext cx="990720" cy="152892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1528920"/>
                    <a:gd name="textAreaBottom" fmla="*/ 1529280 h 1528920"/>
                  </a:gdLst>
                  <a:ahLst/>
                  <a:rect l="textAreaLeft" t="textAreaTop" r="textAreaRight" b="textAreaBottom"/>
                  <a:pathLst>
                    <a:path w="624" h="963">
                      <a:moveTo>
                        <a:pt x="624" y="0"/>
                      </a:move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624" y="580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57"/>
                <p:cNvSpPr/>
                <p:nvPr/>
              </p:nvSpPr>
              <p:spPr>
                <a:xfrm>
                  <a:off x="299880" y="4468680"/>
                  <a:ext cx="1400400" cy="606600"/>
                </a:xfrm>
                <a:custGeom>
                  <a:avLst/>
                  <a:gdLst>
                    <a:gd name="textAreaLeft" fmla="*/ 0 w 1400400"/>
                    <a:gd name="textAreaRight" fmla="*/ 1400400 w 1400400"/>
                    <a:gd name="textAreaTop" fmla="*/ 0 h 606600"/>
                    <a:gd name="textAreaBottom" fmla="*/ 606960 h 606600"/>
                  </a:gdLst>
                  <a:ahLst/>
                  <a:rect l="textAreaLeft" t="textAreaTop" r="textAreaRight" b="textAreaBottom"/>
                  <a:pathLst>
                    <a:path w="882" h="382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882" y="0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Oval 58"/>
              <p:cNvSpPr/>
              <p:nvPr/>
            </p:nvSpPr>
            <p:spPr>
              <a:xfrm>
                <a:off x="660240" y="4613040"/>
                <a:ext cx="2160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59"/>
            <p:cNvGrpSpPr/>
            <p:nvPr/>
          </p:nvGrpSpPr>
          <p:grpSpPr>
            <a:xfrm>
              <a:off x="731880" y="4468680"/>
              <a:ext cx="1936800" cy="1797120"/>
              <a:chOff x="731880" y="4468680"/>
              <a:chExt cx="1936800" cy="1797120"/>
            </a:xfrm>
          </p:grpSpPr>
          <p:grpSp>
            <p:nvGrpSpPr>
              <p:cNvPr id="295" name="Group 60"/>
              <p:cNvGrpSpPr/>
              <p:nvPr/>
            </p:nvGrpSpPr>
            <p:grpSpPr>
              <a:xfrm>
                <a:off x="731880" y="4468680"/>
                <a:ext cx="1936800" cy="1797120"/>
                <a:chOff x="731880" y="4468680"/>
                <a:chExt cx="1936800" cy="1797120"/>
              </a:xfrm>
            </p:grpSpPr>
            <p:grpSp>
              <p:nvGrpSpPr>
                <p:cNvPr id="296" name="Group 61"/>
                <p:cNvGrpSpPr/>
                <p:nvPr/>
              </p:nvGrpSpPr>
              <p:grpSpPr>
                <a:xfrm>
                  <a:off x="1668600" y="4468680"/>
                  <a:ext cx="1000080" cy="1797120"/>
                  <a:chOff x="1668600" y="4468680"/>
                  <a:chExt cx="1000080" cy="1797120"/>
                </a:xfrm>
              </p:grpSpPr>
              <p:sp>
                <p:nvSpPr>
                  <p:cNvPr id="297" name="Freeform 62"/>
                  <p:cNvSpPr/>
                  <p:nvPr/>
                </p:nvSpPr>
                <p:spPr>
                  <a:xfrm>
                    <a:off x="1668600" y="5075280"/>
                    <a:ext cx="1000080" cy="1190520"/>
                  </a:xfrm>
                  <a:custGeom>
                    <a:avLst/>
                    <a:gdLst>
                      <a:gd name="textAreaLeft" fmla="*/ 0 w 1000080"/>
                      <a:gd name="textAreaRight" fmla="*/ 1000440 w 1000080"/>
                      <a:gd name="textAreaTop" fmla="*/ 0 h 1190520"/>
                      <a:gd name="textAreaBottom" fmla="*/ 1190880 h 1190520"/>
                    </a:gdLst>
                    <a:ahLst/>
                    <a:rect l="textAreaLeft" t="textAreaTop" r="textAreaRight" b="textAreaBottom"/>
                    <a:pathLst>
                      <a:path w="630" h="750">
                        <a:moveTo>
                          <a:pt x="630" y="0"/>
                        </a:moveTo>
                        <a:lnTo>
                          <a:pt x="606" y="14"/>
                        </a:lnTo>
                        <a:lnTo>
                          <a:pt x="594" y="29"/>
                        </a:lnTo>
                        <a:lnTo>
                          <a:pt x="570" y="43"/>
                        </a:lnTo>
                        <a:lnTo>
                          <a:pt x="546" y="57"/>
                        </a:lnTo>
                        <a:lnTo>
                          <a:pt x="534" y="57"/>
                        </a:lnTo>
                        <a:lnTo>
                          <a:pt x="510" y="71"/>
                        </a:lnTo>
                        <a:lnTo>
                          <a:pt x="486" y="85"/>
                        </a:lnTo>
                        <a:lnTo>
                          <a:pt x="468" y="85"/>
                        </a:lnTo>
                        <a:lnTo>
                          <a:pt x="444" y="99"/>
                        </a:lnTo>
                        <a:lnTo>
                          <a:pt x="414" y="99"/>
                        </a:lnTo>
                        <a:lnTo>
                          <a:pt x="402" y="114"/>
                        </a:lnTo>
                        <a:lnTo>
                          <a:pt x="378" y="114"/>
                        </a:lnTo>
                        <a:lnTo>
                          <a:pt x="348" y="128"/>
                        </a:lnTo>
                        <a:lnTo>
                          <a:pt x="336" y="128"/>
                        </a:lnTo>
                        <a:lnTo>
                          <a:pt x="306" y="128"/>
                        </a:lnTo>
                        <a:lnTo>
                          <a:pt x="276" y="142"/>
                        </a:lnTo>
                        <a:lnTo>
                          <a:pt x="258" y="142"/>
                        </a:lnTo>
                        <a:lnTo>
                          <a:pt x="228" y="142"/>
                        </a:lnTo>
                        <a:lnTo>
                          <a:pt x="198" y="156"/>
                        </a:lnTo>
                        <a:lnTo>
                          <a:pt x="186" y="156"/>
                        </a:lnTo>
                        <a:lnTo>
                          <a:pt x="156" y="156"/>
                        </a:lnTo>
                        <a:lnTo>
                          <a:pt x="126" y="156"/>
                        </a:lnTo>
                        <a:lnTo>
                          <a:pt x="108" y="156"/>
                        </a:lnTo>
                        <a:lnTo>
                          <a:pt x="78" y="170"/>
                        </a:lnTo>
                        <a:lnTo>
                          <a:pt x="48" y="170"/>
                        </a:lnTo>
                        <a:lnTo>
                          <a:pt x="30" y="170"/>
                        </a:lnTo>
                        <a:lnTo>
                          <a:pt x="0" y="170"/>
                        </a:lnTo>
                        <a:lnTo>
                          <a:pt x="0" y="750"/>
                        </a:lnTo>
                        <a:lnTo>
                          <a:pt x="30" y="750"/>
                        </a:lnTo>
                        <a:lnTo>
                          <a:pt x="48" y="750"/>
                        </a:lnTo>
                        <a:lnTo>
                          <a:pt x="78" y="750"/>
                        </a:lnTo>
                        <a:lnTo>
                          <a:pt x="108" y="736"/>
                        </a:lnTo>
                        <a:lnTo>
                          <a:pt x="126" y="736"/>
                        </a:lnTo>
                        <a:lnTo>
                          <a:pt x="156" y="736"/>
                        </a:lnTo>
                        <a:lnTo>
                          <a:pt x="186" y="736"/>
                        </a:lnTo>
                        <a:lnTo>
                          <a:pt x="198" y="736"/>
                        </a:lnTo>
                        <a:lnTo>
                          <a:pt x="228" y="722"/>
                        </a:lnTo>
                        <a:lnTo>
                          <a:pt x="258" y="722"/>
                        </a:lnTo>
                        <a:lnTo>
                          <a:pt x="276" y="722"/>
                        </a:lnTo>
                        <a:lnTo>
                          <a:pt x="306" y="708"/>
                        </a:lnTo>
                        <a:lnTo>
                          <a:pt x="336" y="708"/>
                        </a:lnTo>
                        <a:lnTo>
                          <a:pt x="348" y="708"/>
                        </a:lnTo>
                        <a:lnTo>
                          <a:pt x="378" y="694"/>
                        </a:lnTo>
                        <a:lnTo>
                          <a:pt x="402" y="694"/>
                        </a:lnTo>
                        <a:lnTo>
                          <a:pt x="414" y="680"/>
                        </a:lnTo>
                        <a:lnTo>
                          <a:pt x="444" y="680"/>
                        </a:lnTo>
                        <a:lnTo>
                          <a:pt x="468" y="666"/>
                        </a:lnTo>
                        <a:lnTo>
                          <a:pt x="486" y="666"/>
                        </a:lnTo>
                        <a:lnTo>
                          <a:pt x="510" y="651"/>
                        </a:lnTo>
                        <a:lnTo>
                          <a:pt x="534" y="637"/>
                        </a:lnTo>
                        <a:lnTo>
                          <a:pt x="546" y="637"/>
                        </a:lnTo>
                        <a:lnTo>
                          <a:pt x="570" y="623"/>
                        </a:lnTo>
                        <a:lnTo>
                          <a:pt x="594" y="609"/>
                        </a:lnTo>
                        <a:lnTo>
                          <a:pt x="606" y="595"/>
                        </a:lnTo>
                        <a:lnTo>
                          <a:pt x="630" y="581"/>
                        </a:lnTo>
                        <a:lnTo>
                          <a:pt x="630" y="0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3"/>
                  <p:cNvSpPr/>
                  <p:nvPr/>
                </p:nvSpPr>
                <p:spPr>
                  <a:xfrm>
                    <a:off x="1668600" y="4468680"/>
                    <a:ext cx="1000080" cy="876240"/>
                  </a:xfrm>
                  <a:custGeom>
                    <a:avLst/>
                    <a:gdLst>
                      <a:gd name="textAreaLeft" fmla="*/ 0 w 1000080"/>
                      <a:gd name="textAreaRight" fmla="*/ 1000440 w 1000080"/>
                      <a:gd name="textAreaTop" fmla="*/ 0 h 876240"/>
                      <a:gd name="textAreaBottom" fmla="*/ 876600 h 876240"/>
                    </a:gdLst>
                    <a:ahLst/>
                    <a:rect l="textAreaLeft" t="textAreaTop" r="textAreaRight" b="textAreaBottom"/>
                    <a:pathLst>
                      <a:path w="630" h="552">
                        <a:moveTo>
                          <a:pt x="630" y="382"/>
                        </a:moveTo>
                        <a:lnTo>
                          <a:pt x="606" y="396"/>
                        </a:lnTo>
                        <a:lnTo>
                          <a:pt x="594" y="411"/>
                        </a:lnTo>
                        <a:lnTo>
                          <a:pt x="570" y="425"/>
                        </a:lnTo>
                        <a:lnTo>
                          <a:pt x="546" y="439"/>
                        </a:lnTo>
                        <a:lnTo>
                          <a:pt x="534" y="439"/>
                        </a:lnTo>
                        <a:lnTo>
                          <a:pt x="510" y="453"/>
                        </a:lnTo>
                        <a:lnTo>
                          <a:pt x="486" y="467"/>
                        </a:lnTo>
                        <a:lnTo>
                          <a:pt x="468" y="467"/>
                        </a:lnTo>
                        <a:lnTo>
                          <a:pt x="444" y="481"/>
                        </a:lnTo>
                        <a:lnTo>
                          <a:pt x="414" y="481"/>
                        </a:lnTo>
                        <a:lnTo>
                          <a:pt x="402" y="496"/>
                        </a:lnTo>
                        <a:lnTo>
                          <a:pt x="378" y="496"/>
                        </a:lnTo>
                        <a:lnTo>
                          <a:pt x="348" y="510"/>
                        </a:lnTo>
                        <a:lnTo>
                          <a:pt x="336" y="510"/>
                        </a:lnTo>
                        <a:lnTo>
                          <a:pt x="306" y="510"/>
                        </a:lnTo>
                        <a:lnTo>
                          <a:pt x="276" y="524"/>
                        </a:lnTo>
                        <a:lnTo>
                          <a:pt x="258" y="524"/>
                        </a:lnTo>
                        <a:lnTo>
                          <a:pt x="228" y="524"/>
                        </a:lnTo>
                        <a:lnTo>
                          <a:pt x="198" y="538"/>
                        </a:lnTo>
                        <a:lnTo>
                          <a:pt x="186" y="538"/>
                        </a:lnTo>
                        <a:lnTo>
                          <a:pt x="156" y="538"/>
                        </a:lnTo>
                        <a:lnTo>
                          <a:pt x="126" y="538"/>
                        </a:lnTo>
                        <a:lnTo>
                          <a:pt x="108" y="538"/>
                        </a:lnTo>
                        <a:lnTo>
                          <a:pt x="78" y="552"/>
                        </a:lnTo>
                        <a:lnTo>
                          <a:pt x="48" y="552"/>
                        </a:lnTo>
                        <a:lnTo>
                          <a:pt x="30" y="552"/>
                        </a:lnTo>
                        <a:lnTo>
                          <a:pt x="0" y="552"/>
                        </a:lnTo>
                        <a:lnTo>
                          <a:pt x="0" y="0"/>
                        </a:lnTo>
                        <a:lnTo>
                          <a:pt x="630" y="382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Group 64"/>
                <p:cNvGrpSpPr/>
                <p:nvPr/>
              </p:nvGrpSpPr>
              <p:grpSpPr>
                <a:xfrm>
                  <a:off x="731880" y="4468680"/>
                  <a:ext cx="990720" cy="1797120"/>
                  <a:chOff x="731880" y="4468680"/>
                  <a:chExt cx="990720" cy="1797120"/>
                </a:xfrm>
              </p:grpSpPr>
              <p:sp>
                <p:nvSpPr>
                  <p:cNvPr id="300" name="Freeform 65"/>
                  <p:cNvSpPr/>
                  <p:nvPr/>
                </p:nvSpPr>
                <p:spPr>
                  <a:xfrm>
                    <a:off x="731880" y="5075280"/>
                    <a:ext cx="990720" cy="1190520"/>
                  </a:xfrm>
                  <a:custGeom>
                    <a:avLst/>
                    <a:gdLst>
                      <a:gd name="textAreaLeft" fmla="*/ 0 w 990720"/>
                      <a:gd name="textAreaRight" fmla="*/ 991080 w 990720"/>
                      <a:gd name="textAreaTop" fmla="*/ 0 h 1190520"/>
                      <a:gd name="textAreaBottom" fmla="*/ 1190880 h 1190520"/>
                    </a:gdLst>
                    <a:ahLst/>
                    <a:rect l="textAreaLeft" t="textAreaTop" r="textAreaRight" b="textAreaBottom"/>
                    <a:pathLst>
                      <a:path w="624" h="750">
                        <a:moveTo>
                          <a:pt x="624" y="170"/>
                        </a:moveTo>
                        <a:lnTo>
                          <a:pt x="594" y="170"/>
                        </a:lnTo>
                        <a:lnTo>
                          <a:pt x="582" y="170"/>
                        </a:lnTo>
                        <a:lnTo>
                          <a:pt x="546" y="170"/>
                        </a:lnTo>
                        <a:lnTo>
                          <a:pt x="516" y="156"/>
                        </a:lnTo>
                        <a:lnTo>
                          <a:pt x="504" y="156"/>
                        </a:lnTo>
                        <a:lnTo>
                          <a:pt x="474" y="156"/>
                        </a:lnTo>
                        <a:lnTo>
                          <a:pt x="444" y="156"/>
                        </a:lnTo>
                        <a:lnTo>
                          <a:pt x="426" y="156"/>
                        </a:lnTo>
                        <a:lnTo>
                          <a:pt x="396" y="142"/>
                        </a:lnTo>
                        <a:lnTo>
                          <a:pt x="366" y="142"/>
                        </a:lnTo>
                        <a:lnTo>
                          <a:pt x="354" y="142"/>
                        </a:lnTo>
                        <a:lnTo>
                          <a:pt x="324" y="128"/>
                        </a:lnTo>
                        <a:lnTo>
                          <a:pt x="294" y="128"/>
                        </a:lnTo>
                        <a:lnTo>
                          <a:pt x="282" y="128"/>
                        </a:lnTo>
                        <a:lnTo>
                          <a:pt x="252" y="114"/>
                        </a:lnTo>
                        <a:lnTo>
                          <a:pt x="222" y="114"/>
                        </a:lnTo>
                        <a:lnTo>
                          <a:pt x="210" y="99"/>
                        </a:lnTo>
                        <a:lnTo>
                          <a:pt x="180" y="99"/>
                        </a:lnTo>
                        <a:lnTo>
                          <a:pt x="156" y="85"/>
                        </a:lnTo>
                        <a:lnTo>
                          <a:pt x="144" y="85"/>
                        </a:lnTo>
                        <a:lnTo>
                          <a:pt x="120" y="71"/>
                        </a:lnTo>
                        <a:lnTo>
                          <a:pt x="90" y="57"/>
                        </a:lnTo>
                        <a:lnTo>
                          <a:pt x="78" y="57"/>
                        </a:lnTo>
                        <a:lnTo>
                          <a:pt x="54" y="43"/>
                        </a:lnTo>
                        <a:lnTo>
                          <a:pt x="36" y="29"/>
                        </a:lnTo>
                        <a:lnTo>
                          <a:pt x="24" y="14"/>
                        </a:lnTo>
                        <a:lnTo>
                          <a:pt x="0" y="0"/>
                        </a:lnTo>
                        <a:lnTo>
                          <a:pt x="0" y="581"/>
                        </a:lnTo>
                        <a:lnTo>
                          <a:pt x="24" y="595"/>
                        </a:lnTo>
                        <a:lnTo>
                          <a:pt x="36" y="609"/>
                        </a:lnTo>
                        <a:lnTo>
                          <a:pt x="54" y="623"/>
                        </a:lnTo>
                        <a:lnTo>
                          <a:pt x="78" y="637"/>
                        </a:lnTo>
                        <a:lnTo>
                          <a:pt x="90" y="637"/>
                        </a:lnTo>
                        <a:lnTo>
                          <a:pt x="120" y="651"/>
                        </a:lnTo>
                        <a:lnTo>
                          <a:pt x="144" y="666"/>
                        </a:lnTo>
                        <a:lnTo>
                          <a:pt x="156" y="666"/>
                        </a:lnTo>
                        <a:lnTo>
                          <a:pt x="180" y="680"/>
                        </a:lnTo>
                        <a:lnTo>
                          <a:pt x="210" y="680"/>
                        </a:lnTo>
                        <a:lnTo>
                          <a:pt x="222" y="694"/>
                        </a:lnTo>
                        <a:lnTo>
                          <a:pt x="252" y="694"/>
                        </a:lnTo>
                        <a:lnTo>
                          <a:pt x="282" y="708"/>
                        </a:lnTo>
                        <a:lnTo>
                          <a:pt x="294" y="708"/>
                        </a:lnTo>
                        <a:lnTo>
                          <a:pt x="324" y="708"/>
                        </a:lnTo>
                        <a:lnTo>
                          <a:pt x="354" y="722"/>
                        </a:lnTo>
                        <a:lnTo>
                          <a:pt x="366" y="722"/>
                        </a:lnTo>
                        <a:lnTo>
                          <a:pt x="396" y="722"/>
                        </a:lnTo>
                        <a:lnTo>
                          <a:pt x="426" y="736"/>
                        </a:lnTo>
                        <a:lnTo>
                          <a:pt x="444" y="736"/>
                        </a:lnTo>
                        <a:lnTo>
                          <a:pt x="474" y="736"/>
                        </a:lnTo>
                        <a:lnTo>
                          <a:pt x="504" y="736"/>
                        </a:lnTo>
                        <a:lnTo>
                          <a:pt x="516" y="736"/>
                        </a:lnTo>
                        <a:lnTo>
                          <a:pt x="546" y="750"/>
                        </a:lnTo>
                        <a:lnTo>
                          <a:pt x="582" y="750"/>
                        </a:lnTo>
                        <a:lnTo>
                          <a:pt x="594" y="750"/>
                        </a:lnTo>
                        <a:lnTo>
                          <a:pt x="624" y="750"/>
                        </a:lnTo>
                        <a:lnTo>
                          <a:pt x="624" y="170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66"/>
                  <p:cNvSpPr/>
                  <p:nvPr/>
                </p:nvSpPr>
                <p:spPr>
                  <a:xfrm>
                    <a:off x="731880" y="4468680"/>
                    <a:ext cx="990720" cy="876240"/>
                  </a:xfrm>
                  <a:custGeom>
                    <a:avLst/>
                    <a:gdLst>
                      <a:gd name="textAreaLeft" fmla="*/ 0 w 990720"/>
                      <a:gd name="textAreaRight" fmla="*/ 991080 w 990720"/>
                      <a:gd name="textAreaTop" fmla="*/ 0 h 876240"/>
                      <a:gd name="textAreaBottom" fmla="*/ 876600 h 876240"/>
                    </a:gdLst>
                    <a:ahLst/>
                    <a:rect l="textAreaLeft" t="textAreaTop" r="textAreaRight" b="textAreaBottom"/>
                    <a:pathLst>
                      <a:path w="624" h="552">
                        <a:moveTo>
                          <a:pt x="624" y="552"/>
                        </a:moveTo>
                        <a:lnTo>
                          <a:pt x="594" y="552"/>
                        </a:lnTo>
                        <a:lnTo>
                          <a:pt x="582" y="552"/>
                        </a:lnTo>
                        <a:lnTo>
                          <a:pt x="546" y="552"/>
                        </a:lnTo>
                        <a:lnTo>
                          <a:pt x="516" y="538"/>
                        </a:lnTo>
                        <a:lnTo>
                          <a:pt x="504" y="538"/>
                        </a:lnTo>
                        <a:lnTo>
                          <a:pt x="474" y="538"/>
                        </a:lnTo>
                        <a:lnTo>
                          <a:pt x="444" y="538"/>
                        </a:lnTo>
                        <a:lnTo>
                          <a:pt x="426" y="538"/>
                        </a:lnTo>
                        <a:lnTo>
                          <a:pt x="396" y="524"/>
                        </a:lnTo>
                        <a:lnTo>
                          <a:pt x="366" y="524"/>
                        </a:lnTo>
                        <a:lnTo>
                          <a:pt x="354" y="524"/>
                        </a:lnTo>
                        <a:lnTo>
                          <a:pt x="324" y="510"/>
                        </a:lnTo>
                        <a:lnTo>
                          <a:pt x="294" y="510"/>
                        </a:lnTo>
                        <a:lnTo>
                          <a:pt x="282" y="510"/>
                        </a:lnTo>
                        <a:lnTo>
                          <a:pt x="252" y="496"/>
                        </a:lnTo>
                        <a:lnTo>
                          <a:pt x="222" y="496"/>
                        </a:lnTo>
                        <a:lnTo>
                          <a:pt x="210" y="481"/>
                        </a:lnTo>
                        <a:lnTo>
                          <a:pt x="180" y="481"/>
                        </a:lnTo>
                        <a:lnTo>
                          <a:pt x="156" y="467"/>
                        </a:lnTo>
                        <a:lnTo>
                          <a:pt x="144" y="467"/>
                        </a:lnTo>
                        <a:lnTo>
                          <a:pt x="120" y="453"/>
                        </a:lnTo>
                        <a:lnTo>
                          <a:pt x="90" y="439"/>
                        </a:lnTo>
                        <a:lnTo>
                          <a:pt x="78" y="439"/>
                        </a:lnTo>
                        <a:lnTo>
                          <a:pt x="54" y="425"/>
                        </a:lnTo>
                        <a:lnTo>
                          <a:pt x="36" y="411"/>
                        </a:lnTo>
                        <a:lnTo>
                          <a:pt x="24" y="396"/>
                        </a:lnTo>
                        <a:lnTo>
                          <a:pt x="0" y="382"/>
                        </a:lnTo>
                        <a:lnTo>
                          <a:pt x="624" y="0"/>
                        </a:lnTo>
                        <a:lnTo>
                          <a:pt x="624" y="552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2" name="Oval 67"/>
              <p:cNvSpPr/>
              <p:nvPr/>
            </p:nvSpPr>
            <p:spPr>
              <a:xfrm>
                <a:off x="1308240" y="490032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8"/>
              <p:cNvSpPr/>
              <p:nvPr/>
            </p:nvSpPr>
            <p:spPr>
              <a:xfrm>
                <a:off x="1308240" y="562104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9"/>
              <p:cNvSpPr/>
              <p:nvPr/>
            </p:nvSpPr>
            <p:spPr>
              <a:xfrm>
                <a:off x="1957320" y="5045040"/>
                <a:ext cx="216000" cy="142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0"/>
              <p:cNvSpPr/>
              <p:nvPr/>
            </p:nvSpPr>
            <p:spPr>
              <a:xfrm>
                <a:off x="2028960" y="547668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Group 84"/>
          <p:cNvGrpSpPr/>
          <p:nvPr/>
        </p:nvGrpSpPr>
        <p:grpSpPr>
          <a:xfrm>
            <a:off x="6659640" y="4581360"/>
            <a:ext cx="1409400" cy="1528920"/>
            <a:chOff x="6659640" y="4581360"/>
            <a:chExt cx="1409400" cy="1528920"/>
          </a:xfrm>
        </p:grpSpPr>
        <p:grpSp>
          <p:nvGrpSpPr>
            <p:cNvPr id="307" name="Group 41"/>
            <p:cNvGrpSpPr/>
            <p:nvPr/>
          </p:nvGrpSpPr>
          <p:grpSpPr>
            <a:xfrm>
              <a:off x="6659640" y="4581360"/>
              <a:ext cx="1409400" cy="1528920"/>
              <a:chOff x="6659640" y="4581360"/>
              <a:chExt cx="1409400" cy="1528920"/>
            </a:xfrm>
          </p:grpSpPr>
          <p:sp>
            <p:nvSpPr>
              <p:cNvPr id="308" name="Freeform 42"/>
              <p:cNvSpPr/>
              <p:nvPr/>
            </p:nvSpPr>
            <p:spPr>
              <a:xfrm>
                <a:off x="7659720" y="4581360"/>
                <a:ext cx="409320" cy="152892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1528920"/>
                  <a:gd name="textAreaBottom" fmla="*/ 1529280 h 1528920"/>
                </a:gdLst>
                <a:ahLst/>
                <a:rect l="textAreaLeft" t="textAreaTop" r="textAreaRight" b="textAreaBottom"/>
                <a:pathLst>
                  <a:path w="258" h="963">
                    <a:moveTo>
                      <a:pt x="258" y="0"/>
                    </a:moveTo>
                    <a:lnTo>
                      <a:pt x="258" y="28"/>
                    </a:lnTo>
                    <a:lnTo>
                      <a:pt x="252" y="57"/>
                    </a:lnTo>
                    <a:lnTo>
                      <a:pt x="252" y="71"/>
                    </a:lnTo>
                    <a:lnTo>
                      <a:pt x="246" y="85"/>
                    </a:lnTo>
                    <a:lnTo>
                      <a:pt x="246" y="99"/>
                    </a:lnTo>
                    <a:lnTo>
                      <a:pt x="240" y="113"/>
                    </a:lnTo>
                    <a:lnTo>
                      <a:pt x="234" y="128"/>
                    </a:lnTo>
                    <a:lnTo>
                      <a:pt x="228" y="142"/>
                    </a:lnTo>
                    <a:lnTo>
                      <a:pt x="216" y="170"/>
                    </a:lnTo>
                    <a:lnTo>
                      <a:pt x="204" y="184"/>
                    </a:lnTo>
                    <a:lnTo>
                      <a:pt x="192" y="212"/>
                    </a:lnTo>
                    <a:lnTo>
                      <a:pt x="186" y="212"/>
                    </a:lnTo>
                    <a:lnTo>
                      <a:pt x="174" y="241"/>
                    </a:lnTo>
                    <a:lnTo>
                      <a:pt x="162" y="255"/>
                    </a:lnTo>
                    <a:lnTo>
                      <a:pt x="150" y="255"/>
                    </a:lnTo>
                    <a:lnTo>
                      <a:pt x="138" y="283"/>
                    </a:lnTo>
                    <a:lnTo>
                      <a:pt x="120" y="297"/>
                    </a:lnTo>
                    <a:lnTo>
                      <a:pt x="114" y="297"/>
                    </a:lnTo>
                    <a:lnTo>
                      <a:pt x="96" y="312"/>
                    </a:lnTo>
                    <a:lnTo>
                      <a:pt x="78" y="326"/>
                    </a:lnTo>
                    <a:lnTo>
                      <a:pt x="66" y="340"/>
                    </a:lnTo>
                    <a:lnTo>
                      <a:pt x="48" y="354"/>
                    </a:lnTo>
                    <a:lnTo>
                      <a:pt x="30" y="368"/>
                    </a:lnTo>
                    <a:lnTo>
                      <a:pt x="18" y="382"/>
                    </a:lnTo>
                    <a:lnTo>
                      <a:pt x="0" y="382"/>
                    </a:lnTo>
                    <a:lnTo>
                      <a:pt x="0" y="963"/>
                    </a:lnTo>
                    <a:lnTo>
                      <a:pt x="18" y="963"/>
                    </a:lnTo>
                    <a:lnTo>
                      <a:pt x="30" y="948"/>
                    </a:lnTo>
                    <a:lnTo>
                      <a:pt x="48" y="934"/>
                    </a:lnTo>
                    <a:lnTo>
                      <a:pt x="66" y="920"/>
                    </a:lnTo>
                    <a:lnTo>
                      <a:pt x="78" y="906"/>
                    </a:lnTo>
                    <a:lnTo>
                      <a:pt x="96" y="892"/>
                    </a:lnTo>
                    <a:lnTo>
                      <a:pt x="114" y="878"/>
                    </a:lnTo>
                    <a:lnTo>
                      <a:pt x="120" y="878"/>
                    </a:lnTo>
                    <a:lnTo>
                      <a:pt x="138" y="864"/>
                    </a:lnTo>
                    <a:lnTo>
                      <a:pt x="150" y="835"/>
                    </a:lnTo>
                    <a:lnTo>
                      <a:pt x="162" y="835"/>
                    </a:lnTo>
                    <a:lnTo>
                      <a:pt x="174" y="821"/>
                    </a:lnTo>
                    <a:lnTo>
                      <a:pt x="186" y="793"/>
                    </a:lnTo>
                    <a:lnTo>
                      <a:pt x="192" y="793"/>
                    </a:lnTo>
                    <a:lnTo>
                      <a:pt x="204" y="764"/>
                    </a:lnTo>
                    <a:lnTo>
                      <a:pt x="216" y="750"/>
                    </a:lnTo>
                    <a:lnTo>
                      <a:pt x="228" y="722"/>
                    </a:lnTo>
                    <a:lnTo>
                      <a:pt x="234" y="708"/>
                    </a:lnTo>
                    <a:lnTo>
                      <a:pt x="240" y="694"/>
                    </a:lnTo>
                    <a:lnTo>
                      <a:pt x="246" y="680"/>
                    </a:lnTo>
                    <a:lnTo>
                      <a:pt x="246" y="665"/>
                    </a:lnTo>
                    <a:lnTo>
                      <a:pt x="252" y="651"/>
                    </a:lnTo>
                    <a:lnTo>
                      <a:pt x="252" y="637"/>
                    </a:lnTo>
                    <a:lnTo>
                      <a:pt x="258" y="609"/>
                    </a:lnTo>
                    <a:lnTo>
                      <a:pt x="258" y="58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3"/>
              <p:cNvSpPr/>
              <p:nvPr/>
            </p:nvSpPr>
            <p:spPr>
              <a:xfrm>
                <a:off x="6659640" y="4581360"/>
                <a:ext cx="990360" cy="152892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8920"/>
                  <a:gd name="textAreaBottom" fmla="*/ 1529280 h 1528920"/>
                </a:gdLst>
                <a:ahLst/>
                <a:rect l="textAreaLeft" t="textAreaTop" r="textAreaRight" b="textAreaBottom"/>
                <a:pathLst>
                  <a:path w="624" h="963">
                    <a:moveTo>
                      <a:pt x="0" y="0"/>
                    </a:moveTo>
                    <a:lnTo>
                      <a:pt x="624" y="382"/>
                    </a:lnTo>
                    <a:lnTo>
                      <a:pt x="624" y="963"/>
                    </a:lnTo>
                    <a:lnTo>
                      <a:pt x="0" y="5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44"/>
              <p:cNvSpPr/>
              <p:nvPr/>
            </p:nvSpPr>
            <p:spPr>
              <a:xfrm>
                <a:off x="6659640" y="4581360"/>
                <a:ext cx="1409400" cy="606600"/>
              </a:xfrm>
              <a:custGeom>
                <a:avLst/>
                <a:gdLst>
                  <a:gd name="textAreaLeft" fmla="*/ 0 w 1409400"/>
                  <a:gd name="textAreaRight" fmla="*/ 1409760 w 1409400"/>
                  <a:gd name="textAreaTop" fmla="*/ 0 h 606600"/>
                  <a:gd name="textAreaBottom" fmla="*/ 606960 h 606600"/>
                </a:gdLst>
                <a:ahLst/>
                <a:rect l="textAreaLeft" t="textAreaTop" r="textAreaRight" b="textAreaBottom"/>
                <a:pathLst>
                  <a:path w="888" h="382">
                    <a:moveTo>
                      <a:pt x="888" y="0"/>
                    </a:moveTo>
                    <a:lnTo>
                      <a:pt x="888" y="28"/>
                    </a:lnTo>
                    <a:lnTo>
                      <a:pt x="882" y="57"/>
                    </a:lnTo>
                    <a:lnTo>
                      <a:pt x="882" y="71"/>
                    </a:lnTo>
                    <a:lnTo>
                      <a:pt x="876" y="85"/>
                    </a:lnTo>
                    <a:lnTo>
                      <a:pt x="876" y="99"/>
                    </a:lnTo>
                    <a:lnTo>
                      <a:pt x="870" y="113"/>
                    </a:lnTo>
                    <a:lnTo>
                      <a:pt x="864" y="128"/>
                    </a:lnTo>
                    <a:lnTo>
                      <a:pt x="858" y="142"/>
                    </a:lnTo>
                    <a:lnTo>
                      <a:pt x="846" y="170"/>
                    </a:lnTo>
                    <a:lnTo>
                      <a:pt x="834" y="184"/>
                    </a:lnTo>
                    <a:lnTo>
                      <a:pt x="822" y="212"/>
                    </a:lnTo>
                    <a:lnTo>
                      <a:pt x="816" y="212"/>
                    </a:lnTo>
                    <a:lnTo>
                      <a:pt x="804" y="241"/>
                    </a:lnTo>
                    <a:lnTo>
                      <a:pt x="792" y="255"/>
                    </a:lnTo>
                    <a:lnTo>
                      <a:pt x="780" y="255"/>
                    </a:lnTo>
                    <a:lnTo>
                      <a:pt x="768" y="283"/>
                    </a:lnTo>
                    <a:lnTo>
                      <a:pt x="750" y="297"/>
                    </a:lnTo>
                    <a:lnTo>
                      <a:pt x="744" y="297"/>
                    </a:lnTo>
                    <a:lnTo>
                      <a:pt x="726" y="312"/>
                    </a:lnTo>
                    <a:lnTo>
                      <a:pt x="708" y="326"/>
                    </a:lnTo>
                    <a:lnTo>
                      <a:pt x="696" y="340"/>
                    </a:lnTo>
                    <a:lnTo>
                      <a:pt x="678" y="354"/>
                    </a:lnTo>
                    <a:lnTo>
                      <a:pt x="660" y="368"/>
                    </a:lnTo>
                    <a:lnTo>
                      <a:pt x="648" y="382"/>
                    </a:lnTo>
                    <a:lnTo>
                      <a:pt x="630" y="382"/>
                    </a:lnTo>
                    <a:lnTo>
                      <a:pt x="0" y="0"/>
                    </a:lnTo>
                    <a:lnTo>
                      <a:pt x="88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Oval 45"/>
            <p:cNvSpPr/>
            <p:nvPr/>
          </p:nvSpPr>
          <p:spPr>
            <a:xfrm>
              <a:off x="7452000" y="472608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82"/>
            <p:cNvSpPr/>
            <p:nvPr/>
          </p:nvSpPr>
          <p:spPr>
            <a:xfrm>
              <a:off x="6802560" y="5084640"/>
              <a:ext cx="216000" cy="287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83"/>
            <p:cNvSpPr/>
            <p:nvPr/>
          </p:nvSpPr>
          <p:spPr>
            <a:xfrm>
              <a:off x="7810560" y="5157720"/>
              <a:ext cx="144720" cy="358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Group 85"/>
          <p:cNvGrpSpPr/>
          <p:nvPr/>
        </p:nvGrpSpPr>
        <p:grpSpPr>
          <a:xfrm>
            <a:off x="2368800" y="2467440"/>
            <a:ext cx="977040" cy="932760"/>
            <a:chOff x="2368800" y="2467440"/>
            <a:chExt cx="977040" cy="932760"/>
          </a:xfrm>
        </p:grpSpPr>
        <p:sp>
          <p:nvSpPr>
            <p:cNvPr id="315" name="Line 86"/>
            <p:cNvSpPr/>
            <p:nvPr/>
          </p:nvSpPr>
          <p:spPr>
            <a:xfrm flipH="1">
              <a:off x="2458080" y="2859840"/>
              <a:ext cx="887760" cy="540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87"/>
            <p:cNvSpPr/>
            <p:nvPr/>
          </p:nvSpPr>
          <p:spPr>
            <a:xfrm flipH="1" flipV="1">
              <a:off x="2368800" y="2467440"/>
              <a:ext cx="977040" cy="39204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Group 88"/>
          <p:cNvGrpSpPr/>
          <p:nvPr/>
        </p:nvGrpSpPr>
        <p:grpSpPr>
          <a:xfrm>
            <a:off x="5537520" y="2467440"/>
            <a:ext cx="977040" cy="932760"/>
            <a:chOff x="5537520" y="2467440"/>
            <a:chExt cx="977040" cy="932760"/>
          </a:xfrm>
        </p:grpSpPr>
        <p:sp>
          <p:nvSpPr>
            <p:cNvPr id="318" name="Line 89"/>
            <p:cNvSpPr/>
            <p:nvPr/>
          </p:nvSpPr>
          <p:spPr>
            <a:xfrm flipH="1">
              <a:off x="5626800" y="2859840"/>
              <a:ext cx="887760" cy="540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90"/>
            <p:cNvSpPr/>
            <p:nvPr/>
          </p:nvSpPr>
          <p:spPr>
            <a:xfrm flipH="1" flipV="1">
              <a:off x="5537520" y="2467440"/>
              <a:ext cx="977040" cy="39204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Нижний колонтитул 65"/>
          <p:cNvSpPr/>
          <p:nvPr/>
        </p:nvSpPr>
        <p:spPr>
          <a:xfrm>
            <a:off x="2286000" y="6245280"/>
            <a:ext cx="5500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2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3219480" cy="2981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4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191040" cy="246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3504960" cy="26575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7"/>
          <p:cNvSpPr/>
          <p:nvPr/>
        </p:nvSpPr>
        <p:spPr>
          <a:xfrm>
            <a:off x="1976040" y="23241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6351480" y="2349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9"/>
          <p:cNvSpPr/>
          <p:nvPr/>
        </p:nvSpPr>
        <p:spPr>
          <a:xfrm>
            <a:off x="5384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/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4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28" name="Line 9"/>
          <p:cNvSpPr/>
          <p:nvPr/>
        </p:nvSpPr>
        <p:spPr>
          <a:xfrm>
            <a:off x="212400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2050920" y="2421000"/>
            <a:ext cx="865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>
            <a:off x="1979640" y="5589720"/>
            <a:ext cx="936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>
            <a:off x="2124000" y="400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2050920" y="3933720"/>
            <a:ext cx="865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17"/>
          <p:cNvSpPr/>
          <p:nvPr/>
        </p:nvSpPr>
        <p:spPr>
          <a:xfrm>
            <a:off x="4788000" y="2349360"/>
            <a:ext cx="936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19"/>
          <p:cNvSpPr/>
          <p:nvPr/>
        </p:nvSpPr>
        <p:spPr>
          <a:xfrm>
            <a:off x="4788000" y="3860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21"/>
          <p:cNvSpPr/>
          <p:nvPr/>
        </p:nvSpPr>
        <p:spPr>
          <a:xfrm>
            <a:off x="4716360" y="5589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3689640" y="184464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5dfd0"/>
                </a:solidFill>
                <a:latin typeface="Arial"/>
              </a:rPr>
              <a:t>&l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3618000" y="328464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5dfd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4"/>
          <p:cNvSpPr/>
          <p:nvPr/>
        </p:nvSpPr>
        <p:spPr>
          <a:xfrm>
            <a:off x="3618000" y="49417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5dfd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WordArt 28"/>
          <p:cNvSpPr txBox="1"/>
          <p:nvPr/>
        </p:nvSpPr>
        <p:spPr>
          <a:xfrm>
            <a:off x="2411280" y="1844640"/>
            <a:ext cx="23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WordArt 29"/>
          <p:cNvSpPr txBox="1"/>
          <p:nvPr/>
        </p:nvSpPr>
        <p:spPr>
          <a:xfrm>
            <a:off x="2411280" y="3357720"/>
            <a:ext cx="23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WordArt 30"/>
          <p:cNvSpPr txBox="1"/>
          <p:nvPr/>
        </p:nvSpPr>
        <p:spPr>
          <a:xfrm>
            <a:off x="5148360" y="1773360"/>
            <a:ext cx="22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WordArt 31"/>
          <p:cNvSpPr txBox="1"/>
          <p:nvPr/>
        </p:nvSpPr>
        <p:spPr>
          <a:xfrm>
            <a:off x="2340000" y="5013360"/>
            <a:ext cx="22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WordArt 32"/>
          <p:cNvSpPr txBox="1"/>
          <p:nvPr/>
        </p:nvSpPr>
        <p:spPr>
          <a:xfrm>
            <a:off x="5148360" y="3284640"/>
            <a:ext cx="22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WordArt 33"/>
          <p:cNvSpPr txBox="1"/>
          <p:nvPr/>
        </p:nvSpPr>
        <p:spPr>
          <a:xfrm>
            <a:off x="5148360" y="5013360"/>
            <a:ext cx="22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4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1116000" y="20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0"/>
          <p:cNvSpPr/>
          <p:nvPr/>
        </p:nvSpPr>
        <p:spPr>
          <a:xfrm>
            <a:off x="543564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57"/>
          <p:cNvSpPr/>
          <p:nvPr/>
        </p:nvSpPr>
        <p:spPr>
          <a:xfrm>
            <a:off x="684360" y="306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4"/>
          <p:cNvSpPr/>
          <p:nvPr/>
        </p:nvSpPr>
        <p:spPr>
          <a:xfrm>
            <a:off x="826920" y="3141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1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808360" cy="27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26"/>
          <p:cNvSpPr/>
          <p:nvPr/>
        </p:nvSpPr>
        <p:spPr>
          <a:xfrm>
            <a:off x="6999120" y="2205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135" descr=""/>
          <p:cNvPicPr/>
          <p:nvPr/>
        </p:nvPicPr>
        <p:blipFill>
          <a:blip r:embed="rId3"/>
          <a:stretch/>
        </p:blipFill>
        <p:spPr>
          <a:xfrm>
            <a:off x="826920" y="1779480"/>
            <a:ext cx="2592720" cy="2462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6" descr=""/>
          <p:cNvPicPr/>
          <p:nvPr/>
        </p:nvPicPr>
        <p:blipFill>
          <a:blip r:embed="rId4"/>
          <a:stretch/>
        </p:blipFill>
        <p:spPr>
          <a:xfrm>
            <a:off x="3203640" y="3789360"/>
            <a:ext cx="2663640" cy="24620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37"/>
          <p:cNvSpPr/>
          <p:nvPr/>
        </p:nvSpPr>
        <p:spPr>
          <a:xfrm>
            <a:off x="2103120" y="2133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39"/>
          <p:cNvSpPr/>
          <p:nvPr/>
        </p:nvSpPr>
        <p:spPr>
          <a:xfrm>
            <a:off x="4983120" y="4292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468360" y="333360"/>
            <a:ext cx="8207280" cy="111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делите прямоугольник  сгибанием 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Запишите на одной из долей её название, то есть, какую долю вы получили сгиб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умайте, у вашей группы  доля прямоугольника  получилась самая большая, средняя или самая маленьк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те периметр у вашей доли прямоуг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324000" y="90792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2 ведра помещается 16 кг картофеля. Сколько вёдер нужно, чтобы разложить 24 кг картофеля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2"/>
          <p:cNvSpPr/>
          <p:nvPr/>
        </p:nvSpPr>
        <p:spPr>
          <a:xfrm>
            <a:off x="250920" y="3141720"/>
            <a:ext cx="92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:2=8 (кг)- в 1 вед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:8=3 (шт.)- потребуется вёдер для 24 к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отребуется 3 вед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 flipH="1">
            <a:off x="8748720" y="4437000"/>
            <a:ext cx="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Заголовок 4" descr=""/>
          <p:cNvPicPr/>
          <p:nvPr/>
        </p:nvPicPr>
        <p:blipFill>
          <a:blip r:embed="rId1"/>
          <a:stretch/>
        </p:blipFill>
        <p:spPr>
          <a:xfrm>
            <a:off x="652320" y="-6480"/>
            <a:ext cx="849816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63" name="Picture 8" descr="https://fs00.infourok.ru/images/doc/319/318637/1/img5.jpg"/>
          <p:cNvPicPr/>
          <p:nvPr/>
        </p:nvPicPr>
        <p:blipFill>
          <a:blip r:embed="rId2"/>
          <a:stretch/>
        </p:blipFill>
        <p:spPr>
          <a:xfrm>
            <a:off x="539640" y="333360"/>
            <a:ext cx="803916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0720" y="-1768320"/>
            <a:ext cx="8242560" cy="462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2268000" y="2107800"/>
            <a:ext cx="5472360" cy="38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4∙3:2∙4:3∙2:4=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72:9∙3:6∙5:10∙9=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∙6:4∙7-18:9∙7=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902520" y="1268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Устный сч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468360" y="1557360"/>
            <a:ext cx="828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93       №3, №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682560" y="3498840"/>
            <a:ext cx="7937640" cy="13842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755280" y="907920"/>
            <a:ext cx="792468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работу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5" descr=""/>
          <p:cNvPicPr/>
          <p:nvPr/>
        </p:nvPicPr>
        <p:blipFill>
          <a:blip r:embed="rId1"/>
          <a:stretch/>
        </p:blipFill>
        <p:spPr>
          <a:xfrm>
            <a:off x="774720" y="1006560"/>
            <a:ext cx="2846520" cy="242568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6" descr=""/>
          <p:cNvPicPr/>
          <p:nvPr/>
        </p:nvPicPr>
        <p:blipFill>
          <a:blip r:embed="rId2"/>
          <a:stretch/>
        </p:blipFill>
        <p:spPr>
          <a:xfrm>
            <a:off x="-85680" y="-249120"/>
            <a:ext cx="4670280" cy="397980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7" descr=""/>
          <p:cNvPicPr/>
          <p:nvPr/>
        </p:nvPicPr>
        <p:blipFill>
          <a:blip r:embed="rId3"/>
          <a:stretch/>
        </p:blipFill>
        <p:spPr>
          <a:xfrm>
            <a:off x="706320" y="2951280"/>
            <a:ext cx="2847960" cy="24256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8"/>
          <p:cNvSpPr/>
          <p:nvPr/>
        </p:nvSpPr>
        <p:spPr>
          <a:xfrm>
            <a:off x="2627280" y="19162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СЛИТЕЛ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0" y="3860640"/>
            <a:ext cx="56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НАМЕНАТЕЛ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8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4647960" cy="46483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 часть  круга  составляет  закрашенная  дол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Прямоугольник 3" descr=""/>
          <p:cNvPicPr/>
          <p:nvPr/>
        </p:nvPicPr>
        <p:blipFill>
          <a:blip r:embed="rId2"/>
          <a:stretch/>
        </p:blipFill>
        <p:spPr>
          <a:xfrm>
            <a:off x="6486480" y="2498760"/>
            <a:ext cx="14320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 часть  круга  составляет  закрашенная  дол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3" descr=""/>
          <p:cNvPicPr/>
          <p:nvPr/>
        </p:nvPicPr>
        <p:blipFill>
          <a:blip r:embed="rId2"/>
          <a:stretch/>
        </p:blipFill>
        <p:spPr>
          <a:xfrm>
            <a:off x="5827680" y="2212920"/>
            <a:ext cx="14320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 часть  круга  составляет  закрашенная  дол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1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700520" cy="448164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3" descr=""/>
          <p:cNvPicPr/>
          <p:nvPr/>
        </p:nvPicPr>
        <p:blipFill>
          <a:blip r:embed="rId2"/>
          <a:stretch/>
        </p:blipFill>
        <p:spPr>
          <a:xfrm>
            <a:off x="6870600" y="2646360"/>
            <a:ext cx="1596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 часть  круга  составляет  закрашенная  дол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5000760" cy="470700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3" descr=""/>
          <p:cNvPicPr/>
          <p:nvPr/>
        </p:nvPicPr>
        <p:blipFill>
          <a:blip r:embed="rId2"/>
          <a:stretch/>
        </p:blipFill>
        <p:spPr>
          <a:xfrm>
            <a:off x="6913440" y="2352600"/>
            <a:ext cx="143208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365"/>
          <p:cNvSpPr/>
          <p:nvPr/>
        </p:nvSpPr>
        <p:spPr>
          <a:xfrm>
            <a:off x="2843280" y="404640"/>
            <a:ext cx="35049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13" descr="j0344852"/>
          <p:cNvPicPr/>
          <p:nvPr/>
        </p:nvPicPr>
        <p:blipFill>
          <a:blip r:embed="rId1"/>
          <a:stretch/>
        </p:blipFill>
        <p:spPr>
          <a:xfrm>
            <a:off x="6300720" y="1341360"/>
            <a:ext cx="1652760" cy="138276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07"/>
          <p:cNvSpPr/>
          <p:nvPr/>
        </p:nvSpPr>
        <p:spPr>
          <a:xfrm>
            <a:off x="2819520" y="692280"/>
            <a:ext cx="350496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409"/>
          <p:cNvSpPr/>
          <p:nvPr/>
        </p:nvSpPr>
        <p:spPr>
          <a:xfrm>
            <a:off x="2867040" y="804960"/>
            <a:ext cx="3409920" cy="577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14" descr="j0344852"/>
          <p:cNvPicPr/>
          <p:nvPr/>
        </p:nvPicPr>
        <p:blipFill>
          <a:blip r:embed="rId2"/>
          <a:stretch/>
        </p:blipFill>
        <p:spPr>
          <a:xfrm flipH="1">
            <a:off x="1834920" y="242100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38" descr="j0344852"/>
          <p:cNvPicPr/>
          <p:nvPr/>
        </p:nvPicPr>
        <p:blipFill>
          <a:blip r:embed="rId3"/>
          <a:stretch/>
        </p:blipFill>
        <p:spPr>
          <a:xfrm flipH="1">
            <a:off x="3419640" y="4292640"/>
            <a:ext cx="1584000" cy="13255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455"/>
          <p:cNvGrpSpPr/>
          <p:nvPr/>
        </p:nvGrpSpPr>
        <p:grpSpPr>
          <a:xfrm>
            <a:off x="4716360" y="2421000"/>
            <a:ext cx="1409400" cy="1528560"/>
            <a:chOff x="4716360" y="2421000"/>
            <a:chExt cx="1409400" cy="1528560"/>
          </a:xfrm>
        </p:grpSpPr>
        <p:grpSp>
          <p:nvGrpSpPr>
            <p:cNvPr id="391" name="Group 432"/>
            <p:cNvGrpSpPr/>
            <p:nvPr/>
          </p:nvGrpSpPr>
          <p:grpSpPr>
            <a:xfrm>
              <a:off x="4716360" y="2421000"/>
              <a:ext cx="1409400" cy="1528560"/>
              <a:chOff x="4716360" y="2421000"/>
              <a:chExt cx="1409400" cy="1528560"/>
            </a:xfrm>
          </p:grpSpPr>
          <p:sp>
            <p:nvSpPr>
              <p:cNvPr id="392" name="Freeform 420"/>
              <p:cNvSpPr/>
              <p:nvPr/>
            </p:nvSpPr>
            <p:spPr>
              <a:xfrm>
                <a:off x="5716440" y="2421000"/>
                <a:ext cx="409320" cy="152856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1528560"/>
                  <a:gd name="textAreaBottom" fmla="*/ 1528920 h 1528560"/>
                </a:gdLst>
                <a:ahLst/>
                <a:rect l="textAreaLeft" t="textAreaTop" r="textAreaRight" b="textAreaBottom"/>
                <a:pathLst>
                  <a:path w="258" h="963">
                    <a:moveTo>
                      <a:pt x="258" y="0"/>
                    </a:moveTo>
                    <a:lnTo>
                      <a:pt x="258" y="28"/>
                    </a:lnTo>
                    <a:lnTo>
                      <a:pt x="252" y="57"/>
                    </a:lnTo>
                    <a:lnTo>
                      <a:pt x="252" y="71"/>
                    </a:lnTo>
                    <a:lnTo>
                      <a:pt x="246" y="85"/>
                    </a:lnTo>
                    <a:lnTo>
                      <a:pt x="246" y="99"/>
                    </a:lnTo>
                    <a:lnTo>
                      <a:pt x="240" y="113"/>
                    </a:lnTo>
                    <a:lnTo>
                      <a:pt x="234" y="128"/>
                    </a:lnTo>
                    <a:lnTo>
                      <a:pt x="228" y="142"/>
                    </a:lnTo>
                    <a:lnTo>
                      <a:pt x="216" y="170"/>
                    </a:lnTo>
                    <a:lnTo>
                      <a:pt x="204" y="184"/>
                    </a:lnTo>
                    <a:lnTo>
                      <a:pt x="192" y="212"/>
                    </a:lnTo>
                    <a:lnTo>
                      <a:pt x="186" y="212"/>
                    </a:lnTo>
                    <a:lnTo>
                      <a:pt x="174" y="241"/>
                    </a:lnTo>
                    <a:lnTo>
                      <a:pt x="162" y="255"/>
                    </a:lnTo>
                    <a:lnTo>
                      <a:pt x="150" y="255"/>
                    </a:lnTo>
                    <a:lnTo>
                      <a:pt x="138" y="283"/>
                    </a:lnTo>
                    <a:lnTo>
                      <a:pt x="120" y="297"/>
                    </a:lnTo>
                    <a:lnTo>
                      <a:pt x="114" y="297"/>
                    </a:lnTo>
                    <a:lnTo>
                      <a:pt x="96" y="312"/>
                    </a:lnTo>
                    <a:lnTo>
                      <a:pt x="78" y="326"/>
                    </a:lnTo>
                    <a:lnTo>
                      <a:pt x="66" y="340"/>
                    </a:lnTo>
                    <a:lnTo>
                      <a:pt x="48" y="354"/>
                    </a:lnTo>
                    <a:lnTo>
                      <a:pt x="30" y="368"/>
                    </a:lnTo>
                    <a:lnTo>
                      <a:pt x="18" y="382"/>
                    </a:lnTo>
                    <a:lnTo>
                      <a:pt x="0" y="382"/>
                    </a:lnTo>
                    <a:lnTo>
                      <a:pt x="0" y="963"/>
                    </a:lnTo>
                    <a:lnTo>
                      <a:pt x="18" y="963"/>
                    </a:lnTo>
                    <a:lnTo>
                      <a:pt x="30" y="948"/>
                    </a:lnTo>
                    <a:lnTo>
                      <a:pt x="48" y="934"/>
                    </a:lnTo>
                    <a:lnTo>
                      <a:pt x="66" y="920"/>
                    </a:lnTo>
                    <a:lnTo>
                      <a:pt x="78" y="906"/>
                    </a:lnTo>
                    <a:lnTo>
                      <a:pt x="96" y="892"/>
                    </a:lnTo>
                    <a:lnTo>
                      <a:pt x="114" y="878"/>
                    </a:lnTo>
                    <a:lnTo>
                      <a:pt x="120" y="878"/>
                    </a:lnTo>
                    <a:lnTo>
                      <a:pt x="138" y="864"/>
                    </a:lnTo>
                    <a:lnTo>
                      <a:pt x="150" y="835"/>
                    </a:lnTo>
                    <a:lnTo>
                      <a:pt x="162" y="835"/>
                    </a:lnTo>
                    <a:lnTo>
                      <a:pt x="174" y="821"/>
                    </a:lnTo>
                    <a:lnTo>
                      <a:pt x="186" y="793"/>
                    </a:lnTo>
                    <a:lnTo>
                      <a:pt x="192" y="793"/>
                    </a:lnTo>
                    <a:lnTo>
                      <a:pt x="204" y="764"/>
                    </a:lnTo>
                    <a:lnTo>
                      <a:pt x="216" y="750"/>
                    </a:lnTo>
                    <a:lnTo>
                      <a:pt x="228" y="722"/>
                    </a:lnTo>
                    <a:lnTo>
                      <a:pt x="234" y="708"/>
                    </a:lnTo>
                    <a:lnTo>
                      <a:pt x="240" y="694"/>
                    </a:lnTo>
                    <a:lnTo>
                      <a:pt x="246" y="680"/>
                    </a:lnTo>
                    <a:lnTo>
                      <a:pt x="246" y="665"/>
                    </a:lnTo>
                    <a:lnTo>
                      <a:pt x="252" y="651"/>
                    </a:lnTo>
                    <a:lnTo>
                      <a:pt x="252" y="637"/>
                    </a:lnTo>
                    <a:lnTo>
                      <a:pt x="258" y="609"/>
                    </a:lnTo>
                    <a:lnTo>
                      <a:pt x="258" y="58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1"/>
              <p:cNvSpPr/>
              <p:nvPr/>
            </p:nvSpPr>
            <p:spPr>
              <a:xfrm>
                <a:off x="4716360" y="2421000"/>
                <a:ext cx="990360" cy="152856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8560"/>
                  <a:gd name="textAreaBottom" fmla="*/ 1528920 h 1528560"/>
                </a:gdLst>
                <a:ahLst/>
                <a:rect l="textAreaLeft" t="textAreaTop" r="textAreaRight" b="textAreaBottom"/>
                <a:pathLst>
                  <a:path w="624" h="963">
                    <a:moveTo>
                      <a:pt x="0" y="0"/>
                    </a:moveTo>
                    <a:lnTo>
                      <a:pt x="624" y="382"/>
                    </a:lnTo>
                    <a:lnTo>
                      <a:pt x="624" y="963"/>
                    </a:lnTo>
                    <a:lnTo>
                      <a:pt x="0" y="5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22"/>
              <p:cNvSpPr/>
              <p:nvPr/>
            </p:nvSpPr>
            <p:spPr>
              <a:xfrm>
                <a:off x="4716360" y="2421000"/>
                <a:ext cx="1409400" cy="606240"/>
              </a:xfrm>
              <a:custGeom>
                <a:avLst/>
                <a:gdLst>
                  <a:gd name="textAreaLeft" fmla="*/ 0 w 1409400"/>
                  <a:gd name="textAreaRight" fmla="*/ 1409760 w 140940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888" h="382">
                    <a:moveTo>
                      <a:pt x="888" y="0"/>
                    </a:moveTo>
                    <a:lnTo>
                      <a:pt x="888" y="28"/>
                    </a:lnTo>
                    <a:lnTo>
                      <a:pt x="882" y="57"/>
                    </a:lnTo>
                    <a:lnTo>
                      <a:pt x="882" y="71"/>
                    </a:lnTo>
                    <a:lnTo>
                      <a:pt x="876" y="85"/>
                    </a:lnTo>
                    <a:lnTo>
                      <a:pt x="876" y="99"/>
                    </a:lnTo>
                    <a:lnTo>
                      <a:pt x="870" y="113"/>
                    </a:lnTo>
                    <a:lnTo>
                      <a:pt x="864" y="128"/>
                    </a:lnTo>
                    <a:lnTo>
                      <a:pt x="858" y="142"/>
                    </a:lnTo>
                    <a:lnTo>
                      <a:pt x="846" y="170"/>
                    </a:lnTo>
                    <a:lnTo>
                      <a:pt x="834" y="184"/>
                    </a:lnTo>
                    <a:lnTo>
                      <a:pt x="822" y="212"/>
                    </a:lnTo>
                    <a:lnTo>
                      <a:pt x="816" y="212"/>
                    </a:lnTo>
                    <a:lnTo>
                      <a:pt x="804" y="241"/>
                    </a:lnTo>
                    <a:lnTo>
                      <a:pt x="792" y="255"/>
                    </a:lnTo>
                    <a:lnTo>
                      <a:pt x="780" y="255"/>
                    </a:lnTo>
                    <a:lnTo>
                      <a:pt x="768" y="283"/>
                    </a:lnTo>
                    <a:lnTo>
                      <a:pt x="750" y="297"/>
                    </a:lnTo>
                    <a:lnTo>
                      <a:pt x="744" y="297"/>
                    </a:lnTo>
                    <a:lnTo>
                      <a:pt x="726" y="312"/>
                    </a:lnTo>
                    <a:lnTo>
                      <a:pt x="708" y="326"/>
                    </a:lnTo>
                    <a:lnTo>
                      <a:pt x="696" y="340"/>
                    </a:lnTo>
                    <a:lnTo>
                      <a:pt x="678" y="354"/>
                    </a:lnTo>
                    <a:lnTo>
                      <a:pt x="660" y="368"/>
                    </a:lnTo>
                    <a:lnTo>
                      <a:pt x="648" y="382"/>
                    </a:lnTo>
                    <a:lnTo>
                      <a:pt x="630" y="382"/>
                    </a:lnTo>
                    <a:lnTo>
                      <a:pt x="0" y="0"/>
                    </a:lnTo>
                    <a:lnTo>
                      <a:pt x="88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Oval 444"/>
            <p:cNvSpPr/>
            <p:nvPr/>
          </p:nvSpPr>
          <p:spPr>
            <a:xfrm>
              <a:off x="5508360" y="2565360"/>
              <a:ext cx="216000" cy="142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463"/>
          <p:cNvGrpSpPr/>
          <p:nvPr/>
        </p:nvGrpSpPr>
        <p:grpSpPr>
          <a:xfrm>
            <a:off x="3780000" y="1628640"/>
            <a:ext cx="990360" cy="1774800"/>
            <a:chOff x="3780000" y="1628640"/>
            <a:chExt cx="990360" cy="1774800"/>
          </a:xfrm>
        </p:grpSpPr>
        <p:grpSp>
          <p:nvGrpSpPr>
            <p:cNvPr id="397" name="Group 437"/>
            <p:cNvGrpSpPr/>
            <p:nvPr/>
          </p:nvGrpSpPr>
          <p:grpSpPr>
            <a:xfrm>
              <a:off x="3780000" y="1628640"/>
              <a:ext cx="990360" cy="1774800"/>
              <a:chOff x="3780000" y="1628640"/>
              <a:chExt cx="990360" cy="1774800"/>
            </a:xfrm>
          </p:grpSpPr>
          <p:sp>
            <p:nvSpPr>
              <p:cNvPr id="398" name="Freeform 414"/>
              <p:cNvSpPr/>
              <p:nvPr/>
            </p:nvSpPr>
            <p:spPr>
              <a:xfrm>
                <a:off x="3780000" y="1876320"/>
                <a:ext cx="990360" cy="152712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7120"/>
                  <a:gd name="textAreaBottom" fmla="*/ 1527480 h 1527120"/>
                </a:gdLst>
                <a:ahLst/>
                <a:rect l="textAreaLeft" t="textAreaTop" r="textAreaRight" b="textAreaBottom"/>
                <a:pathLst>
                  <a:path w="624" h="962">
                    <a:moveTo>
                      <a:pt x="624" y="382"/>
                    </a:moveTo>
                    <a:lnTo>
                      <a:pt x="0" y="0"/>
                    </a:lnTo>
                    <a:lnTo>
                      <a:pt x="0" y="580"/>
                    </a:lnTo>
                    <a:lnTo>
                      <a:pt x="624" y="962"/>
                    </a:lnTo>
                    <a:lnTo>
                      <a:pt x="624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415"/>
              <p:cNvSpPr/>
              <p:nvPr/>
            </p:nvSpPr>
            <p:spPr>
              <a:xfrm>
                <a:off x="3780000" y="1628640"/>
                <a:ext cx="990360" cy="85392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624" h="538">
                    <a:moveTo>
                      <a:pt x="0" y="156"/>
                    </a:moveTo>
                    <a:lnTo>
                      <a:pt x="24" y="142"/>
                    </a:lnTo>
                    <a:lnTo>
                      <a:pt x="36" y="142"/>
                    </a:lnTo>
                    <a:lnTo>
                      <a:pt x="54" y="128"/>
                    </a:lnTo>
                    <a:lnTo>
                      <a:pt x="78" y="114"/>
                    </a:lnTo>
                    <a:lnTo>
                      <a:pt x="90" y="114"/>
                    </a:lnTo>
                    <a:lnTo>
                      <a:pt x="120" y="99"/>
                    </a:lnTo>
                    <a:lnTo>
                      <a:pt x="144" y="85"/>
                    </a:lnTo>
                    <a:lnTo>
                      <a:pt x="156" y="85"/>
                    </a:lnTo>
                    <a:lnTo>
                      <a:pt x="180" y="71"/>
                    </a:lnTo>
                    <a:lnTo>
                      <a:pt x="210" y="57"/>
                    </a:lnTo>
                    <a:lnTo>
                      <a:pt x="222" y="57"/>
                    </a:lnTo>
                    <a:lnTo>
                      <a:pt x="252" y="43"/>
                    </a:lnTo>
                    <a:lnTo>
                      <a:pt x="282" y="43"/>
                    </a:lnTo>
                    <a:lnTo>
                      <a:pt x="294" y="43"/>
                    </a:lnTo>
                    <a:lnTo>
                      <a:pt x="324" y="29"/>
                    </a:lnTo>
                    <a:lnTo>
                      <a:pt x="354" y="29"/>
                    </a:lnTo>
                    <a:lnTo>
                      <a:pt x="366" y="14"/>
                    </a:lnTo>
                    <a:lnTo>
                      <a:pt x="396" y="14"/>
                    </a:lnTo>
                    <a:lnTo>
                      <a:pt x="426" y="14"/>
                    </a:lnTo>
                    <a:lnTo>
                      <a:pt x="444" y="14"/>
                    </a:lnTo>
                    <a:lnTo>
                      <a:pt x="474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46" y="0"/>
                    </a:lnTo>
                    <a:lnTo>
                      <a:pt x="582" y="0"/>
                    </a:lnTo>
                    <a:lnTo>
                      <a:pt x="594" y="0"/>
                    </a:lnTo>
                    <a:lnTo>
                      <a:pt x="624" y="0"/>
                    </a:lnTo>
                    <a:lnTo>
                      <a:pt x="624" y="53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Oval 446"/>
            <p:cNvSpPr/>
            <p:nvPr/>
          </p:nvSpPr>
          <p:spPr>
            <a:xfrm>
              <a:off x="4498920" y="217800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450"/>
            <p:cNvSpPr/>
            <p:nvPr/>
          </p:nvSpPr>
          <p:spPr>
            <a:xfrm>
              <a:off x="4282920" y="188892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 461"/>
          <p:cNvGrpSpPr/>
          <p:nvPr/>
        </p:nvGrpSpPr>
        <p:grpSpPr>
          <a:xfrm>
            <a:off x="3348000" y="1844640"/>
            <a:ext cx="1400040" cy="1527120"/>
            <a:chOff x="3348000" y="1844640"/>
            <a:chExt cx="1400040" cy="1527120"/>
          </a:xfrm>
        </p:grpSpPr>
        <p:grpSp>
          <p:nvGrpSpPr>
            <p:cNvPr id="403" name="Group 436"/>
            <p:cNvGrpSpPr/>
            <p:nvPr/>
          </p:nvGrpSpPr>
          <p:grpSpPr>
            <a:xfrm>
              <a:off x="3348000" y="1844640"/>
              <a:ext cx="1400040" cy="1527120"/>
              <a:chOff x="3348000" y="1844640"/>
              <a:chExt cx="1400040" cy="1527120"/>
            </a:xfrm>
          </p:grpSpPr>
          <p:sp>
            <p:nvSpPr>
              <p:cNvPr id="404" name="Rectangle 418"/>
              <p:cNvSpPr/>
              <p:nvPr/>
            </p:nvSpPr>
            <p:spPr>
              <a:xfrm>
                <a:off x="3348000" y="2450880"/>
                <a:ext cx="1400040" cy="920880"/>
              </a:xfrm>
              <a:prstGeom prst="rect">
                <a:avLst/>
              </a:pr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419"/>
              <p:cNvSpPr/>
              <p:nvPr/>
            </p:nvSpPr>
            <p:spPr>
              <a:xfrm>
                <a:off x="3348000" y="1844640"/>
                <a:ext cx="1400040" cy="60624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882" h="382">
                    <a:moveTo>
                      <a:pt x="0" y="382"/>
                    </a:moveTo>
                    <a:lnTo>
                      <a:pt x="0" y="368"/>
                    </a:lnTo>
                    <a:lnTo>
                      <a:pt x="0" y="354"/>
                    </a:lnTo>
                    <a:lnTo>
                      <a:pt x="0" y="340"/>
                    </a:lnTo>
                    <a:lnTo>
                      <a:pt x="6" y="326"/>
                    </a:lnTo>
                    <a:lnTo>
                      <a:pt x="6" y="311"/>
                    </a:lnTo>
                    <a:lnTo>
                      <a:pt x="12" y="297"/>
                    </a:lnTo>
                    <a:lnTo>
                      <a:pt x="18" y="269"/>
                    </a:lnTo>
                    <a:lnTo>
                      <a:pt x="24" y="269"/>
                    </a:lnTo>
                    <a:lnTo>
                      <a:pt x="30" y="241"/>
                    </a:lnTo>
                    <a:lnTo>
                      <a:pt x="36" y="226"/>
                    </a:lnTo>
                    <a:lnTo>
                      <a:pt x="42" y="212"/>
                    </a:lnTo>
                    <a:lnTo>
                      <a:pt x="54" y="198"/>
                    </a:lnTo>
                    <a:lnTo>
                      <a:pt x="60" y="184"/>
                    </a:lnTo>
                    <a:lnTo>
                      <a:pt x="66" y="170"/>
                    </a:lnTo>
                    <a:lnTo>
                      <a:pt x="84" y="156"/>
                    </a:lnTo>
                    <a:lnTo>
                      <a:pt x="96" y="142"/>
                    </a:lnTo>
                    <a:lnTo>
                      <a:pt x="102" y="127"/>
                    </a:lnTo>
                    <a:lnTo>
                      <a:pt x="120" y="113"/>
                    </a:lnTo>
                    <a:lnTo>
                      <a:pt x="132" y="99"/>
                    </a:lnTo>
                    <a:lnTo>
                      <a:pt x="144" y="85"/>
                    </a:lnTo>
                    <a:lnTo>
                      <a:pt x="156" y="71"/>
                    </a:lnTo>
                    <a:lnTo>
                      <a:pt x="174" y="57"/>
                    </a:lnTo>
                    <a:lnTo>
                      <a:pt x="186" y="57"/>
                    </a:lnTo>
                    <a:lnTo>
                      <a:pt x="204" y="42"/>
                    </a:lnTo>
                    <a:lnTo>
                      <a:pt x="228" y="14"/>
                    </a:lnTo>
                    <a:lnTo>
                      <a:pt x="234" y="14"/>
                    </a:lnTo>
                    <a:lnTo>
                      <a:pt x="258" y="0"/>
                    </a:lnTo>
                    <a:lnTo>
                      <a:pt x="882" y="38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6" name="Oval 451"/>
            <p:cNvSpPr/>
            <p:nvPr/>
          </p:nvSpPr>
          <p:spPr>
            <a:xfrm>
              <a:off x="3997440" y="220320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452"/>
            <p:cNvSpPr/>
            <p:nvPr/>
          </p:nvSpPr>
          <p:spPr>
            <a:xfrm>
              <a:off x="3565440" y="198720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Group 462"/>
          <p:cNvGrpSpPr/>
          <p:nvPr/>
        </p:nvGrpSpPr>
        <p:grpSpPr>
          <a:xfrm>
            <a:off x="3348000" y="2421000"/>
            <a:ext cx="1400040" cy="1528560"/>
            <a:chOff x="3348000" y="2421000"/>
            <a:chExt cx="1400040" cy="1528560"/>
          </a:xfrm>
        </p:grpSpPr>
        <p:grpSp>
          <p:nvGrpSpPr>
            <p:cNvPr id="409" name="Group 435"/>
            <p:cNvGrpSpPr/>
            <p:nvPr/>
          </p:nvGrpSpPr>
          <p:grpSpPr>
            <a:xfrm>
              <a:off x="3348000" y="2421000"/>
              <a:ext cx="1400040" cy="1528560"/>
              <a:chOff x="3348000" y="2421000"/>
              <a:chExt cx="1400040" cy="1528560"/>
            </a:xfrm>
          </p:grpSpPr>
          <p:sp>
            <p:nvSpPr>
              <p:cNvPr id="410" name="Freeform 423"/>
              <p:cNvSpPr/>
              <p:nvPr/>
            </p:nvSpPr>
            <p:spPr>
              <a:xfrm>
                <a:off x="3348000" y="2421000"/>
                <a:ext cx="409320" cy="152856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1528560"/>
                  <a:gd name="textAreaBottom" fmla="*/ 1528920 h 1528560"/>
                </a:gdLst>
                <a:ahLst/>
                <a:rect l="textAreaLeft" t="textAreaTop" r="textAreaRight" b="textAreaBottom"/>
                <a:pathLst>
                  <a:path w="258" h="963">
                    <a:moveTo>
                      <a:pt x="258" y="382"/>
                    </a:moveTo>
                    <a:lnTo>
                      <a:pt x="234" y="382"/>
                    </a:lnTo>
                    <a:lnTo>
                      <a:pt x="228" y="368"/>
                    </a:lnTo>
                    <a:lnTo>
                      <a:pt x="204" y="354"/>
                    </a:lnTo>
                    <a:lnTo>
                      <a:pt x="186" y="340"/>
                    </a:lnTo>
                    <a:lnTo>
                      <a:pt x="174" y="326"/>
                    </a:lnTo>
                    <a:lnTo>
                      <a:pt x="156" y="312"/>
                    </a:lnTo>
                    <a:lnTo>
                      <a:pt x="144" y="297"/>
                    </a:lnTo>
                    <a:lnTo>
                      <a:pt x="132" y="297"/>
                    </a:lnTo>
                    <a:lnTo>
                      <a:pt x="120" y="283"/>
                    </a:lnTo>
                    <a:lnTo>
                      <a:pt x="102" y="255"/>
                    </a:lnTo>
                    <a:lnTo>
                      <a:pt x="96" y="255"/>
                    </a:lnTo>
                    <a:lnTo>
                      <a:pt x="84" y="241"/>
                    </a:lnTo>
                    <a:lnTo>
                      <a:pt x="66" y="212"/>
                    </a:lnTo>
                    <a:lnTo>
                      <a:pt x="60" y="212"/>
                    </a:lnTo>
                    <a:lnTo>
                      <a:pt x="54" y="184"/>
                    </a:lnTo>
                    <a:lnTo>
                      <a:pt x="42" y="170"/>
                    </a:lnTo>
                    <a:lnTo>
                      <a:pt x="36" y="170"/>
                    </a:lnTo>
                    <a:lnTo>
                      <a:pt x="30" y="142"/>
                    </a:lnTo>
                    <a:lnTo>
                      <a:pt x="24" y="128"/>
                    </a:lnTo>
                    <a:lnTo>
                      <a:pt x="18" y="113"/>
                    </a:lnTo>
                    <a:lnTo>
                      <a:pt x="12" y="99"/>
                    </a:lnTo>
                    <a:lnTo>
                      <a:pt x="6" y="85"/>
                    </a:lnTo>
                    <a:lnTo>
                      <a:pt x="6" y="71"/>
                    </a:lnTo>
                    <a:lnTo>
                      <a:pt x="0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609"/>
                    </a:lnTo>
                    <a:lnTo>
                      <a:pt x="0" y="637"/>
                    </a:lnTo>
                    <a:lnTo>
                      <a:pt x="6" y="651"/>
                    </a:lnTo>
                    <a:lnTo>
                      <a:pt x="6" y="665"/>
                    </a:lnTo>
                    <a:lnTo>
                      <a:pt x="12" y="680"/>
                    </a:lnTo>
                    <a:lnTo>
                      <a:pt x="18" y="694"/>
                    </a:lnTo>
                    <a:lnTo>
                      <a:pt x="24" y="708"/>
                    </a:lnTo>
                    <a:lnTo>
                      <a:pt x="30" y="722"/>
                    </a:lnTo>
                    <a:lnTo>
                      <a:pt x="36" y="750"/>
                    </a:lnTo>
                    <a:lnTo>
                      <a:pt x="42" y="750"/>
                    </a:lnTo>
                    <a:lnTo>
                      <a:pt x="54" y="764"/>
                    </a:lnTo>
                    <a:lnTo>
                      <a:pt x="60" y="793"/>
                    </a:lnTo>
                    <a:lnTo>
                      <a:pt x="66" y="793"/>
                    </a:lnTo>
                    <a:lnTo>
                      <a:pt x="84" y="821"/>
                    </a:lnTo>
                    <a:lnTo>
                      <a:pt x="96" y="835"/>
                    </a:lnTo>
                    <a:lnTo>
                      <a:pt x="102" y="835"/>
                    </a:lnTo>
                    <a:lnTo>
                      <a:pt x="120" y="864"/>
                    </a:lnTo>
                    <a:lnTo>
                      <a:pt x="132" y="878"/>
                    </a:lnTo>
                    <a:lnTo>
                      <a:pt x="144" y="878"/>
                    </a:lnTo>
                    <a:lnTo>
                      <a:pt x="156" y="892"/>
                    </a:lnTo>
                    <a:lnTo>
                      <a:pt x="174" y="906"/>
                    </a:lnTo>
                    <a:lnTo>
                      <a:pt x="186" y="920"/>
                    </a:lnTo>
                    <a:lnTo>
                      <a:pt x="204" y="934"/>
                    </a:lnTo>
                    <a:lnTo>
                      <a:pt x="228" y="948"/>
                    </a:lnTo>
                    <a:lnTo>
                      <a:pt x="234" y="963"/>
                    </a:lnTo>
                    <a:lnTo>
                      <a:pt x="258" y="963"/>
                    </a:lnTo>
                    <a:lnTo>
                      <a:pt x="258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424"/>
              <p:cNvSpPr/>
              <p:nvPr/>
            </p:nvSpPr>
            <p:spPr>
              <a:xfrm>
                <a:off x="3757320" y="2421000"/>
                <a:ext cx="990360" cy="152856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8560"/>
                  <a:gd name="textAreaBottom" fmla="*/ 1528920 h 1528560"/>
                </a:gdLst>
                <a:ahLst/>
                <a:rect l="textAreaLeft" t="textAreaTop" r="textAreaRight" b="textAreaBottom"/>
                <a:pathLst>
                  <a:path w="624" h="963">
                    <a:moveTo>
                      <a:pt x="624" y="0"/>
                    </a:moveTo>
                    <a:lnTo>
                      <a:pt x="0" y="382"/>
                    </a:lnTo>
                    <a:lnTo>
                      <a:pt x="0" y="963"/>
                    </a:lnTo>
                    <a:lnTo>
                      <a:pt x="624" y="580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425"/>
              <p:cNvSpPr/>
              <p:nvPr/>
            </p:nvSpPr>
            <p:spPr>
              <a:xfrm>
                <a:off x="3348000" y="2421000"/>
                <a:ext cx="1400040" cy="60624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882" h="382">
                    <a:moveTo>
                      <a:pt x="258" y="382"/>
                    </a:moveTo>
                    <a:lnTo>
                      <a:pt x="234" y="382"/>
                    </a:lnTo>
                    <a:lnTo>
                      <a:pt x="228" y="368"/>
                    </a:lnTo>
                    <a:lnTo>
                      <a:pt x="204" y="354"/>
                    </a:lnTo>
                    <a:lnTo>
                      <a:pt x="186" y="340"/>
                    </a:lnTo>
                    <a:lnTo>
                      <a:pt x="174" y="326"/>
                    </a:lnTo>
                    <a:lnTo>
                      <a:pt x="156" y="312"/>
                    </a:lnTo>
                    <a:lnTo>
                      <a:pt x="144" y="297"/>
                    </a:lnTo>
                    <a:lnTo>
                      <a:pt x="132" y="297"/>
                    </a:lnTo>
                    <a:lnTo>
                      <a:pt x="120" y="283"/>
                    </a:lnTo>
                    <a:lnTo>
                      <a:pt x="102" y="255"/>
                    </a:lnTo>
                    <a:lnTo>
                      <a:pt x="96" y="255"/>
                    </a:lnTo>
                    <a:lnTo>
                      <a:pt x="84" y="241"/>
                    </a:lnTo>
                    <a:lnTo>
                      <a:pt x="66" y="212"/>
                    </a:lnTo>
                    <a:lnTo>
                      <a:pt x="60" y="212"/>
                    </a:lnTo>
                    <a:lnTo>
                      <a:pt x="54" y="184"/>
                    </a:lnTo>
                    <a:lnTo>
                      <a:pt x="42" y="170"/>
                    </a:lnTo>
                    <a:lnTo>
                      <a:pt x="36" y="170"/>
                    </a:lnTo>
                    <a:lnTo>
                      <a:pt x="30" y="142"/>
                    </a:lnTo>
                    <a:lnTo>
                      <a:pt x="24" y="128"/>
                    </a:lnTo>
                    <a:lnTo>
                      <a:pt x="18" y="113"/>
                    </a:lnTo>
                    <a:lnTo>
                      <a:pt x="12" y="99"/>
                    </a:lnTo>
                    <a:lnTo>
                      <a:pt x="6" y="85"/>
                    </a:lnTo>
                    <a:lnTo>
                      <a:pt x="6" y="71"/>
                    </a:lnTo>
                    <a:lnTo>
                      <a:pt x="0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258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Oval 453"/>
            <p:cNvSpPr/>
            <p:nvPr/>
          </p:nvSpPr>
          <p:spPr>
            <a:xfrm>
              <a:off x="3708000" y="256500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457"/>
          <p:cNvGrpSpPr/>
          <p:nvPr/>
        </p:nvGrpSpPr>
        <p:grpSpPr>
          <a:xfrm>
            <a:off x="4716360" y="1628640"/>
            <a:ext cx="1000080" cy="1774800"/>
            <a:chOff x="4716360" y="1628640"/>
            <a:chExt cx="1000080" cy="1774800"/>
          </a:xfrm>
        </p:grpSpPr>
        <p:grpSp>
          <p:nvGrpSpPr>
            <p:cNvPr id="415" name="Group 434"/>
            <p:cNvGrpSpPr/>
            <p:nvPr/>
          </p:nvGrpSpPr>
          <p:grpSpPr>
            <a:xfrm>
              <a:off x="4716360" y="1628640"/>
              <a:ext cx="1000080" cy="1774800"/>
              <a:chOff x="4716360" y="1628640"/>
              <a:chExt cx="1000080" cy="1774800"/>
            </a:xfrm>
          </p:grpSpPr>
          <p:sp>
            <p:nvSpPr>
              <p:cNvPr id="416" name="Freeform 412"/>
              <p:cNvSpPr/>
              <p:nvPr/>
            </p:nvSpPr>
            <p:spPr>
              <a:xfrm>
                <a:off x="4716360" y="1876320"/>
                <a:ext cx="990360" cy="152712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7120"/>
                  <a:gd name="textAreaBottom" fmla="*/ 1527480 h 1527120"/>
                </a:gdLst>
                <a:ahLst/>
                <a:rect l="textAreaLeft" t="textAreaTop" r="textAreaRight" b="textAreaBottom"/>
                <a:pathLst>
                  <a:path w="624" h="962">
                    <a:moveTo>
                      <a:pt x="0" y="382"/>
                    </a:moveTo>
                    <a:lnTo>
                      <a:pt x="624" y="0"/>
                    </a:lnTo>
                    <a:lnTo>
                      <a:pt x="624" y="580"/>
                    </a:lnTo>
                    <a:lnTo>
                      <a:pt x="0" y="96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413"/>
              <p:cNvSpPr/>
              <p:nvPr/>
            </p:nvSpPr>
            <p:spPr>
              <a:xfrm>
                <a:off x="4716360" y="1628640"/>
                <a:ext cx="1000080" cy="85392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630" h="538">
                    <a:moveTo>
                      <a:pt x="0" y="0"/>
                    </a:moveTo>
                    <a:lnTo>
                      <a:pt x="30" y="0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26" y="0"/>
                    </a:lnTo>
                    <a:lnTo>
                      <a:pt x="156" y="0"/>
                    </a:lnTo>
                    <a:lnTo>
                      <a:pt x="186" y="14"/>
                    </a:lnTo>
                    <a:lnTo>
                      <a:pt x="198" y="14"/>
                    </a:lnTo>
                    <a:lnTo>
                      <a:pt x="228" y="14"/>
                    </a:lnTo>
                    <a:lnTo>
                      <a:pt x="258" y="14"/>
                    </a:lnTo>
                    <a:lnTo>
                      <a:pt x="276" y="29"/>
                    </a:lnTo>
                    <a:lnTo>
                      <a:pt x="306" y="29"/>
                    </a:lnTo>
                    <a:lnTo>
                      <a:pt x="336" y="43"/>
                    </a:lnTo>
                    <a:lnTo>
                      <a:pt x="348" y="43"/>
                    </a:lnTo>
                    <a:lnTo>
                      <a:pt x="378" y="43"/>
                    </a:lnTo>
                    <a:lnTo>
                      <a:pt x="402" y="57"/>
                    </a:lnTo>
                    <a:lnTo>
                      <a:pt x="414" y="57"/>
                    </a:lnTo>
                    <a:lnTo>
                      <a:pt x="444" y="71"/>
                    </a:lnTo>
                    <a:lnTo>
                      <a:pt x="468" y="85"/>
                    </a:lnTo>
                    <a:lnTo>
                      <a:pt x="486" y="85"/>
                    </a:lnTo>
                    <a:lnTo>
                      <a:pt x="510" y="99"/>
                    </a:lnTo>
                    <a:lnTo>
                      <a:pt x="534" y="114"/>
                    </a:lnTo>
                    <a:lnTo>
                      <a:pt x="546" y="114"/>
                    </a:lnTo>
                    <a:lnTo>
                      <a:pt x="570" y="128"/>
                    </a:lnTo>
                    <a:lnTo>
                      <a:pt x="594" y="142"/>
                    </a:lnTo>
                    <a:lnTo>
                      <a:pt x="606" y="142"/>
                    </a:lnTo>
                    <a:lnTo>
                      <a:pt x="630" y="156"/>
                    </a:lnTo>
                    <a:lnTo>
                      <a:pt x="0" y="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8" name="Oval 442"/>
            <p:cNvSpPr/>
            <p:nvPr/>
          </p:nvSpPr>
          <p:spPr>
            <a:xfrm>
              <a:off x="4932000" y="206064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456"/>
          <p:cNvGrpSpPr/>
          <p:nvPr/>
        </p:nvGrpSpPr>
        <p:grpSpPr>
          <a:xfrm>
            <a:off x="4716360" y="1844640"/>
            <a:ext cx="1409400" cy="1527120"/>
            <a:chOff x="4716360" y="1844640"/>
            <a:chExt cx="1409400" cy="1527120"/>
          </a:xfrm>
        </p:grpSpPr>
        <p:grpSp>
          <p:nvGrpSpPr>
            <p:cNvPr id="420" name="Group 433"/>
            <p:cNvGrpSpPr/>
            <p:nvPr/>
          </p:nvGrpSpPr>
          <p:grpSpPr>
            <a:xfrm>
              <a:off x="4716360" y="1844640"/>
              <a:ext cx="1409400" cy="1527120"/>
              <a:chOff x="4716360" y="1844640"/>
              <a:chExt cx="1409400" cy="1527120"/>
            </a:xfrm>
          </p:grpSpPr>
          <p:sp>
            <p:nvSpPr>
              <p:cNvPr id="421" name="Rectangle 416"/>
              <p:cNvSpPr/>
              <p:nvPr/>
            </p:nvSpPr>
            <p:spPr>
              <a:xfrm>
                <a:off x="4716360" y="2450880"/>
                <a:ext cx="1400040" cy="920880"/>
              </a:xfrm>
              <a:prstGeom prst="rect">
                <a:avLst/>
              </a:pr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417"/>
              <p:cNvSpPr/>
              <p:nvPr/>
            </p:nvSpPr>
            <p:spPr>
              <a:xfrm>
                <a:off x="4716360" y="1844640"/>
                <a:ext cx="1409400" cy="606240"/>
              </a:xfrm>
              <a:custGeom>
                <a:avLst/>
                <a:gdLst>
                  <a:gd name="textAreaLeft" fmla="*/ 0 w 1409400"/>
                  <a:gd name="textAreaRight" fmla="*/ 1409760 w 140940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888" h="382">
                    <a:moveTo>
                      <a:pt x="630" y="0"/>
                    </a:moveTo>
                    <a:lnTo>
                      <a:pt x="648" y="14"/>
                    </a:lnTo>
                    <a:lnTo>
                      <a:pt x="660" y="14"/>
                    </a:lnTo>
                    <a:lnTo>
                      <a:pt x="678" y="42"/>
                    </a:lnTo>
                    <a:lnTo>
                      <a:pt x="696" y="57"/>
                    </a:lnTo>
                    <a:lnTo>
                      <a:pt x="708" y="57"/>
                    </a:lnTo>
                    <a:lnTo>
                      <a:pt x="726" y="71"/>
                    </a:lnTo>
                    <a:lnTo>
                      <a:pt x="744" y="85"/>
                    </a:lnTo>
                    <a:lnTo>
                      <a:pt x="750" y="99"/>
                    </a:lnTo>
                    <a:lnTo>
                      <a:pt x="768" y="113"/>
                    </a:lnTo>
                    <a:lnTo>
                      <a:pt x="780" y="127"/>
                    </a:lnTo>
                    <a:lnTo>
                      <a:pt x="792" y="142"/>
                    </a:lnTo>
                    <a:lnTo>
                      <a:pt x="804" y="156"/>
                    </a:lnTo>
                    <a:lnTo>
                      <a:pt x="816" y="170"/>
                    </a:lnTo>
                    <a:lnTo>
                      <a:pt x="822" y="184"/>
                    </a:lnTo>
                    <a:lnTo>
                      <a:pt x="834" y="198"/>
                    </a:lnTo>
                    <a:lnTo>
                      <a:pt x="846" y="212"/>
                    </a:lnTo>
                    <a:lnTo>
                      <a:pt x="846" y="226"/>
                    </a:lnTo>
                    <a:lnTo>
                      <a:pt x="858" y="241"/>
                    </a:lnTo>
                    <a:lnTo>
                      <a:pt x="864" y="269"/>
                    </a:lnTo>
                    <a:lnTo>
                      <a:pt x="870" y="269"/>
                    </a:lnTo>
                    <a:lnTo>
                      <a:pt x="876" y="297"/>
                    </a:lnTo>
                    <a:lnTo>
                      <a:pt x="876" y="311"/>
                    </a:lnTo>
                    <a:lnTo>
                      <a:pt x="882" y="326"/>
                    </a:lnTo>
                    <a:lnTo>
                      <a:pt x="882" y="340"/>
                    </a:lnTo>
                    <a:lnTo>
                      <a:pt x="888" y="354"/>
                    </a:lnTo>
                    <a:lnTo>
                      <a:pt x="888" y="368"/>
                    </a:lnTo>
                    <a:lnTo>
                      <a:pt x="888" y="382"/>
                    </a:lnTo>
                    <a:lnTo>
                      <a:pt x="0" y="382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3" name="Oval 441"/>
            <p:cNvSpPr/>
            <p:nvPr/>
          </p:nvSpPr>
          <p:spPr>
            <a:xfrm>
              <a:off x="5580000" y="206208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443"/>
            <p:cNvSpPr/>
            <p:nvPr/>
          </p:nvSpPr>
          <p:spPr>
            <a:xfrm>
              <a:off x="5148000" y="227772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454"/>
          <p:cNvGrpSpPr/>
          <p:nvPr/>
        </p:nvGrpSpPr>
        <p:grpSpPr>
          <a:xfrm>
            <a:off x="3780000" y="2421000"/>
            <a:ext cx="1936080" cy="1797120"/>
            <a:chOff x="3780000" y="2421000"/>
            <a:chExt cx="1936080" cy="1797120"/>
          </a:xfrm>
        </p:grpSpPr>
        <p:grpSp>
          <p:nvGrpSpPr>
            <p:cNvPr id="426" name="Group 440"/>
            <p:cNvGrpSpPr/>
            <p:nvPr/>
          </p:nvGrpSpPr>
          <p:grpSpPr>
            <a:xfrm>
              <a:off x="3780000" y="2421000"/>
              <a:ext cx="1936080" cy="1797120"/>
              <a:chOff x="3780000" y="2421000"/>
              <a:chExt cx="1936080" cy="1797120"/>
            </a:xfrm>
          </p:grpSpPr>
          <p:grpSp>
            <p:nvGrpSpPr>
              <p:cNvPr id="427" name="Group 431"/>
              <p:cNvGrpSpPr/>
              <p:nvPr/>
            </p:nvGrpSpPr>
            <p:grpSpPr>
              <a:xfrm>
                <a:off x="4716360" y="2421000"/>
                <a:ext cx="999720" cy="1797120"/>
                <a:chOff x="4716360" y="2421000"/>
                <a:chExt cx="999720" cy="1797120"/>
              </a:xfrm>
            </p:grpSpPr>
            <p:sp>
              <p:nvSpPr>
                <p:cNvPr id="428" name="Freeform 426"/>
                <p:cNvSpPr/>
                <p:nvPr/>
              </p:nvSpPr>
              <p:spPr>
                <a:xfrm>
                  <a:off x="4716360" y="3027600"/>
                  <a:ext cx="999720" cy="119052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190520"/>
                    <a:gd name="textAreaBottom" fmla="*/ 1190880 h 1190520"/>
                  </a:gdLst>
                  <a:ahLst/>
                  <a:rect l="textAreaLeft" t="textAreaTop" r="textAreaRight" b="textAreaBottom"/>
                  <a:pathLst>
                    <a:path w="630" h="750">
                      <a:moveTo>
                        <a:pt x="630" y="0"/>
                      </a:moveTo>
                      <a:lnTo>
                        <a:pt x="606" y="14"/>
                      </a:lnTo>
                      <a:lnTo>
                        <a:pt x="594" y="29"/>
                      </a:lnTo>
                      <a:lnTo>
                        <a:pt x="570" y="43"/>
                      </a:lnTo>
                      <a:lnTo>
                        <a:pt x="546" y="57"/>
                      </a:lnTo>
                      <a:lnTo>
                        <a:pt x="534" y="57"/>
                      </a:lnTo>
                      <a:lnTo>
                        <a:pt x="510" y="71"/>
                      </a:lnTo>
                      <a:lnTo>
                        <a:pt x="486" y="85"/>
                      </a:lnTo>
                      <a:lnTo>
                        <a:pt x="468" y="85"/>
                      </a:lnTo>
                      <a:lnTo>
                        <a:pt x="444" y="99"/>
                      </a:lnTo>
                      <a:lnTo>
                        <a:pt x="414" y="99"/>
                      </a:lnTo>
                      <a:lnTo>
                        <a:pt x="402" y="114"/>
                      </a:lnTo>
                      <a:lnTo>
                        <a:pt x="378" y="114"/>
                      </a:lnTo>
                      <a:lnTo>
                        <a:pt x="348" y="128"/>
                      </a:lnTo>
                      <a:lnTo>
                        <a:pt x="336" y="128"/>
                      </a:lnTo>
                      <a:lnTo>
                        <a:pt x="306" y="128"/>
                      </a:lnTo>
                      <a:lnTo>
                        <a:pt x="276" y="142"/>
                      </a:lnTo>
                      <a:lnTo>
                        <a:pt x="258" y="142"/>
                      </a:lnTo>
                      <a:lnTo>
                        <a:pt x="228" y="142"/>
                      </a:lnTo>
                      <a:lnTo>
                        <a:pt x="198" y="156"/>
                      </a:lnTo>
                      <a:lnTo>
                        <a:pt x="186" y="156"/>
                      </a:lnTo>
                      <a:lnTo>
                        <a:pt x="156" y="156"/>
                      </a:lnTo>
                      <a:lnTo>
                        <a:pt x="126" y="156"/>
                      </a:lnTo>
                      <a:lnTo>
                        <a:pt x="108" y="156"/>
                      </a:lnTo>
                      <a:lnTo>
                        <a:pt x="78" y="170"/>
                      </a:lnTo>
                      <a:lnTo>
                        <a:pt x="48" y="170"/>
                      </a:lnTo>
                      <a:lnTo>
                        <a:pt x="30" y="170"/>
                      </a:lnTo>
                      <a:lnTo>
                        <a:pt x="0" y="170"/>
                      </a:lnTo>
                      <a:lnTo>
                        <a:pt x="0" y="750"/>
                      </a:lnTo>
                      <a:lnTo>
                        <a:pt x="30" y="750"/>
                      </a:lnTo>
                      <a:lnTo>
                        <a:pt x="48" y="750"/>
                      </a:lnTo>
                      <a:lnTo>
                        <a:pt x="78" y="750"/>
                      </a:lnTo>
                      <a:lnTo>
                        <a:pt x="108" y="736"/>
                      </a:lnTo>
                      <a:lnTo>
                        <a:pt x="126" y="736"/>
                      </a:lnTo>
                      <a:lnTo>
                        <a:pt x="156" y="736"/>
                      </a:lnTo>
                      <a:lnTo>
                        <a:pt x="186" y="736"/>
                      </a:lnTo>
                      <a:lnTo>
                        <a:pt x="198" y="736"/>
                      </a:lnTo>
                      <a:lnTo>
                        <a:pt x="228" y="722"/>
                      </a:lnTo>
                      <a:lnTo>
                        <a:pt x="258" y="722"/>
                      </a:lnTo>
                      <a:lnTo>
                        <a:pt x="276" y="722"/>
                      </a:lnTo>
                      <a:lnTo>
                        <a:pt x="306" y="708"/>
                      </a:lnTo>
                      <a:lnTo>
                        <a:pt x="336" y="708"/>
                      </a:lnTo>
                      <a:lnTo>
                        <a:pt x="348" y="708"/>
                      </a:lnTo>
                      <a:lnTo>
                        <a:pt x="378" y="694"/>
                      </a:lnTo>
                      <a:lnTo>
                        <a:pt x="402" y="694"/>
                      </a:lnTo>
                      <a:lnTo>
                        <a:pt x="414" y="680"/>
                      </a:lnTo>
                      <a:lnTo>
                        <a:pt x="444" y="680"/>
                      </a:lnTo>
                      <a:lnTo>
                        <a:pt x="468" y="666"/>
                      </a:lnTo>
                      <a:lnTo>
                        <a:pt x="486" y="666"/>
                      </a:lnTo>
                      <a:lnTo>
                        <a:pt x="510" y="651"/>
                      </a:lnTo>
                      <a:lnTo>
                        <a:pt x="534" y="637"/>
                      </a:lnTo>
                      <a:lnTo>
                        <a:pt x="546" y="637"/>
                      </a:lnTo>
                      <a:lnTo>
                        <a:pt x="570" y="623"/>
                      </a:lnTo>
                      <a:lnTo>
                        <a:pt x="594" y="609"/>
                      </a:lnTo>
                      <a:lnTo>
                        <a:pt x="606" y="595"/>
                      </a:lnTo>
                      <a:lnTo>
                        <a:pt x="630" y="581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27"/>
                <p:cNvSpPr/>
                <p:nvPr/>
              </p:nvSpPr>
              <p:spPr>
                <a:xfrm>
                  <a:off x="4716360" y="2421000"/>
                  <a:ext cx="999720" cy="87624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630" h="552">
                      <a:moveTo>
                        <a:pt x="630" y="382"/>
                      </a:moveTo>
                      <a:lnTo>
                        <a:pt x="606" y="396"/>
                      </a:lnTo>
                      <a:lnTo>
                        <a:pt x="594" y="411"/>
                      </a:lnTo>
                      <a:lnTo>
                        <a:pt x="570" y="425"/>
                      </a:lnTo>
                      <a:lnTo>
                        <a:pt x="546" y="439"/>
                      </a:lnTo>
                      <a:lnTo>
                        <a:pt x="534" y="439"/>
                      </a:lnTo>
                      <a:lnTo>
                        <a:pt x="510" y="453"/>
                      </a:lnTo>
                      <a:lnTo>
                        <a:pt x="486" y="467"/>
                      </a:lnTo>
                      <a:lnTo>
                        <a:pt x="468" y="467"/>
                      </a:lnTo>
                      <a:lnTo>
                        <a:pt x="444" y="481"/>
                      </a:lnTo>
                      <a:lnTo>
                        <a:pt x="414" y="481"/>
                      </a:lnTo>
                      <a:lnTo>
                        <a:pt x="402" y="496"/>
                      </a:lnTo>
                      <a:lnTo>
                        <a:pt x="378" y="496"/>
                      </a:lnTo>
                      <a:lnTo>
                        <a:pt x="348" y="510"/>
                      </a:lnTo>
                      <a:lnTo>
                        <a:pt x="336" y="510"/>
                      </a:lnTo>
                      <a:lnTo>
                        <a:pt x="306" y="510"/>
                      </a:lnTo>
                      <a:lnTo>
                        <a:pt x="276" y="524"/>
                      </a:lnTo>
                      <a:lnTo>
                        <a:pt x="258" y="524"/>
                      </a:lnTo>
                      <a:lnTo>
                        <a:pt x="228" y="524"/>
                      </a:lnTo>
                      <a:lnTo>
                        <a:pt x="198" y="538"/>
                      </a:lnTo>
                      <a:lnTo>
                        <a:pt x="186" y="538"/>
                      </a:lnTo>
                      <a:lnTo>
                        <a:pt x="156" y="538"/>
                      </a:lnTo>
                      <a:lnTo>
                        <a:pt x="126" y="538"/>
                      </a:lnTo>
                      <a:lnTo>
                        <a:pt x="108" y="538"/>
                      </a:lnTo>
                      <a:lnTo>
                        <a:pt x="78" y="552"/>
                      </a:lnTo>
                      <a:lnTo>
                        <a:pt x="48" y="552"/>
                      </a:lnTo>
                      <a:lnTo>
                        <a:pt x="30" y="552"/>
                      </a:lnTo>
                      <a:lnTo>
                        <a:pt x="0" y="552"/>
                      </a:lnTo>
                      <a:lnTo>
                        <a:pt x="0" y="0"/>
                      </a:lnTo>
                      <a:lnTo>
                        <a:pt x="63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430"/>
              <p:cNvGrpSpPr/>
              <p:nvPr/>
            </p:nvGrpSpPr>
            <p:grpSpPr>
              <a:xfrm>
                <a:off x="3780000" y="2421000"/>
                <a:ext cx="990360" cy="1797120"/>
                <a:chOff x="3780000" y="2421000"/>
                <a:chExt cx="990360" cy="1797120"/>
              </a:xfrm>
            </p:grpSpPr>
            <p:sp>
              <p:nvSpPr>
                <p:cNvPr id="431" name="Freeform 428"/>
                <p:cNvSpPr/>
                <p:nvPr/>
              </p:nvSpPr>
              <p:spPr>
                <a:xfrm>
                  <a:off x="3780000" y="3027600"/>
                  <a:ext cx="990360" cy="119052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190520"/>
                    <a:gd name="textAreaBottom" fmla="*/ 1190880 h 1190520"/>
                  </a:gdLst>
                  <a:ahLst/>
                  <a:rect l="textAreaLeft" t="textAreaTop" r="textAreaRight" b="textAreaBottom"/>
                  <a:pathLst>
                    <a:path w="624" h="750">
                      <a:moveTo>
                        <a:pt x="624" y="170"/>
                      </a:moveTo>
                      <a:lnTo>
                        <a:pt x="594" y="170"/>
                      </a:lnTo>
                      <a:lnTo>
                        <a:pt x="582" y="170"/>
                      </a:lnTo>
                      <a:lnTo>
                        <a:pt x="546" y="170"/>
                      </a:lnTo>
                      <a:lnTo>
                        <a:pt x="516" y="156"/>
                      </a:lnTo>
                      <a:lnTo>
                        <a:pt x="504" y="156"/>
                      </a:lnTo>
                      <a:lnTo>
                        <a:pt x="474" y="156"/>
                      </a:lnTo>
                      <a:lnTo>
                        <a:pt x="444" y="156"/>
                      </a:lnTo>
                      <a:lnTo>
                        <a:pt x="426" y="156"/>
                      </a:lnTo>
                      <a:lnTo>
                        <a:pt x="396" y="142"/>
                      </a:lnTo>
                      <a:lnTo>
                        <a:pt x="366" y="142"/>
                      </a:lnTo>
                      <a:lnTo>
                        <a:pt x="354" y="142"/>
                      </a:lnTo>
                      <a:lnTo>
                        <a:pt x="324" y="128"/>
                      </a:lnTo>
                      <a:lnTo>
                        <a:pt x="294" y="128"/>
                      </a:lnTo>
                      <a:lnTo>
                        <a:pt x="282" y="128"/>
                      </a:lnTo>
                      <a:lnTo>
                        <a:pt x="252" y="114"/>
                      </a:lnTo>
                      <a:lnTo>
                        <a:pt x="222" y="114"/>
                      </a:lnTo>
                      <a:lnTo>
                        <a:pt x="210" y="99"/>
                      </a:lnTo>
                      <a:lnTo>
                        <a:pt x="180" y="99"/>
                      </a:lnTo>
                      <a:lnTo>
                        <a:pt x="156" y="85"/>
                      </a:lnTo>
                      <a:lnTo>
                        <a:pt x="144" y="85"/>
                      </a:lnTo>
                      <a:lnTo>
                        <a:pt x="120" y="71"/>
                      </a:lnTo>
                      <a:lnTo>
                        <a:pt x="90" y="57"/>
                      </a:lnTo>
                      <a:lnTo>
                        <a:pt x="78" y="57"/>
                      </a:lnTo>
                      <a:lnTo>
                        <a:pt x="54" y="43"/>
                      </a:lnTo>
                      <a:lnTo>
                        <a:pt x="36" y="29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581"/>
                      </a:lnTo>
                      <a:lnTo>
                        <a:pt x="24" y="595"/>
                      </a:lnTo>
                      <a:lnTo>
                        <a:pt x="36" y="609"/>
                      </a:lnTo>
                      <a:lnTo>
                        <a:pt x="54" y="623"/>
                      </a:lnTo>
                      <a:lnTo>
                        <a:pt x="78" y="637"/>
                      </a:lnTo>
                      <a:lnTo>
                        <a:pt x="90" y="637"/>
                      </a:lnTo>
                      <a:lnTo>
                        <a:pt x="120" y="651"/>
                      </a:lnTo>
                      <a:lnTo>
                        <a:pt x="144" y="666"/>
                      </a:lnTo>
                      <a:lnTo>
                        <a:pt x="156" y="666"/>
                      </a:lnTo>
                      <a:lnTo>
                        <a:pt x="180" y="680"/>
                      </a:lnTo>
                      <a:lnTo>
                        <a:pt x="210" y="680"/>
                      </a:lnTo>
                      <a:lnTo>
                        <a:pt x="222" y="694"/>
                      </a:lnTo>
                      <a:lnTo>
                        <a:pt x="252" y="694"/>
                      </a:lnTo>
                      <a:lnTo>
                        <a:pt x="282" y="708"/>
                      </a:lnTo>
                      <a:lnTo>
                        <a:pt x="294" y="708"/>
                      </a:lnTo>
                      <a:lnTo>
                        <a:pt x="324" y="708"/>
                      </a:lnTo>
                      <a:lnTo>
                        <a:pt x="354" y="722"/>
                      </a:lnTo>
                      <a:lnTo>
                        <a:pt x="366" y="722"/>
                      </a:lnTo>
                      <a:lnTo>
                        <a:pt x="396" y="722"/>
                      </a:lnTo>
                      <a:lnTo>
                        <a:pt x="426" y="736"/>
                      </a:lnTo>
                      <a:lnTo>
                        <a:pt x="444" y="736"/>
                      </a:lnTo>
                      <a:lnTo>
                        <a:pt x="474" y="736"/>
                      </a:lnTo>
                      <a:lnTo>
                        <a:pt x="504" y="736"/>
                      </a:lnTo>
                      <a:lnTo>
                        <a:pt x="516" y="736"/>
                      </a:lnTo>
                      <a:lnTo>
                        <a:pt x="546" y="750"/>
                      </a:lnTo>
                      <a:lnTo>
                        <a:pt x="582" y="750"/>
                      </a:lnTo>
                      <a:lnTo>
                        <a:pt x="594" y="750"/>
                      </a:lnTo>
                      <a:lnTo>
                        <a:pt x="624" y="750"/>
                      </a:lnTo>
                      <a:lnTo>
                        <a:pt x="624" y="17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429"/>
                <p:cNvSpPr/>
                <p:nvPr/>
              </p:nvSpPr>
              <p:spPr>
                <a:xfrm>
                  <a:off x="3780000" y="2421000"/>
                  <a:ext cx="990360" cy="87624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624" h="552">
                      <a:moveTo>
                        <a:pt x="624" y="552"/>
                      </a:moveTo>
                      <a:lnTo>
                        <a:pt x="594" y="552"/>
                      </a:lnTo>
                      <a:lnTo>
                        <a:pt x="582" y="552"/>
                      </a:lnTo>
                      <a:lnTo>
                        <a:pt x="546" y="552"/>
                      </a:lnTo>
                      <a:lnTo>
                        <a:pt x="516" y="538"/>
                      </a:lnTo>
                      <a:lnTo>
                        <a:pt x="504" y="538"/>
                      </a:lnTo>
                      <a:lnTo>
                        <a:pt x="474" y="538"/>
                      </a:lnTo>
                      <a:lnTo>
                        <a:pt x="444" y="538"/>
                      </a:lnTo>
                      <a:lnTo>
                        <a:pt x="426" y="538"/>
                      </a:lnTo>
                      <a:lnTo>
                        <a:pt x="396" y="524"/>
                      </a:lnTo>
                      <a:lnTo>
                        <a:pt x="366" y="524"/>
                      </a:lnTo>
                      <a:lnTo>
                        <a:pt x="354" y="524"/>
                      </a:lnTo>
                      <a:lnTo>
                        <a:pt x="324" y="510"/>
                      </a:lnTo>
                      <a:lnTo>
                        <a:pt x="294" y="510"/>
                      </a:lnTo>
                      <a:lnTo>
                        <a:pt x="282" y="510"/>
                      </a:lnTo>
                      <a:lnTo>
                        <a:pt x="252" y="496"/>
                      </a:lnTo>
                      <a:lnTo>
                        <a:pt x="222" y="496"/>
                      </a:lnTo>
                      <a:lnTo>
                        <a:pt x="210" y="481"/>
                      </a:lnTo>
                      <a:lnTo>
                        <a:pt x="180" y="481"/>
                      </a:lnTo>
                      <a:lnTo>
                        <a:pt x="156" y="467"/>
                      </a:lnTo>
                      <a:lnTo>
                        <a:pt x="144" y="467"/>
                      </a:lnTo>
                      <a:lnTo>
                        <a:pt x="120" y="453"/>
                      </a:lnTo>
                      <a:lnTo>
                        <a:pt x="90" y="439"/>
                      </a:lnTo>
                      <a:lnTo>
                        <a:pt x="78" y="439"/>
                      </a:lnTo>
                      <a:lnTo>
                        <a:pt x="54" y="425"/>
                      </a:lnTo>
                      <a:lnTo>
                        <a:pt x="36" y="411"/>
                      </a:lnTo>
                      <a:lnTo>
                        <a:pt x="24" y="396"/>
                      </a:lnTo>
                      <a:lnTo>
                        <a:pt x="0" y="382"/>
                      </a:lnTo>
                      <a:lnTo>
                        <a:pt x="624" y="0"/>
                      </a:lnTo>
                      <a:lnTo>
                        <a:pt x="624" y="55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Oval 445"/>
            <p:cNvSpPr/>
            <p:nvPr/>
          </p:nvSpPr>
          <p:spPr>
            <a:xfrm>
              <a:off x="4356000" y="285264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447"/>
            <p:cNvSpPr/>
            <p:nvPr/>
          </p:nvSpPr>
          <p:spPr>
            <a:xfrm>
              <a:off x="4356000" y="357336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448"/>
            <p:cNvSpPr/>
            <p:nvPr/>
          </p:nvSpPr>
          <p:spPr>
            <a:xfrm>
              <a:off x="5005080" y="299736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449"/>
            <p:cNvSpPr/>
            <p:nvPr/>
          </p:nvSpPr>
          <p:spPr>
            <a:xfrm>
              <a:off x="5076720" y="342900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7" name="Picture 404" descr="j0344852"/>
          <p:cNvPicPr/>
          <p:nvPr/>
        </p:nvPicPr>
        <p:blipFill>
          <a:blip r:embed="rId4"/>
          <a:stretch/>
        </p:blipFill>
        <p:spPr>
          <a:xfrm>
            <a:off x="6156360" y="2421000"/>
            <a:ext cx="1652400" cy="1382760"/>
          </a:xfrm>
          <a:prstGeom prst="rect">
            <a:avLst/>
          </a:prstGeom>
          <a:ln w="0">
            <a:noFill/>
          </a:ln>
        </p:spPr>
      </p:pic>
      <p:sp>
        <p:nvSpPr>
          <p:cNvPr id="438" name="Нижний колонтитул 55"/>
          <p:cNvSpPr/>
          <p:nvPr/>
        </p:nvSpPr>
        <p:spPr>
          <a:xfrm>
            <a:off x="2071800" y="6245280"/>
            <a:ext cx="578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305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307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30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9.24855E-007 L -0.20487 0.31468 E">
                                      <p:cBhvr>
                                        <p:cTn id="311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08 0.24116 L 0.14184 0.36694 E">
                                      <p:cBhvr>
                                        <p:cTn id="324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62428E-007 L 0.33073 0.11537 E">
                                      <p:cBhvr>
                                        <p:cTn id="326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.15769 E">
                                      <p:cBhvr>
                                        <p:cTn id="328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.15769 E">
                                      <p:cBhvr>
                                        <p:cTn id="330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06358E-006 L 0.15747 0.22012 E">
                                      <p:cBhvr>
                                        <p:cTn id="33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2771640" y="880920"/>
            <a:ext cx="35053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2857680" y="785880"/>
            <a:ext cx="3409920" cy="577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2"/>
          <p:cNvSpPr/>
          <p:nvPr/>
        </p:nvSpPr>
        <p:spPr>
          <a:xfrm>
            <a:off x="2050920" y="692280"/>
            <a:ext cx="350532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Group 72"/>
          <p:cNvGrpSpPr/>
          <p:nvPr/>
        </p:nvGrpSpPr>
        <p:grpSpPr>
          <a:xfrm>
            <a:off x="4643280" y="2133720"/>
            <a:ext cx="1000080" cy="1774800"/>
            <a:chOff x="4643280" y="2133720"/>
            <a:chExt cx="1000080" cy="1774800"/>
          </a:xfrm>
        </p:grpSpPr>
        <p:grpSp>
          <p:nvGrpSpPr>
            <p:cNvPr id="443" name="Group 62"/>
            <p:cNvGrpSpPr/>
            <p:nvPr/>
          </p:nvGrpSpPr>
          <p:grpSpPr>
            <a:xfrm>
              <a:off x="4643280" y="2133720"/>
              <a:ext cx="1000080" cy="1774800"/>
              <a:chOff x="4643280" y="2133720"/>
              <a:chExt cx="1000080" cy="1774800"/>
            </a:xfrm>
          </p:grpSpPr>
          <p:grpSp>
            <p:nvGrpSpPr>
              <p:cNvPr id="444" name="Group 6"/>
              <p:cNvGrpSpPr/>
              <p:nvPr/>
            </p:nvGrpSpPr>
            <p:grpSpPr>
              <a:xfrm>
                <a:off x="4643280" y="2133720"/>
                <a:ext cx="1000080" cy="1774800"/>
                <a:chOff x="4643280" y="2133720"/>
                <a:chExt cx="1000080" cy="1774800"/>
              </a:xfrm>
            </p:grpSpPr>
            <p:sp>
              <p:nvSpPr>
                <p:cNvPr id="445" name="Freeform 7"/>
                <p:cNvSpPr/>
                <p:nvPr/>
              </p:nvSpPr>
              <p:spPr>
                <a:xfrm>
                  <a:off x="4643280" y="2381400"/>
                  <a:ext cx="990360" cy="152712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527120"/>
                    <a:gd name="textAreaBottom" fmla="*/ 1527480 h 1527120"/>
                  </a:gdLst>
                  <a:ahLst/>
                  <a:rect l="textAreaLeft" t="textAreaTop" r="textAreaRight" b="textAreaBottom"/>
                  <a:pathLst>
                    <a:path w="624" h="962">
                      <a:moveTo>
                        <a:pt x="0" y="382"/>
                      </a:moveTo>
                      <a:lnTo>
                        <a:pt x="624" y="0"/>
                      </a:lnTo>
                      <a:lnTo>
                        <a:pt x="624" y="580"/>
                      </a:lnTo>
                      <a:lnTo>
                        <a:pt x="0" y="96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8"/>
                <p:cNvSpPr/>
                <p:nvPr/>
              </p:nvSpPr>
              <p:spPr>
                <a:xfrm>
                  <a:off x="4643280" y="2133720"/>
                  <a:ext cx="1000080" cy="8539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853920"/>
                    <a:gd name="textAreaBottom" fmla="*/ 854280 h 853920"/>
                  </a:gdLst>
                  <a:ahLst/>
                  <a:rect l="textAreaLeft" t="textAreaTop" r="textAreaRight" b="textAreaBottom"/>
                  <a:pathLst>
                    <a:path w="630" h="538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48" y="0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26" y="0"/>
                      </a:lnTo>
                      <a:lnTo>
                        <a:pt x="156" y="0"/>
                      </a:lnTo>
                      <a:lnTo>
                        <a:pt x="186" y="14"/>
                      </a:lnTo>
                      <a:lnTo>
                        <a:pt x="198" y="14"/>
                      </a:lnTo>
                      <a:lnTo>
                        <a:pt x="228" y="14"/>
                      </a:lnTo>
                      <a:lnTo>
                        <a:pt x="258" y="14"/>
                      </a:lnTo>
                      <a:lnTo>
                        <a:pt x="276" y="29"/>
                      </a:lnTo>
                      <a:lnTo>
                        <a:pt x="306" y="29"/>
                      </a:lnTo>
                      <a:lnTo>
                        <a:pt x="336" y="43"/>
                      </a:lnTo>
                      <a:lnTo>
                        <a:pt x="348" y="43"/>
                      </a:lnTo>
                      <a:lnTo>
                        <a:pt x="378" y="43"/>
                      </a:lnTo>
                      <a:lnTo>
                        <a:pt x="402" y="57"/>
                      </a:lnTo>
                      <a:lnTo>
                        <a:pt x="414" y="57"/>
                      </a:lnTo>
                      <a:lnTo>
                        <a:pt x="444" y="71"/>
                      </a:lnTo>
                      <a:lnTo>
                        <a:pt x="468" y="85"/>
                      </a:lnTo>
                      <a:lnTo>
                        <a:pt x="486" y="85"/>
                      </a:lnTo>
                      <a:lnTo>
                        <a:pt x="510" y="99"/>
                      </a:lnTo>
                      <a:lnTo>
                        <a:pt x="534" y="114"/>
                      </a:lnTo>
                      <a:lnTo>
                        <a:pt x="546" y="114"/>
                      </a:lnTo>
                      <a:lnTo>
                        <a:pt x="570" y="128"/>
                      </a:lnTo>
                      <a:lnTo>
                        <a:pt x="594" y="142"/>
                      </a:lnTo>
                      <a:lnTo>
                        <a:pt x="606" y="142"/>
                      </a:lnTo>
                      <a:lnTo>
                        <a:pt x="630" y="156"/>
                      </a:lnTo>
                      <a:lnTo>
                        <a:pt x="0" y="5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Oval 43"/>
              <p:cNvSpPr/>
              <p:nvPr/>
            </p:nvSpPr>
            <p:spPr>
              <a:xfrm>
                <a:off x="4859280" y="2349360"/>
                <a:ext cx="28728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Oval 45"/>
            <p:cNvSpPr/>
            <p:nvPr/>
          </p:nvSpPr>
          <p:spPr>
            <a:xfrm>
              <a:off x="4932360" y="2826000"/>
              <a:ext cx="21600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66"/>
            <p:cNvSpPr/>
            <p:nvPr/>
          </p:nvSpPr>
          <p:spPr>
            <a:xfrm>
              <a:off x="5292720" y="2970360"/>
              <a:ext cx="21600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0" name="Picture 39" descr="j0344852"/>
          <p:cNvPicPr/>
          <p:nvPr/>
        </p:nvPicPr>
        <p:blipFill>
          <a:blip r:embed="rId1"/>
          <a:stretch/>
        </p:blipFill>
        <p:spPr>
          <a:xfrm>
            <a:off x="5292720" y="836640"/>
            <a:ext cx="1652760" cy="13827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j0344852"/>
          <p:cNvPicPr/>
          <p:nvPr/>
        </p:nvPicPr>
        <p:blipFill>
          <a:blip r:embed="rId2"/>
          <a:stretch/>
        </p:blipFill>
        <p:spPr>
          <a:xfrm>
            <a:off x="6156360" y="1700280"/>
            <a:ext cx="1652400" cy="1382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7" descr="j0344852"/>
          <p:cNvPicPr/>
          <p:nvPr/>
        </p:nvPicPr>
        <p:blipFill>
          <a:blip r:embed="rId3"/>
          <a:stretch/>
        </p:blipFill>
        <p:spPr>
          <a:xfrm flipH="1">
            <a:off x="3276360" y="692280"/>
            <a:ext cx="1584360" cy="13255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74"/>
          <p:cNvGrpSpPr/>
          <p:nvPr/>
        </p:nvGrpSpPr>
        <p:grpSpPr>
          <a:xfrm>
            <a:off x="4572000" y="2349360"/>
            <a:ext cx="1409400" cy="1527120"/>
            <a:chOff x="4572000" y="2349360"/>
            <a:chExt cx="1409400" cy="1527120"/>
          </a:xfrm>
        </p:grpSpPr>
        <p:grpSp>
          <p:nvGrpSpPr>
            <p:cNvPr id="454" name="Group 73"/>
            <p:cNvGrpSpPr/>
            <p:nvPr/>
          </p:nvGrpSpPr>
          <p:grpSpPr>
            <a:xfrm>
              <a:off x="4572000" y="2349360"/>
              <a:ext cx="1409400" cy="1527120"/>
              <a:chOff x="4572000" y="2349360"/>
              <a:chExt cx="1409400" cy="1527120"/>
            </a:xfrm>
          </p:grpSpPr>
          <p:grpSp>
            <p:nvGrpSpPr>
              <p:cNvPr id="455" name="Group 12"/>
              <p:cNvGrpSpPr/>
              <p:nvPr/>
            </p:nvGrpSpPr>
            <p:grpSpPr>
              <a:xfrm>
                <a:off x="4572000" y="2349360"/>
                <a:ext cx="1409400" cy="1527120"/>
                <a:chOff x="4572000" y="2349360"/>
                <a:chExt cx="1409400" cy="1527120"/>
              </a:xfrm>
            </p:grpSpPr>
            <p:sp>
              <p:nvSpPr>
                <p:cNvPr id="456" name="Rectangle 13"/>
                <p:cNvSpPr/>
                <p:nvPr/>
              </p:nvSpPr>
              <p:spPr>
                <a:xfrm>
                  <a:off x="4572000" y="2955600"/>
                  <a:ext cx="1400040" cy="92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4"/>
                <p:cNvSpPr/>
                <p:nvPr/>
              </p:nvSpPr>
              <p:spPr>
                <a:xfrm>
                  <a:off x="4572000" y="2349360"/>
                  <a:ext cx="1409400" cy="606240"/>
                </a:xfrm>
                <a:custGeom>
                  <a:avLst/>
                  <a:gdLst>
                    <a:gd name="textAreaLeft" fmla="*/ 0 w 1409400"/>
                    <a:gd name="textAreaRight" fmla="*/ 1409760 w 140940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8" h="382">
                      <a:moveTo>
                        <a:pt x="630" y="0"/>
                      </a:moveTo>
                      <a:lnTo>
                        <a:pt x="648" y="14"/>
                      </a:lnTo>
                      <a:lnTo>
                        <a:pt x="660" y="14"/>
                      </a:lnTo>
                      <a:lnTo>
                        <a:pt x="678" y="42"/>
                      </a:lnTo>
                      <a:lnTo>
                        <a:pt x="696" y="57"/>
                      </a:lnTo>
                      <a:lnTo>
                        <a:pt x="708" y="57"/>
                      </a:lnTo>
                      <a:lnTo>
                        <a:pt x="726" y="71"/>
                      </a:lnTo>
                      <a:lnTo>
                        <a:pt x="744" y="85"/>
                      </a:lnTo>
                      <a:lnTo>
                        <a:pt x="750" y="99"/>
                      </a:lnTo>
                      <a:lnTo>
                        <a:pt x="768" y="113"/>
                      </a:lnTo>
                      <a:lnTo>
                        <a:pt x="780" y="127"/>
                      </a:lnTo>
                      <a:lnTo>
                        <a:pt x="792" y="142"/>
                      </a:lnTo>
                      <a:lnTo>
                        <a:pt x="804" y="156"/>
                      </a:lnTo>
                      <a:lnTo>
                        <a:pt x="816" y="170"/>
                      </a:lnTo>
                      <a:lnTo>
                        <a:pt x="822" y="184"/>
                      </a:lnTo>
                      <a:lnTo>
                        <a:pt x="834" y="198"/>
                      </a:lnTo>
                      <a:lnTo>
                        <a:pt x="846" y="212"/>
                      </a:lnTo>
                      <a:lnTo>
                        <a:pt x="846" y="226"/>
                      </a:lnTo>
                      <a:lnTo>
                        <a:pt x="858" y="241"/>
                      </a:lnTo>
                      <a:lnTo>
                        <a:pt x="864" y="269"/>
                      </a:lnTo>
                      <a:lnTo>
                        <a:pt x="870" y="269"/>
                      </a:lnTo>
                      <a:lnTo>
                        <a:pt x="876" y="297"/>
                      </a:lnTo>
                      <a:lnTo>
                        <a:pt x="876" y="311"/>
                      </a:lnTo>
                      <a:lnTo>
                        <a:pt x="882" y="326"/>
                      </a:lnTo>
                      <a:lnTo>
                        <a:pt x="882" y="340"/>
                      </a:lnTo>
                      <a:lnTo>
                        <a:pt x="888" y="354"/>
                      </a:lnTo>
                      <a:lnTo>
                        <a:pt x="888" y="368"/>
                      </a:lnTo>
                      <a:lnTo>
                        <a:pt x="888" y="382"/>
                      </a:lnTo>
                      <a:lnTo>
                        <a:pt x="0" y="382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Oval 64"/>
              <p:cNvSpPr/>
              <p:nvPr/>
            </p:nvSpPr>
            <p:spPr>
              <a:xfrm>
                <a:off x="4794480" y="3212640"/>
                <a:ext cx="2872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65"/>
              <p:cNvSpPr/>
              <p:nvPr/>
            </p:nvSpPr>
            <p:spPr>
              <a:xfrm>
                <a:off x="5442120" y="3501720"/>
                <a:ext cx="2872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Oval 48"/>
            <p:cNvSpPr/>
            <p:nvPr/>
          </p:nvSpPr>
          <p:spPr>
            <a:xfrm>
              <a:off x="5370480" y="270972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57"/>
          <p:cNvGrpSpPr/>
          <p:nvPr/>
        </p:nvGrpSpPr>
        <p:grpSpPr>
          <a:xfrm>
            <a:off x="4572000" y="2852640"/>
            <a:ext cx="1409400" cy="1528560"/>
            <a:chOff x="4572000" y="2852640"/>
            <a:chExt cx="1409400" cy="1528560"/>
          </a:xfrm>
        </p:grpSpPr>
        <p:grpSp>
          <p:nvGrpSpPr>
            <p:cNvPr id="462" name="Group 47"/>
            <p:cNvGrpSpPr/>
            <p:nvPr/>
          </p:nvGrpSpPr>
          <p:grpSpPr>
            <a:xfrm>
              <a:off x="4572000" y="2852640"/>
              <a:ext cx="1409400" cy="1528560"/>
              <a:chOff x="4572000" y="2852640"/>
              <a:chExt cx="1409400" cy="1528560"/>
            </a:xfrm>
          </p:grpSpPr>
          <p:grpSp>
            <p:nvGrpSpPr>
              <p:cNvPr id="463" name="Group 18"/>
              <p:cNvGrpSpPr/>
              <p:nvPr/>
            </p:nvGrpSpPr>
            <p:grpSpPr>
              <a:xfrm>
                <a:off x="4572000" y="2852640"/>
                <a:ext cx="1409400" cy="1528560"/>
                <a:chOff x="4572000" y="2852640"/>
                <a:chExt cx="1409400" cy="1528560"/>
              </a:xfrm>
            </p:grpSpPr>
            <p:sp>
              <p:nvSpPr>
                <p:cNvPr id="464" name="Freeform 19"/>
                <p:cNvSpPr/>
                <p:nvPr/>
              </p:nvSpPr>
              <p:spPr>
                <a:xfrm>
                  <a:off x="5572080" y="2852640"/>
                  <a:ext cx="409320" cy="1528560"/>
                </a:xfrm>
                <a:custGeom>
                  <a:avLst/>
                  <a:gdLst>
                    <a:gd name="textAreaLeft" fmla="*/ 0 w 409320"/>
                    <a:gd name="textAreaRight" fmla="*/ 409680 w 409320"/>
                    <a:gd name="textAreaTop" fmla="*/ 0 h 1528560"/>
                    <a:gd name="textAreaBottom" fmla="*/ 1528920 h 1528560"/>
                  </a:gdLst>
                  <a:ahLst/>
                  <a:rect l="textAreaLeft" t="textAreaTop" r="textAreaRight" b="textAreaBottom"/>
                  <a:pathLst>
                    <a:path w="258" h="963">
                      <a:moveTo>
                        <a:pt x="258" y="0"/>
                      </a:moveTo>
                      <a:lnTo>
                        <a:pt x="258" y="28"/>
                      </a:lnTo>
                      <a:lnTo>
                        <a:pt x="252" y="57"/>
                      </a:lnTo>
                      <a:lnTo>
                        <a:pt x="252" y="71"/>
                      </a:lnTo>
                      <a:lnTo>
                        <a:pt x="246" y="85"/>
                      </a:lnTo>
                      <a:lnTo>
                        <a:pt x="246" y="99"/>
                      </a:lnTo>
                      <a:lnTo>
                        <a:pt x="240" y="113"/>
                      </a:lnTo>
                      <a:lnTo>
                        <a:pt x="234" y="128"/>
                      </a:lnTo>
                      <a:lnTo>
                        <a:pt x="228" y="142"/>
                      </a:lnTo>
                      <a:lnTo>
                        <a:pt x="216" y="170"/>
                      </a:lnTo>
                      <a:lnTo>
                        <a:pt x="204" y="184"/>
                      </a:lnTo>
                      <a:lnTo>
                        <a:pt x="192" y="212"/>
                      </a:lnTo>
                      <a:lnTo>
                        <a:pt x="186" y="212"/>
                      </a:lnTo>
                      <a:lnTo>
                        <a:pt x="174" y="241"/>
                      </a:lnTo>
                      <a:lnTo>
                        <a:pt x="162" y="255"/>
                      </a:lnTo>
                      <a:lnTo>
                        <a:pt x="150" y="255"/>
                      </a:lnTo>
                      <a:lnTo>
                        <a:pt x="138" y="283"/>
                      </a:lnTo>
                      <a:lnTo>
                        <a:pt x="120" y="297"/>
                      </a:lnTo>
                      <a:lnTo>
                        <a:pt x="114" y="297"/>
                      </a:lnTo>
                      <a:lnTo>
                        <a:pt x="96" y="312"/>
                      </a:lnTo>
                      <a:lnTo>
                        <a:pt x="78" y="326"/>
                      </a:lnTo>
                      <a:lnTo>
                        <a:pt x="66" y="340"/>
                      </a:lnTo>
                      <a:lnTo>
                        <a:pt x="48" y="354"/>
                      </a:lnTo>
                      <a:lnTo>
                        <a:pt x="30" y="368"/>
                      </a:lnTo>
                      <a:lnTo>
                        <a:pt x="18" y="382"/>
                      </a:ln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18" y="963"/>
                      </a:lnTo>
                      <a:lnTo>
                        <a:pt x="30" y="948"/>
                      </a:lnTo>
                      <a:lnTo>
                        <a:pt x="48" y="934"/>
                      </a:lnTo>
                      <a:lnTo>
                        <a:pt x="66" y="920"/>
                      </a:lnTo>
                      <a:lnTo>
                        <a:pt x="78" y="906"/>
                      </a:lnTo>
                      <a:lnTo>
                        <a:pt x="96" y="892"/>
                      </a:lnTo>
                      <a:lnTo>
                        <a:pt x="114" y="878"/>
                      </a:lnTo>
                      <a:lnTo>
                        <a:pt x="120" y="878"/>
                      </a:lnTo>
                      <a:lnTo>
                        <a:pt x="138" y="864"/>
                      </a:lnTo>
                      <a:lnTo>
                        <a:pt x="150" y="835"/>
                      </a:lnTo>
                      <a:lnTo>
                        <a:pt x="162" y="835"/>
                      </a:lnTo>
                      <a:lnTo>
                        <a:pt x="174" y="821"/>
                      </a:lnTo>
                      <a:lnTo>
                        <a:pt x="186" y="793"/>
                      </a:lnTo>
                      <a:lnTo>
                        <a:pt x="192" y="793"/>
                      </a:lnTo>
                      <a:lnTo>
                        <a:pt x="204" y="764"/>
                      </a:lnTo>
                      <a:lnTo>
                        <a:pt x="216" y="750"/>
                      </a:lnTo>
                      <a:lnTo>
                        <a:pt x="228" y="722"/>
                      </a:lnTo>
                      <a:lnTo>
                        <a:pt x="234" y="708"/>
                      </a:lnTo>
                      <a:lnTo>
                        <a:pt x="240" y="694"/>
                      </a:lnTo>
                      <a:lnTo>
                        <a:pt x="246" y="680"/>
                      </a:lnTo>
                      <a:lnTo>
                        <a:pt x="246" y="665"/>
                      </a:lnTo>
                      <a:lnTo>
                        <a:pt x="252" y="651"/>
                      </a:lnTo>
                      <a:lnTo>
                        <a:pt x="252" y="637"/>
                      </a:lnTo>
                      <a:lnTo>
                        <a:pt x="258" y="609"/>
                      </a:lnTo>
                      <a:lnTo>
                        <a:pt x="258" y="580"/>
                      </a:lnTo>
                      <a:lnTo>
                        <a:pt x="25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0"/>
                <p:cNvSpPr/>
                <p:nvPr/>
              </p:nvSpPr>
              <p:spPr>
                <a:xfrm>
                  <a:off x="4572000" y="2852640"/>
                  <a:ext cx="990360" cy="152856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528560"/>
                    <a:gd name="textAreaBottom" fmla="*/ 1528920 h 1528560"/>
                  </a:gdLst>
                  <a:ahLst/>
                  <a:rect l="textAreaLeft" t="textAreaTop" r="textAreaRight" b="textAreaBottom"/>
                  <a:pathLst>
                    <a:path w="624" h="963">
                      <a:moveTo>
                        <a:pt x="0" y="0"/>
                      </a:moveTo>
                      <a:lnTo>
                        <a:pt x="624" y="382"/>
                      </a:lnTo>
                      <a:lnTo>
                        <a:pt x="624" y="963"/>
                      </a:lnTo>
                      <a:lnTo>
                        <a:pt x="0" y="5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21"/>
                <p:cNvSpPr/>
                <p:nvPr/>
              </p:nvSpPr>
              <p:spPr>
                <a:xfrm>
                  <a:off x="4572000" y="2852640"/>
                  <a:ext cx="1409400" cy="606240"/>
                </a:xfrm>
                <a:custGeom>
                  <a:avLst/>
                  <a:gdLst>
                    <a:gd name="textAreaLeft" fmla="*/ 0 w 1409400"/>
                    <a:gd name="textAreaRight" fmla="*/ 1409760 w 140940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8" h="382">
                      <a:moveTo>
                        <a:pt x="888" y="0"/>
                      </a:moveTo>
                      <a:lnTo>
                        <a:pt x="888" y="28"/>
                      </a:lnTo>
                      <a:lnTo>
                        <a:pt x="882" y="57"/>
                      </a:lnTo>
                      <a:lnTo>
                        <a:pt x="882" y="71"/>
                      </a:lnTo>
                      <a:lnTo>
                        <a:pt x="876" y="85"/>
                      </a:lnTo>
                      <a:lnTo>
                        <a:pt x="876" y="99"/>
                      </a:lnTo>
                      <a:lnTo>
                        <a:pt x="870" y="113"/>
                      </a:lnTo>
                      <a:lnTo>
                        <a:pt x="864" y="128"/>
                      </a:lnTo>
                      <a:lnTo>
                        <a:pt x="858" y="142"/>
                      </a:lnTo>
                      <a:lnTo>
                        <a:pt x="846" y="170"/>
                      </a:lnTo>
                      <a:lnTo>
                        <a:pt x="834" y="184"/>
                      </a:lnTo>
                      <a:lnTo>
                        <a:pt x="822" y="212"/>
                      </a:lnTo>
                      <a:lnTo>
                        <a:pt x="816" y="212"/>
                      </a:lnTo>
                      <a:lnTo>
                        <a:pt x="804" y="241"/>
                      </a:lnTo>
                      <a:lnTo>
                        <a:pt x="792" y="255"/>
                      </a:lnTo>
                      <a:lnTo>
                        <a:pt x="780" y="255"/>
                      </a:lnTo>
                      <a:lnTo>
                        <a:pt x="768" y="283"/>
                      </a:lnTo>
                      <a:lnTo>
                        <a:pt x="750" y="297"/>
                      </a:lnTo>
                      <a:lnTo>
                        <a:pt x="744" y="297"/>
                      </a:lnTo>
                      <a:lnTo>
                        <a:pt x="726" y="312"/>
                      </a:lnTo>
                      <a:lnTo>
                        <a:pt x="708" y="326"/>
                      </a:lnTo>
                      <a:lnTo>
                        <a:pt x="696" y="340"/>
                      </a:lnTo>
                      <a:lnTo>
                        <a:pt x="678" y="354"/>
                      </a:lnTo>
                      <a:lnTo>
                        <a:pt x="660" y="368"/>
                      </a:lnTo>
                      <a:lnTo>
                        <a:pt x="648" y="382"/>
                      </a:lnTo>
                      <a:lnTo>
                        <a:pt x="630" y="382"/>
                      </a:lnTo>
                      <a:lnTo>
                        <a:pt x="0" y="0"/>
                      </a:lnTo>
                      <a:lnTo>
                        <a:pt x="88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Oval 44"/>
              <p:cNvSpPr/>
              <p:nvPr/>
            </p:nvSpPr>
            <p:spPr>
              <a:xfrm>
                <a:off x="5003640" y="2925720"/>
                <a:ext cx="28764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Oval 56"/>
            <p:cNvSpPr/>
            <p:nvPr/>
          </p:nvSpPr>
          <p:spPr>
            <a:xfrm>
              <a:off x="4932360" y="357336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75"/>
          <p:cNvGrpSpPr/>
          <p:nvPr/>
        </p:nvGrpSpPr>
        <p:grpSpPr>
          <a:xfrm>
            <a:off x="3708360" y="2133720"/>
            <a:ext cx="990720" cy="1774800"/>
            <a:chOff x="3708360" y="2133720"/>
            <a:chExt cx="990720" cy="1774800"/>
          </a:xfrm>
        </p:grpSpPr>
        <p:grpSp>
          <p:nvGrpSpPr>
            <p:cNvPr id="470" name="Group 61"/>
            <p:cNvGrpSpPr/>
            <p:nvPr/>
          </p:nvGrpSpPr>
          <p:grpSpPr>
            <a:xfrm>
              <a:off x="3708360" y="2133720"/>
              <a:ext cx="990720" cy="1774800"/>
              <a:chOff x="3708360" y="2133720"/>
              <a:chExt cx="990720" cy="1774800"/>
            </a:xfrm>
          </p:grpSpPr>
          <p:grpSp>
            <p:nvGrpSpPr>
              <p:cNvPr id="471" name="Group 9"/>
              <p:cNvGrpSpPr/>
              <p:nvPr/>
            </p:nvGrpSpPr>
            <p:grpSpPr>
              <a:xfrm>
                <a:off x="3708360" y="2133720"/>
                <a:ext cx="990720" cy="1774800"/>
                <a:chOff x="3708360" y="2133720"/>
                <a:chExt cx="990720" cy="1774800"/>
              </a:xfrm>
            </p:grpSpPr>
            <p:sp>
              <p:nvSpPr>
                <p:cNvPr id="472" name="Freeform 10"/>
                <p:cNvSpPr/>
                <p:nvPr/>
              </p:nvSpPr>
              <p:spPr>
                <a:xfrm>
                  <a:off x="3708360" y="2381400"/>
                  <a:ext cx="990720" cy="152712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1527120"/>
                    <a:gd name="textAreaBottom" fmla="*/ 1527480 h 1527120"/>
                  </a:gdLst>
                  <a:ahLst/>
                  <a:rect l="textAreaLeft" t="textAreaTop" r="textAreaRight" b="textAreaBottom"/>
                  <a:pathLst>
                    <a:path w="624" h="962">
                      <a:moveTo>
                        <a:pt x="624" y="382"/>
                      </a:move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624" y="962"/>
                      </a:lnTo>
                      <a:lnTo>
                        <a:pt x="624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11"/>
                <p:cNvSpPr/>
                <p:nvPr/>
              </p:nvSpPr>
              <p:spPr>
                <a:xfrm>
                  <a:off x="3708360" y="2133720"/>
                  <a:ext cx="990720" cy="85392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853920"/>
                    <a:gd name="textAreaBottom" fmla="*/ 854280 h 853920"/>
                  </a:gdLst>
                  <a:ahLst/>
                  <a:rect l="textAreaLeft" t="textAreaTop" r="textAreaRight" b="textAreaBottom"/>
                  <a:pathLst>
                    <a:path w="624" h="538">
                      <a:moveTo>
                        <a:pt x="0" y="156"/>
                      </a:moveTo>
                      <a:lnTo>
                        <a:pt x="24" y="142"/>
                      </a:lnTo>
                      <a:lnTo>
                        <a:pt x="36" y="142"/>
                      </a:lnTo>
                      <a:lnTo>
                        <a:pt x="54" y="128"/>
                      </a:lnTo>
                      <a:lnTo>
                        <a:pt x="78" y="114"/>
                      </a:lnTo>
                      <a:lnTo>
                        <a:pt x="90" y="114"/>
                      </a:lnTo>
                      <a:lnTo>
                        <a:pt x="120" y="99"/>
                      </a:lnTo>
                      <a:lnTo>
                        <a:pt x="144" y="85"/>
                      </a:lnTo>
                      <a:lnTo>
                        <a:pt x="156" y="85"/>
                      </a:lnTo>
                      <a:lnTo>
                        <a:pt x="180" y="71"/>
                      </a:lnTo>
                      <a:lnTo>
                        <a:pt x="210" y="57"/>
                      </a:lnTo>
                      <a:lnTo>
                        <a:pt x="222" y="57"/>
                      </a:lnTo>
                      <a:lnTo>
                        <a:pt x="252" y="43"/>
                      </a:lnTo>
                      <a:lnTo>
                        <a:pt x="282" y="43"/>
                      </a:lnTo>
                      <a:lnTo>
                        <a:pt x="294" y="43"/>
                      </a:lnTo>
                      <a:lnTo>
                        <a:pt x="324" y="29"/>
                      </a:lnTo>
                      <a:lnTo>
                        <a:pt x="354" y="29"/>
                      </a:lnTo>
                      <a:lnTo>
                        <a:pt x="366" y="14"/>
                      </a:lnTo>
                      <a:lnTo>
                        <a:pt x="396" y="14"/>
                      </a:lnTo>
                      <a:lnTo>
                        <a:pt x="426" y="14"/>
                      </a:lnTo>
                      <a:lnTo>
                        <a:pt x="444" y="14"/>
                      </a:lnTo>
                      <a:lnTo>
                        <a:pt x="474" y="0"/>
                      </a:lnTo>
                      <a:lnTo>
                        <a:pt x="504" y="0"/>
                      </a:lnTo>
                      <a:lnTo>
                        <a:pt x="516" y="0"/>
                      </a:lnTo>
                      <a:lnTo>
                        <a:pt x="546" y="0"/>
                      </a:lnTo>
                      <a:lnTo>
                        <a:pt x="582" y="0"/>
                      </a:lnTo>
                      <a:lnTo>
                        <a:pt x="594" y="0"/>
                      </a:lnTo>
                      <a:lnTo>
                        <a:pt x="624" y="0"/>
                      </a:lnTo>
                      <a:lnTo>
                        <a:pt x="624" y="53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Oval 53"/>
              <p:cNvSpPr/>
              <p:nvPr/>
            </p:nvSpPr>
            <p:spPr>
              <a:xfrm>
                <a:off x="3995640" y="227664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Oval 67"/>
            <p:cNvSpPr/>
            <p:nvPr/>
          </p:nvSpPr>
          <p:spPr>
            <a:xfrm>
              <a:off x="4140000" y="3041640"/>
              <a:ext cx="21600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Group 71"/>
          <p:cNvGrpSpPr/>
          <p:nvPr/>
        </p:nvGrpSpPr>
        <p:grpSpPr>
          <a:xfrm>
            <a:off x="3348000" y="2349360"/>
            <a:ext cx="1400040" cy="1527120"/>
            <a:chOff x="3348000" y="2349360"/>
            <a:chExt cx="1400040" cy="1527120"/>
          </a:xfrm>
        </p:grpSpPr>
        <p:grpSp>
          <p:nvGrpSpPr>
            <p:cNvPr id="477" name="Group 60"/>
            <p:cNvGrpSpPr/>
            <p:nvPr/>
          </p:nvGrpSpPr>
          <p:grpSpPr>
            <a:xfrm>
              <a:off x="3348000" y="2349360"/>
              <a:ext cx="1400040" cy="1527120"/>
              <a:chOff x="3348000" y="2349360"/>
              <a:chExt cx="1400040" cy="1527120"/>
            </a:xfrm>
          </p:grpSpPr>
          <p:grpSp>
            <p:nvGrpSpPr>
              <p:cNvPr id="478" name="Group 15"/>
              <p:cNvGrpSpPr/>
              <p:nvPr/>
            </p:nvGrpSpPr>
            <p:grpSpPr>
              <a:xfrm>
                <a:off x="3348000" y="2349360"/>
                <a:ext cx="1400040" cy="1527120"/>
                <a:chOff x="3348000" y="2349360"/>
                <a:chExt cx="1400040" cy="1527120"/>
              </a:xfrm>
            </p:grpSpPr>
            <p:sp>
              <p:nvSpPr>
                <p:cNvPr id="479" name="Rectangle 16"/>
                <p:cNvSpPr/>
                <p:nvPr/>
              </p:nvSpPr>
              <p:spPr>
                <a:xfrm>
                  <a:off x="3348000" y="2955600"/>
                  <a:ext cx="1400040" cy="92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17"/>
                <p:cNvSpPr/>
                <p:nvPr/>
              </p:nvSpPr>
              <p:spPr>
                <a:xfrm>
                  <a:off x="3348000" y="2349360"/>
                  <a:ext cx="1400040" cy="606240"/>
                </a:xfrm>
                <a:custGeom>
                  <a:avLst/>
                  <a:gdLst>
                    <a:gd name="textAreaLeft" fmla="*/ 0 w 1400040"/>
                    <a:gd name="textAreaRight" fmla="*/ 1400400 w 140004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2" h="382">
                      <a:moveTo>
                        <a:pt x="0" y="382"/>
                      </a:moveTo>
                      <a:lnTo>
                        <a:pt x="0" y="368"/>
                      </a:lnTo>
                      <a:lnTo>
                        <a:pt x="0" y="354"/>
                      </a:lnTo>
                      <a:lnTo>
                        <a:pt x="0" y="340"/>
                      </a:lnTo>
                      <a:lnTo>
                        <a:pt x="6" y="326"/>
                      </a:lnTo>
                      <a:lnTo>
                        <a:pt x="6" y="311"/>
                      </a:lnTo>
                      <a:lnTo>
                        <a:pt x="12" y="297"/>
                      </a:lnTo>
                      <a:lnTo>
                        <a:pt x="18" y="269"/>
                      </a:lnTo>
                      <a:lnTo>
                        <a:pt x="24" y="269"/>
                      </a:lnTo>
                      <a:lnTo>
                        <a:pt x="30" y="241"/>
                      </a:lnTo>
                      <a:lnTo>
                        <a:pt x="36" y="226"/>
                      </a:lnTo>
                      <a:lnTo>
                        <a:pt x="42" y="212"/>
                      </a:lnTo>
                      <a:lnTo>
                        <a:pt x="54" y="198"/>
                      </a:lnTo>
                      <a:lnTo>
                        <a:pt x="60" y="184"/>
                      </a:lnTo>
                      <a:lnTo>
                        <a:pt x="66" y="170"/>
                      </a:lnTo>
                      <a:lnTo>
                        <a:pt x="84" y="156"/>
                      </a:lnTo>
                      <a:lnTo>
                        <a:pt x="96" y="142"/>
                      </a:lnTo>
                      <a:lnTo>
                        <a:pt x="102" y="127"/>
                      </a:lnTo>
                      <a:lnTo>
                        <a:pt x="120" y="113"/>
                      </a:lnTo>
                      <a:lnTo>
                        <a:pt x="132" y="99"/>
                      </a:lnTo>
                      <a:lnTo>
                        <a:pt x="144" y="85"/>
                      </a:lnTo>
                      <a:lnTo>
                        <a:pt x="156" y="71"/>
                      </a:lnTo>
                      <a:lnTo>
                        <a:pt x="174" y="57"/>
                      </a:lnTo>
                      <a:lnTo>
                        <a:pt x="186" y="57"/>
                      </a:lnTo>
                      <a:lnTo>
                        <a:pt x="204" y="42"/>
                      </a:lnTo>
                      <a:lnTo>
                        <a:pt x="228" y="14"/>
                      </a:lnTo>
                      <a:lnTo>
                        <a:pt x="234" y="14"/>
                      </a:lnTo>
                      <a:lnTo>
                        <a:pt x="258" y="0"/>
                      </a:lnTo>
                      <a:lnTo>
                        <a:pt x="882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Oval 49"/>
              <p:cNvSpPr/>
              <p:nvPr/>
            </p:nvSpPr>
            <p:spPr>
              <a:xfrm>
                <a:off x="3564000" y="2636640"/>
                <a:ext cx="287280" cy="1440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Oval 68"/>
            <p:cNvSpPr/>
            <p:nvPr/>
          </p:nvSpPr>
          <p:spPr>
            <a:xfrm>
              <a:off x="3852720" y="3284280"/>
              <a:ext cx="360000" cy="362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Group 70"/>
          <p:cNvGrpSpPr/>
          <p:nvPr/>
        </p:nvGrpSpPr>
        <p:grpSpPr>
          <a:xfrm>
            <a:off x="3348000" y="2852640"/>
            <a:ext cx="1400040" cy="1528560"/>
            <a:chOff x="3348000" y="2852640"/>
            <a:chExt cx="1400040" cy="1528560"/>
          </a:xfrm>
        </p:grpSpPr>
        <p:grpSp>
          <p:nvGrpSpPr>
            <p:cNvPr id="484" name="Group 59"/>
            <p:cNvGrpSpPr/>
            <p:nvPr/>
          </p:nvGrpSpPr>
          <p:grpSpPr>
            <a:xfrm>
              <a:off x="3348000" y="2852640"/>
              <a:ext cx="1400040" cy="1528560"/>
              <a:chOff x="3348000" y="2852640"/>
              <a:chExt cx="1400040" cy="1528560"/>
            </a:xfrm>
          </p:grpSpPr>
          <p:grpSp>
            <p:nvGrpSpPr>
              <p:cNvPr id="485" name="Group 22"/>
              <p:cNvGrpSpPr/>
              <p:nvPr/>
            </p:nvGrpSpPr>
            <p:grpSpPr>
              <a:xfrm>
                <a:off x="3348000" y="2852640"/>
                <a:ext cx="1400040" cy="1528560"/>
                <a:chOff x="3348000" y="2852640"/>
                <a:chExt cx="1400040" cy="1528560"/>
              </a:xfrm>
            </p:grpSpPr>
            <p:sp>
              <p:nvSpPr>
                <p:cNvPr id="486" name="Freeform 23"/>
                <p:cNvSpPr/>
                <p:nvPr/>
              </p:nvSpPr>
              <p:spPr>
                <a:xfrm>
                  <a:off x="3348000" y="2852640"/>
                  <a:ext cx="409320" cy="1528560"/>
                </a:xfrm>
                <a:custGeom>
                  <a:avLst/>
                  <a:gdLst>
                    <a:gd name="textAreaLeft" fmla="*/ 0 w 409320"/>
                    <a:gd name="textAreaRight" fmla="*/ 409680 w 409320"/>
                    <a:gd name="textAreaTop" fmla="*/ 0 h 1528560"/>
                    <a:gd name="textAreaBottom" fmla="*/ 1528920 h 1528560"/>
                  </a:gdLst>
                  <a:ahLst/>
                  <a:rect l="textAreaLeft" t="textAreaTop" r="textAreaRight" b="textAreaBottom"/>
                  <a:pathLst>
                    <a:path w="258" h="963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0" y="609"/>
                      </a:lnTo>
                      <a:lnTo>
                        <a:pt x="0" y="637"/>
                      </a:lnTo>
                      <a:lnTo>
                        <a:pt x="6" y="651"/>
                      </a:lnTo>
                      <a:lnTo>
                        <a:pt x="6" y="665"/>
                      </a:lnTo>
                      <a:lnTo>
                        <a:pt x="12" y="680"/>
                      </a:lnTo>
                      <a:lnTo>
                        <a:pt x="18" y="694"/>
                      </a:lnTo>
                      <a:lnTo>
                        <a:pt x="24" y="708"/>
                      </a:lnTo>
                      <a:lnTo>
                        <a:pt x="30" y="722"/>
                      </a:lnTo>
                      <a:lnTo>
                        <a:pt x="36" y="750"/>
                      </a:lnTo>
                      <a:lnTo>
                        <a:pt x="42" y="750"/>
                      </a:lnTo>
                      <a:lnTo>
                        <a:pt x="54" y="764"/>
                      </a:lnTo>
                      <a:lnTo>
                        <a:pt x="60" y="793"/>
                      </a:lnTo>
                      <a:lnTo>
                        <a:pt x="66" y="793"/>
                      </a:lnTo>
                      <a:lnTo>
                        <a:pt x="84" y="821"/>
                      </a:lnTo>
                      <a:lnTo>
                        <a:pt x="96" y="835"/>
                      </a:lnTo>
                      <a:lnTo>
                        <a:pt x="102" y="835"/>
                      </a:lnTo>
                      <a:lnTo>
                        <a:pt x="120" y="864"/>
                      </a:lnTo>
                      <a:lnTo>
                        <a:pt x="132" y="878"/>
                      </a:lnTo>
                      <a:lnTo>
                        <a:pt x="144" y="878"/>
                      </a:lnTo>
                      <a:lnTo>
                        <a:pt x="156" y="892"/>
                      </a:lnTo>
                      <a:lnTo>
                        <a:pt x="174" y="906"/>
                      </a:lnTo>
                      <a:lnTo>
                        <a:pt x="186" y="920"/>
                      </a:lnTo>
                      <a:lnTo>
                        <a:pt x="204" y="934"/>
                      </a:lnTo>
                      <a:lnTo>
                        <a:pt x="228" y="948"/>
                      </a:lnTo>
                      <a:lnTo>
                        <a:pt x="234" y="963"/>
                      </a:lnTo>
                      <a:lnTo>
                        <a:pt x="258" y="963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4"/>
                <p:cNvSpPr/>
                <p:nvPr/>
              </p:nvSpPr>
              <p:spPr>
                <a:xfrm>
                  <a:off x="3757320" y="2852640"/>
                  <a:ext cx="990360" cy="152856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528560"/>
                    <a:gd name="textAreaBottom" fmla="*/ 1528920 h 1528560"/>
                  </a:gdLst>
                  <a:ahLst/>
                  <a:rect l="textAreaLeft" t="textAreaTop" r="textAreaRight" b="textAreaBottom"/>
                  <a:pathLst>
                    <a:path w="624" h="963">
                      <a:moveTo>
                        <a:pt x="624" y="0"/>
                      </a:move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624" y="580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5"/>
                <p:cNvSpPr/>
                <p:nvPr/>
              </p:nvSpPr>
              <p:spPr>
                <a:xfrm>
                  <a:off x="3348000" y="2852640"/>
                  <a:ext cx="1400040" cy="606240"/>
                </a:xfrm>
                <a:custGeom>
                  <a:avLst/>
                  <a:gdLst>
                    <a:gd name="textAreaLeft" fmla="*/ 0 w 1400040"/>
                    <a:gd name="textAreaRight" fmla="*/ 1400400 w 140004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2" h="382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882" y="0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Oval 51"/>
              <p:cNvSpPr/>
              <p:nvPr/>
            </p:nvSpPr>
            <p:spPr>
              <a:xfrm>
                <a:off x="4140000" y="285264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Oval 54"/>
              <p:cNvSpPr/>
              <p:nvPr/>
            </p:nvSpPr>
            <p:spPr>
              <a:xfrm>
                <a:off x="3708360" y="307008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Oval 55"/>
              <p:cNvSpPr/>
              <p:nvPr/>
            </p:nvSpPr>
            <p:spPr>
              <a:xfrm>
                <a:off x="3348000" y="357336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2" name="Oval 69"/>
            <p:cNvSpPr/>
            <p:nvPr/>
          </p:nvSpPr>
          <p:spPr>
            <a:xfrm>
              <a:off x="4282920" y="3357360"/>
              <a:ext cx="217080" cy="3618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Group 46"/>
          <p:cNvGrpSpPr/>
          <p:nvPr/>
        </p:nvGrpSpPr>
        <p:grpSpPr>
          <a:xfrm>
            <a:off x="4643280" y="2852640"/>
            <a:ext cx="1000080" cy="1797120"/>
            <a:chOff x="4643280" y="2852640"/>
            <a:chExt cx="1000080" cy="1797120"/>
          </a:xfrm>
        </p:grpSpPr>
        <p:grpSp>
          <p:nvGrpSpPr>
            <p:cNvPr id="494" name="Group 27"/>
            <p:cNvGrpSpPr/>
            <p:nvPr/>
          </p:nvGrpSpPr>
          <p:grpSpPr>
            <a:xfrm>
              <a:off x="4643280" y="2852640"/>
              <a:ext cx="1000080" cy="1797120"/>
              <a:chOff x="4643280" y="2852640"/>
              <a:chExt cx="1000080" cy="1797120"/>
            </a:xfrm>
          </p:grpSpPr>
          <p:sp>
            <p:nvSpPr>
              <p:cNvPr id="495" name="Freeform 28"/>
              <p:cNvSpPr/>
              <p:nvPr/>
            </p:nvSpPr>
            <p:spPr>
              <a:xfrm>
                <a:off x="4643280" y="3459240"/>
                <a:ext cx="1000080" cy="119052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1190520"/>
                  <a:gd name="textAreaBottom" fmla="*/ 1190880 h 1190520"/>
                </a:gdLst>
                <a:ahLst/>
                <a:rect l="textAreaLeft" t="textAreaTop" r="textAreaRight" b="textAreaBottom"/>
                <a:pathLst>
                  <a:path w="630" h="750">
                    <a:moveTo>
                      <a:pt x="630" y="0"/>
                    </a:moveTo>
                    <a:lnTo>
                      <a:pt x="606" y="14"/>
                    </a:lnTo>
                    <a:lnTo>
                      <a:pt x="594" y="29"/>
                    </a:lnTo>
                    <a:lnTo>
                      <a:pt x="570" y="43"/>
                    </a:lnTo>
                    <a:lnTo>
                      <a:pt x="546" y="57"/>
                    </a:lnTo>
                    <a:lnTo>
                      <a:pt x="534" y="57"/>
                    </a:lnTo>
                    <a:lnTo>
                      <a:pt x="510" y="71"/>
                    </a:lnTo>
                    <a:lnTo>
                      <a:pt x="486" y="85"/>
                    </a:lnTo>
                    <a:lnTo>
                      <a:pt x="468" y="85"/>
                    </a:lnTo>
                    <a:lnTo>
                      <a:pt x="444" y="99"/>
                    </a:lnTo>
                    <a:lnTo>
                      <a:pt x="414" y="99"/>
                    </a:lnTo>
                    <a:lnTo>
                      <a:pt x="402" y="114"/>
                    </a:lnTo>
                    <a:lnTo>
                      <a:pt x="378" y="114"/>
                    </a:lnTo>
                    <a:lnTo>
                      <a:pt x="348" y="128"/>
                    </a:lnTo>
                    <a:lnTo>
                      <a:pt x="336" y="128"/>
                    </a:lnTo>
                    <a:lnTo>
                      <a:pt x="306" y="128"/>
                    </a:lnTo>
                    <a:lnTo>
                      <a:pt x="276" y="142"/>
                    </a:lnTo>
                    <a:lnTo>
                      <a:pt x="258" y="142"/>
                    </a:lnTo>
                    <a:lnTo>
                      <a:pt x="228" y="142"/>
                    </a:lnTo>
                    <a:lnTo>
                      <a:pt x="198" y="156"/>
                    </a:lnTo>
                    <a:lnTo>
                      <a:pt x="186" y="156"/>
                    </a:lnTo>
                    <a:lnTo>
                      <a:pt x="156" y="156"/>
                    </a:lnTo>
                    <a:lnTo>
                      <a:pt x="126" y="156"/>
                    </a:lnTo>
                    <a:lnTo>
                      <a:pt x="108" y="156"/>
                    </a:lnTo>
                    <a:lnTo>
                      <a:pt x="78" y="170"/>
                    </a:lnTo>
                    <a:lnTo>
                      <a:pt x="48" y="170"/>
                    </a:lnTo>
                    <a:lnTo>
                      <a:pt x="30" y="170"/>
                    </a:lnTo>
                    <a:lnTo>
                      <a:pt x="0" y="170"/>
                    </a:lnTo>
                    <a:lnTo>
                      <a:pt x="0" y="750"/>
                    </a:lnTo>
                    <a:lnTo>
                      <a:pt x="30" y="750"/>
                    </a:lnTo>
                    <a:lnTo>
                      <a:pt x="48" y="750"/>
                    </a:lnTo>
                    <a:lnTo>
                      <a:pt x="78" y="750"/>
                    </a:lnTo>
                    <a:lnTo>
                      <a:pt x="108" y="736"/>
                    </a:lnTo>
                    <a:lnTo>
                      <a:pt x="126" y="736"/>
                    </a:lnTo>
                    <a:lnTo>
                      <a:pt x="156" y="736"/>
                    </a:lnTo>
                    <a:lnTo>
                      <a:pt x="186" y="736"/>
                    </a:lnTo>
                    <a:lnTo>
                      <a:pt x="198" y="736"/>
                    </a:lnTo>
                    <a:lnTo>
                      <a:pt x="228" y="722"/>
                    </a:lnTo>
                    <a:lnTo>
                      <a:pt x="258" y="722"/>
                    </a:lnTo>
                    <a:lnTo>
                      <a:pt x="276" y="722"/>
                    </a:lnTo>
                    <a:lnTo>
                      <a:pt x="306" y="708"/>
                    </a:lnTo>
                    <a:lnTo>
                      <a:pt x="336" y="708"/>
                    </a:lnTo>
                    <a:lnTo>
                      <a:pt x="348" y="708"/>
                    </a:lnTo>
                    <a:lnTo>
                      <a:pt x="378" y="694"/>
                    </a:lnTo>
                    <a:lnTo>
                      <a:pt x="402" y="694"/>
                    </a:lnTo>
                    <a:lnTo>
                      <a:pt x="414" y="680"/>
                    </a:lnTo>
                    <a:lnTo>
                      <a:pt x="444" y="680"/>
                    </a:lnTo>
                    <a:lnTo>
                      <a:pt x="468" y="666"/>
                    </a:lnTo>
                    <a:lnTo>
                      <a:pt x="486" y="666"/>
                    </a:lnTo>
                    <a:lnTo>
                      <a:pt x="510" y="651"/>
                    </a:lnTo>
                    <a:lnTo>
                      <a:pt x="534" y="637"/>
                    </a:lnTo>
                    <a:lnTo>
                      <a:pt x="546" y="637"/>
                    </a:lnTo>
                    <a:lnTo>
                      <a:pt x="570" y="623"/>
                    </a:lnTo>
                    <a:lnTo>
                      <a:pt x="594" y="609"/>
                    </a:lnTo>
                    <a:lnTo>
                      <a:pt x="606" y="595"/>
                    </a:lnTo>
                    <a:lnTo>
                      <a:pt x="630" y="581"/>
                    </a:lnTo>
                    <a:lnTo>
                      <a:pt x="6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aee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9"/>
              <p:cNvSpPr/>
              <p:nvPr/>
            </p:nvSpPr>
            <p:spPr>
              <a:xfrm>
                <a:off x="4643280" y="2852640"/>
                <a:ext cx="1000080" cy="87624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630" h="552">
                    <a:moveTo>
                      <a:pt x="630" y="382"/>
                    </a:moveTo>
                    <a:lnTo>
                      <a:pt x="606" y="396"/>
                    </a:lnTo>
                    <a:lnTo>
                      <a:pt x="594" y="411"/>
                    </a:lnTo>
                    <a:lnTo>
                      <a:pt x="570" y="425"/>
                    </a:lnTo>
                    <a:lnTo>
                      <a:pt x="546" y="439"/>
                    </a:lnTo>
                    <a:lnTo>
                      <a:pt x="534" y="439"/>
                    </a:lnTo>
                    <a:lnTo>
                      <a:pt x="510" y="453"/>
                    </a:lnTo>
                    <a:lnTo>
                      <a:pt x="486" y="467"/>
                    </a:lnTo>
                    <a:lnTo>
                      <a:pt x="468" y="467"/>
                    </a:lnTo>
                    <a:lnTo>
                      <a:pt x="444" y="481"/>
                    </a:lnTo>
                    <a:lnTo>
                      <a:pt x="414" y="481"/>
                    </a:lnTo>
                    <a:lnTo>
                      <a:pt x="402" y="496"/>
                    </a:lnTo>
                    <a:lnTo>
                      <a:pt x="378" y="496"/>
                    </a:lnTo>
                    <a:lnTo>
                      <a:pt x="348" y="510"/>
                    </a:lnTo>
                    <a:lnTo>
                      <a:pt x="336" y="510"/>
                    </a:lnTo>
                    <a:lnTo>
                      <a:pt x="306" y="510"/>
                    </a:lnTo>
                    <a:lnTo>
                      <a:pt x="276" y="524"/>
                    </a:lnTo>
                    <a:lnTo>
                      <a:pt x="258" y="524"/>
                    </a:lnTo>
                    <a:lnTo>
                      <a:pt x="228" y="524"/>
                    </a:lnTo>
                    <a:lnTo>
                      <a:pt x="198" y="538"/>
                    </a:lnTo>
                    <a:lnTo>
                      <a:pt x="186" y="538"/>
                    </a:lnTo>
                    <a:lnTo>
                      <a:pt x="156" y="538"/>
                    </a:lnTo>
                    <a:lnTo>
                      <a:pt x="126" y="538"/>
                    </a:lnTo>
                    <a:lnTo>
                      <a:pt x="108" y="538"/>
                    </a:lnTo>
                    <a:lnTo>
                      <a:pt x="78" y="552"/>
                    </a:lnTo>
                    <a:lnTo>
                      <a:pt x="48" y="552"/>
                    </a:lnTo>
                    <a:lnTo>
                      <a:pt x="30" y="552"/>
                    </a:lnTo>
                    <a:lnTo>
                      <a:pt x="0" y="552"/>
                    </a:lnTo>
                    <a:lnTo>
                      <a:pt x="0" y="0"/>
                    </a:lnTo>
                    <a:lnTo>
                      <a:pt x="630" y="3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aee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7" name="Oval 40"/>
            <p:cNvSpPr/>
            <p:nvPr/>
          </p:nvSpPr>
          <p:spPr>
            <a:xfrm>
              <a:off x="4787640" y="321300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41"/>
            <p:cNvSpPr/>
            <p:nvPr/>
          </p:nvSpPr>
          <p:spPr>
            <a:xfrm>
              <a:off x="5003640" y="342864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42"/>
            <p:cNvSpPr/>
            <p:nvPr/>
          </p:nvSpPr>
          <p:spPr>
            <a:xfrm>
              <a:off x="5219640" y="378900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58"/>
          <p:cNvGrpSpPr/>
          <p:nvPr/>
        </p:nvGrpSpPr>
        <p:grpSpPr>
          <a:xfrm>
            <a:off x="3708360" y="2852640"/>
            <a:ext cx="990720" cy="1797120"/>
            <a:chOff x="3708360" y="2852640"/>
            <a:chExt cx="990720" cy="1797120"/>
          </a:xfrm>
        </p:grpSpPr>
        <p:grpSp>
          <p:nvGrpSpPr>
            <p:cNvPr id="501" name="Group 30"/>
            <p:cNvGrpSpPr/>
            <p:nvPr/>
          </p:nvGrpSpPr>
          <p:grpSpPr>
            <a:xfrm>
              <a:off x="3708360" y="2852640"/>
              <a:ext cx="990720" cy="1797120"/>
              <a:chOff x="3708360" y="2852640"/>
              <a:chExt cx="990720" cy="1797120"/>
            </a:xfrm>
          </p:grpSpPr>
          <p:sp>
            <p:nvSpPr>
              <p:cNvPr id="502" name="Freeform 31"/>
              <p:cNvSpPr/>
              <p:nvPr/>
            </p:nvSpPr>
            <p:spPr>
              <a:xfrm>
                <a:off x="3708360" y="3459240"/>
                <a:ext cx="990720" cy="119052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0 h 1190520"/>
                  <a:gd name="textAreaBottom" fmla="*/ 1190880 h 1190520"/>
                </a:gdLst>
                <a:ahLst/>
                <a:rect l="textAreaLeft" t="textAreaTop" r="textAreaRight" b="textAreaBottom"/>
                <a:pathLst>
                  <a:path w="624" h="750">
                    <a:moveTo>
                      <a:pt x="624" y="170"/>
                    </a:moveTo>
                    <a:lnTo>
                      <a:pt x="594" y="170"/>
                    </a:lnTo>
                    <a:lnTo>
                      <a:pt x="582" y="170"/>
                    </a:lnTo>
                    <a:lnTo>
                      <a:pt x="546" y="170"/>
                    </a:lnTo>
                    <a:lnTo>
                      <a:pt x="516" y="156"/>
                    </a:lnTo>
                    <a:lnTo>
                      <a:pt x="504" y="156"/>
                    </a:lnTo>
                    <a:lnTo>
                      <a:pt x="474" y="156"/>
                    </a:lnTo>
                    <a:lnTo>
                      <a:pt x="444" y="156"/>
                    </a:lnTo>
                    <a:lnTo>
                      <a:pt x="426" y="156"/>
                    </a:lnTo>
                    <a:lnTo>
                      <a:pt x="396" y="142"/>
                    </a:lnTo>
                    <a:lnTo>
                      <a:pt x="366" y="142"/>
                    </a:lnTo>
                    <a:lnTo>
                      <a:pt x="354" y="142"/>
                    </a:lnTo>
                    <a:lnTo>
                      <a:pt x="324" y="128"/>
                    </a:lnTo>
                    <a:lnTo>
                      <a:pt x="294" y="128"/>
                    </a:lnTo>
                    <a:lnTo>
                      <a:pt x="282" y="128"/>
                    </a:lnTo>
                    <a:lnTo>
                      <a:pt x="252" y="114"/>
                    </a:lnTo>
                    <a:lnTo>
                      <a:pt x="222" y="114"/>
                    </a:lnTo>
                    <a:lnTo>
                      <a:pt x="210" y="99"/>
                    </a:lnTo>
                    <a:lnTo>
                      <a:pt x="180" y="99"/>
                    </a:lnTo>
                    <a:lnTo>
                      <a:pt x="156" y="85"/>
                    </a:lnTo>
                    <a:lnTo>
                      <a:pt x="144" y="85"/>
                    </a:lnTo>
                    <a:lnTo>
                      <a:pt x="120" y="71"/>
                    </a:lnTo>
                    <a:lnTo>
                      <a:pt x="90" y="57"/>
                    </a:lnTo>
                    <a:lnTo>
                      <a:pt x="78" y="57"/>
                    </a:lnTo>
                    <a:lnTo>
                      <a:pt x="54" y="43"/>
                    </a:lnTo>
                    <a:lnTo>
                      <a:pt x="36" y="29"/>
                    </a:lnTo>
                    <a:lnTo>
                      <a:pt x="24" y="14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24" y="595"/>
                    </a:lnTo>
                    <a:lnTo>
                      <a:pt x="36" y="609"/>
                    </a:lnTo>
                    <a:lnTo>
                      <a:pt x="54" y="623"/>
                    </a:lnTo>
                    <a:lnTo>
                      <a:pt x="78" y="637"/>
                    </a:lnTo>
                    <a:lnTo>
                      <a:pt x="90" y="637"/>
                    </a:lnTo>
                    <a:lnTo>
                      <a:pt x="120" y="651"/>
                    </a:lnTo>
                    <a:lnTo>
                      <a:pt x="144" y="666"/>
                    </a:lnTo>
                    <a:lnTo>
                      <a:pt x="156" y="666"/>
                    </a:lnTo>
                    <a:lnTo>
                      <a:pt x="180" y="680"/>
                    </a:lnTo>
                    <a:lnTo>
                      <a:pt x="210" y="680"/>
                    </a:lnTo>
                    <a:lnTo>
                      <a:pt x="222" y="694"/>
                    </a:lnTo>
                    <a:lnTo>
                      <a:pt x="252" y="694"/>
                    </a:lnTo>
                    <a:lnTo>
                      <a:pt x="282" y="708"/>
                    </a:lnTo>
                    <a:lnTo>
                      <a:pt x="294" y="708"/>
                    </a:lnTo>
                    <a:lnTo>
                      <a:pt x="324" y="708"/>
                    </a:lnTo>
                    <a:lnTo>
                      <a:pt x="354" y="722"/>
                    </a:lnTo>
                    <a:lnTo>
                      <a:pt x="366" y="722"/>
                    </a:lnTo>
                    <a:lnTo>
                      <a:pt x="396" y="722"/>
                    </a:lnTo>
                    <a:lnTo>
                      <a:pt x="426" y="736"/>
                    </a:lnTo>
                    <a:lnTo>
                      <a:pt x="444" y="736"/>
                    </a:lnTo>
                    <a:lnTo>
                      <a:pt x="474" y="736"/>
                    </a:lnTo>
                    <a:lnTo>
                      <a:pt x="504" y="736"/>
                    </a:lnTo>
                    <a:lnTo>
                      <a:pt x="516" y="736"/>
                    </a:lnTo>
                    <a:lnTo>
                      <a:pt x="546" y="750"/>
                    </a:lnTo>
                    <a:lnTo>
                      <a:pt x="582" y="750"/>
                    </a:lnTo>
                    <a:lnTo>
                      <a:pt x="594" y="750"/>
                    </a:lnTo>
                    <a:lnTo>
                      <a:pt x="624" y="750"/>
                    </a:lnTo>
                    <a:lnTo>
                      <a:pt x="624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aee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2"/>
              <p:cNvSpPr/>
              <p:nvPr/>
            </p:nvSpPr>
            <p:spPr>
              <a:xfrm>
                <a:off x="3708360" y="2852640"/>
                <a:ext cx="990720" cy="87624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624" h="552">
                    <a:moveTo>
                      <a:pt x="624" y="552"/>
                    </a:moveTo>
                    <a:lnTo>
                      <a:pt x="594" y="552"/>
                    </a:lnTo>
                    <a:lnTo>
                      <a:pt x="582" y="552"/>
                    </a:lnTo>
                    <a:lnTo>
                      <a:pt x="546" y="552"/>
                    </a:lnTo>
                    <a:lnTo>
                      <a:pt x="516" y="538"/>
                    </a:lnTo>
                    <a:lnTo>
                      <a:pt x="504" y="538"/>
                    </a:lnTo>
                    <a:lnTo>
                      <a:pt x="474" y="538"/>
                    </a:lnTo>
                    <a:lnTo>
                      <a:pt x="444" y="538"/>
                    </a:lnTo>
                    <a:lnTo>
                      <a:pt x="426" y="538"/>
                    </a:lnTo>
                    <a:lnTo>
                      <a:pt x="396" y="524"/>
                    </a:lnTo>
                    <a:lnTo>
                      <a:pt x="366" y="524"/>
                    </a:lnTo>
                    <a:lnTo>
                      <a:pt x="354" y="524"/>
                    </a:lnTo>
                    <a:lnTo>
                      <a:pt x="324" y="510"/>
                    </a:lnTo>
                    <a:lnTo>
                      <a:pt x="294" y="510"/>
                    </a:lnTo>
                    <a:lnTo>
                      <a:pt x="282" y="510"/>
                    </a:lnTo>
                    <a:lnTo>
                      <a:pt x="252" y="496"/>
                    </a:lnTo>
                    <a:lnTo>
                      <a:pt x="222" y="496"/>
                    </a:lnTo>
                    <a:lnTo>
                      <a:pt x="210" y="481"/>
                    </a:lnTo>
                    <a:lnTo>
                      <a:pt x="180" y="481"/>
                    </a:lnTo>
                    <a:lnTo>
                      <a:pt x="156" y="467"/>
                    </a:lnTo>
                    <a:lnTo>
                      <a:pt x="144" y="467"/>
                    </a:lnTo>
                    <a:lnTo>
                      <a:pt x="120" y="453"/>
                    </a:lnTo>
                    <a:lnTo>
                      <a:pt x="90" y="439"/>
                    </a:lnTo>
                    <a:lnTo>
                      <a:pt x="78" y="439"/>
                    </a:lnTo>
                    <a:lnTo>
                      <a:pt x="54" y="425"/>
                    </a:lnTo>
                    <a:lnTo>
                      <a:pt x="36" y="411"/>
                    </a:lnTo>
                    <a:lnTo>
                      <a:pt x="24" y="396"/>
                    </a:lnTo>
                    <a:lnTo>
                      <a:pt x="0" y="382"/>
                    </a:lnTo>
                    <a:lnTo>
                      <a:pt x="624" y="0"/>
                    </a:lnTo>
                    <a:lnTo>
                      <a:pt x="624" y="5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aee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Oval 50"/>
            <p:cNvSpPr/>
            <p:nvPr/>
          </p:nvSpPr>
          <p:spPr>
            <a:xfrm>
              <a:off x="4068720" y="342864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4284720" y="429408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6" name="Picture 35" descr="j0344852"/>
          <p:cNvPicPr/>
          <p:nvPr/>
        </p:nvPicPr>
        <p:blipFill>
          <a:blip r:embed="rId4"/>
          <a:stretch/>
        </p:blipFill>
        <p:spPr>
          <a:xfrm flipH="1">
            <a:off x="2987280" y="400536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3" descr="j0344852"/>
          <p:cNvPicPr/>
          <p:nvPr/>
        </p:nvPicPr>
        <p:blipFill>
          <a:blip r:embed="rId5"/>
          <a:stretch/>
        </p:blipFill>
        <p:spPr>
          <a:xfrm flipH="1">
            <a:off x="1692000" y="299736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6" descr="j0344852"/>
          <p:cNvPicPr/>
          <p:nvPr/>
        </p:nvPicPr>
        <p:blipFill>
          <a:blip r:embed="rId6"/>
          <a:stretch/>
        </p:blipFill>
        <p:spPr>
          <a:xfrm flipH="1">
            <a:off x="1834920" y="162864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4" descr="j0344852"/>
          <p:cNvPicPr/>
          <p:nvPr/>
        </p:nvPicPr>
        <p:blipFill>
          <a:blip r:embed="rId7"/>
          <a:stretch/>
        </p:blipFill>
        <p:spPr>
          <a:xfrm>
            <a:off x="6084720" y="2852640"/>
            <a:ext cx="1652760" cy="1382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8" descr="j0344852"/>
          <p:cNvPicPr/>
          <p:nvPr/>
        </p:nvPicPr>
        <p:blipFill>
          <a:blip r:embed="rId8"/>
          <a:stretch/>
        </p:blipFill>
        <p:spPr>
          <a:xfrm>
            <a:off x="5364000" y="4005360"/>
            <a:ext cx="1652760" cy="138276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73"/>
          <p:cNvSpPr/>
          <p:nvPr/>
        </p:nvSpPr>
        <p:spPr>
          <a:xfrm>
            <a:off x="1857240" y="6245280"/>
            <a:ext cx="628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81 0.00833 L -0.2757 0.16574 E">
                                      <p:cBhvr>
                                        <p:cTn id="39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8382E-006 L -0.25989 0.2622 E">
                                      <p:cBhvr>
                                        <p:cTn id="400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6 L 0.08663 0.17826 E">
                                      <p:cBhvr>
                                        <p:cTn id="402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79191E-006 L 0.11024 0.22034 E">
                                      <p:cBhvr>
                                        <p:cTn id="404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1214E-006 L 0.20486 0.25179 E">
                                      <p:cBhvr>
                                        <p:cTn id="40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1387E-006 L 0.2599 0.1889 E">
                                      <p:cBhvr>
                                        <p:cTn id="408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56069E-006 L 0.14167 -0.02104 E">
                                      <p:cBhvr>
                                        <p:cTn id="410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0.17326 -0.03144 E">
                                      <p:cBhvr>
                                        <p:cTn id="412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60116E-006 L 0.13402 -0.06289 E">
                                      <p:cBhvr>
                                        <p:cTn id="414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3.00578E-006 L 0.13385 -0.11537 E">
                                      <p:cBhvr>
                                        <p:cTn id="416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91329E-006 L -0.15747 -0.05249 E">
                                      <p:cBhvr>
                                        <p:cTn id="418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63006E-006 L -0.09461 -0.12601 E">
                                      <p:cBhvr>
                                        <p:cTn id="420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62428E-007 L -0.18107 -0.07353 E">
                                      <p:cBhvr>
                                        <p:cTn id="422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3237E-006 L -0.19688 -0.06288 E">
                                      <p:cBhvr>
                                        <p:cTn id="424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02312E-006 L -0.18125 0.07144 E">
                                      <p:cBhvr>
                                        <p:cTn id="426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6763E-006 L -0.15746 0.07329 E">
                                      <p:cBhvr>
                                        <p:cTn id="428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-360"/>
            <a:ext cx="8640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матический диктан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исло 9 разделите на 9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 сколько число 24 больше, чем 7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 сколько раз число 48 больше 8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кое число нужно умножить на 5 чтобы получилось 45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исло 10 увеличьте в 3 раз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йдите произведение чисел 9 и 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йдите площадь прямоугольника, если его стороны 2 и 5 с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исло 8 увеличьте в 3 раз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"/>
          <p:cNvSpPr/>
          <p:nvPr/>
        </p:nvSpPr>
        <p:spPr>
          <a:xfrm>
            <a:off x="468360" y="1557360"/>
            <a:ext cx="828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93       №3, №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682560" y="3498840"/>
            <a:ext cx="7937640" cy="13842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755280" y="907920"/>
            <a:ext cx="792468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работу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450720" y="1047600"/>
            <a:ext cx="824256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-6480" y="23760"/>
            <a:ext cx="9156960" cy="2116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http://img0.liveinternet.ru/images/attach/c/0/119/946/119946478_0788d136173bca2c6bbecfa0062a5cf9.jpg"/>
          <p:cNvPicPr/>
          <p:nvPr/>
        </p:nvPicPr>
        <p:blipFill>
          <a:blip r:embed="rId2"/>
          <a:stretch/>
        </p:blipFill>
        <p:spPr>
          <a:xfrm>
            <a:off x="2268360" y="2565360"/>
            <a:ext cx="47628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39640" y="-24336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</a:t>
            </a:r>
            <a:r>
              <a:rPr b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и</a:t>
            </a:r>
            <a:endParaRPr b="0" lang="en-US" sz="10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4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3" name="Picture 2" descr="C:\Users\ХхХ\Desktop\2.jpg"/>
          <p:cNvPicPr/>
          <p:nvPr/>
        </p:nvPicPr>
        <p:blipFill>
          <a:blip r:embed="rId1"/>
          <a:stretch/>
        </p:blipFill>
        <p:spPr>
          <a:xfrm>
            <a:off x="2411280" y="2997360"/>
            <a:ext cx="484344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6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45846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3"/>
          <p:cNvSpPr/>
          <p:nvPr/>
        </p:nvSpPr>
        <p:spPr>
          <a:xfrm>
            <a:off x="324000" y="549360"/>
            <a:ext cx="7848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48000" y="456840"/>
            <a:ext cx="3614760" cy="29718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Яблоко разделили на </a:t>
            </a:r>
            <a:br>
              <a:rPr sz="2400"/>
            </a:br>
            <a:r>
              <a:rPr b="1" lang="ru-RU" sz="2400" spc="-1" strike="noStrike" u="sng">
                <a:solidFill>
                  <a:srgbClr val="0f6fc6"/>
                </a:solidFill>
                <a:uFillTx/>
                <a:latin typeface="Constantia"/>
              </a:rPr>
              <a:t>две равные</a:t>
            </a:r>
            <a:r>
              <a:rPr b="1" lang="ru-RU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части</a:t>
            </a:r>
            <a:r>
              <a:rPr b="1" lang="ru-RU" sz="2400" spc="-1" strike="noStrike">
                <a:solidFill>
                  <a:srgbClr val="0f6fc6"/>
                </a:solidFill>
                <a:latin typeface="Constantia"/>
              </a:rPr>
              <a:t>  </a:t>
            </a:r>
            <a:r>
              <a:rPr b="1" lang="ru-RU" sz="2400" spc="-1" strike="noStrike" u="sng">
                <a:solidFill>
                  <a:srgbClr val="0f6fc6"/>
                </a:solidFill>
                <a:uFillTx/>
                <a:latin typeface="Constantia"/>
              </a:rPr>
              <a:t>(доли).</a:t>
            </a:r>
            <a:br>
              <a:rPr sz="2400"/>
            </a:b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Одна часть (доля) яблока называется  </a:t>
            </a:r>
            <a:r>
              <a:rPr b="1" lang="ru-RU" sz="2800" spc="-1" strike="noStrike">
                <a:solidFill>
                  <a:srgbClr val="ff3300"/>
                </a:solidFill>
                <a:latin typeface="Constantia"/>
              </a:rPr>
              <a:t>половина.</a:t>
            </a:r>
            <a:br>
              <a:rPr sz="2400"/>
            </a:b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	</a:t>
            </a:r>
            <a:br>
              <a:rPr sz="2000"/>
            </a:br>
            <a:endParaRPr b="0" lang="en-US" sz="24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7" name="Picture 9" descr="SL373937"/>
          <p:cNvPicPr/>
          <p:nvPr/>
        </p:nvPicPr>
        <p:blipFill>
          <a:blip r:embed="rId1"/>
          <a:stretch/>
        </p:blipFill>
        <p:spPr>
          <a:xfrm>
            <a:off x="250920" y="836640"/>
            <a:ext cx="4816440" cy="39751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0"/>
          <p:cNvSpPr/>
          <p:nvPr/>
        </p:nvSpPr>
        <p:spPr>
          <a:xfrm>
            <a:off x="613080" y="16286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в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413080" y="321300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в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1258920" y="2133720"/>
            <a:ext cx="2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3276720" y="2637000"/>
            <a:ext cx="2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Oval 7"/>
          <p:cNvSpPr/>
          <p:nvPr/>
        </p:nvSpPr>
        <p:spPr>
          <a:xfrm>
            <a:off x="971640" y="692280"/>
            <a:ext cx="3600360" cy="3528720"/>
          </a:xfrm>
          <a:prstGeom prst="ellipse">
            <a:avLst/>
          </a:prstGeom>
          <a:solidFill>
            <a:srgbClr val="dafb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427640" y="40464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Разделите с помощью перегибания на д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р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971640" y="2421000"/>
            <a:ext cx="3600360" cy="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122840" y="4797360"/>
            <a:ext cx="588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Получили две полов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Это одна вторая доля круг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 flipV="1">
            <a:off x="4211280" y="3141720"/>
            <a:ext cx="2808360" cy="23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2609640" y="2862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6:04:24Z</dcterms:created>
  <dc:creator>ХхХ</dc:creator>
  <dc:description/>
  <dc:language>en-US</dc:language>
  <cp:lastModifiedBy>Admin</cp:lastModifiedBy>
  <dcterms:modified xsi:type="dcterms:W3CDTF">2020-12-22T19:12:19Z</dcterms:modified>
  <cp:revision>103</cp:revision>
  <dc:subject/>
  <dc:title>Арифметически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1b0000000000010243100207e6000400038000</vt:lpwstr>
  </property>
</Properties>
</file>