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700C-E69A-48D8-9AAC-308BB5700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4237-2A75-461A-8152-59E8FC4F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1D6E-9AC5-4168-859C-7AF64521B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5332-30E7-4EC9-B148-B4568A19D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11BC-4631-4D1E-B2EC-1E713D132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01A1-3CFC-4D17-BF8D-65001270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CE8C-08F2-4C39-9541-188181C5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DE16-5420-4B51-9001-6A3494B9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3CA1-5372-43DB-BD19-539CCA02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0272-740B-4298-AACA-C3CA2DD5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1F20-291A-48BE-A060-F94CA187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E377-D9C2-4334-8D80-8D005FFE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DDA4-9233-4472-BE61-579EA37B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BFB7-0AA0-4A8C-8159-313B04DF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768F-627B-42B3-A6FD-003E45FE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F59C-6927-4FAD-84B7-326414E51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495A-5DDD-42F3-96A8-B1BEFD3F5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F657A-6910-4A65-BF78-7D054D8BB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47726-B5A3-49C1-998D-794376C0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DE66A-3160-4992-822D-A0D47104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64FBA-E122-4ADE-9630-241F392A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3FFD5-82E0-4F16-9CB0-28B178E1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433D-EF77-4319-9DDD-729BCF62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E05E0-BD7C-4E4B-8C91-39B350B7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E0255-E80B-4ABE-A7A6-6DEC55C0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0981A-05D5-4D93-B651-64D15459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54035-98F7-44AE-B4B8-728689A9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3CB47-5C2E-481A-80D3-8B7D7A5E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D272C-7B5C-4158-9042-A3DE84736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A2BC4-A74C-417E-8B12-63E5E4C0A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F1C6A-3C3F-4F80-9868-B96EE91B0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58E8C-8967-4CE3-A651-AD9F5A3D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A36B7-CD68-4FCD-B486-7B2DB6D5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DF7F-67FF-4FF9-851C-A325B843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169D9-6325-4A2A-8FC5-91ABA4B4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8C390-A270-4845-8D99-3ED69830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BDD2B-3851-45D6-87D1-6E861C00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42D5B-914D-45AB-92F6-2FCEF690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96671-4F0B-4648-A3BE-06FB8CB8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63B2E-2CEE-4466-A47F-872B0A78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E366D-F7CA-4C48-8FE5-B2E9A944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299D3-044D-4342-96D1-D3D7ADB9E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12D87-2F3F-43E2-B5DB-162F5CAAA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A772E-4DB5-4573-9599-C4FADF1F2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AED1-1BD0-43A9-9557-A6F6C5BB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DEA49-9F98-4945-987D-27F62A56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44688-0237-41D5-83E7-66FFA1EC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B0828-E2B9-44E6-8F3F-E116EB06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D4AC8-7469-4508-B903-C1C14AB9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27A53-E4B6-4E56-BA1A-75E59700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CB8CC-3649-48FA-8B41-5ADA37CF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ACA38-4B87-4C80-9A38-68C0B623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BDA59-6E66-48CB-8E8A-DE318C61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BB293-D9B8-4ACA-AF69-1358B92C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30D59-3180-4C35-B7BC-5182DD5E3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EF1C-F914-4DAB-A2EA-766C1BF2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86804-845C-4E18-B58E-AD245D3CD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48537-CCA1-4431-A8D1-1BE39B955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F7973-C7B2-444C-BA6F-E66B3FDA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56443-CBD8-4C9B-AF70-F7BFD256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63D17-5754-4A8D-9389-40322036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7240C-6488-4DB9-A0B2-804858C0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1D50E-1E27-4E29-B94C-D4EA24B5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6167F-8E2E-47B7-99DC-FC501A63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6897F-F685-48F5-A26B-261B7789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442C9-00EA-42D3-AAF8-2AAB8BB5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5342-C021-45BC-9D15-1883FA52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6463A-A6A6-4D5A-B776-0C271D3D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93ED0-C396-436B-8E25-AE7B647A6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1C811-C587-4FC3-A640-337D517E9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AB256-B281-404B-8945-1C7886D23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4EAC5-D739-4E95-96FF-38D577F1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8B695-EF61-4910-B154-0FD05314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4816E-94F6-4EC8-BFF5-1D49B4DC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B7B3F-8F28-4B33-A688-E314C193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585BD-7F70-42BE-AB23-618685B0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23EB7-D7BC-4603-BBFE-599CB550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3506-EDC9-4785-81AE-CCA76ED2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A94DA-CFDE-429A-8EC9-D09B0519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10F4F-4806-4F0A-87DB-88E6AE19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7B0A3-BFF6-4471-97AD-B4BCF386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EFCE8-2A98-46E0-9C41-C3FEA6007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0379E-6560-4A91-B38A-FD2FAB7C2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7CE3-E34F-4274-9CCA-627CE9C1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166BB5-DB74-4D6D-853A-FAF7B93422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72A939-037F-4630-A5E3-1C2E0D492F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81A725-EE17-4964-9D5C-A5B2B5E739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5966FC-1739-4FBC-B8F5-F3FA274FF0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17C678-FA15-4752-92A0-B6F95DEBF41E}" type="slidenum">
              <a:rPr b="0" lang="en-US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B23543-702E-4809-BB90-BF747EF4CC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91DEB8-E7B8-458A-A34C-71142F7524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62626"/>
                </a:solidFill>
                <a:latin typeface="Calibri"/>
              </a:rPr>
              <a:t>Игры для развития </a:t>
            </a:r>
            <a:br>
              <a:rPr sz="5400"/>
            </a:br>
            <a:r>
              <a:rPr b="1" lang="ru-RU" sz="5400" spc="-1" strike="noStrike">
                <a:solidFill>
                  <a:srgbClr val="262626"/>
                </a:solidFill>
                <a:latin typeface="Calibri"/>
              </a:rPr>
              <a:t>речи детей </a:t>
            </a:r>
            <a:br>
              <a:rPr sz="5400"/>
            </a:br>
            <a:r>
              <a:rPr b="1" lang="ru-RU" sz="2900" spc="-1" strike="noStrike">
                <a:solidFill>
                  <a:srgbClr val="262626"/>
                </a:solidFill>
                <a:latin typeface="Calibri"/>
              </a:rPr>
              <a:t>старшего дошкольного возраста</a:t>
            </a:r>
            <a:endParaRPr b="0" lang="en-US" sz="29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20574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1"/>
          <p:cNvSpPr/>
          <p:nvPr/>
        </p:nvSpPr>
        <p:spPr>
          <a:xfrm>
            <a:off x="304920" y="1066680"/>
            <a:ext cx="853416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"Найди по цвету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крепление согласования прилагательного с существительным в роде и числ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этой игры нам понадобятся картинки с изображением предметов разного цвет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зываем цвет, употребляя прилагательное в определенной форме (род, число), а ребёнок находит предметы данного цвета, которые подходят к этой форме прилагательного. Например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асное - яблоко, кресло, плать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елтая - репа, краска, сумк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иний - василек, баклажан, карандаш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4886280" y="3352680"/>
            <a:ext cx="395280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Box 1"/>
          <p:cNvSpPr/>
          <p:nvPr/>
        </p:nvSpPr>
        <p:spPr>
          <a:xfrm>
            <a:off x="304920" y="1066680"/>
            <a:ext cx="85341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Скажи наоборот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асширение словаря антоним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этой игры нам понадобится мяч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росаем мяч ребёнку и произносим слово. Ребенок, возвращая мяч, называет слово, противоположное по значению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йчас мы превратимся с тобой в упрямцев, которые делают всё наоборот. Я бросаю тебя мяч и называю слово, а ты говоришь наоборот. Например: темно, а наоборот – светл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РУГ … ВРАГ                          ДЕНЬ … НОЧ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ДОСТЬ … ГРУСТЬ (ПЕЧАЛЬ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АРА … ХОЛОД                    ЗЛО … ДОБР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АВДА … ЛОЖЬ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ХОРОШО … ПЛОХ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ЯЖЕЛО … ЛЕГКО                ВЫСОКО … НИЗК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ЖНО … НЕЛЬЗЯ              ТРУДНО … ЛЕГК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ЫСТРО … МЕДЛЕННО        ГОВОРИТЬ … МОЛЧАТ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КУПАТЬ … ПРОДАВАТЬ     ПОДНИМАТЬ … ОПУСКАТ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РОСАТЬ … ПОДНИМАТЬ      ПРЯТАТЬ … ИСКАТ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ЖИГАТЬ … ТУШ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5791320" y="3962520"/>
            <a:ext cx="3133440" cy="2571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Box 1"/>
          <p:cNvSpPr/>
          <p:nvPr/>
        </p:nvSpPr>
        <p:spPr>
          <a:xfrm>
            <a:off x="304920" y="1143000"/>
            <a:ext cx="8610480" cy="47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Игры на развитие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звуковой культуры реч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эту группу входят различные игры и упражнения на развитие фонематического слуха, умение правильно определить место звука в слове, словосочетании, предложении либо подобрать слова с заданным звуком. Также сюда относятся игры и упражнения на определение количества слогов в слове или на развитие умение подобрать слова с заданным количеством слог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1"/>
          <p:cNvSpPr/>
          <p:nvPr/>
        </p:nvSpPr>
        <p:spPr>
          <a:xfrm>
            <a:off x="380880" y="106668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Строим дорожк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развитие фонематического слух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ти садятся в круг. Кому-то даётся мяч и задание придумать любое слово. Затем мяч передаётся  следующему игроку. Он должен придумать слово, которое начинается с последнего звука предыдущего слова. И так далее, пока не дойдут до первого игрока. В этой игре на первом этапе педагог активно помогает детям правильно произнести слово (вместе с ним), выделяя очень чётко последний звук в слове. На следующем этапе педагог уже просто следит, чтобы дети чётко проговаривали слово и выделяли последний звук. К концу второго года обучения у детей вырабатывается навык чёткого произнесения слова и выделения последнего звука, а педагог выполняет роль наблюдателя-контролёра, который лишь организует процесс игры, а помогает лишь в редких случая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6553080" y="4267080"/>
            <a:ext cx="2352960" cy="23637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1"/>
          <p:cNvSpPr/>
          <p:nvPr/>
        </p:nvSpPr>
        <p:spPr>
          <a:xfrm>
            <a:off x="304920" y="1066680"/>
            <a:ext cx="853416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Ловуш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развитие умения услышать в слове определённый зву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дагог предлагает детям «открыть ловушки», т.е. поставить руки локтями на парту, параллельно друг другу, расправив свои ладошки, которые и есть «ловушки». Он даёт задание: если в слове услышите заданный звук, то «ловушки» нужно захлопнуть, т.е. хлопнуть в ладоши. Слова подбираются педагогом в зависимости от темы занят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Box 1"/>
          <p:cNvSpPr/>
          <p:nvPr/>
        </p:nvSpPr>
        <p:spPr>
          <a:xfrm>
            <a:off x="380880" y="1219320"/>
            <a:ext cx="845820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Поймай слог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развитие слухового внимания и его быстрот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дагог «бросает» детям слог, а они должны «превратить» его в слов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пример: ПА – папа, ма – мама, ку – кукла, ар – арбуз и т.д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Раздели правильно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развитие умения делить слова на слог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дагог говорит детям, что сейчас мы разделим слово на слоги. Для этого наши руки превратятся на время в «топорики». Далее нужно произнести слово правильно, при этом хлопая в ладошки и считая, сколько раз хлопнули, столько в слове и слог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1"/>
          <p:cNvSpPr/>
          <p:nvPr/>
        </p:nvSpPr>
        <p:spPr>
          <a:xfrm>
            <a:off x="304920" y="1143000"/>
            <a:ext cx="85341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гры на развитие связной ре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бота по развитию связной речи является как бы синтезом всех предыдущих упражнений. Она неотделима от остальных задач речевого развития, она связана с обогащением словаря, работой над смысловой стороной речи, формированием грамматического строя речи, воспитанием звуковой культуры речи. Обучение рассказыванию может проводиться в разной форме. Я чаще всего использую: составление рассказов – описаний по теме, по картинке, по серии картинок, упражнения типа «Закончи сказку по-своему», «Закончи предложение» и т.д. Некоторые из таких игр и игровых предложений я привожу ниж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1"/>
          <p:cNvSpPr/>
          <p:nvPr/>
        </p:nvSpPr>
        <p:spPr>
          <a:xfrm>
            <a:off x="304920" y="1066680"/>
            <a:ext cx="8534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Если бы…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развитие связной речи, воображения, высших форм мышления – синтеза, анализа, прогнозирования, экспериментиров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дагог предлагает детям пофантазировать на такие темы, как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«Если бы я был волшебником, то …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«Если бы я стал невидимым…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«Если весна не наступит никогда…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мимо развивающей направленности, эта игра имеет и диагностическое значе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Box 1"/>
          <p:cNvSpPr/>
          <p:nvPr/>
        </p:nvSpPr>
        <p:spPr>
          <a:xfrm>
            <a:off x="304920" y="1066680"/>
            <a:ext cx="8534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Закончи сам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развитие воображения, связной реч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дагог рассказывает детям начало сказки, рассказа, либо начало выдуманной истории, а детям даётся задание продолжить или придумать концов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5791320" cy="3959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1"/>
          <p:cNvSpPr/>
          <p:nvPr/>
        </p:nvSpPr>
        <p:spPr>
          <a:xfrm>
            <a:off x="304920" y="990720"/>
            <a:ext cx="853416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гры для формирования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лексико-грамматических категор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гры и упражнения, направленные на развитие грамматического строя речи, т.е. на усвоение категорий рода, числа, падежа существительных и прилагательных; вида, времени и наклонения глагола . Знакомство со словами – предметами, словами – признаками, словами – действиями и упражнение в их согласовании друг с другом, а также работа над подбором синонимов и антоним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1112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304920" y="3835440"/>
            <a:ext cx="1828800" cy="27115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3"/>
          <p:cNvSpPr/>
          <p:nvPr/>
        </p:nvSpPr>
        <p:spPr>
          <a:xfrm>
            <a:off x="304920" y="1143000"/>
            <a:ext cx="861048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Подбери словечко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расширение словарного запаса, развитие умения согласовывать прилагательное с существительны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эту игру можно играть с мячом, перекидывая, его друг друг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 что можно сказать "свежий"… (воздух, огурец, хлеб, ветер); "старый"… (дом, пень, человек, ботинок); "свежая"… (булочка, новость, газета, скатерть); "старая"…(мебель, сказка, книга, бабушка); "свежее"… (молоко, мясо, варенье); "старое"…(кресло, сиденье, окно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2133720" cy="2895480"/>
          </a:xfrm>
          <a:prstGeom prst="rect">
            <a:avLst/>
          </a:prstGeom>
          <a:ln w="0">
            <a:noFill/>
          </a:ln>
        </p:spPr>
      </p:pic>
      <p:sp>
        <p:nvSpPr>
          <p:cNvPr id="311" name="TextBox 2"/>
          <p:cNvSpPr/>
          <p:nvPr/>
        </p:nvSpPr>
        <p:spPr>
          <a:xfrm>
            <a:off x="304920" y="1143000"/>
            <a:ext cx="853416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"Скажи наоборот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асширение словаря антоним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этой игры есть два варианта. Первый вариант легче, так как ребёнок в своих ответах опирается не только на речь взрослого, но и на картинный материал. Второй сложнее, так как опора происходит только на речь взрослог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С опорой на картинки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душка старый, а внук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рево высокое, а куст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ре глубокое, а ручеёк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рога широкая, а тропинка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о легкое, а гиря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том нужна летняя одежда, а зимой …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Без опоры на картинки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ирожное сладкое, а лекарство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чью темно, а днем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волка хвост длинный, а у зайца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леб мягкий, а сухарь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ай горячий, а лед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том жарко, а зимой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Box 2"/>
          <p:cNvSpPr/>
          <p:nvPr/>
        </p:nvSpPr>
        <p:spPr>
          <a:xfrm>
            <a:off x="304920" y="1066680"/>
            <a:ext cx="861048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Мама потерялась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формирование умения правильно согласовывать слова в предложении в родительном падеже, развитие словаря, закрепление обобщающих понятий "Дикие животные" и "Домашние животные«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этой игре нам понадобятся картинки с изображением диких и домашних животных и их детёнышей. Детёныши потерялись, а мамы их ищут и никак не могут найти. Надо обязательно помочь мамам найти своих малыш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мер: Корова ищет…(телёнка). Вот телёнок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ошадь ищет…(жеребёнка).                 Свинья ищет…(поросёнка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бака ищет…(щенка).                         Кошка ищет…(котёнка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за ищет…(козлёнка).                        Овца ищет…(ягнёнка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сица ищет…(лисёнка).                    Зайчиха ищет…(зайчонка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лчица ищет…(волчонка).                 Ежиха ищет…(ежонка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дведица ищет…(медвежонка).      Белка ищет…(бельчонка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онце игры можно спросить ребёнка, каких животных он поселил бы в лесу, а каких рядом с домом человека. Как называются животные, которые живут в лесу? (Дикие животные.) Как называются животные, живущие рядом с человеком? (Домашние животные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"/>
          <p:cNvPicPr/>
          <p:nvPr/>
        </p:nvPicPr>
        <p:blipFill>
          <a:blip r:embed="rId1"/>
          <a:stretch/>
        </p:blipFill>
        <p:spPr>
          <a:xfrm>
            <a:off x="6477120" y="3809880"/>
            <a:ext cx="2438280" cy="2775240"/>
          </a:xfrm>
          <a:prstGeom prst="rect">
            <a:avLst/>
          </a:prstGeom>
          <a:ln w="0">
            <a:noFill/>
          </a:ln>
        </p:spPr>
      </p:pic>
      <p:sp>
        <p:nvSpPr>
          <p:cNvPr id="314" name="TextBox 2"/>
          <p:cNvSpPr/>
          <p:nvPr/>
        </p:nvSpPr>
        <p:spPr>
          <a:xfrm>
            <a:off x="228600" y="949320"/>
            <a:ext cx="8534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Федорино горе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тие внимания, слуховой памяти, умения согласовывать существительные в родительном падеже множественного числ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итаем отрывок из стихотворения "Федорино горе"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тем просим ребёнка припомнить, какая посуда убежала от Федоры, и чего у неё теперь нет. Можно при этом рассматривать картинки с изображением посуды или использовать настоящу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повторном чтении стихотворения ребёнок подсказывает слово и показывает соответствующую картин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едорино гор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я посуда разбежалась!    У Федоры не осталос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и бидона, ни бутылок,    Ни беззубых, грязных…(вилок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т покинутых сироток -     Чёрных, гнутых…(сковородок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т запачканных грязнуль -     Битых, ломанных…(кастрюль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видали близко люди    И осколков грязных…(блюдец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бежавших от букашек    Много дней немытых…(чашек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крывшихся от тараканов    Мутных, треснувших…(стаканов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Федора ни смотрела,    Не нашла нигде…(тарелок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крылся от Федоры ножик,    Нет больших столовых…(ложек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Box 2"/>
          <p:cNvSpPr/>
          <p:nvPr/>
        </p:nvSpPr>
        <p:spPr>
          <a:xfrm>
            <a:off x="228600" y="914400"/>
            <a:ext cx="853452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День рождения Мишутк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азвитие умения правильно согласовывать существительные в дательном падеж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этой игры нам понадобятся картинки с изображением рыбы, моркови, грибов, зерна, травы, белки, лисы, зайца, ежа, курицы, коровы и медвед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шутка пригласил к себе на день рождения друзей. Гости ещё не пришли, но для них уже готово угощение. Попробуем угадать, кого же Мишутка ждёт в гости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рехи - белке. Мишутка ждёт бел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ыба …  -  Мишутка ждёт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рковь …  -  Мишутка ждёт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ибы …  -  Мишутка ждёт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ерно …  -  Мишутка ждёт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ава …  -  Мишутка ждёт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Box 1"/>
          <p:cNvSpPr/>
          <p:nvPr/>
        </p:nvSpPr>
        <p:spPr>
          <a:xfrm>
            <a:off x="304920" y="1143000"/>
            <a:ext cx="853416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"Назови ласково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закрепление согласования прилагательного с существительным, образование уменьшительных форм прилагательны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ы сегодня будем играть в ласковые слова. Послушай, как красиво звучит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веток красный, а цветочек красненьк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лее мы произносим только часть фразы, а ребёнок ее заканчивае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блоко сладкое, а яблочко … (сладенькое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ашка синяя, а чашечка … (синенькая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уша жёлтая, а грушка … (желтенькая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дро синее, а ведерко … (синенькое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лнце теплое, а солнышко … (тепленькое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ыпленок пушистый, а цыпленочек … (пушистенький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м низкий, а домик … (низенький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рковь вкусная, а морковочка … (вкусненькая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6111720" y="3429000"/>
            <a:ext cx="2808360" cy="3143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1"/>
          <p:cNvSpPr/>
          <p:nvPr/>
        </p:nvSpPr>
        <p:spPr>
          <a:xfrm>
            <a:off x="304920" y="1066680"/>
            <a:ext cx="853416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"Магазин посуды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асширение словаря, развитие умения подбирать обобщающее слово, развитие речевого вним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этой игры лучше использовать настоящую посуд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вай поиграем в магазин. Я буду покупателем, а ты продавцом. Мне нужна посуда для супа - супница. Посуда для салата - салатница; посуда для хлеба - хлебница; посуда для молока - молочник; посуда для масла - маслёнка; посуда для конфет - конфетница; посуда для сухарей - сухарница; посуда для соли - солонка; посуда для сахара - сахарниц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ле проговаривания всей имеющейся посуды, можно поменяться ролями. Наша задача побуждать ребёнка произносить названия посуды самостоятельн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7T15:55:31Z</dcterms:created>
  <dc:creator>Анюта</dc:creator>
  <dc:description/>
  <dc:language>en-US</dc:language>
  <cp:lastModifiedBy>Пользователь Windows</cp:lastModifiedBy>
  <dcterms:modified xsi:type="dcterms:W3CDTF">2021-06-15T10:23:45Z</dcterms:modified>
  <cp:revision>23</cp:revision>
  <dc:subject/>
  <dc:title>Игры для развития речи детей старшего дошкольного возраста</dc:title>
</cp:coreProperties>
</file>