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2C7-2F4C-46DD-B581-810A6177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AB2-B717-49B2-ACB3-C994A8AC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B7C-12FD-4C52-B31A-013F7598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F1E-9E1E-40AA-AB3B-B205B39E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DD42-C480-4F36-9323-EBE60BE9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4991-83D7-485E-8142-B11250C1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DE1F-3C59-436C-8CFB-7212D1EA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F48A-662F-4144-AB86-1DF9ECC2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F625-B780-4A00-B70F-9AB3927A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771E-CE03-41F0-A1FA-364A803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AE54-9E5E-43B3-B587-69E048E5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8BD-2CC5-4E6C-A836-B5B5DEF4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6759-ABC3-437D-8BBF-2C4EDCAD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DD10-9D5A-46DE-BECF-74A62C8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B80-67D5-4DE5-B209-E07BA4E1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159C-4802-4901-867A-F55821ED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D0CA-D39C-42E7-A9BE-1F033B45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61F6-5437-4955-BF3E-E9C45927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30FBE-A14F-4044-9582-6368899C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4856-05ED-4722-91D2-3B4F0B32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2FF5-BF82-4359-A5AA-49EFCEEC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7652-C126-4448-AD0F-DD71427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ABE-E280-45F9-9CC8-041640E7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F62F-F516-4187-AEF8-C843DC84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047A-8076-4275-88BB-2A575CCF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8A91-11CE-4F11-A50F-EA31811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DF5B-CF99-4B11-97A4-58DA6FC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976A-6791-4294-8B78-A736C989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F4D6-F44D-4946-86F8-DF02B6CC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1990-275C-402E-BF86-21B193AF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B3D5-E80F-4C55-9B93-EC827E73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4F99D-6611-4CBE-89FA-27823733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0D4A-0251-40B3-BC1D-43B4B00B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83E-F5EF-443E-8880-F9443864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AD9B-AA04-4FAD-9D4A-AC338E6D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B166-B84E-4EE6-8DC2-BA1E3A27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F62C3-8D45-4D31-871E-3B5D5275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88EA2-F787-47DB-A3AC-AD431351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134B-B4B7-4E93-8A6F-2694F303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BB24-CAFD-4C4D-8BE2-F506EDCC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D33E-1913-48F6-A6C5-325DB7EA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3BD3-4F7C-4D6C-9994-E28BBE39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87F8-DF29-42ED-B992-1BFF1713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309CA-2754-4482-8688-5191AAC6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E97-B484-469D-A931-DE0D674A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D64E-B267-4491-B880-4C061F1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F2138-B037-402A-B7C7-03155276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020A-CD2E-4C92-884D-35841DB3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5035-ECA7-4CDC-9CE1-F243A792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E3BE-E475-4AC6-81AC-47553B7B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2610D-88DF-4D8E-9C88-A671F358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5990-E5FE-48D8-B345-AA8AC60C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24AA-4D25-4E15-B77C-AD0CFC5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02311-EF91-4290-B579-68254159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99C5-027E-44EB-8EC9-F5FE391C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0A5-12DE-4DC8-9825-304ED333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8DAC-9BDB-4906-818C-B4FD2E5D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2E723-181B-4FB2-B992-AF79F519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A7D3C-2505-43FE-82AF-2C7E3C62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5A5D1-EC1D-4A71-8056-5451E188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86716-7C79-4E48-930A-FBFE28BB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9E40E-C4C0-48D2-BD18-2CF6C290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CF0D-A6B7-4239-80DB-2703C75E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F710-4E5E-4739-8445-09115BF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B247C-3B3E-44A3-9CA9-5B78815F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84A7-B1E5-49CF-A5C8-8B86F7DF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82A-21E1-42D6-9ECC-5AD2C9C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14B9-B2ED-49D8-8ED6-487AE33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2C100-DB76-481F-AF96-F1389E30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2D1DC-F10D-4BB2-BD67-2B8901DC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5BD03-8E88-4D71-8702-E913E34B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36357-C8AE-44E5-B801-53414C0E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51423-2F19-4F52-9B82-C85FBD4B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3D42A-85C2-4102-84DC-138EF145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F7B47-297F-4D81-93AD-D14519E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60FDE-4C30-4091-9295-83E8E6E8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D4E48-227F-4490-9046-A9081DA6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D1E-661E-49E5-86C3-C4DC860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26DB8-603A-463C-A0A0-CF1EAFCB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F73CF-C289-4C5E-82F5-F8C7823A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E07BB-C87F-4775-91D6-65A1E075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954F0-8876-47A0-8C65-51FB6BB7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73540-A4E1-443F-AC7A-1F205248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A71-0426-4836-A9F8-78BA5E71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C2B64-7994-4242-98DA-F00C750730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B24D4-0AF7-4437-B7A6-2352CE44D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0B696-7ED5-4808-9908-1F215C8AB8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F2E65-476D-42A8-B603-3C87956E1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94A0A-DA26-44A9-9F54-7FA679C20664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FE46E-389A-4277-B13C-76CF85A0F2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8658D-9A36-4FC8-89B1-69C51010E0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Calibri"/>
              </a:rPr>
              <a:t>Игры для развития </a:t>
            </a:r>
            <a:br>
              <a:rPr sz="5400"/>
            </a:br>
            <a:r>
              <a:rPr b="1" lang="ru-RU" sz="5400" spc="-1" strike="noStrike">
                <a:solidFill>
                  <a:srgbClr val="262626"/>
                </a:solidFill>
                <a:latin typeface="Calibri"/>
              </a:rPr>
              <a:t>речи детей </a:t>
            </a:r>
            <a:br>
              <a:rPr sz="5400"/>
            </a:br>
            <a:r>
              <a:rPr b="1" lang="ru-RU" sz="2900" spc="-1" strike="noStrike">
                <a:solidFill>
                  <a:srgbClr val="262626"/>
                </a:solidFill>
                <a:latin typeface="Calibri"/>
              </a:rPr>
              <a:t>старшего дошкольного возраста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0574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304920" y="1066680"/>
            <a:ext cx="85341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Найди по цвету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репление согласования прилагательного с существительным в роде и чис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й игры нам понадобятся картинки с изображением предметов разного цв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ываем цвет, употребляя прилагательное в определенной форме (род, число), а ребёнок находит предметы данного цвета, которые подходят к этой форме прилагательного. Например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ое - яблоко, кресло, плат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тая - репа, краска, сум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ний - василек, баклажан, карандаш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886280" y="3352680"/>
            <a:ext cx="39528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304920" y="1066680"/>
            <a:ext cx="8534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кажи наоборо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ширение словаря антони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й игры нам понадобится мя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саем мяч ребёнку и произносим слово. Ребенок, возвращая мяч, называет слово, противоположное по значен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йчас мы превратимся с тобой в упрямцев, которые делают всё наоборот. Я бросаю тебя мяч и называю слово, а ты говоришь наоборот. Например: темно, а наоборот – светл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 … ВРАГ                          ДЕНЬ … НОЧ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ДОСТЬ … ГРУСТЬ (ПЕЧАЛЬ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АРА … ХОЛОД                    ЗЛО … ДОБР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ДА … ЛОЖ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ХОРОШО … ПЛОХ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ЯЖЕЛО … ЛЕГКО                ВЫСОКО … НИЗК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… НЕЛЬЗЯ              ТРУДНО … ЛЕГК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 … МЕДЛЕННО        ГОВОРИТЬ … МОЛЧ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УПАТЬ … ПРОДАВАТЬ     ПОДНИМАТЬ … ОПУСК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САТЬ … ПОДНИМАТЬ      ПРЯТАТЬ … ИСК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ЖИГАТЬ … ТУШ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313344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304920" y="1143000"/>
            <a:ext cx="861048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гры на развити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вуковой культуры реч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ту группу входят различные игры и упражнения на развитие фонематического слуха, умение правильно определить место звука в слове, словосочетании, предложении либо подобрать слова с заданным звуком. Также сюда относятся игры и упражнения на определение количества слогов в слове или на развитие умение подобрать слова с заданным количеством слог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380880" y="10666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троим дорожк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фонематического слух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садятся в круг. Кому-то даётся мяч и задание придумать любое слово. Затем мяч передаётся  следующему игроку. Он должен придумать слово, которое начинается с последнего звука предыдущего слова. И так далее, пока не дойдут до первого игрока. В этой игре на первом этапе педагог активно помогает детям правильно произнести слово (вместе с ним), выделяя очень чётко последний звук в слове. На следующем этапе педагог уже просто следит, чтобы дети чётко проговаривали слово и выделяли последний звук. К концу второго года обучения у детей вырабатывается навык чёткого произнесения слова и выделения последнего звука, а педагог выполняет роль наблюдателя-контролёра, который лишь организует процесс игры, а помогает лишь в редких случа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6553080" y="4267080"/>
            <a:ext cx="2352960" cy="2363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304920" y="1066680"/>
            <a:ext cx="85341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Лову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развитие умения услышать в слове определённый зв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детям «открыть ловушки», т.е. поставить руки локтями на парту, параллельно друг другу, расправив свои ладошки, которые и есть «ловушки». Он даёт задание: если в слове услышите заданный звук, то «ловушки» нужно захлопнуть, т.е. хлопнуть в ладоши. Слова подбираются педагогом в зависимости от темы зан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1"/>
          <p:cNvSpPr/>
          <p:nvPr/>
        </p:nvSpPr>
        <p:spPr>
          <a:xfrm>
            <a:off x="380880" y="1219320"/>
            <a:ext cx="84582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оймай слог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слухового внимания и его быстр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«бросает» детям слог, а они должны «превратить» его в сло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: ПА – папа, ма – мама, ку – кукла, ар – арбуз и т.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Раздели правильн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умения делить слова на сло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говорит детям, что сейчас мы разделим слово на слоги. Для этого наши руки превратятся на время в «топорики». Далее нужно произнести слово правильно, при этом хлопая в ладошки и считая, сколько раз хлопнули, столько в слове и слог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304920" y="1143000"/>
            <a:ext cx="8534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гры на развитие связной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по развитию связной речи является как бы синтезом всех предыдущих упражнений. Она неотделима от остальных задач речевого развития, она связана с обогащением словаря, работой над смысловой стороной речи, формированием грамматического строя речи, воспитанием звуковой культуры речи. Обучение рассказыванию может проводиться в разной форме. Я чаще всего использую: составление рассказов – описаний по теме, по картинке, по серии картинок, упражнения типа «Закончи сказку по-своему», «Закончи предложение» и т.д. Некоторые из таких игр и игровых предложений я привожу н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"/>
          <p:cNvSpPr/>
          <p:nvPr/>
        </p:nvSpPr>
        <p:spPr>
          <a:xfrm>
            <a:off x="304920" y="106668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Если бы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связной речи, воображения, высших форм мышления – синтеза, анализа, прогнозирования, экспериментир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детям пофантазировать на такие темы, как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«Если бы я был волшебником, то 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«Если бы я стал невидимым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«Если весна не наступит никогда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имо развивающей направленности, эта игра имеет и диагностическое зна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1"/>
          <p:cNvSpPr/>
          <p:nvPr/>
        </p:nvSpPr>
        <p:spPr>
          <a:xfrm>
            <a:off x="304920" y="106668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Закончи са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азвитие воображения, связной ре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рассказывает детям начало сказки, рассказа, либо начало выдуманной истории, а детям даётся задание продолжить или придумать концов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79132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4920" y="990720"/>
            <a:ext cx="853416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гры для формирова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ексико-грамматических категор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ы и упражнения, направленные на развитие грамматического строя речи, т.е. на усвоение категорий рода, числа, падежа существительных и прилагательных; вида, времени и наклонения глагола . Знакомство со словами – предметами, словами – признаками, словами – действиями и упражнение в их согласовании друг с другом, а также работа над подбором синонимов и антони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1112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04920" y="3835440"/>
            <a:ext cx="1828800" cy="27115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3"/>
          <p:cNvSpPr/>
          <p:nvPr/>
        </p:nvSpPr>
        <p:spPr>
          <a:xfrm>
            <a:off x="304920" y="1143000"/>
            <a:ext cx="86104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одбери словеч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ширение словарного запаса, развитие умения согласовывать прилагательное с существите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у игру можно играть с мячом, перекидывая, его друг друг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 что можно сказать "свежий"… (воздух, огурец, хлеб, ветер); "старый"… (дом, пень, человек, ботинок); "свежая"… (булочка, новость, газета, скатерть); "старая"…(мебель, сказка, книга, бабушка); "свежее"… (молоко, мясо, варенье); "старое"…(кресло, сиденье, окно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2133720" cy="28954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2"/>
          <p:cNvSpPr/>
          <p:nvPr/>
        </p:nvSpPr>
        <p:spPr>
          <a:xfrm>
            <a:off x="304920" y="1143000"/>
            <a:ext cx="853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Скажи наоборот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ширение словаря антони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этой игры есть два варианта. Первый вариант легче, так как ребёнок в своих ответах опирается не только на речь взрослого, но и на картинный материал. Второй сложнее, так как опора происходит только на речь взросл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 опорой на картинк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душка старый, а внук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ево высокое, а куст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е глубокое, а ручеёк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рога широкая, а тропинка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о легкое, а гиря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нужна летняя одежда, а зимой …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Без опоры на картинк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рожное сладкое, а лекарство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чью темно, а днем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волка хвост длинный, а у зайца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леб мягкий, а сухарь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й горячий, а лед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жарко, а зимой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2"/>
          <p:cNvSpPr/>
          <p:nvPr/>
        </p:nvSpPr>
        <p:spPr>
          <a:xfrm>
            <a:off x="304920" y="1066680"/>
            <a:ext cx="86104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ама потерялас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формирование умения правильно согласовывать слова в предложении в родительном падеже, развитие словаря, закрепление обобщающих понятий "Дикие животные" и "Домашние животные«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этой игре нам понадобятся картинки с изображением диких и домашних животных и их детёнышей. Детёныши потерялись, а мамы их ищут и никак не могут найти. Надо обязательно помочь мамам найти своих малыш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: Корова ищет…(телёнка). Вот телён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шадь ищет…(жеребёнка).                 Свинья ищет…(поросё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ака ищет…(щенка).                         Кошка ищет…(котё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за ищет…(козлёнка).                        Овца ищет…(ягнё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сица ищет…(лисёнка).                    Зайчиха ищет…(зайчо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чица ищет…(волчонка).                 Ежиха ищет…(ежо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ведица ищет…(медвежонка).      Белка ищет…(бельчон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игры можно спросить ребёнка, каких животных он поселил бы в лесу, а каких рядом с домом человека. Как называются животные, которые живут в лесу? (Дикие животные.) Как называются животные, живущие рядом с человеком? (Домашние животные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2438280" cy="27752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2"/>
          <p:cNvSpPr/>
          <p:nvPr/>
        </p:nvSpPr>
        <p:spPr>
          <a:xfrm>
            <a:off x="228600" y="949320"/>
            <a:ext cx="8534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Федорино горе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внимания, слуховой памяти, умения согласовывать существительные в родительном падеже множественного чис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таем отрывок из стихотворения "Федорино гор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просим ребёнка припомнить, какая посуда убежала от Федоры, и чего у неё теперь нет. Можно при этом рассматривать картинки с изображением посуды или использовать настоящу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овторном чтении стихотворения ребёнок подсказывает слово и показывает соответствующую карти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орино гор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я посуда разбежалась!    У Федоры не оста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бидона, ни бутылок,    Ни беззубых, грязных…(вило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 покинутых сироток -     Чёрных, гнутых…(сковородо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 запачканных грязнуль -     Битых, ломанных…(кастрюл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видали близко люди    И осколков грязных…(блюдец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ежавших от букашек    Много дней немытых…(чашек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рывшихся от тараканов    Мутных, треснувших…(стакан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Федора ни смотрела,    Не нашла нигде…(тарело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рылся от Федоры ножик,    Нет больших столовых…(ложе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228600" y="914400"/>
            <a:ext cx="85345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День рождения Мишут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витие умения правильно согласовывать существительные в дательном паде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й игры нам понадобятся картинки с изображением рыбы, моркови, грибов, зерна, травы, белки, лисы, зайца, ежа, курицы, коровы и медвед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шутка пригласил к себе на день рождения друзей. Гости ещё не пришли, но для них уже готово угощение. Попробуем угадать, кого же Мишутка ждёт в г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ехи - белке. Мишутка ждёт бел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а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ковь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бы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рно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ва …  -  Мишутка ждё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304920" y="1143000"/>
            <a:ext cx="8534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Назови ласково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крепление согласования прилагательного с существительным, образование уменьшительных форм прилагатель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сегодня будем играть в ласковые слова. Послушай, как красиво звучит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ок красный, а цветочек красненьк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ее мы произносим только часть фразы, а ребёнок ее заканчива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блоко сладкое, а яблочко … (сладенько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шка синяя, а чашечка … (синенькая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ша жёлтая, а грушка … (желтенькая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ро синее, а ведерко … (синенько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нце теплое, а солнышко … (тепленько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ыпленок пушистый, а цыпленочек … (пушистенький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низкий, а домик … (низенький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ковь вкусная, а морковочка … (вкусненька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6111720" y="3429000"/>
            <a:ext cx="280836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304920" y="1066680"/>
            <a:ext cx="85341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Магазин посу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ширение словаря, развитие умения подбирать обобщающее слово, развитие речевого вни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й игры лучше использовать настоящую посу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 поиграем в магазин. Я буду покупателем, а ты продавцом. Мне нужна посуда для супа - супница. Посуда для салата - салатница; посуда для хлеба - хлебница; посуда для молока - молочник; посуда для масла - маслёнка; посуда для конфет - конфетница; посуда для сухарей - сухарница; посуда для соли - солонка; посуда для сахара - сахарни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проговаривания всей имеющейся посуды, можно поменяться ролями. Наша задача побуждать ребёнка произносить названия посуды самостоятель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5:55:31Z</dcterms:created>
  <dc:creator>Анюта</dc:creator>
  <dc:description/>
  <dc:language>en-US</dc:language>
  <cp:lastModifiedBy>Пользователь Windows</cp:lastModifiedBy>
  <dcterms:modified xsi:type="dcterms:W3CDTF">2021-06-15T10:23:45Z</dcterms:modified>
  <cp:revision>23</cp:revision>
  <dc:subject/>
  <dc:title>Игры для развития речи детей старшего дошкольного возраста</dc:title>
</cp:coreProperties>
</file>