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2.jpeg" ContentType="image/jpeg"/>
  <Override PartName="/ppt/media/image1.png" ContentType="image/png"/>
  <Override PartName="/ppt/media/image7.jpeg" ContentType="image/jpeg"/>
  <Override PartName="/ppt/media/image4.png" ContentType="image/png"/>
  <Override PartName="/ppt/media/image29.jpeg" ContentType="image/jpeg"/>
  <Override PartName="/ppt/media/image12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8.jpeg" ContentType="image/jpeg"/>
  <Override PartName="/ppt/media/image50.jpeg" ContentType="image/jpeg"/>
  <Override PartName="/ppt/media/image10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3.png" ContentType="image/png"/>
  <Override PartName="/ppt/media/image15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7.png" ContentType="image/png"/>
  <Override PartName="/ppt/media/image36.jpeg" ContentType="image/jpeg"/>
  <Override PartName="/ppt/media/image40.png" ContentType="image/png"/>
  <Override PartName="/ppt/media/image41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49.jpeg" ContentType="image/jpeg"/>
  <Override PartName="/ppt/media/image51.png" ContentType="image/png"/>
  <Override PartName="/ppt/media/image56.jpeg" ContentType="image/jpeg"/>
  <Override PartName="/ppt/media/image53.png" ContentType="image/png"/>
  <Override PartName="/ppt/media/image58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3569-3A58-457A-AD6E-0EE3DFE5E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2307-D371-4E52-86A4-39B3501AAA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6038-DE4D-4AE7-B076-0DC127FA6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E7E-B8FB-4B8A-A534-54CF2C7D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1DE-B4A7-4C7F-A42C-4A5795D9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0BC-CACF-4CE8-A07C-1F45503E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F29-AF84-4665-9816-47BA490D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C16-77F5-4A04-9678-0B08919D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97F7-B3A2-4D05-BE3E-7FB1C0BB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F51-496F-4371-A9B2-C9BE4E48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777-F71B-4D89-976C-DD776AAD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6FF-F53A-4871-999B-44145A0B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60D-C739-4FC2-A7AF-1C434A7B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497-7EF5-4D2C-9657-B3CDD59D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2E1-D84B-4DBD-AAB1-76B18114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0A6B-BB59-4954-89D8-9A047B65AE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image" Target="../media/image58.jpeg"/><Relationship Id="rId11" Type="http://schemas.openxmlformats.org/officeDocument/2006/relationships/image" Target="../media/image59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6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hyperlink" Target="http://torrents.bir.ru/torrents/images/59390.jpg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hyperlink" Target="http://i082.radikal.ru/1105/de/38d21d638988.jpg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hyperlink" Target="http://torrents.bir.ru/torrents/images/59390.jpg" TargetMode="External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jpeg"/><Relationship Id="rId17" Type="http://schemas.openxmlformats.org/officeDocument/2006/relationships/image" Target="../media/image21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hyperlink" Target="http://img0.liveinternet.ru/images/attach/c/3/74/946/74946258_1734256_62bc24c33060.png" TargetMode="External"/><Relationship Id="rId8" Type="http://schemas.openxmlformats.org/officeDocument/2006/relationships/image" Target="../media/image47.pn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image" Target="../media/image51.png"/><Relationship Id="rId13" Type="http://schemas.openxmlformats.org/officeDocument/2006/relationships/image" Target="../media/image52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53.png"/><Relationship Id="rId8" Type="http://schemas.openxmlformats.org/officeDocument/2006/relationships/image" Target="../media/image5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1"/>
          <p:cNvSpPr/>
          <p:nvPr/>
        </p:nvSpPr>
        <p:spPr>
          <a:xfrm>
            <a:off x="1447920" y="152280"/>
            <a:ext cx="5029200" cy="266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447920" y="1377360"/>
            <a:ext cx="5029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к) –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ало лета Первый месяц лета. Перволетье.  Кресень. Крестник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цвет. Румянец года.    Хлеборост. В  названии увековечена лучшая пора жизни – юность. Июнь считается месяцем Юноны – богини верной любви, брака, семейного счастья. В древней Руси его называли «червень», что значит «красный месяц, румянец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д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1447920" y="3048120"/>
            <a:ext cx="5105160" cy="335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оздуха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+11° C до +21° C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й ден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 ч. 24 мин;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лнце, грозы, лив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недел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едняя температура близка к +15 ° C, зацветание рябины, цветет боярышник, брусника, тысячелистник, ромашка, тмин, фиалка, появление масляников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недел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цветание шиповника, воздух в среднем по суткам раскаляется выше +15 ° C, цветение и рассеивание семян тополей, пчелы собирают мед, цветет малина, герань, калина, полевой вьюнок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недел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олжает цвести сирень, восходит картофель, цветет пшеница, цветет овсяница, иван-чай, жасмин, чертополо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неделя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ет зверобой, коровник, цикорий, луговой василек и др., спеет земляника, черника,  появление грибов-обаб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85" descr="Превью И (700x606, 259Kb)"/>
          <p:cNvPicPr/>
          <p:nvPr/>
        </p:nvPicPr>
        <p:blipFill>
          <a:blip r:embed="rId7"/>
          <a:stretch/>
        </p:blipFill>
        <p:spPr>
          <a:xfrm>
            <a:off x="1523880" y="152280"/>
            <a:ext cx="1371600" cy="1233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07" descr="Превью Ю (700x525, 241Kb)"/>
          <p:cNvPicPr/>
          <p:nvPr/>
        </p:nvPicPr>
        <p:blipFill>
          <a:blip r:embed="rId8"/>
          <a:stretch/>
        </p:blipFill>
        <p:spPr>
          <a:xfrm>
            <a:off x="2819520" y="15228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90" descr="Превью Н (700x630, 180Kb)"/>
          <p:cNvPicPr/>
          <p:nvPr/>
        </p:nvPicPr>
        <p:blipFill>
          <a:blip r:embed="rId9"/>
          <a:stretch/>
        </p:blipFill>
        <p:spPr>
          <a:xfrm>
            <a:off x="4114800" y="152280"/>
            <a:ext cx="120348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05" descr="Превью Ь (571x700, 195Kb)"/>
          <p:cNvPicPr/>
          <p:nvPr/>
        </p:nvPicPr>
        <p:blipFill>
          <a:blip r:embed="rId10"/>
          <a:stretch/>
        </p:blipFill>
        <p:spPr>
          <a:xfrm>
            <a:off x="5105520" y="152280"/>
            <a:ext cx="1164960" cy="13464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28" descr="Детские фоны"/>
          <p:cNvPicPr/>
          <p:nvPr/>
        </p:nvPicPr>
        <p:blipFill>
          <a:blip r:embed="rId11"/>
          <a:stretch/>
        </p:blipFill>
        <p:spPr>
          <a:xfrm>
            <a:off x="1523880" y="6553080"/>
            <a:ext cx="4953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11"/>
          <p:cNvSpPr/>
          <p:nvPr/>
        </p:nvSpPr>
        <p:spPr>
          <a:xfrm>
            <a:off x="1371600" y="152280"/>
            <a:ext cx="5181480" cy="876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web-kapiche.ru/uploads/posts/2012-08/1344590312_59564551_boginya_lada.jpg"/>
          <p:cNvPicPr/>
          <p:nvPr/>
        </p:nvPicPr>
        <p:blipFill>
          <a:blip r:embed="rId7"/>
          <a:stretch/>
        </p:blipFill>
        <p:spPr>
          <a:xfrm>
            <a:off x="4524480" y="6607080"/>
            <a:ext cx="1933560" cy="221004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10"/>
          <p:cNvSpPr/>
          <p:nvPr/>
        </p:nvSpPr>
        <p:spPr>
          <a:xfrm>
            <a:off x="1523880" y="380880"/>
            <a:ext cx="5029200" cy="74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Святой Тро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идесятниц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ик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ны березы   23 ию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еленые святки», березе именины! «Березынька скрипела, всех девушек кликала», наказывая в рощи, в луга идти, обещая сама согнуться, в веночки завиться.  Березку наряжали  лентами, цветным лоскутьем, венками, обносили нивы и покосы. Присоединялись к шествию мужчины, замужние женщины, парни и детво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авали честь Ладе - светлокудрой богине весны, любви, сердечного согласия, - чье земное воплощение и есть береза.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венный мой венок, лиственный дорогой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, я старость не хочу,  старость в ногах затопч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венный мой венок,  лиственный дорогой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, пойдем, лада, в темный лес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венный мой венок, лиственный дорогой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м почиталось в деревнях к Троиц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ать избы молодой березовой листвой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мы преображались  наделялись зеле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анством, цвет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льку «зеленые святки» объединяла седьмая неделя после Пасхи, с зенитом празднества в четверг, они именовались Семиком. Ряженые колобродили, шли смотрины невест в хороводах , по реке пуская венки, гадали о замужестве или опять «кумились с кукушкой» и подружка с подруж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к честной, Семик ладу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ал за винцом, на нем семь одеж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шелковые, полушелковы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ку да Семичихе - яичко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к баню продае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чиха не дает,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1" descr="bolel_4"/>
          <p:cNvPicPr/>
          <p:nvPr/>
        </p:nvPicPr>
        <p:blipFill>
          <a:blip r:embed="rId8"/>
          <a:stretch/>
        </p:blipFill>
        <p:spPr>
          <a:xfrm>
            <a:off x="1600200" y="7238880"/>
            <a:ext cx="2209680" cy="1590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8" descr="http://www.listname.ru/horoscope/img/Betula_Birch.jpg"/>
          <p:cNvPicPr/>
          <p:nvPr/>
        </p:nvPicPr>
        <p:blipFill>
          <a:blip r:embed="rId9"/>
          <a:stretch/>
        </p:blipFill>
        <p:spPr>
          <a:xfrm>
            <a:off x="5257800" y="2286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8" descr="http://www.listname.ru/horoscope/img/Betula_Birch.jpg"/>
          <p:cNvPicPr/>
          <p:nvPr/>
        </p:nvPicPr>
        <p:blipFill>
          <a:blip r:embed="rId10"/>
          <a:stretch/>
        </p:blipFill>
        <p:spPr>
          <a:xfrm>
            <a:off x="5334120" y="289548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8" descr="http://www.listname.ru/horoscope/img/Betula_Birch.jpg"/>
          <p:cNvPicPr/>
          <p:nvPr/>
        </p:nvPicPr>
        <p:blipFill>
          <a:blip r:embed="rId11"/>
          <a:stretch/>
        </p:blipFill>
        <p:spPr>
          <a:xfrm>
            <a:off x="1523880" y="228600"/>
            <a:ext cx="9907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11"/>
          <p:cNvSpPr/>
          <p:nvPr/>
        </p:nvSpPr>
        <p:spPr>
          <a:xfrm>
            <a:off x="1447920" y="228600"/>
            <a:ext cx="5029200" cy="388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 праздник Святой Троицы, Пятидесятницы. Учение о Святой Троице искони находило глубоких истолкователей. Преподобный Сергий Радонежский основал почитаемый на Руси Свято-Троицкий монастырь под Москвой в 1339-1342 годах.    Великий иконописец Андрей Рублев посвятил преподобному Сергию Радонежскому икону «Живоначальная Троица» в память и похвалу учителю от уче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Живоначальной Троице» преподобного Андрея Рублева - призыв к единению народа ради мира, покоя и благоденствия Оте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%C8%EA%EE%ED%E0_%C6%E8%E2%EE%ED%E0%F7%E0%EB%FC%ED%E0%FF_%D2%F0%EE%E8%F6%E0_%D2%E2%E5%F0%FC"/>
          <p:cNvPicPr/>
          <p:nvPr/>
        </p:nvPicPr>
        <p:blipFill>
          <a:blip r:embed="rId7"/>
          <a:stretch/>
        </p:blipFill>
        <p:spPr>
          <a:xfrm>
            <a:off x="1523880" y="4343400"/>
            <a:ext cx="480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2"/>
          <p:cNvSpPr/>
          <p:nvPr/>
        </p:nvSpPr>
        <p:spPr>
          <a:xfrm>
            <a:off x="1371600" y="228600"/>
            <a:ext cx="5257800" cy="861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88" descr="http://s41.radikal.ru/i094/1010/06/35fca58304f9.jpg"/>
          <p:cNvPicPr/>
          <p:nvPr/>
        </p:nvPicPr>
        <p:blipFill>
          <a:blip r:embed="rId7"/>
          <a:stretch/>
        </p:blipFill>
        <p:spPr>
          <a:xfrm>
            <a:off x="1371600" y="228600"/>
            <a:ext cx="5257800" cy="19051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1371600" y="1053720"/>
            <a:ext cx="5181480" cy="68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родные приметы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чала лет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точка утро начинает, а соловей вечер кончает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рвые два дня июня льёт дождь - весь месяц сух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туман лета - верная грибная примет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о время восхода солнца стоит духота - к ненастью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н утром стелется по воде - будет солнечная погод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тра - поворота 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июн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олнце на зиму, а лето на жар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адуга утром - к дождю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дуге больше красного цвета - к ветру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е росы - к плодород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астые туманы - к урожаю грибов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тром пчелы не летят в пол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идят по ульям и гудят - жди дождя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засухой пчелы становятся злее, жалят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ы над водой ловят мошек - к дождю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еньше капли дождя, тем дольше он будет идт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лухой гром - на тихий дождь, гром звонкий - на ливень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и закате солнца облака сгуща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ановятся темно-свинцового цвета - жди ночью грозу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неют солнца лучи - жди сильной грозы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ие ягод предвещает холодную зиму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уга на западе - к дождю, на востоке - к хорошей погод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огатый скот по дороге на водопой брыкается и фыркает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и ненастья; к плохой погоде - блеяние овец. 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не есть нечего, так жить весело: цветы цветут, соловьи поют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http://static.freepik.com/darmowe-zdjecie/bee-2_44291.jpg"/>
          <p:cNvPicPr/>
          <p:nvPr/>
        </p:nvPicPr>
        <p:blipFill>
          <a:blip r:embed="rId8"/>
          <a:stretch/>
        </p:blipFill>
        <p:spPr>
          <a:xfrm>
            <a:off x="5791320" y="2133720"/>
            <a:ext cx="838080" cy="666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8" descr="http://s41.radikal.ru/i094/1010/06/35fca58304f9.jpg"/>
          <p:cNvPicPr/>
          <p:nvPr/>
        </p:nvPicPr>
        <p:blipFill>
          <a:blip r:embed="rId9"/>
          <a:stretch/>
        </p:blipFill>
        <p:spPr>
          <a:xfrm>
            <a:off x="1371600" y="7543800"/>
            <a:ext cx="525780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1345827709_1aavrscrtchrts500"/>
          <p:cNvPicPr/>
          <p:nvPr/>
        </p:nvPicPr>
        <p:blipFill>
          <a:blip r:embed="rId10"/>
          <a:stretch/>
        </p:blipFill>
        <p:spPr>
          <a:xfrm>
            <a:off x="5334120" y="4114800"/>
            <a:ext cx="9903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http://torrents.bir.ru/torrents/images/59390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48120" y="83808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1"/>
          <p:cNvSpPr/>
          <p:nvPr/>
        </p:nvSpPr>
        <p:spPr>
          <a:xfrm>
            <a:off x="1371600" y="228600"/>
            <a:ext cx="5257800" cy="335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1371600" y="245520"/>
            <a:ext cx="520848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исание природы в июне.</a:t>
            </a:r>
            <a:br>
              <a:rPr sz="1400"/>
            </a:br>
            <a:r>
              <a:rPr b="1" lang="ru-RU" sz="1400" spc="-1" strike="noStrike">
                <a:solidFill>
                  <a:srgbClr val="39444d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39444d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дилась к началу лета природа и теперь наступает ее активный рост. Месяц июнь славен ростом всего растительного мира,  цветет  шиповник ,  колосится рожь, сады наполняются бурно цветущей зеленью, зеленеют луга травой ,лес прячет в тернистых уголках грибы роятся насекомые, жуки, бабочки... Продолжают сажать огурцы, бобы, совершают посевы, полют картофель, свеклу, морковь, выращивают хлеб. Солнце поднимается высоко над небосклоном и начинает печь еще сильнее, день становится длинным, так как солнечный достигает своего пика, а вечер долгим и теплым. Белые ночи – пик белых ночей -22 июня .  По утрам   траву покрывает холодная роса. Которую  можно пить -  очень чистая, собранная из осевших паров воздуха и  не содержит отложения солей. Появляется рад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2"/>
          <p:cNvSpPr/>
          <p:nvPr/>
        </p:nvSpPr>
        <p:spPr>
          <a:xfrm>
            <a:off x="1371600" y="4191120"/>
            <a:ext cx="5257800" cy="472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1447920" y="4442040"/>
            <a:ext cx="502920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ловицы и поговорк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- конец пролетья, начало л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не заря с зарею сходить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не каждый кустик ночевать пусти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не начинают линять «охотничьи» птиц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не первую ягоду в рот клад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торую - домой несу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йный июнь - на боровики плю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- время длинных трав и сеноко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- конец пролетья, начало л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месяц белых ночей, цветущих трав, поющих пти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ские дожди лучше золотой г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ское ведро колосит хле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солнцем и радугой земледельца раду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– хлебо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, месяц в работе - отбивает от песен охоту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ское тепло милее шубы мех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ел июнь – разноцвет — от работы отбоя 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не солнце высоко и с утра до вечера далек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не батюшка овес до половины только у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://i082.radikal.ru/1105/de/38d21d638988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86400" y="7543800"/>
            <a:ext cx="1066680" cy="12621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6" descr="http://i028.radikal.ru/1107/47/0d48aad36aeb.png"/>
          <p:cNvPicPr/>
          <p:nvPr/>
        </p:nvPicPr>
        <p:blipFill>
          <a:blip r:embed="rId9"/>
          <a:stretch/>
        </p:blipFill>
        <p:spPr>
          <a:xfrm>
            <a:off x="2438280" y="3657600"/>
            <a:ext cx="685800" cy="5335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5" descr="http://i028.radikal.ru/1107/47/0d48aad36aeb.png"/>
          <p:cNvPicPr/>
          <p:nvPr/>
        </p:nvPicPr>
        <p:blipFill>
          <a:blip r:embed="rId10"/>
          <a:stretch/>
        </p:blipFill>
        <p:spPr>
          <a:xfrm>
            <a:off x="5181480" y="3657600"/>
            <a:ext cx="76212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ttp://torrents.bir.ru/torrents/images/59390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867280" y="4267080"/>
            <a:ext cx="685800" cy="838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ttp://rylik.ru/uploads/posts/2012-09/1348473107_1aafncrtinscs500.jpg"/>
          <p:cNvPicPr/>
          <p:nvPr/>
        </p:nvPicPr>
        <p:blipFill>
          <a:blip r:embed="rId13"/>
          <a:srcRect l="-9916" t="0" r="0" b="0"/>
          <a:stretch/>
        </p:blipFill>
        <p:spPr>
          <a:xfrm>
            <a:off x="5943600" y="228600"/>
            <a:ext cx="685800" cy="554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ttp://rylik.ru/uploads/posts/2012-09/1348473107_1aafncrtinscs500.jpg"/>
          <p:cNvPicPr/>
          <p:nvPr/>
        </p:nvPicPr>
        <p:blipFill>
          <a:blip r:embed="rId14"/>
          <a:srcRect l="-9880" t="0" r="0" b="0"/>
          <a:stretch/>
        </p:blipFill>
        <p:spPr>
          <a:xfrm>
            <a:off x="6095880" y="3124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http://rylik.ru/uploads/posts/2012-09/1348473107_1aafncrtinscs500.jpg"/>
          <p:cNvPicPr/>
          <p:nvPr/>
        </p:nvPicPr>
        <p:blipFill>
          <a:blip r:embed="rId15"/>
          <a:stretch/>
        </p:blipFill>
        <p:spPr>
          <a:xfrm>
            <a:off x="5181480" y="5715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rylik.ru/uploads/posts/2012-09/1348473107_1aafncrtinscs500.jpg"/>
          <p:cNvPicPr/>
          <p:nvPr/>
        </p:nvPicPr>
        <p:blipFill>
          <a:blip r:embed="rId16"/>
          <a:stretch/>
        </p:blipFill>
        <p:spPr>
          <a:xfrm>
            <a:off x="5943600" y="182880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rylik.ru/uploads/posts/2012-09/1348473107_1aafncrtinscs500.jpg"/>
          <p:cNvPicPr/>
          <p:nvPr/>
        </p:nvPicPr>
        <p:blipFill>
          <a:blip r:embed="rId17"/>
          <a:stretch/>
        </p:blipFill>
        <p:spPr>
          <a:xfrm>
            <a:off x="1523880" y="4191120"/>
            <a:ext cx="6098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9"/>
          <p:cNvSpPr/>
          <p:nvPr/>
        </p:nvSpPr>
        <p:spPr>
          <a:xfrm>
            <a:off x="1371600" y="304920"/>
            <a:ext cx="5257800" cy="868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метные народные приметы ию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1600200" y="5335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метные народные приметы ию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219320"/>
          <a:ext cx="4953240" cy="7407000"/>
        </p:xfrm>
        <a:graphic>
          <a:graphicData uri="http://schemas.openxmlformats.org/drawingml/2006/table">
            <a:tbl>
              <a:tblPr/>
              <a:tblGrid>
                <a:gridCol w="592200"/>
                <a:gridCol w="1257480"/>
                <a:gridCol w="3103560"/>
              </a:tblGrid>
              <a:tr h="68616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лалей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вей, огуречник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ородное прясло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грядочник, теплово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Самое время для посадки огурц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К урожаю огурцов – множество шишек на елях.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нче не с одного неба, из-под земли тепло идет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 можжевеловый, жердь осиновая, прясла еловые - до веку изгороди сносу нет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3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Олена и Констатин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Олёна-ранние росы, Леносей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Ранние росы и льны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ене - льны, огурцы –Константин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 наг, рубашка в пазушке - лен составлял источник твердых доходов. Песенка же - лыко мимо строки. По старопрежним заветам, сев льна - дело мужское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кого лен, тот силен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4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васильковый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асилиск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ку именины, праздник ловцов певчих птиц</a:t>
                      </a: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день пти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асилиска не паши, не с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а бы  рожь - васильки будут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7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опон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вяные рос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если рябина цветет пышно и дружно- хороший урож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Сильные росы - хороший урожай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 Ферапонтовской росы и трава ржавеет, вредна она скоту, если дюже студеная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й, Боже, час добрый, чтоб капуста принималась и в головки складывалась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ился слепень - полно сеять ячмень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8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Кар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Хорошо ловится тезка этого святого — рыба карп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9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ора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ница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На федору нельзя выносить мусор из дому и мыть пол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10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Святой Евтихий тихий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Никита-гусятник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хий день — ждут урожая.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ей перебьем - все дыры заткнем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и у гуся, не зябнут ли ноги?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  гусь не щипал, тот и горя не вида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Если день тихий – к хорошему урожаю</a:t>
                      </a:r>
                      <a:r>
                        <a:rPr b="1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12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аакий      змеев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Росс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Хлеб начинает колоситс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13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есение Господне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мей.  распрягаль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С посевом покончено.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еву край, коня распряг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усти сетево, покинь севалк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ь говорит: колошусь! А мужик: не нагляжусь!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ые жернова все мелют 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14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нисий Глушицкий, Устин и Харито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Троицкая родительская субб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е утро на Устина - красный налив ржи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ждливый и пасмурный Устинов день — к урожаю яр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итон вытягивает ле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ин тянет вверх коноплю..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17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трофан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й сарафан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В канун Митрофана не ложись спать рано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Хоть по стенке ходи, а спать погод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18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Дороф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Если день хороший, то зерно вырастит большо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Если погода тёплая и ясная – зерно будет крупно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19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Ларио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шел Ларион - дурную траву с поля во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ть - руки колоть, а не полоть - хлеба не молоть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ыкай, девки, бабы, хоботьё (подолы) - начинай в яровом полотьё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чное тельце дряблое, ржаное - сбойчатое (крепкое) 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0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от. налив. обрядовые гулянья, Сем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от тепло дает — в рожь золото ведет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от на дождь поведет - к тощему наливу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Рисунок 263" descr="http://im4-tub-ru.yandex.net/i?id=489795115-65-72"/>
          <p:cNvPicPr/>
          <p:nvPr/>
        </p:nvPicPr>
        <p:blipFill>
          <a:blip r:embed="rId7"/>
          <a:stretch/>
        </p:blipFill>
        <p:spPr>
          <a:xfrm>
            <a:off x="5334120" y="380880"/>
            <a:ext cx="1203120" cy="838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ttp://www.grafamania.net/uploads/posts/2012-03/1331771528_max_summer1.jpg"/>
          <p:cNvPicPr/>
          <p:nvPr/>
        </p:nvPicPr>
        <p:blipFill>
          <a:blip r:embed="rId8"/>
          <a:stretch/>
        </p:blipFill>
        <p:spPr>
          <a:xfrm>
            <a:off x="5791320" y="2819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ttp://www.grafamania.net/uploads/posts/2012-03/1331771528_max_summer1.jpg"/>
          <p:cNvPicPr/>
          <p:nvPr/>
        </p:nvPicPr>
        <p:blipFill>
          <a:blip r:embed="rId9"/>
          <a:stretch/>
        </p:blipFill>
        <p:spPr>
          <a:xfrm>
            <a:off x="5791320" y="48769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http://www.grafamania.net/uploads/posts/2012-03/1331771528_max_summer1.jpg"/>
          <p:cNvPicPr/>
          <p:nvPr/>
        </p:nvPicPr>
        <p:blipFill>
          <a:blip r:embed="rId10"/>
          <a:stretch/>
        </p:blipFill>
        <p:spPr>
          <a:xfrm>
            <a:off x="2362320" y="38098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http://www.grafamania.net/uploads/posts/2012-03/1331771528_max_summer1.jpg"/>
          <p:cNvPicPr/>
          <p:nvPr/>
        </p:nvPicPr>
        <p:blipFill>
          <a:blip r:embed="rId11"/>
          <a:stretch/>
        </p:blipFill>
        <p:spPr>
          <a:xfrm rot="9639600">
            <a:off x="2402640" y="7736040"/>
            <a:ext cx="762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9"/>
          <p:cNvSpPr/>
          <p:nvPr/>
        </p:nvSpPr>
        <p:spPr>
          <a:xfrm>
            <a:off x="1295280" y="152280"/>
            <a:ext cx="5334120" cy="883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3880" y="228600"/>
          <a:ext cx="5029200" cy="8612280"/>
        </p:xfrm>
        <a:graphic>
          <a:graphicData uri="http://schemas.openxmlformats.org/drawingml/2006/table">
            <a:tbl>
              <a:tblPr/>
              <a:tblGrid>
                <a:gridCol w="522360"/>
                <a:gridCol w="1278000"/>
                <a:gridCol w="3228840"/>
              </a:tblGrid>
              <a:tr h="2117880"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1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Федор  Стратила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Федор лет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День гроз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озница и колодез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Стратилат - грозами богат  </a:t>
                      </a: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 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Можно начинать рыть колодцы. Накануне на то место, где наутро собирались копать, опытные колодезники ставили «наговоренную» особым образом сковороду и оставляли ее до утра. Если утром сковорода запотевала - значит, место хорошее, вода будет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Если росы на сковороде мало - мало будет и воды в колодце, и тем более не будет воды, если сковорода сухая.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ошли хлеба - не дивись, налились хлеба - не хвались, хлеб на току - про урожай толкуй 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хвались травой, хвались сеном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щай земле долг - будет толк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ле свезешь, так и с поля привезешь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ди навоз густо, в амбаре не будет пусто.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ловах, как по маслу, а на деле, как в Вологде  - свое знают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2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Кирилл и Мар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адница. </a:t>
                      </a: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конец весне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Летнее Солнцестос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Древнеславянский праздник – Иван Купал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Самый длинный день, самая короткая ночь. В реке спад воды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  На Кирилла земля даёт  силу.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цвету трава - косить пора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ириллу отдает земля солнышку всю свою сил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 Кириллина дня что солнышко даст, то у мужика в амбаре» 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Древнеславянский праздник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 Купала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в дни летнего солнцестояния - почитание огня.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изнали  верховенство Солнца над Земл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3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Святой Троицы.  Пятидесятница         Духов день Именины березы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святки- березе именины!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зынька скрипела, всех девушек кликал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де - светлокудрой богине весны, любви, сердечного согласия, - чье земное воплощение и есть береза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В эту неделю собирали лечебные травы, а в конце недели устраивался праздник - берёзка. Надеваемые при этом на голову венки считались символом бессмертия.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5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Петров день</a:t>
                      </a: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 поворот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лнцев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рот, запоздалый капустник.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  рыболов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Солнце на зиму-день на жар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6400"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6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лина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шница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ские каш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ил Бог лето мухами.    Муха во щи – подарок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Акулины и до половины июля скот от жары и овода бесится, строчит»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й гречиху, когда рожь хоро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дарыня-гречиха ходит боярыней, а как хватит морозу, веди на калечий дво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овна гречиха, не ровна и земля: в иную и воз бросишь, да после зерна не соберешь.»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е наше гречневая каша - есть не можется, оставить жаль.! Сладка гречневая каша, что твой липец-мед.»!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Акулину варивали «мирскую кашу» - потчевать нищих.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тюрьмы да от сумы никто не отрекайс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церкви не строй, а сиротство прикрой да нищету устрой.. Нищета прочнее богат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7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исей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косе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арки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ль гречиху до посева да сохни до покос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й рожь, а греча не печ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ют и дьячихи, что кутья из гречих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8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о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ос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тный заступ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ет пророк Амос -пойдет в рост овес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9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Тихо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Дня меньше, да птицы стихают,</a:t>
                      </a: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солнце идет тише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Певчие птицы затихают, перестают петь (кроме кукушки и соловья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Зверье ходит тихо - в норы хоронится,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дни собирают тра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Тихона солнце идет тише, певчие птицы затихают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30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Мануи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Солнце на небосклоне словно зависает</a:t>
                      </a: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 солнце застаивается, медлит в зенит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9" descr="1345827709_1aavrscrtchrts500"/>
          <p:cNvPicPr/>
          <p:nvPr/>
        </p:nvPicPr>
        <p:blipFill>
          <a:blip r:embed="rId7"/>
          <a:stretch/>
        </p:blipFill>
        <p:spPr>
          <a:xfrm rot="18279000">
            <a:off x="5759280" y="449280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1345827709_1aavrscrtchrts500"/>
          <p:cNvPicPr/>
          <p:nvPr/>
        </p:nvPicPr>
        <p:blipFill>
          <a:blip r:embed="rId8"/>
          <a:stretch/>
        </p:blipFill>
        <p:spPr>
          <a:xfrm>
            <a:off x="2286000" y="1219320"/>
            <a:ext cx="685800" cy="680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1345827709_1aavrscrtchrts500"/>
          <p:cNvPicPr/>
          <p:nvPr/>
        </p:nvPicPr>
        <p:blipFill>
          <a:blip r:embed="rId9"/>
          <a:stretch/>
        </p:blipFill>
        <p:spPr>
          <a:xfrm>
            <a:off x="5562720" y="14479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http://images.vector-images.com/clp/199506/clp352624.jpg"/>
          <p:cNvPicPr/>
          <p:nvPr/>
        </p:nvPicPr>
        <p:blipFill>
          <a:blip r:embed="rId10"/>
          <a:srcRect l="-1443" t="0" r="0" b="0"/>
          <a:stretch/>
        </p:blipFill>
        <p:spPr>
          <a:xfrm>
            <a:off x="2590920" y="8077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im0-tub-ru.yandex.net/i?id=310347081-01-72"/>
          <p:cNvPicPr/>
          <p:nvPr/>
        </p:nvPicPr>
        <p:blipFill>
          <a:blip r:embed="rId11"/>
          <a:stretch/>
        </p:blipFill>
        <p:spPr>
          <a:xfrm>
            <a:off x="2286000" y="5410080"/>
            <a:ext cx="88884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581280"/>
            <a:ext cx="121932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75248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11"/>
          <p:cNvSpPr/>
          <p:nvPr/>
        </p:nvSpPr>
        <p:spPr>
          <a:xfrm>
            <a:off x="1295280" y="304920"/>
            <a:ext cx="5181840" cy="82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еплый, длинный летний ле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полдень крохотная тень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спевает земля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ивается клубник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ыгает кузнечик ю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ак бывает лишь в… (Июне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3733920" y="304920"/>
            <a:ext cx="28191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Загадка про июнь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ёплый, длинный-длинный ден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день - крохотная тен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цветает в поле колос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ёт кузнечик голос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ревает земляни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месяц, подскажи-ка? ..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юнь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3962520" y="2213640"/>
            <a:ext cx="236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 в июне белый 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овь порадовал нас всех.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удто рой ленивых му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тополей слетает ...(пу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5"/>
          <p:cNvSpPr/>
          <p:nvPr/>
        </p:nvSpPr>
        <p:spPr>
          <a:xfrm>
            <a:off x="1523880" y="358128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ый, длинный летний лен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день крохотная тень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певает земляни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вается клубник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ает кузнечик юны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бывает лишь в… (Июне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17" descr="Фоны - Волшебная сказка - 2"/>
          <p:cNvPicPr/>
          <p:nvPr/>
        </p:nvPicPr>
        <p:blipFill>
          <a:blip r:embed="rId7"/>
          <a:stretch/>
        </p:blipFill>
        <p:spPr>
          <a:xfrm>
            <a:off x="3962520" y="3505320"/>
            <a:ext cx="2361960" cy="22096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17" descr="Фоны - Волшебная сказка - 2"/>
          <p:cNvPicPr/>
          <p:nvPr/>
        </p:nvPicPr>
        <p:blipFill>
          <a:blip r:embed="rId8"/>
          <a:stretch/>
        </p:blipFill>
        <p:spPr>
          <a:xfrm>
            <a:off x="1600200" y="38088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1676520" y="5643720"/>
            <a:ext cx="2971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подсолнух в неб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ет он много л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ет зимой и лет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мечек все нет!.... (Солнц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83" descr="загадка про лето"/>
          <p:cNvPicPr/>
          <p:nvPr/>
        </p:nvPicPr>
        <p:blipFill>
          <a:blip r:embed="rId9"/>
          <a:stretch/>
        </p:blipFill>
        <p:spPr>
          <a:xfrm>
            <a:off x="1523880" y="6705720"/>
            <a:ext cx="2381400" cy="1590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4038480" y="6481440"/>
            <a:ext cx="259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аркий шар на небе светит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тот шар любой заме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тром смотрит к нам в оконц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достно сияя,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солнц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http://rylik.ru/uploads/posts/2012-09/1348473107_1aafncrtinscs500.jpg"/>
          <p:cNvPicPr/>
          <p:nvPr/>
        </p:nvPicPr>
        <p:blipFill>
          <a:blip r:embed="rId10"/>
          <a:stretch/>
        </p:blipFill>
        <p:spPr>
          <a:xfrm rot="20703600">
            <a:off x="2138400" y="3038040"/>
            <a:ext cx="762120" cy="496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1345827709_1aavrscrtchrts500"/>
          <p:cNvPicPr/>
          <p:nvPr/>
        </p:nvPicPr>
        <p:blipFill>
          <a:blip r:embed="rId11"/>
          <a:stretch/>
        </p:blipFill>
        <p:spPr>
          <a:xfrm>
            <a:off x="2286000" y="49528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548" descr="http://img-fotki.yandex.ru/get/4136/25585874.1eb/0_d0eb8_528b27c0_L.png"/>
          <p:cNvPicPr/>
          <p:nvPr/>
        </p:nvPicPr>
        <p:blipFill>
          <a:blip r:embed="rId12"/>
          <a:stretch/>
        </p:blipFill>
        <p:spPr>
          <a:xfrm>
            <a:off x="4495680" y="7467480"/>
            <a:ext cx="914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762120" y="0"/>
            <a:ext cx="6324480" cy="91440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1"/>
          <p:cNvSpPr/>
          <p:nvPr/>
        </p:nvSpPr>
        <p:spPr>
          <a:xfrm>
            <a:off x="1066680" y="304920"/>
            <a:ext cx="5791320" cy="848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юнь нас балует клубни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тополиный пух нам слепит гла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ава зеленая, деревья многол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 на полях цветы, как будто в сказк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 школьников каникулы наст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бегают мальчишки по дво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бегать они вовсе не уст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дь, лето теплый отдых дарит нам! (Л. Ки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1143000" y="622800"/>
            <a:ext cx="220968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и вылетки смеле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о тише и светл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астёт, растёт, растё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к ночи поворо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ка заросшей тропк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ничной, неторопки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емле июнь идёт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Михаил Садовск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Двенадцать месяцев»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3"/>
          <p:cNvSpPr/>
          <p:nvPr/>
        </p:nvSpPr>
        <p:spPr>
          <a:xfrm>
            <a:off x="3505320" y="838080"/>
            <a:ext cx="33526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 июнь - начало лета. 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олотились все луга.    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столько солнца,    столько света,  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ном нам кажутся снег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забыли про метели,    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зимний холод и мороз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я все позеленел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жил сад из алых ро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Керстен)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1219320" y="5029200"/>
            <a:ext cx="25146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шальной проказни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чонок солнцем дразн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ился к нам на праздник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ль безобразить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ушки "рыжикам" разд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ться нас отправи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тучки с неба он собр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олнце греть остав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реет солнышко с утр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и не уста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лишь подставляй бо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гара ма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 такая наступи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йся в волейбол игра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 всех нас разбуди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 зиме не вспомин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. Ермолен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3733920" y="3352680"/>
            <a:ext cx="3124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нас балует клубник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полиный пух нам слепит гла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а зеленая, деревья многоли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полях цветы, как будто в сказк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школьников каникулы наст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гают мальчишки по двор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гать они вовсе не уст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, лето теплый отдых дарит нам! (Л. Ки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97" descr="http://img0.liveinternet.ru/images/attach/c/4/80/199/80199384_4.png"/>
          <p:cNvPicPr/>
          <p:nvPr/>
        </p:nvPicPr>
        <p:blipFill>
          <a:blip r:embed="rId7"/>
          <a:stretch/>
        </p:blipFill>
        <p:spPr>
          <a:xfrm>
            <a:off x="1371600" y="320040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48" descr="http://img-fotki.yandex.ru/get/4136/25585874.1eb/0_d0eb8_528b27c0_L.png"/>
          <p:cNvPicPr/>
          <p:nvPr/>
        </p:nvPicPr>
        <p:blipFill>
          <a:blip r:embed="rId8"/>
          <a:stretch/>
        </p:blipFill>
        <p:spPr>
          <a:xfrm>
            <a:off x="5638680" y="45720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30" descr="http://lh6.ggpht.com/-qITOznedzJI/SPJB5U7SR2I/AAAAAAAAJKU/5ZfQN4TsZwE/s640/1%2520%252813%2529.jpg"/>
          <p:cNvPicPr/>
          <p:nvPr/>
        </p:nvPicPr>
        <p:blipFill>
          <a:blip r:embed="rId9"/>
          <a:stretch/>
        </p:blipFill>
        <p:spPr>
          <a:xfrm>
            <a:off x="3581280" y="533412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ttp://rylik.ru/uploads/posts/2012-09/1348473107_1aafncrtinscs500.jpg"/>
          <p:cNvPicPr/>
          <p:nvPr/>
        </p:nvPicPr>
        <p:blipFill>
          <a:blip r:embed="rId10"/>
          <a:stretch/>
        </p:blipFill>
        <p:spPr>
          <a:xfrm>
            <a:off x="3124080" y="2895480"/>
            <a:ext cx="83844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rylik.ru/uploads/posts/2012-09/1348473107_1aafncrtinscs500.jpg"/>
          <p:cNvPicPr/>
          <p:nvPr/>
        </p:nvPicPr>
        <p:blipFill>
          <a:blip r:embed="rId11"/>
          <a:stretch/>
        </p:blipFill>
        <p:spPr>
          <a:xfrm>
            <a:off x="6095880" y="518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http://rylik.ru/uploads/posts/2012-09/1348473107_1aafncrtinscs500.jpg"/>
          <p:cNvPicPr/>
          <p:nvPr/>
        </p:nvPicPr>
        <p:blipFill>
          <a:blip r:embed="rId12"/>
          <a:stretch/>
        </p:blipFill>
        <p:spPr>
          <a:xfrm>
            <a:off x="5791320" y="190512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22"/>
          <p:cNvSpPr/>
          <p:nvPr/>
        </p:nvSpPr>
        <p:spPr>
          <a:xfrm>
            <a:off x="2373840" y="380880"/>
            <a:ext cx="23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хотворения о июне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http://rylik.ru/uploads/posts/2012-09/1348473107_1aafncrtinscs500.jpg"/>
          <p:cNvPicPr/>
          <p:nvPr/>
        </p:nvPicPr>
        <p:blipFill>
          <a:blip r:embed="rId13"/>
          <a:stretch/>
        </p:blipFill>
        <p:spPr>
          <a:xfrm>
            <a:off x="3505320" y="807732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http://rylik.ru/uploads/posts/2012-09/1348473107_1aafncrtinscs500.jpg"/>
          <p:cNvPicPr/>
          <p:nvPr/>
        </p:nvPicPr>
        <p:blipFill>
          <a:blip r:embed="rId14"/>
          <a:stretch/>
        </p:blipFill>
        <p:spPr>
          <a:xfrm>
            <a:off x="1219320" y="380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1"/>
          <p:cNvSpPr/>
          <p:nvPr/>
        </p:nvSpPr>
        <p:spPr>
          <a:xfrm>
            <a:off x="1447920" y="457200"/>
            <a:ext cx="5181480" cy="82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523880" y="485280"/>
            <a:ext cx="5029200" cy="76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День защиты детей,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Международный день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од во всем мире отмеча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 день дете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ernational Children's Day, которы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 празднуется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ию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м защиты</a:t>
            </a:r>
            <a:r>
              <a:rPr b="1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 детей</a:t>
            </a: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название связано с тем, что детство каждого ребенка должно быть под защитой – защитой прав, здоровья и жизни подрастающего поколения.  Международный день детей — один из самых старых международных праздников. Решение о его проведении было принято в 1925 году на Всемирной конференции, посвященной вопросам благополучия детей, в Женев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 этот праздник был в Париже осенью 1949 года по решению конгресса Международной демократической федерации женщин. В 1950 году 1 июня был проведен первый Международный день защиты детей, после чего этот праздник проводится ежегодн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Международный день детей</a:t>
            </a: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только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для беззаботной ребятни, но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сный повод для мобилизации миро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ости в борьбе за сохра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я подрастающего поколения, 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е права на получение образования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, за сохранение мирного неба на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м ребенком. Этот день служит так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инанием взрослой обществе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уважение и соблюдение прав ребенк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залог формирования благополучн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ного и справедливого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день организуются праздничные мероприятия в скверах, парках и учреждениях образования и культуры городов. Большинство родителей 1 июня находят время для того, чтобы порадовать своих детей, посещая с ними развлекательные мероприятия. В этот день в городских парках особенно много смеха, радости, детских улыбок и веселья.  Двойной праздник 1 июня у школьников, которые также празднуют начало самых продолжительных летних каникул. Очень важными являются приуроченные ко Дню защиты детей благотворительные мероприятия для детей, имеющих ограниченные возможности, для сирот и ребятишек из малообеспеченных семей. Защитниками детей считают Ювенальную   юстицию  –   свод всех программ и законов, адресованных де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5" descr="http://img0.liveinternet.ru/images/attach/c/3/74/946/74946258_1734256_62bc24c33060.png">
            <a:hlinkClick r:id="rId7"/>
          </p:cNvPr>
          <p:cNvPicPr/>
          <p:nvPr/>
        </p:nvPicPr>
        <p:blipFill>
          <a:blip r:embed="rId8"/>
          <a:stretch/>
        </p:blipFill>
        <p:spPr>
          <a:xfrm rot="3847800">
            <a:off x="3412800" y="7730640"/>
            <a:ext cx="1057320" cy="1305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5" descr="http://im2-tub-ru.yandex.net/i?id=173140346-64-72&amp;n=21"/>
          <p:cNvPicPr/>
          <p:nvPr/>
        </p:nvPicPr>
        <p:blipFill>
          <a:blip r:embed="rId9"/>
          <a:stretch/>
        </p:blipFill>
        <p:spPr>
          <a:xfrm>
            <a:off x="1523880" y="533520"/>
            <a:ext cx="83844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http://www.grafamania.net/uploads/posts/2012-03/1331771528_max_summer1.jpg"/>
          <p:cNvPicPr/>
          <p:nvPr/>
        </p:nvPicPr>
        <p:blipFill>
          <a:blip r:embed="rId10"/>
          <a:stretch/>
        </p:blipFill>
        <p:spPr>
          <a:xfrm>
            <a:off x="2133720" y="7924680"/>
            <a:ext cx="838080" cy="609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http://www.grafamania.net/uploads/posts/2012-03/1331771528_max_summer1.jpg"/>
          <p:cNvPicPr/>
          <p:nvPr/>
        </p:nvPicPr>
        <p:blipFill>
          <a:blip r:embed="rId11"/>
          <a:stretch/>
        </p:blipFill>
        <p:spPr>
          <a:xfrm>
            <a:off x="5257800" y="784872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5" descr="http://img0.liveinternet.ru/images/attach/c/3/74/946/74946258_1734256_62bc24c33060.png"/>
          <p:cNvPicPr/>
          <p:nvPr/>
        </p:nvPicPr>
        <p:blipFill>
          <a:blip r:embed="rId12"/>
          <a:stretch/>
        </p:blipFill>
        <p:spPr>
          <a:xfrm rot="20076600">
            <a:off x="5326200" y="669600"/>
            <a:ext cx="1303200" cy="1363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http://www.litsa.com.ua/images/news/2011/5/31/prazdnichnaya-programma-v-den-zashchity-detey_500.jpg"/>
          <p:cNvPicPr/>
          <p:nvPr/>
        </p:nvPicPr>
        <p:blipFill>
          <a:blip r:embed="rId13"/>
          <a:stretch/>
        </p:blipFill>
        <p:spPr>
          <a:xfrm>
            <a:off x="1523880" y="3809880"/>
            <a:ext cx="1676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11"/>
          <p:cNvSpPr/>
          <p:nvPr/>
        </p:nvSpPr>
        <p:spPr>
          <a:xfrm>
            <a:off x="1295280" y="228600"/>
            <a:ext cx="5257800" cy="868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1295280" y="241920"/>
            <a:ext cx="5181840" cy="84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Очень важными являются приуроченные ко Дню защиты детей благотворительные мероприятия для детей, имеющих ограниченные возможности, для сирот и ребятишек из малообеспеченных семей. Защитниками детей считают Ювенальную   юстицию  –   свод всех программ и законов, адресованных детям. По правилам в конфликте между ребенком и его родителями должны разбираться государственные служащие, специалисты, которые будут стоять на защите прав детей во всех детских учреждениях. Благодаря чему, каждый ребенок должен иметь возможность поделиться с таким человеком своей проблемой и получить поддержку и помощь. В России   существует закон о предупреждении жестокого обращения с детьми, а посредниками между семьей и государством должны стать соседи или школьные учителя, которые, заметив неладное, могут обратиться в органы опеки. При введении ювенальных технологий подобные органы будут получать слишком широкие полномочия, имея право вмешиваться в семейную жизнь, внося в нее свои правила и порядки. Подобное положение дел может привести к установлению тотального контроля над семьей со стороны государства, при котором госорганы смогут без решения суда изымать детей из семей и размещать их в приютах. Следовательно, чиновники будут наделены неограниченной властью и возможностями для злоупотребления ею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Какой бы ни была политика государства, каждый из нас должен помнить, что детство должно быть у каждого ребенка, и каждый ребенок заслуживает любви и бережного к себ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Интересно, что не только детские улыбк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воздушные шары считаются символ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Международного дня дете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ого дня детей есть флаг. Н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ом фоне, символизирующем рос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монию, свежесть и плодородие, вокр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а Земли размещены стилизованные фигур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я, желтая, синяя, белая и черная. Э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ие фигурки символизируют разнообраз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рпимость. Знак Земли, размещенный в центре, — это символ нашего общего дом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— дети нашей планеты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Мы между собою друж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И взрослые дружбе эт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У нас поучиться должны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Мы — дети каждого взрослог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Детей не бывает чуж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Мы — будущее, Вы же — прошло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Любите нас как своих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Мы Вам такой же отплати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Монетой тогда, когда с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Носить будем женские плать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Иль будем ходить с усами!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12" descr="Флаг Международного дня детей"/>
          <p:cNvPicPr/>
          <p:nvPr/>
        </p:nvPicPr>
        <p:blipFill>
          <a:blip r:embed="rId7"/>
          <a:stretch/>
        </p:blipFill>
        <p:spPr>
          <a:xfrm>
            <a:off x="4800600" y="4419720"/>
            <a:ext cx="1600200" cy="1447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http://im0-tub-ru.yandex.net/i?id=260619414-66-72"/>
          <p:cNvPicPr/>
          <p:nvPr/>
        </p:nvPicPr>
        <p:blipFill>
          <a:blip r:embed="rId8"/>
          <a:stretch/>
        </p:blipFill>
        <p:spPr>
          <a:xfrm>
            <a:off x="1447920" y="6477120"/>
            <a:ext cx="2438280" cy="205740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13"/>
          <p:cNvSpPr/>
          <p:nvPr/>
        </p:nvSpPr>
        <p:spPr>
          <a:xfrm>
            <a:off x="1295280" y="83818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дети — будущ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ет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нтина</cp:lastModifiedBy>
  <dcterms:modified xsi:type="dcterms:W3CDTF">2021-06-15T19:38:56Z</dcterms:modified>
  <cp:revision>1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