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1.png" ContentType="image/png"/>
  <Override PartName="/ppt/media/image30.jpeg" ContentType="image/jpe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.jpeg" ContentType="image/jpeg"/>
  <Override PartName="/ppt/media/image10.png" ContentType="image/png"/>
  <Override PartName="/ppt/media/image46.png" ContentType="image/png"/>
  <Override PartName="/ppt/media/image11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3276600" cy="32766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AB5-CA5B-44AA-BC22-999FC279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47A-081F-4C02-B4B2-A44B70C7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52141-408A-453D-A4EE-1EE6C46A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94EAC-39D8-44BF-87E5-5B255F09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B8863-6DD9-435A-9587-861629B7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7DCAA-A360-4F08-AC5E-7DAB550E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D8478-8464-4452-B21B-949AB1B5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C5B7F-0924-4DCA-AA92-15C66A94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5DEB5-D68A-4BA7-A863-6A556B12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E93EC-85BE-48EC-A65F-A6A2F93B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BFA6C-B2D5-4922-9F8F-D5FF47D4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4BCEF-90C9-4FE3-B24E-A9527260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DB8-F57A-4562-9CB6-A9B79F4D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DC098-A580-4D63-8CA4-881BC743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99AF2-BDFA-4648-A9F1-83BF033D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6F081-9405-40EB-8C9D-000789C3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AD316-314C-4E4D-B3EC-32AE230B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C52FD-CD12-4B7F-9485-83B28E63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3B285-A311-4D87-B152-C690AF12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E8D1C-5096-4532-B885-DA826822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9B21C-24CC-4F3C-9987-587CDDE4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EC22D-E055-45C3-91F4-EF25034B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32CB3-38CE-4FED-9DF7-D08DED48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2B5-B748-48CE-88B5-6733DF92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EE98B-BF67-4F80-8285-EAD9576A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3DC2B-C472-4867-97A2-50027514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42BE3-6456-499A-B44A-3EABF6F6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1C544-DA9C-4A38-94E7-A7327D7D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A3089-DE08-466E-ADE0-FA7946D0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24ABF-A7FD-4575-A236-D4DB20D5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95E71-DDC0-4EF3-ADCB-872BFAA5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2C01E-BB65-4C68-8CDD-48F3733D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34959-0F77-4B76-8084-80BF5323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AB5CF-EDFF-4FF5-9F11-9D67E95F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D42B-ED13-4044-9D78-F4B5496F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9B0A4-2252-41FB-94E3-1064C9A0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79B01-1A16-4128-9A6E-99D62C2E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F2B12-3C7B-4CF6-B266-B426D834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35440-EC69-4866-AC58-2E2F0A1A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6A98F-7A38-40B1-923C-B211E8A5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D1FE4-9664-41FD-8DBA-ED134FDC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02EEC-E64A-4CB9-9751-D89C8F56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12FC3-15A8-4056-A7A6-26130F9B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C7AE6-0602-4724-969C-9B23DF31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7877C-AB40-489A-A5ED-0A9DC3D8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5175-3BAC-4C72-B288-4AA6713E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17A04-41C3-4F5C-B490-E27C9B97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63726-2CA5-460B-9837-EA8E6F39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75F31-3A28-4F5B-83E4-59A91D63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253D3-3A39-4109-A326-24787D74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F1B28-6D15-4C93-B24A-3C03A86B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60ED1-2B18-4DBF-B1AB-CB4E1AB7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C5B3D-5B1A-443E-B4E2-8F37FE99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75650-76DA-484F-9D24-1B1C7E24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1C479-3D15-43C8-A0CA-9126BFA3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08E6D-2B22-455A-9B54-0B62274C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690B-E412-4863-8B2A-0235FD55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B2933-6CBC-40EC-9365-546BC762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6DD778-077B-4421-98BF-8F9E605A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7469A-3773-4E31-88C2-E6B79260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2F2D8-649F-4597-8B05-A3B15170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B263B-8605-4EDC-BF6F-F45CC5B7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C3688-CA4E-40B3-856B-061D0179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ABAC8-6BEA-4574-ABEA-3DD51192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95BB-8F2C-492A-A5DA-48358FEF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93E9-CE2E-4555-B25E-91FF4DA8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C924-8AA6-4CD9-AA7C-C52448C5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DAE3-9323-47DA-B42A-9982EA2E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D54-9E33-442E-83C2-54CC2640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F755-16E8-40C5-A2EF-B9E7113D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455D-36E7-484A-B9DC-7D1A3CFB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C468-2470-4D31-8E85-2F73A545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AF30-4430-45DD-A54E-EF741383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47F1-A95B-40F5-ABB2-5A12BDB4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0E372-5102-49B1-B10E-8962B063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8393C-F8FD-4DDD-B774-1AF56014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DDC38-E132-4201-8524-09DB0DAD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0E69-6B3C-4E9E-B7A3-56CBDCA0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7F7E3-8562-4BBB-B9F4-8ECA1F0F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225-8DF5-4FAD-805F-9BB0140F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06D7A-BBD9-4810-8072-E6177CEF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E311-FEDA-432C-8F0A-7C388A40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20F83-2819-4FFC-B9F1-F6D62BD4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79ED0-4907-4627-B3DB-A0FC5D8F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B0639-E6DF-4A50-B0C6-A58B91C5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6B943-DF37-4181-8E24-EC98F2A7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0EB35-CF7C-4AF8-94C6-CD99F9C7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CB0C0-F3ED-467D-9AFD-60A3633B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F4B13-85DE-4319-9E38-1349D930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9FC95-759E-45A9-BF9D-6FE36E24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C14A-5BAD-4F3E-9BDC-4A2E0957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A92D0-EE77-4C12-B949-688ED72E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2AF28-26A0-4CC5-96E8-D2A9DA3A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9357E-AC98-42AD-9BBD-F0ACED56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3EA9E-E7B8-45CA-83B8-29A7FE91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3B710-C463-4A19-B22E-34847BA3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BE59E-CC29-4F8B-A46A-DA234EAD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D9754-276F-41FC-9325-D779CB08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28832-2B65-4E86-B296-41144DDA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7FB66-90C1-4C62-8E9C-0536393C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6DF51-31B6-45DA-B4B9-BF31B724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2C1-380E-4C9B-ACE9-0B89CDCC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D22A2-26B3-48B3-8932-508D7C73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F57AE-FBC5-4210-8AC7-20FC37D6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601BB-34F1-4BC7-AE58-4F42D4C4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D2190-C6A6-438D-83C2-2A5588B8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0B094-678B-4A4B-9992-116AD50C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77C0C-974A-48A2-AC28-8C030B5F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64046-3B00-488B-9849-5D90906E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526A9-6591-4064-A9C3-63FCE158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D7506-8989-4106-9F0B-7487696A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82E1F-B2AF-4B9B-BB47-76648282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66A-2BBA-4B30-BF97-54C8AB59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50CDE-DE9E-4E4D-AD5E-D07506C8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5448B-776E-4CF0-8A63-6995A87F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6F20B-8CAB-487A-A244-02B47E94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38434-633D-43E2-A478-30E238E2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7F9D6-CC27-46B8-8BCC-6A5F5BB3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82ED1-A816-4216-A38D-17378BE7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9D7FD-92C6-4B18-97D6-308C70E2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7D85D-BFDE-45F5-9939-5797AA99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C9D0F-3D88-4447-89D4-2AB30B86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81DF1-07A1-42F2-B1F6-CC946CEF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BA8-9947-4CC7-ADED-4F4B628A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F2793-7A6E-48FA-9B24-C267DB1B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86227-7D03-4752-9499-6CDF7858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C238B-867A-4FF7-843C-D5447E64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90404-5CDD-4772-9FBF-64BA1764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148B2-C947-41BE-ADD3-3EC5DB15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23E79-1B01-46B4-875A-B0406CCE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97ABD-CE71-4FE6-911D-91F15D33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FB785-97CE-4F13-9989-1AA761C9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52C32-88AF-4AB4-BA8B-AC55B29E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9585A-37BC-42E4-98F0-800556EF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763-1917-4264-AD0D-28452CBD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C282B-B9C6-497C-BA41-877BE347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A49ED-3D26-48C8-B7B1-150A10F2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4B66B-26FB-4422-8747-D5C1C8E6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28E38-CB2C-43F4-815B-813E8973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80544-1966-4231-84D3-3293E979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486D3-9373-4B40-8705-B4E75A1D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E2088-FAC9-4827-B890-AE5A7663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E722B-7040-47AD-8ABD-26A1088A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498FE-3BB7-48AF-A2FE-6E4C97D5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FBA88-505E-4E7B-9AD7-33BA047F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F2E-8C9A-4825-AED9-F86CC68C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705E2-C72A-4214-80A0-2680B548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49372-C30B-4D84-A889-849B1FA3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18171-6ABC-494D-9D00-E0163FF5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7F8F4-96A9-4879-BBEA-A0B23FCB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B65EA-CF39-4C7C-B637-9B51A210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22363-AA43-4606-AD75-FB853431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E78EE-2409-494F-AB76-6A2B2E6E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081C9-A819-4A3C-B3DB-3937F24B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0934C-7BD9-4CF7-9F29-029921D0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FFB46-5DFB-4E1B-A90C-DF7AD63E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A606-1BC0-45D8-A259-FE60356ABDBB}" type="slidenum"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470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473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477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37B8-F632-447C-97D5-FED35252CF03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52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52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528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Rectangle 7"/>
          <p:cNvGrpSpPr/>
          <p:nvPr/>
        </p:nvGrpSpPr>
        <p:grpSpPr>
          <a:xfrm>
            <a:off x="0" y="1847880"/>
            <a:ext cx="3279600" cy="1431720"/>
            <a:chOff x="0" y="1847880"/>
            <a:chExt cx="3279600" cy="1431720"/>
          </a:xfrm>
        </p:grpSpPr>
        <p:pic>
          <p:nvPicPr>
            <p:cNvPr id="531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1847880"/>
              <a:ext cx="32796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1847880"/>
              <a:ext cx="327672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Rectangle 8"/>
          <p:cNvGrpSpPr/>
          <p:nvPr/>
        </p:nvGrpSpPr>
        <p:grpSpPr>
          <a:xfrm>
            <a:off x="0" y="0"/>
            <a:ext cx="3279600" cy="1847880"/>
            <a:chOff x="0" y="0"/>
            <a:chExt cx="3279600" cy="1847880"/>
          </a:xfrm>
        </p:grpSpPr>
        <p:pic>
          <p:nvPicPr>
            <p:cNvPr id="534" name="Rectangle 8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2796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0" y="0"/>
              <a:ext cx="327672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9"/>
          <p:cNvSpPr/>
          <p:nvPr/>
        </p:nvSpPr>
        <p:spPr>
          <a:xfrm>
            <a:off x="0" y="126684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Oval 10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538" name="Oval 10" descr=""/>
            <p:cNvPicPr/>
            <p:nvPr/>
          </p:nvPicPr>
          <p:blipFill>
            <a:blip r:embed="rId8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1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2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3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6C98-C08F-46F6-A2F8-028F6FAEDB3E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58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58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589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4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5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36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B035-A3E7-4FFF-BF1B-01318FE6AD31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6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63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640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7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8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9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6569-1CF8-46AD-97CC-921DFF4F3889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3080" y="131400"/>
            <a:ext cx="29494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58760" indent="-158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132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531720" indent="-105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745200" indent="-10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958320" indent="-1058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958320" indent="-1058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958320" indent="-1058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63440" y="3038040"/>
            <a:ext cx="76536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119240" y="3038040"/>
            <a:ext cx="103824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347560" y="3038040"/>
            <a:ext cx="76500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85A4-30BF-435D-9F1E-1370FCC58E4A}" type="slidenum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9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9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100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Rectangle 10"/>
          <p:cNvGrpSpPr/>
          <p:nvPr/>
        </p:nvGrpSpPr>
        <p:grpSpPr>
          <a:xfrm>
            <a:off x="0" y="1847880"/>
            <a:ext cx="3279600" cy="1431720"/>
            <a:chOff x="0" y="1847880"/>
            <a:chExt cx="3279600" cy="1431720"/>
          </a:xfrm>
        </p:grpSpPr>
        <p:pic>
          <p:nvPicPr>
            <p:cNvPr id="10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1847880"/>
              <a:ext cx="32796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1847880"/>
              <a:ext cx="327672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11"/>
          <p:cNvGrpSpPr/>
          <p:nvPr/>
        </p:nvGrpSpPr>
        <p:grpSpPr>
          <a:xfrm>
            <a:off x="0" y="0"/>
            <a:ext cx="3279600" cy="1847880"/>
            <a:chOff x="0" y="0"/>
            <a:chExt cx="3279600" cy="1847880"/>
          </a:xfrm>
        </p:grpSpPr>
        <p:pic>
          <p:nvPicPr>
            <p:cNvPr id="10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2796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327672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2"/>
          <p:cNvSpPr/>
          <p:nvPr/>
        </p:nvSpPr>
        <p:spPr>
          <a:xfrm>
            <a:off x="0" y="126684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3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110" name="Oval 13" descr=""/>
            <p:cNvPicPr/>
            <p:nvPr/>
          </p:nvPicPr>
          <p:blipFill>
            <a:blip r:embed="rId8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4EED-062F-4A20-9A22-C8C513E261BC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15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15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161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EC92-06CE-4EB5-A6D4-3A5DC473660F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20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20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212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ectangle 6"/>
          <p:cNvGrpSpPr/>
          <p:nvPr/>
        </p:nvGrpSpPr>
        <p:grpSpPr>
          <a:xfrm>
            <a:off x="0" y="1847880"/>
            <a:ext cx="3279600" cy="1431720"/>
            <a:chOff x="0" y="1847880"/>
            <a:chExt cx="3279600" cy="1431720"/>
          </a:xfrm>
        </p:grpSpPr>
        <p:pic>
          <p:nvPicPr>
            <p:cNvPr id="215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1847880"/>
              <a:ext cx="32796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1847880"/>
              <a:ext cx="327672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3279600" cy="1847880"/>
            <a:chOff x="0" y="0"/>
            <a:chExt cx="3279600" cy="1847880"/>
          </a:xfrm>
        </p:grpSpPr>
        <p:pic>
          <p:nvPicPr>
            <p:cNvPr id="218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2796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327672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126684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222" name="Oval 9" descr=""/>
            <p:cNvPicPr/>
            <p:nvPr/>
          </p:nvPicPr>
          <p:blipFill>
            <a:blip r:embed="rId8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432D-98CD-45CB-BD27-507B87B30973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2D22-B6CF-4975-BC0F-3065B5C982FA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31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32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324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A652-EF67-4A16-AE0B-80C8B741A563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36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37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375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5CBF-E860-47F5-A1A1-5CA944290CF6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41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42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426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5C06-E4C3-45C4-A0E8-650AAC2D568F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4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1" descr="I:\Банер\clipart-zelenoe-derevo.png"/>
          <p:cNvPicPr/>
          <p:nvPr/>
        </p:nvPicPr>
        <p:blipFill>
          <a:blip r:embed="rId1"/>
          <a:stretch/>
        </p:blipFill>
        <p:spPr>
          <a:xfrm>
            <a:off x="108000" y="54000"/>
            <a:ext cx="1092240" cy="15368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https://i.pinimg.com/originals/47/d7/a6/47d7a6f83632c86e1bec78fbce9ac2a3.png"/>
          <p:cNvPicPr/>
          <p:nvPr/>
        </p:nvPicPr>
        <p:blipFill>
          <a:blip r:embed="rId2"/>
          <a:stretch/>
        </p:blipFill>
        <p:spPr>
          <a:xfrm>
            <a:off x="2021040" y="108000"/>
            <a:ext cx="11905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https://ds03.infourok.ru/uploads/ex/005d/00061adc-224dba59/img9.jpg"/>
          <p:cNvPicPr/>
          <p:nvPr/>
        </p:nvPicPr>
        <p:blipFill>
          <a:blip r:embed="rId1"/>
          <a:stretch/>
        </p:blipFill>
        <p:spPr>
          <a:xfrm>
            <a:off x="819000" y="820800"/>
            <a:ext cx="147492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https://static.life.ru/posts/2017/04/1002409/165283518163851c876fa6f0f4f4f638.jpg"/>
          <p:cNvPicPr/>
          <p:nvPr/>
        </p:nvPicPr>
        <p:blipFill>
          <a:blip r:embed="rId1"/>
          <a:srcRect l="45316" t="0" r="0" b="14580"/>
          <a:stretch/>
        </p:blipFill>
        <p:spPr>
          <a:xfrm>
            <a:off x="343080" y="54000"/>
            <a:ext cx="1277640" cy="171936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https://img1.labirint.ru/rcimg/4eb5d73efdb9c57a534b147c557bf745/1920x1080/books47/465057/ph_2.jpg?1563796024"/>
          <p:cNvPicPr/>
          <p:nvPr/>
        </p:nvPicPr>
        <p:blipFill>
          <a:blip r:embed="rId2"/>
          <a:stretch/>
        </p:blipFill>
        <p:spPr>
          <a:xfrm>
            <a:off x="1620720" y="54000"/>
            <a:ext cx="12636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https://im0-tub-ru.yandex.net/i?id=f02426ae134c97f2aee2d6baa07208f9-l&amp;n=13"/>
          <p:cNvPicPr/>
          <p:nvPr/>
        </p:nvPicPr>
        <p:blipFill>
          <a:blip r:embed="rId1"/>
          <a:stretch/>
        </p:blipFill>
        <p:spPr>
          <a:xfrm>
            <a:off x="998640" y="976320"/>
            <a:ext cx="13492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ПРЕЗЕНТАЦИЯ в младший дошкольный возраст «Учим геометрические фигуры» —  презентация на Slide-Share.ru 🎓"/>
          <p:cNvPicPr/>
          <p:nvPr/>
        </p:nvPicPr>
        <p:blipFill>
          <a:blip r:embed="rId1"/>
          <a:stretch/>
        </p:blipFill>
        <p:spPr>
          <a:xfrm>
            <a:off x="895320" y="1158840"/>
            <a:ext cx="167184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https://ds05.infourok.ru/uploads/ex/07eb/000e38ba-7c452e1f/img13.jpg"/>
          <p:cNvPicPr/>
          <p:nvPr/>
        </p:nvPicPr>
        <p:blipFill>
          <a:blip r:embed="rId1"/>
          <a:stretch/>
        </p:blipFill>
        <p:spPr>
          <a:xfrm>
            <a:off x="546120" y="1128600"/>
            <a:ext cx="136512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В стране геометрических фигур&quot; презентация к занятию в средней группе  детского сада - психологу, презентации"/>
          <p:cNvPicPr/>
          <p:nvPr/>
        </p:nvPicPr>
        <p:blipFill>
          <a:blip r:embed="rId1"/>
          <a:stretch/>
        </p:blipFill>
        <p:spPr>
          <a:xfrm>
            <a:off x="855720" y="490680"/>
            <a:ext cx="16160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Прямоугольник 1" descr=""/>
          <p:cNvPicPr/>
          <p:nvPr/>
        </p:nvPicPr>
        <p:blipFill>
          <a:blip r:embed="rId1"/>
          <a:stretch/>
        </p:blipFill>
        <p:spPr>
          <a:xfrm>
            <a:off x="-615960" y="1298520"/>
            <a:ext cx="3780000" cy="1389240"/>
          </a:xfrm>
          <a:prstGeom prst="rect">
            <a:avLst/>
          </a:prstGeom>
          <a:ln w="0">
            <a:noFill/>
          </a:ln>
        </p:spPr>
      </p:pic>
      <p:pic>
        <p:nvPicPr>
          <p:cNvPr id="725" name="Рисунок 6" descr="79024277-king-cartoon-emotion-vector-illustration-set.jpg"/>
          <p:cNvPicPr/>
          <p:nvPr/>
        </p:nvPicPr>
        <p:blipFill>
          <a:blip r:embed="rId2"/>
          <a:stretch/>
        </p:blipFill>
        <p:spPr>
          <a:xfrm>
            <a:off x="2276640" y="1158840"/>
            <a:ext cx="855360" cy="146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6" name="Рисунок 40" descr="1376877498_1-14 - копия.jpg"/>
          <p:cNvPicPr/>
          <p:nvPr/>
        </p:nvPicPr>
        <p:blipFill>
          <a:blip r:embed="rId3"/>
          <a:stretch/>
        </p:blipFill>
        <p:spPr>
          <a:xfrm>
            <a:off x="1739880" y="0"/>
            <a:ext cx="1030320" cy="1201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727" name="Прямая со стрелкой 4"/>
          <p:cNvCxnSpPr>
            <a:endCxn id="728" idx="2"/>
          </p:cNvCxnSpPr>
          <p:nvPr/>
        </p:nvCxnSpPr>
        <p:spPr>
          <a:xfrm flipH="1" flipV="1">
            <a:off x="609120" y="663120"/>
            <a:ext cx="23040" cy="218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9" name="Прямая со стрелкой 5"/>
          <p:cNvCxnSpPr/>
          <p:nvPr/>
        </p:nvCxnSpPr>
        <p:spPr>
          <a:xfrm flipV="1">
            <a:off x="630360" y="885240"/>
            <a:ext cx="186480" cy="35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30" name="Прямоугольник 14" descr=""/>
          <p:cNvPicPr/>
          <p:nvPr/>
        </p:nvPicPr>
        <p:blipFill>
          <a:blip r:embed="rId4"/>
          <a:stretch/>
        </p:blipFill>
        <p:spPr>
          <a:xfrm>
            <a:off x="579600" y="414360"/>
            <a:ext cx="542880" cy="328680"/>
          </a:xfrm>
          <a:prstGeom prst="rect">
            <a:avLst/>
          </a:prstGeom>
          <a:ln w="0">
            <a:noFill/>
          </a:ln>
        </p:spPr>
      </p:pic>
      <p:pic>
        <p:nvPicPr>
          <p:cNvPr id="731" name="Прямоугольник 15" descr=""/>
          <p:cNvPicPr/>
          <p:nvPr/>
        </p:nvPicPr>
        <p:blipFill>
          <a:blip r:embed="rId5"/>
          <a:stretch/>
        </p:blipFill>
        <p:spPr>
          <a:xfrm>
            <a:off x="-6480" y="884160"/>
            <a:ext cx="615960" cy="560520"/>
          </a:xfrm>
          <a:prstGeom prst="rect">
            <a:avLst/>
          </a:prstGeom>
          <a:ln w="0">
            <a:noFill/>
          </a:ln>
        </p:spPr>
      </p:pic>
      <p:pic>
        <p:nvPicPr>
          <p:cNvPr id="732" name="Прямоугольник 16" descr=""/>
          <p:cNvPicPr/>
          <p:nvPr/>
        </p:nvPicPr>
        <p:blipFill>
          <a:blip r:embed="rId6"/>
          <a:stretch/>
        </p:blipFill>
        <p:spPr>
          <a:xfrm>
            <a:off x="676440" y="749160"/>
            <a:ext cx="542880" cy="324000"/>
          </a:xfrm>
          <a:prstGeom prst="rect">
            <a:avLst/>
          </a:prstGeom>
          <a:ln w="0">
            <a:noFill/>
          </a:ln>
        </p:spPr>
      </p:pic>
      <p:pic>
        <p:nvPicPr>
          <p:cNvPr id="733" name="Прямоугольник 17" descr=""/>
          <p:cNvPicPr/>
          <p:nvPr/>
        </p:nvPicPr>
        <p:blipFill>
          <a:blip r:embed="rId7"/>
          <a:stretch/>
        </p:blipFill>
        <p:spPr>
          <a:xfrm>
            <a:off x="476280" y="1158840"/>
            <a:ext cx="341280" cy="328680"/>
          </a:xfrm>
          <a:prstGeom prst="rect">
            <a:avLst/>
          </a:prstGeom>
          <a:ln w="0">
            <a:noFill/>
          </a:ln>
        </p:spPr>
      </p:pic>
      <p:pic>
        <p:nvPicPr>
          <p:cNvPr id="734" name="Прямоугольник 18" descr=""/>
          <p:cNvPicPr/>
          <p:nvPr/>
        </p:nvPicPr>
        <p:blipFill>
          <a:blip r:embed="rId8"/>
          <a:stretch/>
        </p:blipFill>
        <p:spPr>
          <a:xfrm>
            <a:off x="884160" y="950760"/>
            <a:ext cx="274680" cy="328680"/>
          </a:xfrm>
          <a:prstGeom prst="rect">
            <a:avLst/>
          </a:prstGeom>
          <a:ln w="0">
            <a:noFill/>
          </a:ln>
        </p:spPr>
      </p:pic>
      <p:pic>
        <p:nvPicPr>
          <p:cNvPr id="735" name="Прямоугольник 19" descr=""/>
          <p:cNvPicPr/>
          <p:nvPr/>
        </p:nvPicPr>
        <p:blipFill>
          <a:blip r:embed="rId9"/>
          <a:stretch/>
        </p:blipFill>
        <p:spPr>
          <a:xfrm>
            <a:off x="476280" y="1158840"/>
            <a:ext cx="407880" cy="328680"/>
          </a:xfrm>
          <a:prstGeom prst="rect">
            <a:avLst/>
          </a:prstGeom>
          <a:ln w="0">
            <a:noFill/>
          </a:ln>
        </p:spPr>
      </p:pic>
      <p:pic>
        <p:nvPicPr>
          <p:cNvPr id="736" name="Прямоугольник 20" descr=""/>
          <p:cNvPicPr/>
          <p:nvPr/>
        </p:nvPicPr>
        <p:blipFill>
          <a:blip r:embed="rId10"/>
          <a:stretch/>
        </p:blipFill>
        <p:spPr>
          <a:xfrm>
            <a:off x="201600" y="1090440"/>
            <a:ext cx="474840" cy="324000"/>
          </a:xfrm>
          <a:prstGeom prst="rect">
            <a:avLst/>
          </a:prstGeom>
          <a:ln w="0">
            <a:noFill/>
          </a:ln>
        </p:spPr>
      </p:pic>
      <p:pic>
        <p:nvPicPr>
          <p:cNvPr id="737" name="Прямоугольник 21" descr=""/>
          <p:cNvPicPr/>
          <p:nvPr/>
        </p:nvPicPr>
        <p:blipFill>
          <a:blip r:embed="rId11"/>
          <a:stretch/>
        </p:blipFill>
        <p:spPr>
          <a:xfrm>
            <a:off x="749160" y="542880"/>
            <a:ext cx="409680" cy="322200"/>
          </a:xfrm>
          <a:prstGeom prst="rect">
            <a:avLst/>
          </a:prstGeom>
          <a:ln w="0">
            <a:noFill/>
          </a:ln>
        </p:spPr>
      </p:pic>
      <p:pic>
        <p:nvPicPr>
          <p:cNvPr id="738" name="Прямоугольник 22" descr=""/>
          <p:cNvPicPr/>
          <p:nvPr/>
        </p:nvPicPr>
        <p:blipFill>
          <a:blip r:embed="rId12"/>
          <a:stretch/>
        </p:blipFill>
        <p:spPr>
          <a:xfrm>
            <a:off x="-6480" y="749160"/>
            <a:ext cx="482760" cy="324000"/>
          </a:xfrm>
          <a:prstGeom prst="rect">
            <a:avLst/>
          </a:prstGeom>
          <a:ln w="0">
            <a:noFill/>
          </a:ln>
        </p:spPr>
      </p:pic>
      <p:pic>
        <p:nvPicPr>
          <p:cNvPr id="739" name="Прямоугольник 23" descr=""/>
          <p:cNvPicPr/>
          <p:nvPr/>
        </p:nvPicPr>
        <p:blipFill>
          <a:blip r:embed="rId13"/>
          <a:stretch/>
        </p:blipFill>
        <p:spPr>
          <a:xfrm>
            <a:off x="-6480" y="542880"/>
            <a:ext cx="676440" cy="322200"/>
          </a:xfrm>
          <a:prstGeom prst="rect">
            <a:avLst/>
          </a:prstGeom>
          <a:ln w="0">
            <a:noFill/>
          </a:ln>
        </p:spPr>
      </p:pic>
      <p:pic>
        <p:nvPicPr>
          <p:cNvPr id="740" name="Прямоугольник 24" descr=""/>
          <p:cNvPicPr/>
          <p:nvPr/>
        </p:nvPicPr>
        <p:blipFill>
          <a:blip r:embed="rId14"/>
          <a:stretch/>
        </p:blipFill>
        <p:spPr>
          <a:xfrm>
            <a:off x="66600" y="401760"/>
            <a:ext cx="682560" cy="323640"/>
          </a:xfrm>
          <a:prstGeom prst="rect">
            <a:avLst/>
          </a:prstGeom>
          <a:ln w="0">
            <a:noFill/>
          </a:ln>
        </p:spPr>
      </p:pic>
      <p:pic>
        <p:nvPicPr>
          <p:cNvPr id="741" name="Прямоугольник 25" descr=""/>
          <p:cNvPicPr/>
          <p:nvPr/>
        </p:nvPicPr>
        <p:blipFill>
          <a:blip r:embed="rId15"/>
          <a:stretch/>
        </p:blipFill>
        <p:spPr>
          <a:xfrm>
            <a:off x="401760" y="334800"/>
            <a:ext cx="415800" cy="330480"/>
          </a:xfrm>
          <a:prstGeom prst="rect">
            <a:avLst/>
          </a:prstGeom>
          <a:ln w="0">
            <a:noFill/>
          </a:ln>
        </p:spPr>
      </p:pic>
      <p:sp>
        <p:nvSpPr>
          <p:cNvPr id="742" name="Овал 28"/>
          <p:cNvSpPr/>
          <p:nvPr/>
        </p:nvSpPr>
        <p:spPr>
          <a:xfrm>
            <a:off x="582480" y="880920"/>
            <a:ext cx="69840" cy="44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Прямоугольник 29" descr=""/>
          <p:cNvPicPr/>
          <p:nvPr/>
        </p:nvPicPr>
        <p:blipFill>
          <a:blip r:embed="rId16"/>
          <a:stretch/>
        </p:blipFill>
        <p:spPr>
          <a:xfrm>
            <a:off x="749160" y="1090440"/>
            <a:ext cx="225720" cy="366840"/>
          </a:xfrm>
          <a:prstGeom prst="rect">
            <a:avLst/>
          </a:prstGeom>
          <a:ln w="0">
            <a:noFill/>
          </a:ln>
        </p:spPr>
      </p:pic>
      <p:pic>
        <p:nvPicPr>
          <p:cNvPr id="744" name="Прямоугольник 33" descr=""/>
          <p:cNvPicPr/>
          <p:nvPr/>
        </p:nvPicPr>
        <p:blipFill>
          <a:blip r:embed="rId17"/>
          <a:stretch/>
        </p:blipFill>
        <p:spPr>
          <a:xfrm>
            <a:off x="128520" y="950760"/>
            <a:ext cx="29844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Горизонтальный свиток 3" descr=""/>
          <p:cNvPicPr/>
          <p:nvPr/>
        </p:nvPicPr>
        <p:blipFill>
          <a:blip r:embed="rId1"/>
          <a:stretch/>
        </p:blipFill>
        <p:spPr>
          <a:xfrm>
            <a:off x="115920" y="-1457280"/>
            <a:ext cx="3932280" cy="1463760"/>
          </a:xfrm>
          <a:prstGeom prst="rect">
            <a:avLst/>
          </a:prstGeom>
          <a:ln w="0">
            <a:noFill/>
          </a:ln>
        </p:spPr>
      </p:pic>
      <p:pic>
        <p:nvPicPr>
          <p:cNvPr id="686" name="Рисунок 16" descr="KNIGH080.WMF"/>
          <p:cNvPicPr/>
          <p:nvPr/>
        </p:nvPicPr>
        <p:blipFill>
          <a:blip r:embed="rId2"/>
          <a:stretch/>
        </p:blipFill>
        <p:spPr>
          <a:xfrm>
            <a:off x="131760" y="2021040"/>
            <a:ext cx="804960" cy="10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7" name="Рисунок 40" descr="1376877498_1-14 - копия.jpg"/>
          <p:cNvPicPr/>
          <p:nvPr/>
        </p:nvPicPr>
        <p:blipFill>
          <a:blip r:embed="rId3"/>
          <a:stretch/>
        </p:blipFill>
        <p:spPr>
          <a:xfrm>
            <a:off x="1747800" y="108000"/>
            <a:ext cx="1420920" cy="162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8" name="SN012466.wav" descr=""/>
          <p:cNvPicPr/>
          <p:nvPr/>
        </p:nvPicPr>
        <p:blipFill>
          <a:blip r:embed="rId4"/>
          <a:stretch/>
        </p:blipFill>
        <p:spPr>
          <a:xfrm>
            <a:off x="-1805040" y="4202280"/>
            <a:ext cx="2905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Горизонтальный свиток 2"/>
          <p:cNvSpPr/>
          <p:nvPr/>
        </p:nvSpPr>
        <p:spPr>
          <a:xfrm>
            <a:off x="1844640" y="-1447920"/>
            <a:ext cx="3219480" cy="1096920"/>
          </a:xfrm>
          <a:prstGeom prst="horizontalScroll">
            <a:avLst>
              <a:gd name="adj" fmla="val 125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Прямоугольник 1" descr=""/>
          <p:cNvPicPr/>
          <p:nvPr/>
        </p:nvPicPr>
        <p:blipFill>
          <a:blip r:embed="rId1"/>
          <a:stretch/>
        </p:blipFill>
        <p:spPr>
          <a:xfrm>
            <a:off x="2803680" y="-1268280"/>
            <a:ext cx="1689120" cy="677880"/>
          </a:xfrm>
          <a:prstGeom prst="rect">
            <a:avLst/>
          </a:prstGeom>
          <a:ln w="0">
            <a:noFill/>
          </a:ln>
        </p:spPr>
      </p:pic>
      <p:pic>
        <p:nvPicPr>
          <p:cNvPr id="691" name="Рисунок 40" descr="1376877498_1-14 - копия.jpg"/>
          <p:cNvPicPr/>
          <p:nvPr/>
        </p:nvPicPr>
        <p:blipFill>
          <a:blip r:embed="rId2"/>
          <a:stretch/>
        </p:blipFill>
        <p:spPr>
          <a:xfrm>
            <a:off x="1677960" y="109440"/>
            <a:ext cx="1108080" cy="1201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2" name="Рисунок 3" descr=""/>
          <p:cNvPicPr/>
          <p:nvPr/>
        </p:nvPicPr>
        <p:blipFill>
          <a:blip r:embed="rId3"/>
          <a:srcRect l="0" t="0" r="0" b="3905"/>
          <a:stretch/>
        </p:blipFill>
        <p:spPr>
          <a:xfrm>
            <a:off x="0" y="1967040"/>
            <a:ext cx="2185920" cy="1257120"/>
          </a:xfrm>
          <a:prstGeom prst="rect">
            <a:avLst/>
          </a:prstGeom>
          <a:ln w="0">
            <a:noFill/>
          </a:ln>
        </p:spPr>
      </p:pic>
      <p:pic>
        <p:nvPicPr>
          <p:cNvPr id="693" name="SN012481.wav" descr=""/>
          <p:cNvPicPr/>
          <p:nvPr/>
        </p:nvPicPr>
        <p:blipFill>
          <a:blip r:embed="rId4"/>
          <a:stretch/>
        </p:blipFill>
        <p:spPr>
          <a:xfrm>
            <a:off x="-1805040" y="4202280"/>
            <a:ext cx="2905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639 -0.00948 L 1.57691 -0.03053 E">
                                      <p:cBhvr>
                                        <p:cTn id="18" dur="575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6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Рисунок 16" descr="KNIGH080.WMF"/>
          <p:cNvPicPr/>
          <p:nvPr/>
        </p:nvPicPr>
        <p:blipFill>
          <a:blip r:embed="rId1"/>
          <a:stretch/>
        </p:blipFill>
        <p:spPr>
          <a:xfrm>
            <a:off x="17640" y="2021040"/>
            <a:ext cx="874440" cy="119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5" name="Рисунок 40" descr="1376877498_1-14 - копия.jpg"/>
          <p:cNvPicPr/>
          <p:nvPr/>
        </p:nvPicPr>
        <p:blipFill>
          <a:blip r:embed="rId2"/>
          <a:stretch/>
        </p:blipFill>
        <p:spPr>
          <a:xfrm>
            <a:off x="1638360" y="108000"/>
            <a:ext cx="1092240" cy="127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Рисунок 23" descr="large.png"/>
          <p:cNvPicPr/>
          <p:nvPr/>
        </p:nvPicPr>
        <p:blipFill>
          <a:blip r:embed="rId1"/>
          <a:stretch/>
        </p:blipFill>
        <p:spPr>
          <a:xfrm>
            <a:off x="819000" y="655560"/>
            <a:ext cx="1403640" cy="1420920"/>
          </a:xfrm>
          <a:prstGeom prst="rect">
            <a:avLst/>
          </a:prstGeom>
          <a:ln w="0">
            <a:noFill/>
          </a:ln>
        </p:spPr>
      </p:pic>
      <p:pic>
        <p:nvPicPr>
          <p:cNvPr id="697" name="Рисунок 16" descr="KNIGH080.WMF"/>
          <p:cNvPicPr/>
          <p:nvPr/>
        </p:nvPicPr>
        <p:blipFill>
          <a:blip r:embed="rId2"/>
          <a:stretch/>
        </p:blipFill>
        <p:spPr>
          <a:xfrm>
            <a:off x="1193760" y="874800"/>
            <a:ext cx="654120" cy="89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https://ds02.infourok.ru/uploads/ex/0c4e/00059e15-a1038a73/2/img3.jpg"/>
          <p:cNvPicPr/>
          <p:nvPr/>
        </p:nvPicPr>
        <p:blipFill>
          <a:blip r:embed="rId1"/>
          <a:stretch/>
        </p:blipFill>
        <p:spPr>
          <a:xfrm>
            <a:off x="1146240" y="990720"/>
            <a:ext cx="15001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-2278440" y="-1185840"/>
            <a:ext cx="78310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од Числоград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4884480" y="3773160"/>
            <a:ext cx="44280" cy="253800"/>
          </a:xfrm>
          <a:prstGeom prst="rect">
            <a:avLst/>
          </a:prstGeom>
          <a:ln w="0">
            <a:noFill/>
          </a:ln>
        </p:spPr>
      </p:pic>
      <p:sp>
        <p:nvSpPr>
          <p:cNvPr id="701" name="AutoShape 4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6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8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0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2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14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16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18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20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22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24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26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28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30" descr="https://im0-tub-ru.yandex.net/i?id=d27acf93ad7979bcd00f6e87597de14c-l&amp;n=13"/>
          <p:cNvPicPr/>
          <p:nvPr/>
        </p:nvPicPr>
        <p:blipFill>
          <a:blip r:embed="rId2"/>
          <a:stretch/>
        </p:blipFill>
        <p:spPr>
          <a:xfrm>
            <a:off x="928800" y="1474920"/>
            <a:ext cx="136188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https://repka-sp.ru/files/c3a/c3a16af04db5852da1da95af0ad48ba3.jpg"/>
          <p:cNvPicPr/>
          <p:nvPr/>
        </p:nvPicPr>
        <p:blipFill>
          <a:blip r:embed="rId1"/>
          <a:stretch/>
        </p:blipFill>
        <p:spPr>
          <a:xfrm>
            <a:off x="1255680" y="1420920"/>
            <a:ext cx="12016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https://ds04.infourok.ru/uploads/ex/1022/000d4309-5c1ee572/img4.jpg"/>
          <p:cNvPicPr/>
          <p:nvPr/>
        </p:nvPicPr>
        <p:blipFill>
          <a:blip r:embed="rId1"/>
          <a:stretch/>
        </p:blipFill>
        <p:spPr>
          <a:xfrm>
            <a:off x="765000" y="1255680"/>
            <a:ext cx="173052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2:22:38Z</dcterms:created>
  <dc:creator>Zver</dc:creator>
  <dc:description/>
  <dc:language>en-US</dc:language>
  <cp:lastModifiedBy>User</cp:lastModifiedBy>
  <dcterms:modified xsi:type="dcterms:W3CDTF">2021-06-15T10:11:37Z</dcterms:modified>
  <cp:revision>282</cp:revision>
  <dc:subject/>
  <dc:title>Слайд 1</dc:title>
</cp:coreProperties>
</file>