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3276600" cy="32766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F9D-91B9-4402-84CB-DC05E51A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5AE-084A-4A58-A15A-4EF9C90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90EB9-2BE1-4A50-9155-CEC99AA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C7D60-4963-435E-AE68-721ABC3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09060-3AB8-469B-9C31-78A9554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2CF73-1BBE-4D74-861C-943C045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C49D3-60BF-4B98-918F-A27EDE2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B1920-AF47-4775-B506-B7430B2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260C-D613-4660-A106-671D535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40EB9-1B6E-4321-BD5E-90A1DEA8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7D590-4B91-4A4E-ABC6-CDF23913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C79F3-ABD1-4149-9C06-1464D3F8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584-C272-4384-80B7-E71A19A5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3E015-B405-4EC7-831C-A282160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4C171-8B3D-4DD5-9DFC-A738AD5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32ADF-AB1B-484C-BC6B-BD836A0A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1C789-6BA1-4C9F-B4AC-30CA42F5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4CCEA-56FE-42CD-A8B5-98BE5066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4BCD7-A017-4E64-BF6E-3832EAD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C1C61-6B57-4BD9-8986-EAFC06D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964DC-63A2-45A9-8BB2-37253DA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5C42B-DA52-4A15-9A67-7AE68D4F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82A9F-83FB-489E-B568-ACEA289F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E03-2EE7-4FC1-9987-7CA05F0B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A5A2C-AB52-410A-9B5E-8561E59E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C1108-20B6-4D36-AA25-9DBB3D1B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F8684-A41B-4947-A009-E374E5B6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BB48F-4A37-40C0-B080-86D1199A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0071A-CF1B-46F2-9F10-9AE4867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3B6A1-4AFC-47F6-96DF-92127CB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B91C5-842D-45E1-B76F-58B024A3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2B9E1-430E-47BB-B0FA-42AE21D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7741E-0D00-44FF-A9C6-443B3DC7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D731-C029-4097-8359-FC5862C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CE13-3570-4617-8BE7-46EC3F8B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CD863-EBCD-43BB-92A3-752BE154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4A01-4891-4361-AF48-1074B7B4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4BE9A-5D3E-4328-B6D4-6551C946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BE5E1-40E9-456A-BB46-78E670FF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70B7D-97A0-4F8E-A85E-729D7334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82630-BE8D-4F4F-A565-F3B2DDE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17F96-EBE1-483D-ACEF-DFC321D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512B5-E8C0-4B1A-9AD7-87AB65E7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1672A-A4B5-4A4F-ACBA-F83AB343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2EBE8-9F17-4EF9-9B33-9AA007C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5CA-47AF-48B9-9A81-4D0AD52E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4959F-8C10-4B90-A3B8-D1F4452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7F3E4-9DD4-414A-9D50-ED7B655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ED1F4-1F40-4985-82A9-A564B38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1CB97-152B-4FAA-B8CF-1809FB9E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F37A0-7A85-4637-9CF6-47A948E4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C566E-5D7B-45FE-92D8-CCB52D59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58C92-FDF7-4832-A5CF-A567D68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50A2C-2466-4A5E-95A0-D1161DE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93C71-1DB2-42E5-A767-EEF7A79B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FA183-77F7-495A-8794-2AF5E22C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C24-643C-4EAF-9E2E-88A274AF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D21D7-164F-4331-ACCB-B7D3A29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4E782-DE50-44E6-A2A2-305F7AC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972D7-9BBE-4983-BEE9-BE6F63D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A403B-A653-4259-99FE-B2E4C81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60C61-F916-4315-B2DE-8CF98F0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DDD82-493C-411A-93FA-455D3003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A04D7-55CC-468E-9F92-3ECFBE0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1E3E-0B93-498B-A7BD-CECC82CF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4DE8-AF78-4BF6-BD43-7AB377EE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F384-283D-472C-B027-220A6460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53B0-0238-47EB-9EAC-4E232CE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921-9A41-4111-A6C2-332888A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3C40-70B6-40FE-BF81-CCCFA38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C986-C66A-4FDE-BC39-319CA7C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4B0A-DDA9-4A38-A2C0-5C03AFB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564B-F845-446C-89A6-C5843F48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2C0-23F9-4112-923D-2BAD6D1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0932-69E7-423E-8711-EAC6107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B840-9F46-4595-A4B9-DD5FB6B4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6701-33F3-465A-BDC0-ECF3BAC1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7EF9-D92C-4C9B-A103-49F5BA9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CEA7-9B92-43D9-9613-9EA208A5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3D4-DF85-4B5A-9E51-466D8F7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1A84-3988-4A0A-9A8A-7A628E13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A146-7CB1-4C8D-9DA2-36C075D6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54C4-FB85-4A91-800A-8FD6107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D797-CEE7-408D-BC3B-89A9D85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38DE-AEBD-4D0B-BD73-7E7FC26D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DCE9-7255-436B-8D37-69EBC6D8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F943-9910-4459-A1BA-34333EA3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D7F5-C5B4-46C3-B128-2188A660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5BA0-27AB-4E1E-805D-C58DBFE8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24188-9395-4F8A-B1FB-F733285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B81-8FDD-42A2-AFEE-7C97D63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7519-1904-44C4-B1F5-14803C8A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A1BE-FEB3-4298-80C7-B81B00A3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3F46-03E2-433B-9DB9-61E82702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FE48-A97A-4164-B146-8C25FAF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2186-3B32-44F6-B72E-550629B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FC11-5D70-4A18-9C08-93240E0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8915-58D4-4346-B35D-E27E9684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7E76-F89D-4AD9-91BE-9B91A9FF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DB86-C986-408E-A184-1A47D824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7F62-015A-4A13-9D8A-E8D72A29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74B-4996-470B-B370-B8CACB02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E6F0-3081-411F-82AA-3027C95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2264-7383-4464-AD63-26FCC34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4A4C-0BAF-44B1-8F95-1BBE3C6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FD8F-BC8E-431D-9F31-CE1F213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6EEB-016A-4B98-9A03-0BC2185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88DD-8DBE-46E7-A4A7-F650498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BF72-4521-4CEF-B1F6-2A2DF50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76E8-B1AC-4645-AFFA-D87EA5B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6493-FF06-45B2-9A8A-105B34E2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A8E4A-BE00-4088-8ACC-AC43F6E2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744-C2B6-40FC-98EC-2695EDA2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8930-20AE-4ADD-8F1F-1B5CDF55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EFBE-A510-44B8-BA94-E63C98E8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CE40-3326-4D27-A5D3-AA100BDD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9CB6-10B3-4C7B-A0D5-1461EA43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8758-749B-40A1-8447-FFCABF07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1552-663D-4E6D-A7A4-B73F7E9D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9F42-8F14-45EB-B65B-11BCAFE6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63981-AA44-4CB9-8AD8-9917872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A2DAE-FB3C-4279-BC0F-0A9AA12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07B0-5945-442E-94F1-66FE0BB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BE2-5CE1-436E-B033-6338472F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D4F6-4ED6-4955-A061-E4C98C3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E3E4-3BCC-4235-96B8-83D45FB7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0972-31E4-4DD0-8F0E-226A74E7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132B-59FA-4567-B22C-1D0EA221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7EC5A-477F-4791-8829-EE2B143F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9873B-5021-4895-B220-4ADCEB22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1A37E-ED4C-43B4-A12E-C069597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06F7-3193-4878-A13E-905D9AD5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828F7-2D5A-4C75-BD81-A82C841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94C94-8B98-4624-B794-68164AC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5F-60C2-441D-BABA-574FDDD4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0CACE-1E00-486A-91B1-49EC956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8C21-633B-4057-9957-D4810A2E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2763-5421-4470-AA5A-BEB54DA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B53C-E67F-4134-BD73-67779539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A0BFE-26B3-456C-82AE-7E2F8ED7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9BE85-6AD1-4E22-BACB-88C73EB2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B7DF-C856-4869-B26B-3BFCAEF0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225D3-4EDC-4DCA-B144-18B38B2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C34A-7DA6-4759-BFD8-D752B1B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D28D9-A7D5-40B4-891A-CD048C39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5AA-C9A6-4D29-A9EC-3769BEC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63080" y="131400"/>
            <a:ext cx="294948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5201-2EBC-4360-B96A-19F36BE0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9913-A942-4B69-8B15-5168469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D446-AACF-4598-BED4-18D212E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6D271-27C4-4A59-A388-265A5F0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63080" y="1893600"/>
            <a:ext cx="29494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3A42-701C-4727-B19A-74503982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674720" y="7650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6308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674720" y="1893600"/>
            <a:ext cx="14392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A050-5AEB-48D4-A79F-260BC49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602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157480" y="7650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630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11602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2157480" y="1893600"/>
            <a:ext cx="949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E5EC5-C76A-41C2-ACE6-82953433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691F6-8B63-491C-BA93-C572B22C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1B440-956A-49B2-A429-2A6832D0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3080" y="-267840"/>
            <a:ext cx="2949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C1031-17D0-4519-88AD-23EC58E5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3F19-0491-4697-BB43-346DC2F35F7A}" type="slidenum"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47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47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477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E11-F4A2-456F-954F-C85DDE56ED35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7"/>
          <p:cNvGrpSpPr/>
          <p:nvPr/>
        </p:nvGrpSpPr>
        <p:grpSpPr>
          <a:xfrm>
            <a:off x="0" y="1847880"/>
            <a:ext cx="3279600" cy="1431720"/>
            <a:chOff x="0" y="1847880"/>
            <a:chExt cx="3279600" cy="1431720"/>
          </a:xfrm>
        </p:grpSpPr>
        <p:pic>
          <p:nvPicPr>
            <p:cNvPr id="531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1847880"/>
              <a:ext cx="32796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1847880"/>
              <a:ext cx="32767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Rectangle 8"/>
          <p:cNvGrpSpPr/>
          <p:nvPr/>
        </p:nvGrpSpPr>
        <p:grpSpPr>
          <a:xfrm>
            <a:off x="0" y="0"/>
            <a:ext cx="3279600" cy="1847880"/>
            <a:chOff x="0" y="0"/>
            <a:chExt cx="3279600" cy="1847880"/>
          </a:xfrm>
        </p:grpSpPr>
        <p:pic>
          <p:nvPicPr>
            <p:cNvPr id="534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279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0"/>
              <a:ext cx="3276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9"/>
          <p:cNvSpPr/>
          <p:nvPr/>
        </p:nvSpPr>
        <p:spPr>
          <a:xfrm>
            <a:off x="0" y="126684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Oval 10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538" name="Oval 10" descr=""/>
            <p:cNvPicPr/>
            <p:nvPr/>
          </p:nvPicPr>
          <p:blipFill>
            <a:blip r:embed="rId8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596-93BF-413D-B9E8-337286472230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58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58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589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4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5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6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F70F-6D80-4FE1-A84C-7577FB8DA65D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6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63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640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1A1-63EE-46C5-A2C6-FEEB25005C88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3080" y="131400"/>
            <a:ext cx="29494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63080" y="765000"/>
            <a:ext cx="2949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58760" indent="-158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132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31720" indent="-105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745200" indent="-10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958320" indent="-105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958320" indent="-105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958320" indent="-105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63440" y="3038040"/>
            <a:ext cx="76536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119240" y="3038040"/>
            <a:ext cx="10382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347560" y="3038040"/>
            <a:ext cx="76500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C24F-0F33-470C-AC5B-D807CD371EBE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9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100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0"/>
          <p:cNvGrpSpPr/>
          <p:nvPr/>
        </p:nvGrpSpPr>
        <p:grpSpPr>
          <a:xfrm>
            <a:off x="0" y="1847880"/>
            <a:ext cx="3279600" cy="1431720"/>
            <a:chOff x="0" y="1847880"/>
            <a:chExt cx="3279600" cy="1431720"/>
          </a:xfrm>
        </p:grpSpPr>
        <p:pic>
          <p:nvPicPr>
            <p:cNvPr id="10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1847880"/>
              <a:ext cx="32796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1847880"/>
              <a:ext cx="32767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1"/>
          <p:cNvGrpSpPr/>
          <p:nvPr/>
        </p:nvGrpSpPr>
        <p:grpSpPr>
          <a:xfrm>
            <a:off x="0" y="0"/>
            <a:ext cx="3279600" cy="1847880"/>
            <a:chOff x="0" y="0"/>
            <a:chExt cx="3279600" cy="1847880"/>
          </a:xfrm>
        </p:grpSpPr>
        <p:pic>
          <p:nvPicPr>
            <p:cNvPr id="10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279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3276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0" y="126684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3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110" name="Oval 13" descr=""/>
            <p:cNvPicPr/>
            <p:nvPr/>
          </p:nvPicPr>
          <p:blipFill>
            <a:blip r:embed="rId8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8A7-7AFF-4952-8570-77063574AEB6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F1CF-55E5-49EC-8581-C686F84E05F0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20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20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212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ectangle 6"/>
          <p:cNvGrpSpPr/>
          <p:nvPr/>
        </p:nvGrpSpPr>
        <p:grpSpPr>
          <a:xfrm>
            <a:off x="0" y="1847880"/>
            <a:ext cx="3279600" cy="1431720"/>
            <a:chOff x="0" y="1847880"/>
            <a:chExt cx="3279600" cy="1431720"/>
          </a:xfrm>
        </p:grpSpPr>
        <p:pic>
          <p:nvPicPr>
            <p:cNvPr id="21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1847880"/>
              <a:ext cx="32796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1847880"/>
              <a:ext cx="32767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3279600" cy="1847880"/>
            <a:chOff x="0" y="0"/>
            <a:chExt cx="3279600" cy="1847880"/>
          </a:xfrm>
        </p:grpSpPr>
        <p:pic>
          <p:nvPicPr>
            <p:cNvPr id="21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279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3276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126684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222" name="Oval 9" descr=""/>
            <p:cNvPicPr/>
            <p:nvPr/>
          </p:nvPicPr>
          <p:blipFill>
            <a:blip r:embed="rId8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DA0-0D49-462B-9530-80055FA573AB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BDEB-E1EC-435E-B07F-C350C66567C1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05D6-BCEF-4F1D-926B-ADEE33EFAB55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A26F-3D51-4A91-8D44-4EA6F32EE8DD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2438280"/>
            <a:ext cx="3279600" cy="841320"/>
            <a:chOff x="0" y="2438280"/>
            <a:chExt cx="3279600" cy="84132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438280"/>
              <a:ext cx="3279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2440080"/>
              <a:ext cx="32767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3279600" cy="2438280"/>
            <a:chOff x="0" y="0"/>
            <a:chExt cx="3279600" cy="243828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279600" cy="24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1800360"/>
            <a:ext cx="3276720" cy="10936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762120"/>
            <a:ext cx="3279600" cy="2444760"/>
            <a:chOff x="0" y="762120"/>
            <a:chExt cx="3279600" cy="244476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762120"/>
              <a:ext cx="32796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79520" y="1122480"/>
              <a:ext cx="231768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2960" y="2088720"/>
            <a:ext cx="2333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09680" y="351000"/>
            <a:ext cx="22939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080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59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39060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52056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660240" indent="-86400">
              <a:spcBef>
                <a:spcPts val="499"/>
              </a:spcBef>
              <a:spcAft>
                <a:spcPts val="28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660240" indent="-86400">
              <a:spcBef>
                <a:spcPts val="499"/>
              </a:spcBef>
              <a:spcAft>
                <a:spcPts val="28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2211480" y="2949120"/>
            <a:ext cx="90144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163080" y="2949120"/>
            <a:ext cx="12034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1366560" y="2949120"/>
            <a:ext cx="6541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046C-F8D1-4D8F-BD35-059AB354E60B}" type="slidenum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4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1" descr="I:\Банер\clipart-zelenoe-derevo.png"/>
          <p:cNvPicPr/>
          <p:nvPr/>
        </p:nvPicPr>
        <p:blipFill>
          <a:blip r:embed="rId1"/>
          <a:stretch/>
        </p:blipFill>
        <p:spPr>
          <a:xfrm>
            <a:off x="108000" y="54000"/>
            <a:ext cx="1092240" cy="1536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s://i.pinimg.com/originals/47/d7/a6/47d7a6f83632c86e1bec78fbce9ac2a3.png"/>
          <p:cNvPicPr/>
          <p:nvPr/>
        </p:nvPicPr>
        <p:blipFill>
          <a:blip r:embed="rId2"/>
          <a:stretch/>
        </p:blipFill>
        <p:spPr>
          <a:xfrm>
            <a:off x="2021040" y="108000"/>
            <a:ext cx="1190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https://ds03.infourok.ru/uploads/ex/005d/00061adc-224dba59/img9.jpg"/>
          <p:cNvPicPr/>
          <p:nvPr/>
        </p:nvPicPr>
        <p:blipFill>
          <a:blip r:embed="rId1"/>
          <a:stretch/>
        </p:blipFill>
        <p:spPr>
          <a:xfrm>
            <a:off x="819000" y="820800"/>
            <a:ext cx="14749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https://static.life.ru/posts/2017/04/1002409/165283518163851c876fa6f0f4f4f638.jpg"/>
          <p:cNvPicPr/>
          <p:nvPr/>
        </p:nvPicPr>
        <p:blipFill>
          <a:blip r:embed="rId1"/>
          <a:srcRect l="45316" t="0" r="0" b="14580"/>
          <a:stretch/>
        </p:blipFill>
        <p:spPr>
          <a:xfrm>
            <a:off x="343080" y="54000"/>
            <a:ext cx="1277640" cy="17193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https://img1.labirint.ru/rcimg/4eb5d73efdb9c57a534b147c557bf745/1920x1080/books47/465057/ph_2.jpg?1563796024"/>
          <p:cNvPicPr/>
          <p:nvPr/>
        </p:nvPicPr>
        <p:blipFill>
          <a:blip r:embed="rId2"/>
          <a:stretch/>
        </p:blipFill>
        <p:spPr>
          <a:xfrm>
            <a:off x="1620720" y="54000"/>
            <a:ext cx="12636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https://im0-tub-ru.yandex.net/i?id=f02426ae134c97f2aee2d6baa07208f9-l&amp;n=13"/>
          <p:cNvPicPr/>
          <p:nvPr/>
        </p:nvPicPr>
        <p:blipFill>
          <a:blip r:embed="rId1"/>
          <a:stretch/>
        </p:blipFill>
        <p:spPr>
          <a:xfrm>
            <a:off x="998640" y="976320"/>
            <a:ext cx="13492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ПРЕЗЕНТАЦИЯ в младший дошкольный возраст «Учим геометрические фигуры» —  презентация на Slide-Share.ru 🎓"/>
          <p:cNvPicPr/>
          <p:nvPr/>
        </p:nvPicPr>
        <p:blipFill>
          <a:blip r:embed="rId1"/>
          <a:stretch/>
        </p:blipFill>
        <p:spPr>
          <a:xfrm>
            <a:off x="895320" y="1158840"/>
            <a:ext cx="16718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https://ds05.infourok.ru/uploads/ex/07eb/000e38ba-7c452e1f/img13.jpg"/>
          <p:cNvPicPr/>
          <p:nvPr/>
        </p:nvPicPr>
        <p:blipFill>
          <a:blip r:embed="rId1"/>
          <a:stretch/>
        </p:blipFill>
        <p:spPr>
          <a:xfrm>
            <a:off x="546120" y="1128600"/>
            <a:ext cx="136512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В стране геометрических фигур&quot; презентация к занятию в средней группе  детского сада - психологу, презентации"/>
          <p:cNvPicPr/>
          <p:nvPr/>
        </p:nvPicPr>
        <p:blipFill>
          <a:blip r:embed="rId1"/>
          <a:stretch/>
        </p:blipFill>
        <p:spPr>
          <a:xfrm>
            <a:off x="855720" y="490680"/>
            <a:ext cx="16160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Прямоугольник 1" descr=""/>
          <p:cNvPicPr/>
          <p:nvPr/>
        </p:nvPicPr>
        <p:blipFill>
          <a:blip r:embed="rId1"/>
          <a:stretch/>
        </p:blipFill>
        <p:spPr>
          <a:xfrm>
            <a:off x="-615960" y="1298520"/>
            <a:ext cx="3780000" cy="1389240"/>
          </a:xfrm>
          <a:prstGeom prst="rect">
            <a:avLst/>
          </a:prstGeom>
          <a:ln w="0">
            <a:noFill/>
          </a:ln>
        </p:spPr>
      </p:pic>
      <p:pic>
        <p:nvPicPr>
          <p:cNvPr id="725" name="Рисунок 6" descr="79024277-king-cartoon-emotion-vector-illustration-set.jpg"/>
          <p:cNvPicPr/>
          <p:nvPr/>
        </p:nvPicPr>
        <p:blipFill>
          <a:blip r:embed="rId2"/>
          <a:stretch/>
        </p:blipFill>
        <p:spPr>
          <a:xfrm>
            <a:off x="2276640" y="1158840"/>
            <a:ext cx="855360" cy="146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6" name="Рисунок 40" descr="1376877498_1-14 - копия.jpg"/>
          <p:cNvPicPr/>
          <p:nvPr/>
        </p:nvPicPr>
        <p:blipFill>
          <a:blip r:embed="rId3"/>
          <a:stretch/>
        </p:blipFill>
        <p:spPr>
          <a:xfrm>
            <a:off x="1739880" y="0"/>
            <a:ext cx="1030320" cy="12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727" name="Прямая со стрелкой 4"/>
          <p:cNvCxnSpPr>
            <a:endCxn id="728" idx="2"/>
          </p:cNvCxnSpPr>
          <p:nvPr/>
        </p:nvCxnSpPr>
        <p:spPr>
          <a:xfrm flipH="1" flipV="1">
            <a:off x="609120" y="663120"/>
            <a:ext cx="23040" cy="218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Прямая со стрелкой 5"/>
          <p:cNvCxnSpPr/>
          <p:nvPr/>
        </p:nvCxnSpPr>
        <p:spPr>
          <a:xfrm flipV="1">
            <a:off x="630360" y="885240"/>
            <a:ext cx="186480" cy="35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30" name="Прямоугольник 14" descr=""/>
          <p:cNvPicPr/>
          <p:nvPr/>
        </p:nvPicPr>
        <p:blipFill>
          <a:blip r:embed="rId4"/>
          <a:stretch/>
        </p:blipFill>
        <p:spPr>
          <a:xfrm>
            <a:off x="579600" y="414360"/>
            <a:ext cx="542880" cy="328680"/>
          </a:xfrm>
          <a:prstGeom prst="rect">
            <a:avLst/>
          </a:prstGeom>
          <a:ln w="0">
            <a:noFill/>
          </a:ln>
        </p:spPr>
      </p:pic>
      <p:pic>
        <p:nvPicPr>
          <p:cNvPr id="731" name="Прямоугольник 15" descr=""/>
          <p:cNvPicPr/>
          <p:nvPr/>
        </p:nvPicPr>
        <p:blipFill>
          <a:blip r:embed="rId5"/>
          <a:stretch/>
        </p:blipFill>
        <p:spPr>
          <a:xfrm>
            <a:off x="-6480" y="884160"/>
            <a:ext cx="615960" cy="560520"/>
          </a:xfrm>
          <a:prstGeom prst="rect">
            <a:avLst/>
          </a:prstGeom>
          <a:ln w="0">
            <a:noFill/>
          </a:ln>
        </p:spPr>
      </p:pic>
      <p:pic>
        <p:nvPicPr>
          <p:cNvPr id="732" name="Прямоугольник 16" descr=""/>
          <p:cNvPicPr/>
          <p:nvPr/>
        </p:nvPicPr>
        <p:blipFill>
          <a:blip r:embed="rId6"/>
          <a:stretch/>
        </p:blipFill>
        <p:spPr>
          <a:xfrm>
            <a:off x="676440" y="749160"/>
            <a:ext cx="542880" cy="324000"/>
          </a:xfrm>
          <a:prstGeom prst="rect">
            <a:avLst/>
          </a:prstGeom>
          <a:ln w="0">
            <a:noFill/>
          </a:ln>
        </p:spPr>
      </p:pic>
      <p:pic>
        <p:nvPicPr>
          <p:cNvPr id="733" name="Прямоугольник 17" descr=""/>
          <p:cNvPicPr/>
          <p:nvPr/>
        </p:nvPicPr>
        <p:blipFill>
          <a:blip r:embed="rId7"/>
          <a:stretch/>
        </p:blipFill>
        <p:spPr>
          <a:xfrm>
            <a:off x="476280" y="1158840"/>
            <a:ext cx="341280" cy="328680"/>
          </a:xfrm>
          <a:prstGeom prst="rect">
            <a:avLst/>
          </a:prstGeom>
          <a:ln w="0">
            <a:noFill/>
          </a:ln>
        </p:spPr>
      </p:pic>
      <p:pic>
        <p:nvPicPr>
          <p:cNvPr id="734" name="Прямоугольник 18" descr=""/>
          <p:cNvPicPr/>
          <p:nvPr/>
        </p:nvPicPr>
        <p:blipFill>
          <a:blip r:embed="rId8"/>
          <a:stretch/>
        </p:blipFill>
        <p:spPr>
          <a:xfrm>
            <a:off x="884160" y="950760"/>
            <a:ext cx="274680" cy="328680"/>
          </a:xfrm>
          <a:prstGeom prst="rect">
            <a:avLst/>
          </a:prstGeom>
          <a:ln w="0">
            <a:noFill/>
          </a:ln>
        </p:spPr>
      </p:pic>
      <p:pic>
        <p:nvPicPr>
          <p:cNvPr id="735" name="Прямоугольник 19" descr=""/>
          <p:cNvPicPr/>
          <p:nvPr/>
        </p:nvPicPr>
        <p:blipFill>
          <a:blip r:embed="rId9"/>
          <a:stretch/>
        </p:blipFill>
        <p:spPr>
          <a:xfrm>
            <a:off x="476280" y="1158840"/>
            <a:ext cx="407880" cy="328680"/>
          </a:xfrm>
          <a:prstGeom prst="rect">
            <a:avLst/>
          </a:prstGeom>
          <a:ln w="0">
            <a:noFill/>
          </a:ln>
        </p:spPr>
      </p:pic>
      <p:pic>
        <p:nvPicPr>
          <p:cNvPr id="736" name="Прямоугольник 20" descr=""/>
          <p:cNvPicPr/>
          <p:nvPr/>
        </p:nvPicPr>
        <p:blipFill>
          <a:blip r:embed="rId10"/>
          <a:stretch/>
        </p:blipFill>
        <p:spPr>
          <a:xfrm>
            <a:off x="201600" y="1090440"/>
            <a:ext cx="474840" cy="324000"/>
          </a:xfrm>
          <a:prstGeom prst="rect">
            <a:avLst/>
          </a:prstGeom>
          <a:ln w="0">
            <a:noFill/>
          </a:ln>
        </p:spPr>
      </p:pic>
      <p:pic>
        <p:nvPicPr>
          <p:cNvPr id="737" name="Прямоугольник 21" descr=""/>
          <p:cNvPicPr/>
          <p:nvPr/>
        </p:nvPicPr>
        <p:blipFill>
          <a:blip r:embed="rId11"/>
          <a:stretch/>
        </p:blipFill>
        <p:spPr>
          <a:xfrm>
            <a:off x="749160" y="542880"/>
            <a:ext cx="409680" cy="322200"/>
          </a:xfrm>
          <a:prstGeom prst="rect">
            <a:avLst/>
          </a:prstGeom>
          <a:ln w="0">
            <a:noFill/>
          </a:ln>
        </p:spPr>
      </p:pic>
      <p:pic>
        <p:nvPicPr>
          <p:cNvPr id="738" name="Прямоугольник 22" descr=""/>
          <p:cNvPicPr/>
          <p:nvPr/>
        </p:nvPicPr>
        <p:blipFill>
          <a:blip r:embed="rId12"/>
          <a:stretch/>
        </p:blipFill>
        <p:spPr>
          <a:xfrm>
            <a:off x="-6480" y="749160"/>
            <a:ext cx="482760" cy="324000"/>
          </a:xfrm>
          <a:prstGeom prst="rect">
            <a:avLst/>
          </a:prstGeom>
          <a:ln w="0">
            <a:noFill/>
          </a:ln>
        </p:spPr>
      </p:pic>
      <p:pic>
        <p:nvPicPr>
          <p:cNvPr id="739" name="Прямоугольник 23" descr=""/>
          <p:cNvPicPr/>
          <p:nvPr/>
        </p:nvPicPr>
        <p:blipFill>
          <a:blip r:embed="rId13"/>
          <a:stretch/>
        </p:blipFill>
        <p:spPr>
          <a:xfrm>
            <a:off x="-6480" y="542880"/>
            <a:ext cx="676440" cy="322200"/>
          </a:xfrm>
          <a:prstGeom prst="rect">
            <a:avLst/>
          </a:prstGeom>
          <a:ln w="0">
            <a:noFill/>
          </a:ln>
        </p:spPr>
      </p:pic>
      <p:pic>
        <p:nvPicPr>
          <p:cNvPr id="740" name="Прямоугольник 24" descr=""/>
          <p:cNvPicPr/>
          <p:nvPr/>
        </p:nvPicPr>
        <p:blipFill>
          <a:blip r:embed="rId14"/>
          <a:stretch/>
        </p:blipFill>
        <p:spPr>
          <a:xfrm>
            <a:off x="66600" y="401760"/>
            <a:ext cx="682560" cy="323640"/>
          </a:xfrm>
          <a:prstGeom prst="rect">
            <a:avLst/>
          </a:prstGeom>
          <a:ln w="0">
            <a:noFill/>
          </a:ln>
        </p:spPr>
      </p:pic>
      <p:pic>
        <p:nvPicPr>
          <p:cNvPr id="741" name="Прямоугольник 25" descr=""/>
          <p:cNvPicPr/>
          <p:nvPr/>
        </p:nvPicPr>
        <p:blipFill>
          <a:blip r:embed="rId15"/>
          <a:stretch/>
        </p:blipFill>
        <p:spPr>
          <a:xfrm>
            <a:off x="401760" y="33480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742" name="Овал 28"/>
          <p:cNvSpPr/>
          <p:nvPr/>
        </p:nvSpPr>
        <p:spPr>
          <a:xfrm>
            <a:off x="582480" y="880920"/>
            <a:ext cx="69840" cy="4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Прямоугольник 29" descr=""/>
          <p:cNvPicPr/>
          <p:nvPr/>
        </p:nvPicPr>
        <p:blipFill>
          <a:blip r:embed="rId16"/>
          <a:stretch/>
        </p:blipFill>
        <p:spPr>
          <a:xfrm>
            <a:off x="749160" y="1090440"/>
            <a:ext cx="225720" cy="366840"/>
          </a:xfrm>
          <a:prstGeom prst="rect">
            <a:avLst/>
          </a:prstGeom>
          <a:ln w="0">
            <a:noFill/>
          </a:ln>
        </p:spPr>
      </p:pic>
      <p:pic>
        <p:nvPicPr>
          <p:cNvPr id="744" name="Прямоугольник 33" descr=""/>
          <p:cNvPicPr/>
          <p:nvPr/>
        </p:nvPicPr>
        <p:blipFill>
          <a:blip r:embed="rId17"/>
          <a:stretch/>
        </p:blipFill>
        <p:spPr>
          <a:xfrm>
            <a:off x="128520" y="950760"/>
            <a:ext cx="2984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Горизонтальный свиток 3" descr=""/>
          <p:cNvPicPr/>
          <p:nvPr/>
        </p:nvPicPr>
        <p:blipFill>
          <a:blip r:embed="rId1"/>
          <a:stretch/>
        </p:blipFill>
        <p:spPr>
          <a:xfrm>
            <a:off x="115920" y="-1457280"/>
            <a:ext cx="3932280" cy="1463760"/>
          </a:xfrm>
          <a:prstGeom prst="rect">
            <a:avLst/>
          </a:prstGeom>
          <a:ln w="0">
            <a:noFill/>
          </a:ln>
        </p:spPr>
      </p:pic>
      <p:pic>
        <p:nvPicPr>
          <p:cNvPr id="686" name="Рисунок 16" descr="KNIGH080.WMF"/>
          <p:cNvPicPr/>
          <p:nvPr/>
        </p:nvPicPr>
        <p:blipFill>
          <a:blip r:embed="rId2"/>
          <a:stretch/>
        </p:blipFill>
        <p:spPr>
          <a:xfrm>
            <a:off x="131760" y="2021040"/>
            <a:ext cx="80496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7" name="Рисунок 40" descr="1376877498_1-14 - копия.jpg"/>
          <p:cNvPicPr/>
          <p:nvPr/>
        </p:nvPicPr>
        <p:blipFill>
          <a:blip r:embed="rId3"/>
          <a:stretch/>
        </p:blipFill>
        <p:spPr>
          <a:xfrm>
            <a:off x="1747800" y="108000"/>
            <a:ext cx="1420920" cy="162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8" name="SN012466.wav" descr=""/>
          <p:cNvPicPr/>
          <p:nvPr/>
        </p:nvPicPr>
        <p:blipFill>
          <a:blip r:embed="rId4"/>
          <a:stretch/>
        </p:blipFill>
        <p:spPr>
          <a:xfrm>
            <a:off x="-1805040" y="4202280"/>
            <a:ext cx="2905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Горизонтальный свиток 2"/>
          <p:cNvSpPr/>
          <p:nvPr/>
        </p:nvSpPr>
        <p:spPr>
          <a:xfrm>
            <a:off x="1844640" y="-1447920"/>
            <a:ext cx="3219480" cy="1096920"/>
          </a:xfrm>
          <a:prstGeom prst="horizontalScroll">
            <a:avLst>
              <a:gd name="adj" fmla="val 1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Прямоугольник 1" descr=""/>
          <p:cNvPicPr/>
          <p:nvPr/>
        </p:nvPicPr>
        <p:blipFill>
          <a:blip r:embed="rId1"/>
          <a:stretch/>
        </p:blipFill>
        <p:spPr>
          <a:xfrm>
            <a:off x="2803680" y="-1268280"/>
            <a:ext cx="1689120" cy="677880"/>
          </a:xfrm>
          <a:prstGeom prst="rect">
            <a:avLst/>
          </a:prstGeom>
          <a:ln w="0">
            <a:noFill/>
          </a:ln>
        </p:spPr>
      </p:pic>
      <p:pic>
        <p:nvPicPr>
          <p:cNvPr id="691" name="Рисунок 40" descr="1376877498_1-14 - копия.jpg"/>
          <p:cNvPicPr/>
          <p:nvPr/>
        </p:nvPicPr>
        <p:blipFill>
          <a:blip r:embed="rId2"/>
          <a:stretch/>
        </p:blipFill>
        <p:spPr>
          <a:xfrm>
            <a:off x="1677960" y="109440"/>
            <a:ext cx="1108080" cy="12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2" name="Рисунок 3" descr=""/>
          <p:cNvPicPr/>
          <p:nvPr/>
        </p:nvPicPr>
        <p:blipFill>
          <a:blip r:embed="rId3"/>
          <a:srcRect l="0" t="0" r="0" b="3905"/>
          <a:stretch/>
        </p:blipFill>
        <p:spPr>
          <a:xfrm>
            <a:off x="0" y="1967040"/>
            <a:ext cx="2185920" cy="1257120"/>
          </a:xfrm>
          <a:prstGeom prst="rect">
            <a:avLst/>
          </a:prstGeom>
          <a:ln w="0">
            <a:noFill/>
          </a:ln>
        </p:spPr>
      </p:pic>
      <p:pic>
        <p:nvPicPr>
          <p:cNvPr id="693" name="SN012481.wav" descr=""/>
          <p:cNvPicPr/>
          <p:nvPr/>
        </p:nvPicPr>
        <p:blipFill>
          <a:blip r:embed="rId4"/>
          <a:stretch/>
        </p:blipFill>
        <p:spPr>
          <a:xfrm>
            <a:off x="-1805040" y="4202280"/>
            <a:ext cx="2905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639 -0.00948 L 1.57691 -0.03053 E">
                                      <p:cBhvr>
                                        <p:cTn id="18" dur="575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Рисунок 16" descr="KNIGH080.WMF"/>
          <p:cNvPicPr/>
          <p:nvPr/>
        </p:nvPicPr>
        <p:blipFill>
          <a:blip r:embed="rId1"/>
          <a:stretch/>
        </p:blipFill>
        <p:spPr>
          <a:xfrm>
            <a:off x="17640" y="2021040"/>
            <a:ext cx="874440" cy="119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5" name="Рисунок 40" descr="1376877498_1-14 - копия.jpg"/>
          <p:cNvPicPr/>
          <p:nvPr/>
        </p:nvPicPr>
        <p:blipFill>
          <a:blip r:embed="rId2"/>
          <a:stretch/>
        </p:blipFill>
        <p:spPr>
          <a:xfrm>
            <a:off x="1638360" y="108000"/>
            <a:ext cx="1092240" cy="12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Рисунок 23" descr="large.png"/>
          <p:cNvPicPr/>
          <p:nvPr/>
        </p:nvPicPr>
        <p:blipFill>
          <a:blip r:embed="rId1"/>
          <a:stretch/>
        </p:blipFill>
        <p:spPr>
          <a:xfrm>
            <a:off x="819000" y="655560"/>
            <a:ext cx="1403640" cy="1420920"/>
          </a:xfrm>
          <a:prstGeom prst="rect">
            <a:avLst/>
          </a:prstGeom>
          <a:ln w="0">
            <a:noFill/>
          </a:ln>
        </p:spPr>
      </p:pic>
      <p:pic>
        <p:nvPicPr>
          <p:cNvPr id="697" name="Рисунок 16" descr="KNIGH080.WMF"/>
          <p:cNvPicPr/>
          <p:nvPr/>
        </p:nvPicPr>
        <p:blipFill>
          <a:blip r:embed="rId2"/>
          <a:stretch/>
        </p:blipFill>
        <p:spPr>
          <a:xfrm>
            <a:off x="1193760" y="874800"/>
            <a:ext cx="654120" cy="89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https://ds02.infourok.ru/uploads/ex/0c4e/00059e15-a1038a73/2/img3.jpg"/>
          <p:cNvPicPr/>
          <p:nvPr/>
        </p:nvPicPr>
        <p:blipFill>
          <a:blip r:embed="rId1"/>
          <a:stretch/>
        </p:blipFill>
        <p:spPr>
          <a:xfrm>
            <a:off x="1146240" y="990720"/>
            <a:ext cx="1500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-2278440" y="-1185840"/>
            <a:ext cx="78310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од Числогра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884480" y="3773160"/>
            <a:ext cx="44280" cy="253800"/>
          </a:xfrm>
          <a:prstGeom prst="rect">
            <a:avLst/>
          </a:prstGeom>
          <a:ln w="0">
            <a:noFill/>
          </a:ln>
        </p:spPr>
      </p:pic>
      <p:sp>
        <p:nvSpPr>
          <p:cNvPr id="701" name="AutoShape 4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6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8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0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2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16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8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20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22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24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6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8"/>
          <p:cNvSpPr/>
          <p:nvPr/>
        </p:nvSpPr>
        <p:spPr>
          <a:xfrm>
            <a:off x="-1895400" y="-1584360"/>
            <a:ext cx="29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0" descr="https://im0-tub-ru.yandex.net/i?id=d27acf93ad7979bcd00f6e87597de14c-l&amp;n=13"/>
          <p:cNvPicPr/>
          <p:nvPr/>
        </p:nvPicPr>
        <p:blipFill>
          <a:blip r:embed="rId2"/>
          <a:stretch/>
        </p:blipFill>
        <p:spPr>
          <a:xfrm>
            <a:off x="928800" y="1474920"/>
            <a:ext cx="13618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https://repka-sp.ru/files/c3a/c3a16af04db5852da1da95af0ad48ba3.jpg"/>
          <p:cNvPicPr/>
          <p:nvPr/>
        </p:nvPicPr>
        <p:blipFill>
          <a:blip r:embed="rId1"/>
          <a:stretch/>
        </p:blipFill>
        <p:spPr>
          <a:xfrm>
            <a:off x="1255680" y="1420920"/>
            <a:ext cx="12016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https://ds04.infourok.ru/uploads/ex/1022/000d4309-5c1ee572/img4.jpg"/>
          <p:cNvPicPr/>
          <p:nvPr/>
        </p:nvPicPr>
        <p:blipFill>
          <a:blip r:embed="rId1"/>
          <a:stretch/>
        </p:blipFill>
        <p:spPr>
          <a:xfrm>
            <a:off x="765000" y="1255680"/>
            <a:ext cx="173052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2:22:38Z</dcterms:created>
  <dc:creator>Zver</dc:creator>
  <dc:description/>
  <dc:language>en-US</dc:language>
  <cp:lastModifiedBy>User</cp:lastModifiedBy>
  <dcterms:modified xsi:type="dcterms:W3CDTF">2021-06-15T10:11:37Z</dcterms:modified>
  <cp:revision>282</cp:revision>
  <dc:subject/>
  <dc:title>Слайд 1</dc:title>
</cp:coreProperties>
</file>