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7F6-A32F-42C1-86A2-780D01EA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A26-9164-4BD9-BE63-7142F9C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6F8-6509-4944-B4EC-27B6478F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FA1-C8DB-4559-9747-74A18B28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3C2A-ECEE-46E6-A92D-77FC6ED7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6CC7-762D-4B65-BB11-E2BD746F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5D7A-19E9-4696-BA28-8F6AA91A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37DA-73BF-47B6-8BB0-63AE89A5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B7C5-A543-4CA2-AE74-FAB4903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1760-BDD3-492C-8A27-BE4E1BD4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144-26C6-463F-B26A-BB2793B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65D-3038-4831-9A9E-2BB9CF2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9710-A0AA-4C89-B892-AEE3AAF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CDB8-385E-4A88-AEDC-EAF2BCDE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465-7435-4294-BE96-9857160F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4200-8D49-4758-AD12-FF51FEEC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5E69-CD1E-4251-9399-61087700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DCF6-E337-4AEB-9141-6B3E14B6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8A07-E508-40A6-B009-30955DB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7279-E8D8-498E-BC2B-BE4392EB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658C-3AEA-4D9C-88B7-1085B141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A03E-D9D1-4F36-A498-4AAD6C46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6B5-8646-4A21-AED3-85D2C343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D02F-0DF8-4913-B318-859925D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8C86-FD86-400C-9933-ADE845E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22EF-1285-4554-8478-9F5B910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EB44-32D2-4175-AC57-281D260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B6A0-A5DF-412F-8719-3339390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D7A9-11A5-462A-98A8-C7668112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9EEA-A634-493D-BB6F-8F1AC6C0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16A2-5F8F-4F88-B016-9CFDF3EC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D831-8DEB-4CF7-A830-023DACD4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AED5-F00A-49BB-8351-5F590714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F00-CCD2-4730-879A-79E2AC84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2C36-519C-4CD9-A1A1-96695DF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7C4F-2652-4AB8-8123-CF24ADA3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7EDF-3D10-4431-9574-05E46368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A8D3-2CDB-4691-AC13-69B1DC73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4525-0481-4ADC-BD43-934D192E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3023-2A4E-427D-99E8-C88E71A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C68B-C86D-4248-90D2-513E783E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1C5B2-E97A-447D-B1EC-56A95641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FD04-FD5D-425C-9973-1F3B2DEF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F02-E906-4D35-9B84-9B2644D8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39F-771B-4633-9D5E-FDDDA207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430-4A4A-40D0-86A1-533B844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197-70A6-45DA-B266-61C404A9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D4F-9017-4177-A3A3-77C384A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474B-6246-465C-B1D7-C8297E25BD2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C65-E0C7-4B9D-BBCA-3EB1181A3B5D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F5EF-565D-4FAB-B18F-D8FDD0DE409E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1938-3354-4288-9BD8-F71894FB482B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1143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ниверсальный характер учебных действий проявляется в том, что они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ося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дпредметный, метапредметный характер;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ежат в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снове организации любой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ятельности учащего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зависимо от ее специально – предметного содержан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льзя ожидать, что уже в 1 классе ребенок сможет оперировать метапредметными УУД, легко встраивая их в разные учебные задач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ивно предполагать, что это умение формируется сразу, одномоментно, в результате прямого объяснения и трениров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начала ребенок усваивает предлагаемый образец и постепенно учится различать в этом образце необязательные и важные элементы(услов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тем при помощи учителя и сверстников ученик начинает понимать, что этапы выполнения действия, заданные образцом, неслучайны, что при соблюдении порядка их выполнения он раз за разом приходит к правильному результат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 есть ученик приходит  к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иманию способа действ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лиш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владев способо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научившись ориентироваться на его существен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усвоив слова, которые этот способ обозначают и описывают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ник может сознательно встраивать его в учебную дея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ачестве примера можно рассмотреть шаги учащегося по осознанию предметного способа проверки б/г в корне слова: «переходили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йду б/г в слов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влю ударение в слове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ереходИл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тем отмечу все б/г в  слове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Ил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 как умею проверять б/г только в корне слова, то выделю корен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этого подберу родственные слова: ходить, походка, выход, ход, ходит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ень – это общая часть родственных слов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чит в слове «п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л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»  корень  - ход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уя это правило, я могу проверить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только один гласный «о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этого надо изменить слово или подобрать однокоренное слово так, чтобы на этот гласный падало удар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помню, какие способы подбора проверочных слов я знаю ( вспомнить несколько приёмов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беру проверочное слово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и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Под ударением стоит гласный «о», значит и без ударения  в однокоренном слове пишу такую  же гласну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е познавательных УУ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вязано с  содержанием учебных предметов, способами и логикой преобразования учебного материал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ановление же личностных, регулятивных и коммуникативных действ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дет в основном чере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личные ситуации и процедур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заимодействия участников образовательного процесса, использов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пециальных методов и форм организации учеб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уча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гулятивные УУ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формируются в процессе их многократного повторен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начале под непосредственным руководством учител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том в коллективной деятельности с другими учащимися, а затем самостоятельн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ое внимание нужно уделить рефлексивному развитию учащихся, обеспечив смену позиций и разный взгляд на свою деятельность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ходимо давать ребенку возможность не только  учиться и быть в позиции «ученика», но и возможность учить другого – быть в позиции «учителя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форм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муникативных умен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еобходимо регулярно включать каждого учащегося  в специально организованные ситуаци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де он должен слушать, не перебивая собеседник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ита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лагать свои мысли четко и ясно письменно или устн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вать вопросы на уточнение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м компонентом школьного обучения по – прежнему  остается ур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ление проекта (плана, конспекта) урока традиционно является необходимым этапом подготовки  учителя к уро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диционная структура урока, включающая проверку домашнего задания, изучение нового материала, закрепление пройденного никак не нацеливает учителя работать в рамках деятельностного мето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ответствии с требованиями ФГОС НОО этапы урока должны отражать структурные элементы «деятельности»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мотив, цель, действия для ее достижения, результат.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жнейшим признаком урока, ориентированного на новый образовательный стандарт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вляется наличие  в его содержании элемент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бучения школьников универсальным  учебным действ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УД становится важнейшей целью, если не каждого урока, то большинства урок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этом структура целей урока (для учителя) отходит от традиционно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гда учитель старался сформулировать три группы целей: обучения, воспитания и развит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соответствии с новыми ориентирами  в образовании цели урока можно и нужно классифициров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посредственно относящиеся к учебному предмету, отражающие предметные знания и ум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метапредметные действия, относящиеся к формированию УУ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широком значени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рми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«Универсальные учебные действия»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значает умение учиться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т.е. способность ученика к саморазвитию и самосовершенствованию путем сознательного и активного присвоения нового социального опы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более узком значении этот термин можно определить как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окупнос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 способ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йствий учащегося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обеспечивающих самостоятельное усвоение новых знаний, формирование умений, включая организацию этого процесса.  (А.Г. Асмолов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качестве целей и задач урока могут отражаться «планируемые результаты», которые тоже можно классифицировать по вышеназванному призна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формулировании предметных целей следует акцентировать  вним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мени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не н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(чему научатся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умения будут главным  объектом диагностики образованности школь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быть обозначены таким образом, чтобы их можно бы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о провер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урнал « начальная школа» -  № 11 за 2012год  УМК «Перспектива» 1 класс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Обучение грамоте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ма «Звуки [х] и [х], Буквы Х, х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ли: Развитие фонематических умений, Понимание смыслоразличительной роли звука и буквы на его месте; развитие навыка конструирования предложений; формирование метапредметных учебных действий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егулятивны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понимать, принимать и удерживать задачу; контролировать свои действия, действия одноклассников; работать по плану;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опознавать звуки, понимать соотношение между звуками и буквами, выполнять операции анализа, синтеза, обобщ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коммуникативные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участвовать в диалоге, выполняя нормы речевого поведения; осуществлять совместную деятельность с одноклассниками и учителем; осуществлять различные способы взаимной помощ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урнал « начальная школа» -  № 12 за 2012год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Математик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Л. Г. Петерсон 3 класс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ема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Единица измерения массы – грамм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ланируемые результаты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личностные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ценивание поступков, разрешая моральные противоречия на основе важности образования,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ммуникативные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ие общей цели и путей ее достижения; формирование умения договариваться о распределении функций, осуществлять взаимный контроль в совмес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знавательные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ирование умения ориентироваться в своей системе знаний (умения самостоятельно предполагать, какая информация нужна для решения учебной задачи, умения перерабатывать полученную информацию (сравнивать и группировать факты и явления; определять причины явлений, событий, делать выводы на основе обобщения знаний;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гулятивные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умения определять и формулировать цели деятельности; умение составлять план действий по решению проблемы; соотносить результаты своей деятельности с целью и оценивать е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едметные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учить использовать при решении учебных задач единицу измерения массы – грамм и соотношение между килограммом и граммом; читать и записывать именованные числа в пределах 1000 и производить с ними арифметические действия; решать задачи в 1-2 действия; (беседа учителей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Краткий выв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вязи с реализацией ФГОС НОО, при подготовке к уроку педагоги должны формулировать не тольк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дметны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но 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тапредметные задачи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основать и сформулировать метапредметные задачи  мало – необходим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здать учебную ситуацию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где обозначенные метапредметные цели можно будет реализов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УУД на уроках в начальной школ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разработке конспекта урока ощутимую помощь учителю может оказа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хнологическая карта уро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современная форма планирования  педагогического взаимодействия учителя и обучающихс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ходимо обратить внимание на те позиции, на которые можно и нужно опираться при конструировании технологической карты урок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в ней должен быть описа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сь процесс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должны бы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казаны операции, их составные ча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В таблице представлена примерная форма технологической карты урока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8229600" cy="4780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057320"/>
                <a:gridCol w="1057320"/>
                <a:gridCol w="1027080"/>
                <a:gridCol w="1217520"/>
                <a:gridCol w="1379520"/>
              </a:tblGrid>
              <a:tr h="47772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–й эта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–й эта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ачестве образца использования данной технологической карты на практике при составлении конспекта урока предлагаем пример первого этапа урока литературного чтения в первом классе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хнологическая карта уро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чебный предмет: литературное чт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ласс: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втор УМК: Бунеев Р.Н.,Бунеева Е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ма урока: Маршак С.Я. « Цирк шапито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ип урока: 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В таблице представлена примерная форма технологической карты урока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600200"/>
          <a:ext cx="8229600" cy="4780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057320"/>
                <a:gridCol w="1057320"/>
                <a:gridCol w="1027080"/>
                <a:gridCol w="1217520"/>
                <a:gridCol w="1379520"/>
              </a:tblGrid>
              <a:tr h="47772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уществля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мые способ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й этап урока «Постановка цели и задачи уро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–й эта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ь учителя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1.Загадывает загадку о цирке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2. Просит выдвинуть предположение о теме предстоящего урока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3.Организует беседу, выявляющую представление детей о цирке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4.Подводит итог беседы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5.Ставит цель заслушивания текста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6. Формирует группу экспертов для оценки выразительности чтения (по ранее разработанному алгоритму)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связи с этим, при создании методической копилки по развитию УУД необходимо разобраться и соотнести между собой три понят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спосо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ум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универсальное учебное действ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знавательная деятельность учащих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уществляемые действ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Отгадывают загадк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Выдвигают предположение о теме уро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Слушают вопросы учите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Отвечают на вопросы учите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ормируемые способы деятельн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Умение выделять существенную информацию из текста загад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Выдвигать гипотезу и обосновывать е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Коммуникативная деятельность учащих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уществляемые действ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Взаимодействуют  с учителем во время опроса, осуществляемого во фронтальном режи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ормируемые способы деятельн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Учатся слушать собесед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егулятивная деятельность учащих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уществляемые действ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Контролируют правильность ответов обучающих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Формируемые способы деятельн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Учатся сохранять учебную задач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ое внимание с точки зрения формирования УУД  в ФГОС НОО уделяется рефлексивным умения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е рефлексивных умений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 происходит автоматически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еобходима специальная организация учебного процесса и учебной сред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начальной школе формируются следующие рефлексивные ум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адекватно воспринимать себ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ставить цель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пределять результаты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соотносить результаты с целью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пределять наличие ошибо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писывать прожитую ситуац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формирования рефлексивных умений каждому ученику необходимо освоить организацию собственной деятельности на каждом из трех последовательных этапов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своей деятельности, ее реализация и рефлекс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формление таких записей необходимо для последующего обучения анализу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первом этап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чащийся  планирует свою учебную деятельность, делает записи в «Рефлексивном дневнике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н может планировать свою деятельность по-разному: самостоятельно, с помощью учителя  или с помощью своих товарищей, но записи в своем «Рефлексивном дневнике» он делает сам. Это может выглядеть как ответы на три вопрос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решение задач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4572000"/>
          <a:ext cx="7620120" cy="1204920"/>
        </p:xfrm>
        <a:graphic>
          <a:graphicData uri="http://schemas.openxmlformats.org/drawingml/2006/table">
            <a:tbl>
              <a:tblPr/>
              <a:tblGrid>
                <a:gridCol w="2478240"/>
                <a:gridCol w="2779560"/>
                <a:gridCol w="2362320"/>
              </a:tblGrid>
              <a:tr h="68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мне нужно сдела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еобходимо делать?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я могу сдела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втором этап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ажно включить учащихся в парную или групповую работу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условиях учебного диалога появляется возможность для формирования у школьников умения вставать на позицию другого, понимать причину действия другого человека, адекватно воспринимать себя и принимать ответственнос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первых этапах организации рефлексивной деятельности  учащимся можно предлагать ответить на вопросы, продолжить неоконченные  предложения, проанализировать пословицы, афоризмы и т.д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Восстанови (перечисли), что ты сделал за заняти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Подумай, что тебе нужно изменить, чтобы работать лучш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Определи свою деятельнос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шкале  успеха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Нарисуй в книжке-малышке выбранный симво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Шкала успеха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∆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я мог (- ла) работать и лучш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⁯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егодня я понял (- а), чего мне не хватает для успешной работы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≈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Я сегодня плохо работал (- а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○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 очень старался (ась), но у меня не все получилось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Сегодня я работал (- а) в полную силу. У меня все получилос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анная методика помогает учащимся фиксировать свой результат и сравнивать с предыдущи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0" name="Group 7"/>
          <p:cNvGrpSpPr/>
          <p:nvPr/>
        </p:nvGrpSpPr>
        <p:grpSpPr>
          <a:xfrm>
            <a:off x="1441800" y="4641840"/>
            <a:ext cx="239400" cy="241200"/>
            <a:chOff x="1441800" y="4641840"/>
            <a:chExt cx="239400" cy="241200"/>
          </a:xfrm>
        </p:grpSpPr>
        <p:sp>
          <p:nvSpPr>
            <p:cNvPr id="271" name="AutoShape 8"/>
            <p:cNvSpPr/>
            <p:nvPr/>
          </p:nvSpPr>
          <p:spPr>
            <a:xfrm>
              <a:off x="1447920" y="46483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 rot="21405600">
              <a:off x="1447920" y="4647960"/>
              <a:ext cx="2268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35"/>
                  </a:moveTo>
                  <a:lnTo>
                    <a:pt x="3808" y="3835"/>
                  </a:lnTo>
                  <a:lnTo>
                    <a:pt x="5018" y="0"/>
                  </a:lnTo>
                  <a:lnTo>
                    <a:pt x="6192" y="3835"/>
                  </a:lnTo>
                  <a:lnTo>
                    <a:pt x="10000" y="3835"/>
                  </a:lnTo>
                  <a:lnTo>
                    <a:pt x="6904" y="6165"/>
                  </a:lnTo>
                  <a:lnTo>
                    <a:pt x="8078" y="10000"/>
                  </a:lnTo>
                  <a:lnTo>
                    <a:pt x="5018" y="7634"/>
                  </a:lnTo>
                  <a:lnTo>
                    <a:pt x="1922" y="10000"/>
                  </a:lnTo>
                  <a:lnTo>
                    <a:pt x="3096" y="6165"/>
                  </a:lnTo>
                  <a:lnTo>
                    <a:pt x="0" y="38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6480" y="22752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щиеся могут анализировать собственные действия, отношения, мысли и т.д. Если ученик затрудняется начать высказывание, то учитель может предложить ему закончить предложения, например: «Думаю, что…», «Мое отношение…»,  «Я чувствую…». С их помощью учитель задает нужный ему как руководителю процесса предмет рефлекс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ие задания позволяют ученику  фиксировать границы своего знания и незнания, способы их преодоления, анализировать себя на пути получения результа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их выполнения необходимо много времени, чтобы процесс мышления по поводу самого себя развернулся полноцен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особ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действие или система действий, применяемая при исполнении какой-нибудь работы. Таким образом, способ служит определенной задаче, он нацелен на получение определенного результата. Способ передается ребенку в процессе обучен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мени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это способность выполнять какое-либо действие по определенным правилам. То есть умение – это владение способ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УД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пределяю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к способы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и по сути своей также являются умениями, связанными с самостоятельным осуществлением учебной деятельности во всей ее полно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 материал – продукт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иксировать такие моменты можно в таблице учета, которую заполняет учитель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62120" y="2286000"/>
          <a:ext cx="7543800" cy="395136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480"/>
                <a:gridCol w="1508400"/>
              </a:tblGrid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исок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флексивные 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спринимать себ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вить цель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относить результаты с целью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ять наличие ошибок в собственном повед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т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д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5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ловные обозначения:«-» - умение не сформировано; «*» - умение проявилось частично; «+» - умение в целом сформировано; «+ +»- умение сформировано хорош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им образом, формирование рефлексивных умений у школьников на ступени начального общего образования может задаватьс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личными методическими или дидактическими средствами, через последовательность выполняемых действи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в парах – это возможность научиться взаимодействовать и общаться с одноклассником, отработать навыки совмест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уя в паре, ученики совместно решают учебную задачу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говариваются об очередности, способах и последовательности выполнения задан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учают совместный результат, вместе оценивают и вдвоем отвечают за его правильнос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уче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авыкам работ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пар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еобходимо осуществля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доступном учебном материале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а опыте, который знаком каждом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оторая ставится перед учащимися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а быть посильн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для них, а содержание задания должно обеспечивать активность всех школь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задания должны способствовать возникновению различных мнений и являться основой для  обсуждения, носить поисковый характер, так как групповая работа связана с проблемным обучени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основе организации совместной деятельности на уроке лежат идеи развития сотрудничества, коллективных способов обуч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едует заметить, что хорошим помощником учителю в привитии учащимся навыков сотрудничества может стать технология А.Г.Ривина и В.К.Дьяченко «Коллективные способы обучения», суть которой изложена в сборнике Г.К. Селевко «Современные образовательные технологии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реализации задач, сформулированных в ФГОС НОО, педагогу необходим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ть в учебно-воспитательный процесс эффективные педагогические технологии, прогрессивные методы и приемы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лять личностно ориентированный подход в обучении и интеграцию с информационно-коммуникационными технология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едовательно,  без постоянного самообразования, без личной инициативы и творчества решить поставленные задачи будет достаточно слож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став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новных вид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универсальных учебных действий, соответствующих ключевым целям общего образования, можно выдели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тыре блок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)личност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)регулятив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)познаватель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)коммуникативны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тандартах указана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овая для многих стратег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м с использованием  методов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изующих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ебенка, 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пускающих» его активност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 процессе которой ученик постоянно должен отвечать 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едующие вопрос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я буду дел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это буду дел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Из каких материалов ил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 помощью чег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я это буду дел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рю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льность выполненной работы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йму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чт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бота выполнена хорошо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УД – это вопрос освоения интеллекту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сожалению, по отношению к этим инструментам мы допускае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ольшую ошибк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считая, что  если ребенок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ая предметные задачи, оперировал  действиями анализа, сравнения, сопоставления или обобщения, то он понял и осмыслил, как они работают,  что этого уже достаточно для развития УУ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что завтра ребенок сможет самостоятельно в новой ситуации грамотно применить тот или иной интеллектуальный инструмен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комство с инструментами по развитию УУД и совместное освоение способов действия – реальная педагогическая задач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ниверсальных учебных действий – процесс длительны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учебные действия необходимо за сче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гулярн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аспределенной во времени деятельной включенност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учащихс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пециально организованные ситуации на всех учебных предметах и внеуроч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Формирование УУД на уроках в начальной школ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УД  напрямую зависит от того, каким образом выстроен образовательный  процесс и организована учебная деятельность в класс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учител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а новый  образовательный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вяз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сво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бен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действия, контроля и оценки на базе одного или всех предметов, а также структуре самой учебной деятельности, в которую ребенок научится «вкладывать» освоенные способ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RePack by Diakov</cp:lastModifiedBy>
  <dcterms:modified xsi:type="dcterms:W3CDTF">2021-06-13T08:43:04Z</dcterms:modified>
  <cp:revision>3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