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9F0-B8EB-45EC-8B51-A6EDFF16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9D4-7F85-4C1D-BCBF-874DA9B1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6AE7-3710-4415-B177-A1EED04C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8A0-2306-4EB7-9B41-5D78DBBA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4CAC-4342-428A-9780-5EF02E94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FA3B-5A03-4FAC-876F-5210D7F1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763D-244F-487B-8E52-609353F4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EFBE-F77F-4789-86D8-7F63AEC4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CF01-2B36-4CC5-B1F9-399CB57E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A882-9CA9-47F5-B418-986DF7C5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E53D-DA84-4A31-B70A-8C0C4A2D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E00-5461-4AE7-ABF4-A479CB75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4AA2-9975-4804-B284-7937E8BB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EEFE-8C60-41F8-959D-7EF244AB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9696-D3A3-413B-A65B-90F490B8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CF8C-8A51-4604-BFC6-9C72C9CB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4B05-0454-41CF-8D98-C2C8F13F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D6F76-1B87-4757-8D31-B5DE8243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C181-F3A4-4663-86D8-EAFB848F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B5255-6ECA-42EE-A368-084104D5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0EC9-065D-4511-9844-ECDEBB44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867A0-B213-4144-8118-FA65814E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FC3-F763-4948-979F-CF88D3A7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33878-11CD-4FC7-9963-BEE5EEC1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B1487-46DD-48B1-84F5-76D3611E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5906-B308-43BB-BF71-F662A71B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969B3-1CEF-4F51-8166-9D0B713D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037A4-DEB4-4AC3-AB93-9A37600E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0D755-AB9A-4AED-84DD-42D6C089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01893-0DEB-40D3-8DD4-E8CAD8FF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511CA-EF14-43CF-93F0-8D34BD73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E7693-B482-49EA-A894-438C8443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83F15-8165-436E-A3BF-FC696D63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63F-008B-441A-BE36-26A51B61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2E47E-CFA2-4611-806F-CC829970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18D27-CD99-47A6-B0F1-047ED656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EC4E3-8FC2-4743-8100-731BD058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0D69C-3611-487E-8C37-CCD99203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F1220-A99A-4CF9-904A-872C3E0A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74B64-820D-4870-BB48-ED5294A1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C209D-4865-4077-9601-275D23A8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2D45B-0C70-4A4D-AB4C-352F72E3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51BCB-B894-4F4D-900C-B81B7B48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C80-21F2-47C2-AB16-3DFE6009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897-376D-4327-A659-A2888852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B91-A9C0-4E85-A278-55C077E5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4B4-E909-45D2-8BF6-21449307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215-E1A2-40B2-8885-8D886841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1E0F-BD4B-405A-AB25-D387CEA28EB5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4048-7456-4343-A5BD-9645F1A0BD93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AC87-3775-40EA-A8ED-486301C8D13A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238A-6878-4C31-BBD5-B8411C65B251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11430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ниверсальный характер учебных действий проявляется в том, что они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осят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дпредметный, метапредметный характер;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ежат в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снове организации любой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еятельности учащегося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зависимо от ее специально – предметного содержания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льзя ожидать, что уже в 1 классе ребенок сможет оперировать метапредметными УУД, легко встраивая их в разные учебные задач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ивно предполагать, что это умение формируется сразу, одномоментно, в результате прямого объяснения и трениров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начала ребенок усваивает предлагаемый образец и постепенно учится различать в этом образце необязательные и важные элементы(условия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тем при помощи учителя и сверстников ученик начинает понимать, что этапы выполнения действия, заданные образцом, неслучайны, что при соблюдении порядка их выполнения он раз за разом приходит к правильному результ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 есть ученик приходит  к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ниманию способа действ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лишь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владев способо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научившись ориентироваться на его существенные стороны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усвоив слова, которые этот способ обозначают и описывают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еник может сознательно встраивать его в учебную деятельнос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качестве примера можно рассмотреть шаги учащегося по осознанию предметного способа проверки б/г в корне слова: «переходили»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йду б/г в слов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тавлю ударение в слове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ереходИл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тем отмечу все б/г в  слове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р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Ил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ак как умею проверять б/г только в корне слова, то выделю корен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этого подберу родственные слова: ходить, походка, выход, ход, ходит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рень – это общая часть родственных слов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начит в слове «п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Ил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»  корень  - ход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уя это правило, я могу проверить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только один гласный «о»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этого надо изменить слово или подобрать однокоренное слово так, чтобы на этот гласный падало ударе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помню, какие способы подбора проверочных слов я знаю ( вспомнить несколько приёмов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беру проверочное слово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ит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 Под ударением стоит гласный «о», значит и без ударения  в однокоренном слове пишу такую  же гласну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ормирование познавательных УУД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связано с  содержанием учебных предметов, способами и логикой преобразования учебного материал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тановление же личностных, регулятивных и коммуникативных действ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дет в основном через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различные ситуации и процедур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взаимодействия участников образовательного процесса, использов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пециальных методов и форм организации учебной работ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учащих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гулятивные УУД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формируются в процессе их многократного повторен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начале под непосредственным руководством учител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том в коллективной деятельности с другими учащимися, а затем самостоятельно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ое внимание нужно уделить рефлексивному развитию учащихся, обеспечив смену позиций и разный взгляд на свою деятельность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обходимо давать ребенку возможность не только  учиться и быть в позиции «ученика», но и возможность учить другого – быть в позиции «учителя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формировани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ммуникативных умен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необходимо регулярно включать каждого учащегося  в специально организованные ситуаци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де он должен слушать, не перебивая собеседник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итат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лагать свои мысли четко и ясно письменно или устно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давать вопросы на уточнение и т.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ным компонентом школьного обучения по – прежнему  остается ур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ставление проекта (плана, конспекта) урока традиционно является необходимым этапом подготовки  учителя к урок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адиционная структура урока, включающая проверку домашнего задания, изучение нового материала, закрепление пройденного никак не нацеливает учителя работать в рамках деятельностного метод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оответствии с требованиями ФГОС НОО этапы урока должны отражать структурные элементы «деятельности»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f6fc6"/>
                </a:solidFill>
                <a:uFillTx/>
                <a:latin typeface="Constantia"/>
              </a:rPr>
              <a:t>мотив, цель, действия для ее достижения, результат.</a:t>
            </a: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жнейшим признаком урока, ориентированного на новый образовательный стандарт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является наличие  в его содержании элементо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бучения школьников универсальным  учебным действия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УУД становится важнейшей целью, если не каждого урока, то большинства урок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этом структура целей урока (для учителя) отходит от традиционной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гда учитель старался сформулировать три группы целей: обучения, воспитания и развити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соответствии с новыми ориентирами  в образовании цели урока можно и нужно классифицировать следующим образом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епосредственно относящиеся к учебному предмету, отражающие предметные знания и ум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метапредметные действия, относящиеся к формированию УУД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широком значени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ермин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«Универсальные учебные действия»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значает умение учиться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т.е. способность ученика к саморазвитию и самосовершенствованию путем сознательного и активного присвоения нового социального опы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более узком значении этот термин можно определить как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вокупнос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 способов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ействий учащегося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обеспечивающих самостоятельное усвоение новых знаний, формирование умений, включая организацию этого процесса.  (А.Г. Асмолов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качестве целей и задач урока могут отражаться «планируемые результаты», которые тоже можно классифицировать по вышеназванному признак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формулировании предметных целей следует акцентировать  вним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мения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 не н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(чему научатся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но умения будут главным  объектом диагностики образованности школьник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ны быть обозначены таким образом, чтобы их можно был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гко провери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Журнал « начальная школа» -  № 11 за 2012год  УМК «Перспектива» 1 класс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Обучение грамоте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ема «Звуки [х] и [х], Буквы Х, х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Цели: Развитие фонематических умений, Понимание смыслоразличительной роли звука и буквы на его месте; развитие навыка конструирования предложений; формирование метапредметных учебных действий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регулятивны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 понимать, принимать и удерживать задачу; контролировать свои действия, действия одноклассников; работать по плану;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познавательны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 опознавать звуки, понимать соотношение между звуками и буквами, выполнять операции анализа, синтеза, обобще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коммуникативные: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участвовать в диалоге, выполняя нормы речевого поведения; осуществлять совместную деятельность с одноклассниками и учителем; осуществлять различные способы взаимной помощ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Журнал « начальная школа» -  № 12 за 2012год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Математика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Л. Г. Петерсон 3 класс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Тема: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«Единица измерения массы – грамм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ланируемые результаты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личностные: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оценивание поступков, разрешая моральные противоречия на основе важности образования, здорового образа жизн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оммуникативные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пределение общей цели и путей ее достижения; формирование умения договариваться о распределении функций, осуществлять взаимный контроль в совместн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знавательные: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ормирование умения ориентироваться в своей системе знаний (умения самостоятельно предполагать, какая информация нужна для решения учебной задачи, умения перерабатывать полученную информацию (сравнивать и группировать факты и явления; определять причины явлений, событий, делать выводы на основе обобщения знаний;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егулятивные: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ирование умения определять и формулировать цели деятельности; умение составлять план действий по решению проблемы; соотносить результаты своей деятельности с целью и оценивать е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едметные: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учить использовать при решении учебных задач единицу измерения массы – грамм и соотношение между килограммом и граммом; читать и записывать именованные числа в пределах 1000 и производить с ними арифметические действия; решать задачи в 1-2 действия; (беседа учителей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Краткий вывод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вязи с реализацией ФГОС НОО, при подготовке к уроку педагоги должны формулировать не только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едметны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но 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етапредметные задачи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основать и сформулировать метапредметные задачи  мало – необходим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здать учебную ситуацию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где обозначенные метапредметные цели можно будет реализов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УУД на уроках в начальной школ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разработке конспекта урока ощутимую помощь учителю может оказать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ехнологическая карта уро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современная форма планирования  педагогического взаимодействия учителя и обучающихс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обходимо обратить внимание на те позиции, на которые можно и нужно опираться при конструировании технологической карты урок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в ней должен быть описан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есь процесс деятельно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должны быть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казаны операции, их составные ча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6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Calibri"/>
              </a:rPr>
              <a:t>В таблице представлена примерная форма технологической карты урока: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600200"/>
          <a:ext cx="8229600" cy="4780080"/>
        </p:xfrm>
        <a:graphic>
          <a:graphicData uri="http://schemas.openxmlformats.org/drawingml/2006/table">
            <a:tbl>
              <a:tblPr/>
              <a:tblGrid>
                <a:gridCol w="1208160"/>
                <a:gridCol w="1282680"/>
                <a:gridCol w="1057320"/>
                <a:gridCol w="1057320"/>
                <a:gridCol w="1027080"/>
                <a:gridCol w="1217520"/>
                <a:gridCol w="1379520"/>
              </a:tblGrid>
              <a:tr h="47772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ва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гулятив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5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уществляем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мые способ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уществляем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мые способ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уществляем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мые способ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–й этап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–й этап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качестве образца использования данной технологической карты на практике при составлении конспекта урока предлагаем пример первого этапа урока литературного чтения в первом классе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ехнологическая карта уро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Учебный предмет: литературное чт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ласс: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Автор УМК: Бунеев Р.Н.,Бунеева Е.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ема урока: Маршак С.Я. « Цирк шапито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ип урока: 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6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Calibri"/>
              </a:rPr>
              <a:t>В таблице представлена примерная форма технологической карты урока: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1600200"/>
          <a:ext cx="8229600" cy="4780080"/>
        </p:xfrm>
        <a:graphic>
          <a:graphicData uri="http://schemas.openxmlformats.org/drawingml/2006/table">
            <a:tbl>
              <a:tblPr/>
              <a:tblGrid>
                <a:gridCol w="1208160"/>
                <a:gridCol w="1282680"/>
                <a:gridCol w="1057320"/>
                <a:gridCol w="1057320"/>
                <a:gridCol w="1027080"/>
                <a:gridCol w="1217520"/>
                <a:gridCol w="1379520"/>
              </a:tblGrid>
              <a:tr h="47772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ва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гулятив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5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уществляем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мые способ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уществляем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мые способ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уществляем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мые способ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й этап урока «Постановка цели и задачи уро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–й этап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Constantia"/>
              </a:rPr>
              <a:t>Деятельность учителя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1.Загадывает загадку о цирке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2. Просит выдвинуть предположение о теме предстоящего урока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3.Организует беседу, выявляющую представление детей о цирке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4.Подводит итог беседы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5.Ставит цель заслушивания текста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6. Формирует группу экспертов для оценки выразительности чтения (по ранее разработанному алгоритму)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связи с этим, при создании методической копилки по развитию УУД необходимо разобраться и соотнести между собой три понятия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способ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ум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универсальное учебное действ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ознавательная деятельность учащихс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существляемые действ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Отгадывают загадк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Выдвигают предположение о теме уро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Слушают вопросы учител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Отвечают на вопросы учител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Формируемые способы деятельнос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Умение выделять существенную информацию из текста загад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Выдвигать гипотезу и обосновывать е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Коммуникативная деятельность учащихс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существляемые действ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Взаимодействуют  с учителем во время опроса, осуществляемого во фронтальном режи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Формируемые способы деятельнос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Учатся слушать собесед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Регулятивная деятельность учащихс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существляемые действ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Контролируют правильность ответов обучающихс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Формируемые способы деятельнос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Учатся сохранять учебную задач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ое внимание с точки зрения формирования УУД  в ФГОС НОО уделяется рефлексивным умения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е рефлексивных умений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 происходит автоматически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Необходима специальная организация учебного процесса и учебной сред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начальной школе формируются следующие рефлексивные умен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адекватно воспринимать себ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ставить цель деятельно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пределять результаты деятельно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соотносить результаты с целью деятельно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пределять наличие ошибок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писывать прожитую ситуаци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формирования рефлексивных умений каждому ученику необходимо освоить организацию собственной деятельности на каждом из трех последовательных этапов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роектирование своей деятельности, ее реализация и рефлекс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формление таких записей необходимо для последующего обучения анализу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 первом этап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чащийся  планирует свою учебную деятельность, делает записи в «Рефлексивном дневнике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н может планировать свою деятельность по-разному: самостоятельно, с помощью учителя  или с помощью своих товарищей, но записи в своем «Рефлексивном дневнике» он делает сам. Это может выглядеть как ответы на три вопрос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решение задач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14400" y="4572000"/>
          <a:ext cx="7620120" cy="1204920"/>
        </p:xfrm>
        <a:graphic>
          <a:graphicData uri="http://schemas.openxmlformats.org/drawingml/2006/table">
            <a:tbl>
              <a:tblPr/>
              <a:tblGrid>
                <a:gridCol w="2478240"/>
                <a:gridCol w="2779560"/>
                <a:gridCol w="2362320"/>
              </a:tblGrid>
              <a:tr h="68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мне нужно сделат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необходимо делать?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я могу сделат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втором этап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важно включить учащихся в парную или групповую работу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условиях учебного диалога появляется возможность для формирования у школьников умения вставать на позицию другого, понимать причину действия другого человека, адекватно воспринимать себя и принимать ответственность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первых этапах организации рефлексивной деятельности  учащимся можно предлагать ответить на вопросы, продолжить неоконченные  предложения, проанализировать пословицы, афоризмы и т.д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Восстанови (перечисли), что ты сделал за заняти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Подумай, что тебе нужно изменить, чтобы работать лучш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Определи свою деятельнос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о шкале  успеха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Нарисуй в книжке-малышке выбранный символ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Шкала успеха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  ∆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я мог (- ла) работать и лучш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⁯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егодня я понял (- а), чего мне не хватает для успешной работы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≈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Я сегодня плохо работал (- а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○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Я очень старался (ась), но у меня не все получилось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Сегодня я работал (- а) в полную силу. У меня все получилось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анная методика помогает учащимся фиксировать свой результат и сравнивать с предыдущим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70" name="Group 7"/>
          <p:cNvGrpSpPr/>
          <p:nvPr/>
        </p:nvGrpSpPr>
        <p:grpSpPr>
          <a:xfrm>
            <a:off x="1441800" y="4641840"/>
            <a:ext cx="239400" cy="241200"/>
            <a:chOff x="1441800" y="4641840"/>
            <a:chExt cx="239400" cy="241200"/>
          </a:xfrm>
        </p:grpSpPr>
        <p:sp>
          <p:nvSpPr>
            <p:cNvPr id="271" name="AutoShape 8"/>
            <p:cNvSpPr/>
            <p:nvPr/>
          </p:nvSpPr>
          <p:spPr>
            <a:xfrm>
              <a:off x="1447920" y="464832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AutoShape 9"/>
            <p:cNvSpPr/>
            <p:nvPr/>
          </p:nvSpPr>
          <p:spPr>
            <a:xfrm rot="21405600">
              <a:off x="1447920" y="4647960"/>
              <a:ext cx="226800" cy="22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35"/>
                  </a:moveTo>
                  <a:lnTo>
                    <a:pt x="3808" y="3835"/>
                  </a:lnTo>
                  <a:lnTo>
                    <a:pt x="5018" y="0"/>
                  </a:lnTo>
                  <a:lnTo>
                    <a:pt x="6192" y="3835"/>
                  </a:lnTo>
                  <a:lnTo>
                    <a:pt x="10000" y="3835"/>
                  </a:lnTo>
                  <a:lnTo>
                    <a:pt x="6904" y="6165"/>
                  </a:lnTo>
                  <a:lnTo>
                    <a:pt x="8078" y="10000"/>
                  </a:lnTo>
                  <a:lnTo>
                    <a:pt x="5018" y="7634"/>
                  </a:lnTo>
                  <a:lnTo>
                    <a:pt x="1922" y="10000"/>
                  </a:lnTo>
                  <a:lnTo>
                    <a:pt x="3096" y="6165"/>
                  </a:lnTo>
                  <a:lnTo>
                    <a:pt x="0" y="38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13"/>
          <p:cNvSpPr/>
          <p:nvPr/>
        </p:nvSpPr>
        <p:spPr>
          <a:xfrm>
            <a:off x="6480" y="22752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ащиеся могут анализировать собственные действия, отношения, мысли и т.д. Если ученик затрудняется начать высказывание, то учитель может предложить ему закончить предложения, например: «Думаю, что…», «Мое отношение…»,  «Я чувствую…». С их помощью учитель задает нужный ему как руководителю процесса предмет рефлекс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акие задания позволяют ученику  фиксировать границы своего знания и незнания, способы их преодоления, анализировать себя на пути получения результат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их выполнения необходимо много времени, чтобы процесс мышления по поводу самого себя развернулся полноценн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пособ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– действие или система действий, применяемая при исполнении какой-нибудь работы. Таким образом, способ служит определенной задаче, он нацелен на получение определенного результата. Способ передается ребенку в процессе обучен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мени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– это способность выполнять какое-либо действие по определенным правилам. То есть умение – это владение способ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УД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пределяю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как способы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и по сути своей также являются умениями, связанными с самостоятельным осуществлением учебной деятельности во всей ее полнот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 материал – продукт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Фиксировать такие моменты можно в таблице учета, которую заполняет учитель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62120" y="2286000"/>
          <a:ext cx="7543800" cy="3951360"/>
        </p:xfrm>
        <a:graphic>
          <a:graphicData uri="http://schemas.openxmlformats.org/drawingml/2006/table">
            <a:tbl>
              <a:tblPr/>
              <a:tblGrid>
                <a:gridCol w="1508040"/>
                <a:gridCol w="1509840"/>
                <a:gridCol w="1508040"/>
                <a:gridCol w="1509480"/>
                <a:gridCol w="1508400"/>
              </a:tblGrid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исок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флексивные ум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спринимать себ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вить цель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относить результаты с целью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ределять наличие ошибок в собственном повед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в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т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д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56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словные обозначения:«-» - умение не сформировано; «*» - умение проявилось частично; «+» - умение в целом сформировано; «+ +»- умение сформировано хорош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аким образом, формирование рефлексивных умений у школьников на ступени начального общего образования может задаватьс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личными методическими или дидактическими средствами, через последовательность выполняемых действий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бота в парах – это возможность научиться взаимодействовать и общаться с одноклассником, отработать навыки совместной деятельност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заимодействуя в паре, ученики совместно решают учебную задачу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говариваются об очередности, способах и последовательности выполнения задания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лучают совместный результат, вместе оценивают и вдвоем отвечают за его правильность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бучени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навыкам работы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пар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необходимо осуществлять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доступном учебном материале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на опыте, который знаком каждом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цель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которая ставится перед учащимися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олжна быть посильн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для них, а содержание задания должно обеспечивать активность всех школьник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задания должны способствовать возникновению различных мнений и являться основой для  обсуждения, носить поисковый характер, так как групповая работа связана с проблемным обучени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основе организации совместной деятельности на уроке лежат идеи развития сотрудничества, коллективных способов обучен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едует заметить, что хорошим помощником учителю в привитии учащимся навыков сотрудничества может стать технология А.Г.Ривина и В.К.Дьяченко «Коллективные способы обучения», суть которой изложена в сборнике Г.К. Селевко «Современные образовательные технологии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реализации задач, сформулированных в ФГОС НОО, педагогу необходим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ключать в учебно-воспитательный процесс эффективные педагогические технологии, прогрессивные методы и приемы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уществлять личностно ориентированный подход в обучении и интеграцию с информационно-коммуникационными технология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едовательно,  без постоянного самообразования, без личной инициативы и творчества решить поставленные задачи будет достаточно сложн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остав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сновных видов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универсальных учебных действий, соответствующих ключевым целям общего образования, можно выделить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тыре блок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)личностны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)регулятивны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)познавательны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)коммуникативны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тандартах указана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новая для многих стратеги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им с использованием  методов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рганизующих дея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ребенка, «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пускающих» его активность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 процессе которой ученик постоянно должен отвечать н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ледующие вопросы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Что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я буду делать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чем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ак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 это буду делать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Из каких материалов или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 помощью чего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я это буду делать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ак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оверю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авильность выполненной работы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ак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я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йму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что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бота выполнена хорошо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УУД – это вопрос освоения интеллектуальных инструмент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сожалению, по отношению к этим инструментам мы допускаем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ольшую ошибк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считая, что  если ребенок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шая предметные задачи, оперировал  действиями анализа, сравнения, сопоставления или обобщения, то он понял и осмыслил, как они работают,  что этого уже достаточно для развития УУ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что завтра ребенок сможет самостоятельно в новой ситуации грамотно применить тот или иной интеллектуальный инструмен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накомство с инструментами по развитию УУД и совместное освоение способов действия – реальная педагогическая задач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универсальных учебных действий – процесс длительны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ть учебные действия необходимо за счет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гулярн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распределенной во времени деятельной включенности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учащихс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пециально организованные ситуации на всех учебных предметах и внеурочной деятельност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УУД  напрямую зависит от того, каким образом выстроен образовательный  процесс и организована учебная деятельность в класс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бота учител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на новый  образовательный 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связа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сво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бен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м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пособов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действия, контроля и оценки на базе одного или всех предметов, а также структуре самой учебной деятельности, в которую ребенок научится «вкладывать» освоенные способ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RePack by Diakov</cp:lastModifiedBy>
  <dcterms:modified xsi:type="dcterms:W3CDTF">2021-06-13T08:43:04Z</dcterms:modified>
  <cp:revision>3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