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29.wmf" ContentType="image/x-wmf"/>
  <Override PartName="/ppt/media/image7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FAF-80A9-4BC8-A317-00D7A96E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741-464F-4FA2-95E4-787C56F3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334-6DFD-42AA-8A9E-2B1B2C4B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9D4-861A-4234-8876-47531A16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C058-7B55-49DC-8266-AF3AE1D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4ED6-3919-498B-AFBD-AA33A82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C6E-2382-4EA9-A4DB-49D6F2C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98A-DE9C-4F99-AE46-F50C80C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FEB-F909-4FE4-AFC5-5538874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C97-666D-4809-B8F4-BD7468E8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A536-DD75-4EAA-9C19-9AB2347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A53-CD51-4FF9-B5A4-645DC34D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5DC-FF0D-4998-854E-6EE117E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A9E-64C6-45AF-98F8-9EF5669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6AA-0B77-43E3-984D-B301128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DA34-B22E-4E9A-BA97-97DE9206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0446-6733-4629-ADE9-EDC48784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E4F0-934A-4A55-8CAE-EBBA4657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D2C9-6AB1-4EC4-94AA-DE1A27B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45B9-2971-4A19-BF5E-EC02E82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416A-0499-4AD9-94A8-13C7C46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F4A2-BBFC-4E3C-AF3E-1A3E213A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72A-A13C-45A4-AC06-BFD480F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9617-BE51-40B5-B78E-9998FF54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3E88-988B-499F-8F73-741EC2F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7585-A43A-43D9-A129-5B61F96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77D5-1B7B-4FC0-AEED-FA4E031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1633-4521-4351-850D-64E690F4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138E-1F40-4770-98FB-C0618007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E825-7A14-4511-ACCF-7E5C0E09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F0F4-0332-4A78-A1B3-2A6FF59F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4B19-EBE3-411D-A121-638AB4E8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732F-9B87-49FE-BD51-D251D7EA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CE4-5A4B-4B6C-B7A9-ACAEEB88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D9DD-8892-409F-AFF2-82169891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6B8B-C5F9-4B57-9674-3706DD1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63AB-F04D-4E33-93BD-E0EB8CEF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9F30-0F54-459F-B0C1-41844A9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5B42-4DDA-4450-BED5-18D1CF1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F258-AEB7-409E-B35D-B58730E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D6AD-8DBB-445B-9013-3CAA332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468F-AD4E-4310-892A-B7B0A8B9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EDF1-9639-402F-A698-B8541F97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A6D2-C818-4F11-8D7C-4EE0833C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857-8BE6-459A-926E-94F2ACDB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9957-2B9D-4340-8659-35238CC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CF2B-B0C4-412D-BF91-1D4D4548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BB9D-5870-4AC9-971F-76587DF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5A73-1B7E-4E28-BBF0-68CCFC9C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4AD0-9B5A-4630-9C1E-23CFA56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ABBD-A94B-45BC-AC9E-A9BC622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5788-5CE7-454E-8F1D-A540F93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5D02-D23B-4B0E-9F9B-3AE0A28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8839-588C-4E5A-8F87-40F92E0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CDC3-522A-4700-9BF2-453FAA67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D97-43D3-40ED-9C18-74414671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B929-AA1B-4174-B3C1-73316EAB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0F9-8DBA-45C5-B2CE-9A8BBE3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736-8904-429B-8C29-468EBA3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DB8-D54D-4203-AB59-0DA6ADC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9C1-0EEE-4AD4-9457-FE951E829C4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1FD-062A-4530-AD32-CD841FC9A52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0EA2-B43E-417A-9B00-5A51718D13D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16B-8937-49A0-9457-427620A9368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711-A679-4905-8F55-85E6407BFF8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73440" y="615960"/>
            <a:ext cx="6005520" cy="256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6. </a:t>
            </a: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Barking dogs seldom bite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Лающие собаки редко кусают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, что  лает, редко кусает                                                                                 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Кто много грозит, тот мало вредит.                                                                                    Вспыльчивый нрав не бывает лука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The moon does not need the barking of the dog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Луна не нуждается в лае собак.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сю ночь собака на небо лаяла, а месяц того и не знал.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ольно собаке на небо лая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4" descr="771060"/>
          <p:cNvPicPr/>
          <p:nvPr/>
        </p:nvPicPr>
        <p:blipFill>
          <a:blip r:embed="rId2"/>
          <a:stretch/>
        </p:blipFill>
        <p:spPr>
          <a:xfrm>
            <a:off x="6477120" y="198108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8</a:t>
            </a:r>
            <a:r>
              <a:rPr b="0" lang="en-US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An old dog barks not in vain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лает не напрас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ый ворон даром не карка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на пустое дерево лаять не ста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5" descr="771083"/>
          <p:cNvPicPr/>
          <p:nvPr/>
        </p:nvPicPr>
        <p:blipFill>
          <a:blip r:embed="rId2"/>
          <a:stretch/>
        </p:blipFill>
        <p:spPr>
          <a:xfrm>
            <a:off x="6934320" y="19810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282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9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 days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means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The hottest days of a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2.   A period of time, when something is not successfu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ыражение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«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чьи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ни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»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означает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.Самые жаркие дни в год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2. Период времени, когда  что – то происходит неудач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Every dog has his day.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У каждой собаки есть свой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Будет и на нашей улице праздни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826005"/>
          <p:cNvPicPr/>
          <p:nvPr/>
        </p:nvPicPr>
        <p:blipFill>
          <a:blip r:embed="rId2"/>
          <a:stretch/>
        </p:blipFill>
        <p:spPr>
          <a:xfrm>
            <a:off x="7391520" y="42670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Все мы пробовали бутерброд с горячей сосиской. Он называется «</a:t>
            </a:r>
            <a:r>
              <a:rPr b="0" lang="en-US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ot dog</a:t>
            </a: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» (хот дог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Но если произнести это выражение с восклицанием. </a:t>
            </a:r>
            <a:r>
              <a:rPr b="0" lang="en-US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ot dog</a:t>
            </a: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!  Тогда значение изменится. Это выражение будет переводиться «Как здорово!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4" descr="Хот-дог"/>
          <p:cNvPicPr/>
          <p:nvPr/>
        </p:nvPicPr>
        <p:blipFill>
          <a:blip r:embed="rId2"/>
          <a:stretch/>
        </p:blipFill>
        <p:spPr>
          <a:xfrm>
            <a:off x="2590920" y="4024440"/>
            <a:ext cx="428616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Large confetti"/>
          <p:cNvPicPr/>
          <p:nvPr/>
        </p:nvPicPr>
        <p:blipFill>
          <a:blip r:embed="rId1"/>
          <a:stretch/>
        </p:blipFill>
        <p:spPr>
          <a:xfrm>
            <a:off x="847800" y="285840"/>
            <a:ext cx="8015040" cy="1927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2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. Clever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умниц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3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ie dog for somebody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быть беспредельно преданным кому – либо, быть готовым умереть за кого – то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4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umb dog -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молчальник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5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Jolly dog -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весельчак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6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e was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ick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- он себя отвратительно чувствовал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7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Lazy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лентяй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8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ea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морской волк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9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ly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хитрец, скрывающий свои грешки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0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urly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угрюмый, сердитый человек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1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Yellow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подлый, трусливый человек, презренное существо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2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Top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) Собака, победившая в драке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) Хозяин положения, победившая сторон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3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og poor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-нищий, гол как сокол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4" descr="Копия"/>
          <p:cNvPicPr/>
          <p:nvPr/>
        </p:nvPicPr>
        <p:blipFill>
          <a:blip r:embed="rId2"/>
          <a:stretch/>
        </p:blipFill>
        <p:spPr>
          <a:xfrm>
            <a:off x="6705720" y="3276720"/>
            <a:ext cx="2117520" cy="168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Impact"/>
                <a:ea typeface="Times New Roman"/>
              </a:rPr>
              <a:t>Пословицы жили, живут и будут жить среди нас. Как на крыльях, они перелетают из века в век,  от одного поколения к другому, и не видна та безграничная даль, куда устремляет свой полёт эта крылатая мудрость</a:t>
            </a:r>
            <a:r>
              <a:rPr b="1" lang="ru-RU" sz="4000" spc="-1" strike="noStrike">
                <a:solidFill>
                  <a:srgbClr val="800080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6" descr="NA00864_"/>
          <p:cNvPicPr/>
          <p:nvPr/>
        </p:nvPicPr>
        <p:blipFill>
          <a:blip r:embed="rId2"/>
          <a:stretch/>
        </p:blipFill>
        <p:spPr>
          <a:xfrm>
            <a:off x="4572000" y="0"/>
            <a:ext cx="2494080" cy="21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Large confetti"/>
          <p:cNvPicPr/>
          <p:nvPr/>
        </p:nvPicPr>
        <p:blipFill>
          <a:blip r:embed="rId1"/>
          <a:stretch/>
        </p:blipFill>
        <p:spPr>
          <a:xfrm>
            <a:off x="-6480" y="20160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685800" y="1905120"/>
            <a:ext cx="605808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Познакомить аудиторию с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различными пословицами,  про собак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4" descr="771031"/>
          <p:cNvPicPr/>
          <p:nvPr/>
        </p:nvPicPr>
        <p:blipFill>
          <a:blip r:embed="rId2"/>
          <a:stretch/>
        </p:blipFill>
        <p:spPr>
          <a:xfrm>
            <a:off x="3943440" y="3645000"/>
            <a:ext cx="4438440" cy="295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Large confetti"/>
          <p:cNvPicPr/>
          <p:nvPr/>
        </p:nvPicPr>
        <p:blipFill>
          <a:blip r:embed="rId1"/>
          <a:stretch/>
        </p:blipFill>
        <p:spPr>
          <a:xfrm>
            <a:off x="-6480" y="20160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а) лучше узнать  и понять особенности английской речи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б) пополнить свой словарный запас русскими</a:t>
            </a:r>
            <a:r>
              <a:rPr b="0" lang="ru-RU" sz="3600" spc="-1" strike="noStrike">
                <a:solidFill>
                  <a:srgbClr val="cc33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и английскими  пословицами, поговорками, чтобы сделать  речь более  красочной и интересной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4" descr="SY01265_"/>
          <p:cNvPicPr/>
          <p:nvPr/>
        </p:nvPicPr>
        <p:blipFill>
          <a:blip r:embed="rId2"/>
          <a:stretch/>
        </p:blipFill>
        <p:spPr>
          <a:xfrm>
            <a:off x="6934320" y="228600"/>
            <a:ext cx="11700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755640" y="23760"/>
            <a:ext cx="7126200" cy="57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6983280" cy="569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1760" y="1052640"/>
            <a:ext cx="7753320" cy="542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19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Дрянь, барахло (о товаре и т.п.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Халту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Долговое обязательство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рашилищ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Расфранченный, расфуфыренный «попугай»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оловая, ресторан, бар, где можно недорого и быстро перекусить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Нечто дешёвое, низкого качества, дешёвый (никудышный) человек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укач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упня, нога ниже щиколотк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Невоспитанный, грубый человек, хам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Человек с дурной репутацией, не заслуживающий доверия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5" descr="4"/>
          <p:cNvPicPr/>
          <p:nvPr/>
        </p:nvPicPr>
        <p:blipFill>
          <a:blip r:embed="rId2"/>
          <a:stretch/>
        </p:blipFill>
        <p:spPr>
          <a:xfrm>
            <a:off x="7162920" y="2209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–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– коммивояжер (разъездной представитель компании, который предлагает продукцию своей фирмы)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3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erel -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плохи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их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4. Dogled - a place where a road, path, etc suddenly changes directi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-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место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,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гд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орога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,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тропинка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и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т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ожиданно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меняет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аправлени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5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ery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во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обачьи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повадк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6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ish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обачий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жестокий, грубый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крикливо – модный</a:t>
            </a:r>
            <a:r>
              <a:rPr b="0" lang="ru-RU" sz="2400" spc="-1" strike="noStrike">
                <a:solidFill>
                  <a:srgbClr val="005fbe"/>
                </a:solidFill>
                <a:latin typeface="Trebuchet MS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206"/>
          <p:cNvPicPr/>
          <p:nvPr/>
        </p:nvPicPr>
        <p:blipFill>
          <a:blip r:embed="rId2"/>
          <a:stretch/>
        </p:blipFill>
        <p:spPr>
          <a:xfrm>
            <a:off x="5334120" y="438156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An old dog cannot alter his way of bark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не может изменить свой лай.                                                                                                11. 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 not keep a dog and bark yourself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 держи собаку и лай са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За то собаку кормят, что она ла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 All are not thieves that dogs bark a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 все воры, на кого собака ла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s bark, but the caravan goes 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 лает, а караван идёт вперё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 лает, ветер уносит</a:t>
            </a: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4" descr="771063"/>
          <p:cNvPicPr/>
          <p:nvPr/>
        </p:nvPicPr>
        <p:blipFill>
          <a:blip r:embed="rId2"/>
          <a:stretch/>
        </p:blipFill>
        <p:spPr>
          <a:xfrm>
            <a:off x="6095880" y="2438280"/>
            <a:ext cx="162576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54:15Z</dcterms:created>
  <dc:creator>Аня</dc:creator>
  <dc:description/>
  <dc:language>en-US</dc:language>
  <cp:lastModifiedBy>user</cp:lastModifiedBy>
  <dcterms:modified xsi:type="dcterms:W3CDTF">2021-02-09T07:27:03Z</dcterms:modified>
  <cp:revision>16</cp:revision>
  <dc:subject/>
  <dc:title>«Dog» means:</dc:title>
</cp:coreProperties>
</file>