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29.wmf" ContentType="image/x-wmf"/>
  <Override PartName="/ppt/media/image7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6C1-60B4-43E1-A694-E00F5582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9A7-DB2F-4B1A-A334-1D10E3F9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18E-3383-49E4-A87C-4659F51B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A96-E81A-4791-B468-06FE276B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3BA0-FE55-4F62-BDE1-2B49F65A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4F65-4651-4E5B-843F-C8EF9042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4CC1-E4E9-4C82-A793-8CB69C47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A310-A056-4C3D-874C-F65B8EB0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1B24-A729-4690-8C2A-BC95E2C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2E5-0B95-4531-8E78-5239F24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6E77-D923-418F-AD6A-420AEDC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77A-77ED-4CD2-8659-18DC4C5D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1827-F497-46E5-A1AE-A74B8D1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E4E2-BCF8-492D-BC65-25476F1A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4195-D285-4132-A9FE-22439684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EE6D-3A36-4FA0-BAA0-57928756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97B1-B067-4144-AFC6-82C5FD6A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5501B-DAAB-4261-9C5B-530934FD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789C-256F-4E84-8FB0-9D5FCC2B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8776-D552-4404-87C6-5C7388CC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B377-BF8B-4109-A752-B8BE1F9A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ABA8-8692-45A3-88B9-3D895167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4BB-E9B7-4A13-9E79-00B19F14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B347-44F3-4636-AC05-F1F5C900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442E-0F4E-4144-B307-DA34BF99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ACFD-27A4-46A8-944B-08A85EE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2449-BAE6-44B1-80A7-35814622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D9AF-0118-4320-BFAC-D311F600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E537-B1FE-4A06-9335-F0FBC5EF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7A57-7621-4037-824C-948B96BF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362B-2D6D-4C29-A7F9-CAD98FEA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12DD-9D35-483C-9D0F-D92FDD9E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D36C-333A-4537-96EC-09D9F598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D49-D982-4A55-941A-EF481580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DF4D-F7B4-49BD-993A-821E8C22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1799-9988-476C-9748-B1E3E3D6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836E-D04B-424E-BD54-F910494A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C4C0-856E-41CB-8A17-89BE954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99DD-A943-4561-A612-490D3051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5681-23D7-446D-BC5E-74B8FF98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55BE-6B96-4057-8EA6-DBD84EE3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22D8-5101-4A5C-B8EE-6ABB75BA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2A188-E77F-45B7-87AB-DC2A8FE8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D4212-F139-455E-B1EC-D6A00D26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32B-4392-412A-85A0-6D90A2E1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5E7C-8125-42A9-8850-8C20C3AB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16D27-6950-496B-982A-6FB816E4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BC73-D1D7-48CA-93AD-4784B8DA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163DE-E74A-4650-A3E1-69A8B89D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F82E7-E6B4-450F-BAC7-4ACE8EF9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8893-1223-454D-9D8F-DA750A28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4F401-0E82-446B-844E-3ACD0F7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33556-3919-4C58-8ABE-7A99B1B9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43EE-4555-4B9B-89F9-161E7BAC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4F048-0548-411A-86B5-4FABB6E4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499-B470-4E58-9415-617C0DF6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091A-1CF2-45C8-8BEC-C720F827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5E4-F806-471D-8170-C0BDA9B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244-3EE9-41C7-BE73-D5BD509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18B-5E91-4AB5-9D1F-AD8FDE2B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169D-BB98-4FE9-9A74-25A4EC34BAD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42E8-2DFF-41C4-BCE5-B035B1CF5C5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9F65-D0CD-4B16-9F1B-4AA85E66B7A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8FBD-A9AF-48DE-ABA9-1DF94AFE6EE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5222-A45F-4AB1-BD1B-EC0E418579A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773440" y="615960"/>
            <a:ext cx="6005520" cy="256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6. </a:t>
            </a:r>
            <a:r>
              <a:rPr b="0" lang="en-US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Barking dogs seldom bite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Лающие собаки редко кусают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е эквиваленты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обака, что  лает, редко кусает                                                                                  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Кто много грозит, тот мало вредит.                                                                                    Вспыльчивый нрав не бывает лука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7</a:t>
            </a:r>
            <a:r>
              <a:rPr b="0" lang="en-US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The moon does not need the barking of the dog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Луна не нуждается в лае собак.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е эквиваленты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Всю ночь собака на небо лаяла, а месяц того и не знал.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Вольно собаке на небо лая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4" descr="771060"/>
          <p:cNvPicPr/>
          <p:nvPr/>
        </p:nvPicPr>
        <p:blipFill>
          <a:blip r:embed="rId2"/>
          <a:stretch/>
        </p:blipFill>
        <p:spPr>
          <a:xfrm>
            <a:off x="6477120" y="1981080"/>
            <a:ext cx="167616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8</a:t>
            </a:r>
            <a:r>
              <a:rPr b="0" lang="en-US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An old dog barks not in vain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арая собака лает не напрас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е эквиваленты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арый ворон даром не карка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арая собака на пустое дерево лаять не стан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5" descr="771083"/>
          <p:cNvPicPr/>
          <p:nvPr/>
        </p:nvPicPr>
        <p:blipFill>
          <a:blip r:embed="rId2"/>
          <a:stretch/>
        </p:blipFill>
        <p:spPr>
          <a:xfrm>
            <a:off x="6934320" y="19810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2824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9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 days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means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The hottest days of a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2.   A period of time, when something is not successfu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Выражение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«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обачьи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дни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»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означает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1.Самые жаркие дни в год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2. Период времени, когда  что – то происходит неудачн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Every dog has his day.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У каждой собаки есть свой ден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й эквивален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Будет и на нашей улице праздни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826005"/>
          <p:cNvPicPr/>
          <p:nvPr/>
        </p:nvPicPr>
        <p:blipFill>
          <a:blip r:embed="rId2"/>
          <a:stretch/>
        </p:blipFill>
        <p:spPr>
          <a:xfrm>
            <a:off x="7391520" y="42670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Все мы пробовали бутерброд с горячей сосиской. Он называется «</a:t>
            </a:r>
            <a:r>
              <a:rPr b="0" lang="en-US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hot dog</a:t>
            </a:r>
            <a:r>
              <a:rPr b="0" lang="ru-RU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» (хот дог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Но если произнести это выражение с восклицанием. </a:t>
            </a:r>
            <a:r>
              <a:rPr b="0" lang="en-US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Hot dog</a:t>
            </a:r>
            <a:r>
              <a:rPr b="0" lang="ru-RU" sz="24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!  Тогда значение изменится. Это выражение будет переводиться «Как здорово!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4" descr="Хот-дог"/>
          <p:cNvPicPr/>
          <p:nvPr/>
        </p:nvPicPr>
        <p:blipFill>
          <a:blip r:embed="rId2"/>
          <a:stretch/>
        </p:blipFill>
        <p:spPr>
          <a:xfrm>
            <a:off x="2590920" y="4024440"/>
            <a:ext cx="428616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Large confetti"/>
          <p:cNvPicPr/>
          <p:nvPr/>
        </p:nvPicPr>
        <p:blipFill>
          <a:blip r:embed="rId1"/>
          <a:stretch/>
        </p:blipFill>
        <p:spPr>
          <a:xfrm>
            <a:off x="847800" y="285840"/>
            <a:ext cx="8015040" cy="1927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2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. Clever dog – 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умница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3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Die dog for somebody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быть беспредельно преданным кому – либо, быть готовым умереть за кого – то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4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Dumb dog -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молчальник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5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Jolly dog - 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весельчак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6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He was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sick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- он себя отвратительно чувствовал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7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Lazy dog – 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лентяй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8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Sea dog – 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морской волк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9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Sly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хитрец, скрывающий свои грешки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0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Surly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угрюмый, сердитый человек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1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Yellow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– подлый, трусливый человек, презренное существо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2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Top dog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1) Собака, победившая в драке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) Хозяин положения, победившая сторона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23. </a:t>
            </a:r>
            <a:r>
              <a:rPr b="0" lang="en-US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Dog poor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  <a:ea typeface="Times New Roman"/>
              </a:rPr>
              <a:t> -нищий, гол как сокол</a:t>
            </a:r>
            <a:r>
              <a:rPr b="0" lang="ru-RU" sz="1700" spc="-1" strike="noStrike">
                <a:solidFill>
                  <a:srgbClr val="0066ff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4" descr="Копия"/>
          <p:cNvPicPr/>
          <p:nvPr/>
        </p:nvPicPr>
        <p:blipFill>
          <a:blip r:embed="rId2"/>
          <a:stretch/>
        </p:blipFill>
        <p:spPr>
          <a:xfrm>
            <a:off x="6705720" y="3276720"/>
            <a:ext cx="2117520" cy="168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Impact"/>
                <a:ea typeface="Times New Roman"/>
              </a:rPr>
              <a:t>Пословицы жили, живут и будут жить среди нас. Как на крыльях, они перелетают из века в век,  от одного поколения к другому, и не видна та безграничная даль, куда устремляет свой полёт эта крылатая мудрость</a:t>
            </a:r>
            <a:r>
              <a:rPr b="1" lang="ru-RU" sz="4000" spc="-1" strike="noStrike">
                <a:solidFill>
                  <a:srgbClr val="800080"/>
                </a:solidFill>
                <a:latin typeface="Impac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6" descr="NA00864_"/>
          <p:cNvPicPr/>
          <p:nvPr/>
        </p:nvPicPr>
        <p:blipFill>
          <a:blip r:embed="rId2"/>
          <a:stretch/>
        </p:blipFill>
        <p:spPr>
          <a:xfrm>
            <a:off x="4572000" y="0"/>
            <a:ext cx="2494080" cy="215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Large confetti"/>
          <p:cNvPicPr/>
          <p:nvPr/>
        </p:nvPicPr>
        <p:blipFill>
          <a:blip r:embed="rId1"/>
          <a:stretch/>
        </p:blipFill>
        <p:spPr>
          <a:xfrm>
            <a:off x="-6480" y="201600"/>
            <a:ext cx="7705800" cy="1766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685800" y="1905120"/>
            <a:ext cx="605808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  <a:ea typeface="Times New Roman"/>
              </a:rPr>
              <a:t>Познакомить аудиторию с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  <a:ea typeface="Times New Roman"/>
              </a:rPr>
              <a:t>различными пословицами,  про собак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4" descr="771031"/>
          <p:cNvPicPr/>
          <p:nvPr/>
        </p:nvPicPr>
        <p:blipFill>
          <a:blip r:embed="rId2"/>
          <a:stretch/>
        </p:blipFill>
        <p:spPr>
          <a:xfrm>
            <a:off x="3943440" y="3645000"/>
            <a:ext cx="4438440" cy="295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Large confetti"/>
          <p:cNvPicPr/>
          <p:nvPr/>
        </p:nvPicPr>
        <p:blipFill>
          <a:blip r:embed="rId1"/>
          <a:stretch/>
        </p:blipFill>
        <p:spPr>
          <a:xfrm>
            <a:off x="-6480" y="201600"/>
            <a:ext cx="770580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а) лучше узнать  и понять особенности английской речи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б) пополнить свой словарный запас русскими</a:t>
            </a:r>
            <a:r>
              <a:rPr b="0" lang="ru-RU" sz="3600" spc="-1" strike="noStrike">
                <a:solidFill>
                  <a:srgbClr val="cc33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и английскими  пословицами, поговорками, чтобы сделать  речь более  красочной и интересной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4" descr="SY01265_"/>
          <p:cNvPicPr/>
          <p:nvPr/>
        </p:nvPicPr>
        <p:blipFill>
          <a:blip r:embed="rId2"/>
          <a:stretch/>
        </p:blipFill>
        <p:spPr>
          <a:xfrm>
            <a:off x="6934320" y="228600"/>
            <a:ext cx="11700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755640" y="23760"/>
            <a:ext cx="7126200" cy="570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6983280" cy="5691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1760" y="1052640"/>
            <a:ext cx="7753320" cy="542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19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Дрянь, барахло (о товаре и т.п.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Халтур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Долговое обязательство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трашилищ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Расфранченный, расфуфыренный «попугай»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толовая, ресторан, бар, где можно недорого и быстро перекусить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Нечто дешёвое, низкого качества, дешёвый (никудышный) человек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тукач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тупня, нога ниже щиколотки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Невоспитанный, грубый человек, хам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Человек с дурной репутацией, не заслуживающий доверия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5" descr="4"/>
          <p:cNvPicPr/>
          <p:nvPr/>
        </p:nvPicPr>
        <p:blipFill>
          <a:blip r:embed="rId2"/>
          <a:stretch/>
        </p:blipFill>
        <p:spPr>
          <a:xfrm>
            <a:off x="7162920" y="22096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–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– коммивояжер (разъездной представитель компании, который предлагает продукцию своей фирмы)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3.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gerel -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плохие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ихи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4. Dogled - a place where a road, path, etc suddenly changes directio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-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место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,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где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дорога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,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тропинка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и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т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д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неожиданно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меняет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направление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5.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gery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вор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обачьи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повадки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6. </a:t>
            </a:r>
            <a:r>
              <a:rPr b="0" lang="en-US" sz="19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gish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собачий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жестокий, грубый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5fbe"/>
                </a:solidFill>
                <a:latin typeface="Trebuchet MS"/>
              </a:rPr>
              <a:t>крикливо – модный</a:t>
            </a:r>
            <a:r>
              <a:rPr b="0" lang="ru-RU" sz="2400" spc="-1" strike="noStrike">
                <a:solidFill>
                  <a:srgbClr val="005fbe"/>
                </a:solidFill>
                <a:latin typeface="Trebuchet MS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206"/>
          <p:cNvPicPr/>
          <p:nvPr/>
        </p:nvPicPr>
        <p:blipFill>
          <a:blip r:embed="rId2"/>
          <a:stretch/>
        </p:blipFill>
        <p:spPr>
          <a:xfrm>
            <a:off x="5334120" y="438156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Large confetti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An old dog cannot alter his way of barki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тарая собака не может изменить свой лай.                                                                                                11. 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 not keep a dog and bark yourself</a:t>
            </a: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Не держи собаку и лай са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й эквивален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За то собаку кормят, что она лае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  All are not thieves that dogs bark a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Не все воры, на кого собака лае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Dogs bark, but the caravan goes 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обака лает, а караван идёт вперё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5fbe"/>
                </a:solidFill>
                <a:uFillTx/>
                <a:latin typeface="Trebuchet MS"/>
                <a:ea typeface="Times New Roman"/>
              </a:rPr>
              <a:t>Русский эквивален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Собака лает, ветер уносит</a:t>
            </a:r>
            <a:r>
              <a:rPr b="0" lang="ru-RU" sz="2600" spc="-1" strike="noStrike">
                <a:solidFill>
                  <a:srgbClr val="005fbe"/>
                </a:solidFill>
                <a:latin typeface="Trebuchet MS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4" descr="771063"/>
          <p:cNvPicPr/>
          <p:nvPr/>
        </p:nvPicPr>
        <p:blipFill>
          <a:blip r:embed="rId2"/>
          <a:stretch/>
        </p:blipFill>
        <p:spPr>
          <a:xfrm>
            <a:off x="6095880" y="2438280"/>
            <a:ext cx="1625760" cy="24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6:54:15Z</dcterms:created>
  <dc:creator>Аня</dc:creator>
  <dc:description/>
  <dc:language>en-US</dc:language>
  <cp:lastModifiedBy>user</cp:lastModifiedBy>
  <dcterms:modified xsi:type="dcterms:W3CDTF">2021-02-09T07:27:03Z</dcterms:modified>
  <cp:revision>16</cp:revision>
  <dc:subject/>
  <dc:title>«Dog» means:</dc:title>
</cp:coreProperties>
</file>