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7F7-6C22-4BFB-9B0D-1FD55ABC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AFB-D19A-41A7-8432-C976581C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5FD-38A7-438E-9C8F-C392B6BD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F80-BD32-419A-8487-FA66CFB3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FC5-79FB-45E9-82F2-CC9EE186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84C-6DAD-4206-9924-BB592C8E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42D-6EB7-484C-8044-8A7F71C8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B62-440C-4398-8CD2-340AD508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BDC-764B-4551-B64A-E3353077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9C6-91EE-4602-BE3B-421EB592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F89-64A8-4177-BF20-B964374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E11-9E79-426D-8BF1-BF49DB27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FBB7-46B5-4E5A-AD23-40AF07F5CE91}" type="slidenum"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УРОК МАТЕМАТ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учитель Чеснов Вячеслав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893320" y="404640"/>
            <a:ext cx="58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alibri"/>
              </a:rPr>
              <a:t>Все упорядочивается согласно чисе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alibri"/>
              </a:rPr>
              <a:t>Пифаго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50920" y="99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Числовая последовательность - последовательность, членами которой являются числ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65" name="AutoShape 5"/>
          <p:cNvCxnSpPr/>
          <p:nvPr/>
        </p:nvCxnSpPr>
        <p:spPr>
          <a:xfrm flipH="1">
            <a:off x="3276360" y="1486080"/>
            <a:ext cx="4197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4"/>
          <p:cNvCxnSpPr/>
          <p:nvPr/>
        </p:nvCxnSpPr>
        <p:spPr>
          <a:xfrm>
            <a:off x="5724360" y="1486080"/>
            <a:ext cx="5040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Rectangle 6"/>
          <p:cNvSpPr/>
          <p:nvPr/>
        </p:nvSpPr>
        <p:spPr>
          <a:xfrm>
            <a:off x="-18108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0" y="981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Числовые последовательност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Прямоугольник 9"/>
          <p:cNvSpPr/>
          <p:nvPr/>
        </p:nvSpPr>
        <p:spPr>
          <a:xfrm>
            <a:off x="1403280" y="1844640"/>
            <a:ext cx="2879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Конечны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5724360" y="1844640"/>
            <a:ext cx="28814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Бесконечны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252360" y="35733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Обозначение членов числовой последовательности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Прямоугольник 12"/>
          <p:cNvSpPr/>
          <p:nvPr/>
        </p:nvSpPr>
        <p:spPr>
          <a:xfrm>
            <a:off x="5796000" y="3502080"/>
            <a:ext cx="3024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, а</a:t>
            </a:r>
            <a:r>
              <a:rPr b="1" i="1" lang="ru-RU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,</a:t>
            </a: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ru-RU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, а</a:t>
            </a:r>
            <a:r>
              <a:rPr b="1" i="1" lang="ru-RU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, … , 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n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, …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252360" y="4149720"/>
            <a:ext cx="55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Укажите первый член числовой последовательности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5796000" y="4076640"/>
            <a:ext cx="3024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144360" y="47260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Укажите второй член числовой последовательности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Прямоугольник 16"/>
          <p:cNvSpPr/>
          <p:nvPr/>
        </p:nvSpPr>
        <p:spPr>
          <a:xfrm>
            <a:off x="5796000" y="4653000"/>
            <a:ext cx="302400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ru-RU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108000" y="53020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Укажите 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n-</a:t>
            </a: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ый член числовой последовательности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Прямоугольник 19"/>
          <p:cNvSpPr/>
          <p:nvPr/>
        </p:nvSpPr>
        <p:spPr>
          <a:xfrm>
            <a:off x="5796000" y="5229360"/>
            <a:ext cx="3024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n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Прямоугольник 20"/>
          <p:cNvSpPr/>
          <p:nvPr/>
        </p:nvSpPr>
        <p:spPr>
          <a:xfrm>
            <a:off x="252360" y="292572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Последовательность обозначается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Прямоугольник 21"/>
          <p:cNvSpPr/>
          <p:nvPr/>
        </p:nvSpPr>
        <p:spPr>
          <a:xfrm>
            <a:off x="5796000" y="2852640"/>
            <a:ext cx="3024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n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Прямоугольник 18"/>
          <p:cNvSpPr/>
          <p:nvPr/>
        </p:nvSpPr>
        <p:spPr>
          <a:xfrm>
            <a:off x="144360" y="587700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Укажите следующий за 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n-</a:t>
            </a: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ым член числовой последовательности</a:t>
            </a:r>
            <a:r>
              <a:rPr b="0" lang="en-US" sz="1800" spc="-1" strike="noStrike">
                <a:solidFill>
                  <a:srgbClr val="0070c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Прямоугольник 20"/>
          <p:cNvSpPr/>
          <p:nvPr/>
        </p:nvSpPr>
        <p:spPr>
          <a:xfrm>
            <a:off x="6804000" y="5805360"/>
            <a:ext cx="1871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n</a:t>
            </a:r>
            <a:r>
              <a:rPr b="1" i="1" lang="ru-RU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+1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лан уро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пределение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иды числовых последователь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пособы задания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именение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Картинки по запросу &quot;галочка&quot;"/>
          <p:cNvPicPr/>
          <p:nvPr/>
        </p:nvPicPr>
        <p:blipFill>
          <a:blip r:embed="rId1"/>
          <a:stretch/>
        </p:blipFill>
        <p:spPr>
          <a:xfrm>
            <a:off x="6372360" y="1562040"/>
            <a:ext cx="730080" cy="85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Картинки по запросу &quot;галочка&quot;"/>
          <p:cNvPicPr/>
          <p:nvPr/>
        </p:nvPicPr>
        <p:blipFill>
          <a:blip r:embed="rId2"/>
          <a:stretch/>
        </p:blipFill>
        <p:spPr>
          <a:xfrm>
            <a:off x="7885080" y="2411280"/>
            <a:ext cx="7304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Критерии оценки работы группы эксперт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едставленная информация 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соответствует/не соответствует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зада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еоретический материал изложен в 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доступной/непонятной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фор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Имеются/не имеются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ополнения к выступл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лан уро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пределение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иды числовых последователь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пособы задания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именение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Картинки по запросу &quot;галочка&quot;"/>
          <p:cNvPicPr/>
          <p:nvPr/>
        </p:nvPicPr>
        <p:blipFill>
          <a:blip r:embed="rId1"/>
          <a:stretch/>
        </p:blipFill>
        <p:spPr>
          <a:xfrm>
            <a:off x="6372360" y="1562040"/>
            <a:ext cx="730080" cy="851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Картинки по запросу &quot;галочка&quot;"/>
          <p:cNvPicPr/>
          <p:nvPr/>
        </p:nvPicPr>
        <p:blipFill>
          <a:blip r:embed="rId2"/>
          <a:stretch/>
        </p:blipFill>
        <p:spPr>
          <a:xfrm>
            <a:off x="7885080" y="2411280"/>
            <a:ext cx="730440" cy="851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Картинки по запросу &quot;галочка&quot;"/>
          <p:cNvPicPr/>
          <p:nvPr/>
        </p:nvPicPr>
        <p:blipFill>
          <a:blip r:embed="rId3"/>
          <a:stretch/>
        </p:blipFill>
        <p:spPr>
          <a:xfrm>
            <a:off x="6804000" y="3284640"/>
            <a:ext cx="7304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1042920" y="566640"/>
            <a:ext cx="7047000" cy="1152720"/>
          </a:xfrm>
          <a:prstGeom prst="rect">
            <a:avLst/>
          </a:prstGeom>
          <a:ln w="0">
            <a:noFill/>
          </a:ln>
        </p:spPr>
      </p:pic>
      <p:sp>
        <p:nvSpPr>
          <p:cNvPr id="95" name="Рамка 5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181800 w 9144000"/>
              <a:gd name="textAreaRight" fmla="*/ 8962200 w 9144000"/>
              <a:gd name="textAreaTop" fmla="*/ 181800 h 6858000"/>
              <a:gd name="textAreaBottom" fmla="*/ 66762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182011" y="182011"/>
                </a:moveTo>
                <a:lnTo>
                  <a:pt x="182011" y="6675989"/>
                </a:lnTo>
                <a:lnTo>
                  <a:pt x="8961989" y="6675989"/>
                </a:lnTo>
                <a:lnTo>
                  <a:pt x="8961989" y="1820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rcRect l="4701" t="13406" r="31656" b="34424"/>
          <a:stretch/>
        </p:blipFill>
        <p:spPr>
          <a:xfrm>
            <a:off x="431640" y="2060640"/>
            <a:ext cx="8280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79280" y="1268280"/>
          <a:ext cx="8713800" cy="532944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3457800"/>
                <a:gridCol w="3384360"/>
              </a:tblGrid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член посл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комплекс упраж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набор упраж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делать два хлоп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ами над г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) опустить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вую руку на плечо, правую руку на плеч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) поднять правую руку на плечо, левую руку на плеч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) опустить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вую руку на пояс, правую руку на поя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ую руку вверх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вую руку ввер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 поднять правую руку на пояс, левую руку на поя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Рамка 5"/>
          <p:cNvSpPr/>
          <p:nvPr/>
        </p:nvSpPr>
        <p:spPr>
          <a:xfrm>
            <a:off x="0" y="0"/>
            <a:ext cx="9144000" cy="6885000"/>
          </a:xfrm>
          <a:custGeom>
            <a:avLst/>
            <a:gdLst>
              <a:gd name="textAreaLeft" fmla="*/ 182520 w 9144000"/>
              <a:gd name="textAreaRight" fmla="*/ 8961480 w 9144000"/>
              <a:gd name="textAreaTop" fmla="*/ 182520 h 6885000"/>
              <a:gd name="textAreaBottom" fmla="*/ 6702480 h 6885000"/>
            </a:gdLst>
            <a:ahLst/>
            <a:rect l="textAreaLeft" t="textAreaTop" r="textAreaRight" b="textAreaBottom"/>
            <a:pathLst>
              <a:path w="9144000" h="6885384">
                <a:moveTo>
                  <a:pt x="0" y="0"/>
                </a:moveTo>
                <a:lnTo>
                  <a:pt x="9144000" y="0"/>
                </a:lnTo>
                <a:lnTo>
                  <a:pt x="9144000" y="6885384"/>
                </a:lnTo>
                <a:lnTo>
                  <a:pt x="0" y="6885384"/>
                </a:lnTo>
                <a:close/>
                <a:moveTo>
                  <a:pt x="182738" y="182738"/>
                </a:moveTo>
                <a:lnTo>
                  <a:pt x="182738" y="6702646"/>
                </a:lnTo>
                <a:lnTo>
                  <a:pt x="8961262" y="6702646"/>
                </a:lnTo>
                <a:lnTo>
                  <a:pt x="8961262" y="18273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24000" y="189000"/>
            <a:ext cx="52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оследовательность, задана формулой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4932360" y="115920"/>
            <a:ext cx="2664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</a:t>
            </a:r>
            <a:r>
              <a:rPr b="0" lang="en-US" sz="3000" spc="-1" strike="noStrike" baseline="-25000">
                <a:solidFill>
                  <a:srgbClr val="953735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 baseline="-25000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= 3</a:t>
            </a:r>
            <a:r>
              <a:rPr b="0" lang="en-US" sz="3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+1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250920" y="54936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айдите первые 6 членов последовательности и поставьте в соответствие каждому из них физическое упражнение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1835280" y="2637000"/>
            <a:ext cx="79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332000" y="220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1332000" y="28843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TextBox 16"/>
          <p:cNvSpPr/>
          <p:nvPr/>
        </p:nvSpPr>
        <p:spPr>
          <a:xfrm>
            <a:off x="1332000" y="36050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1332000" y="4292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133200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1332000" y="5805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2124000" y="27082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однять правую руку на плечо, левую руку на плеч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TextBox 26"/>
          <p:cNvSpPr/>
          <p:nvPr/>
        </p:nvSpPr>
        <p:spPr>
          <a:xfrm>
            <a:off x="2050920" y="5732640"/>
            <a:ext cx="32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устить левую руку на пояс, правую руку на пояс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2050920" y="342900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авую руку вверх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левую руку вверх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2050920" y="2060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однять правую руку на пояс, левую руку на пояс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TextBox 29"/>
          <p:cNvSpPr/>
          <p:nvPr/>
        </p:nvSpPr>
        <p:spPr>
          <a:xfrm>
            <a:off x="2124000" y="414972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делать два хлопка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уками над головой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2124000" y="486900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устить левую руку на плечо, правую руку на плеч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ыполнит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4360" y="162864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следовательность (a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) задана условиями a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= 5, a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n+1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= a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+ 3. Найдите a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лан уро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пределение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иды числовых последователь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пособы задания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именение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Картинки по запросу &quot;галочка&quot;"/>
          <p:cNvPicPr/>
          <p:nvPr/>
        </p:nvPicPr>
        <p:blipFill>
          <a:blip r:embed="rId1"/>
          <a:stretch/>
        </p:blipFill>
        <p:spPr>
          <a:xfrm>
            <a:off x="7697880" y="1593720"/>
            <a:ext cx="730080" cy="851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Картинки по запросу &quot;галочка&quot;"/>
          <p:cNvPicPr/>
          <p:nvPr/>
        </p:nvPicPr>
        <p:blipFill>
          <a:blip r:embed="rId2"/>
          <a:stretch/>
        </p:blipFill>
        <p:spPr>
          <a:xfrm>
            <a:off x="7740720" y="2332080"/>
            <a:ext cx="730080" cy="850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Картинки по запросу &quot;галочка&quot;"/>
          <p:cNvPicPr/>
          <p:nvPr/>
        </p:nvPicPr>
        <p:blipFill>
          <a:blip r:embed="rId3"/>
          <a:stretch/>
        </p:blipFill>
        <p:spPr>
          <a:xfrm>
            <a:off x="7248600" y="3271680"/>
            <a:ext cx="730080" cy="851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Картинки по запросу &quot;галочка&quot;"/>
          <p:cNvPicPr/>
          <p:nvPr/>
        </p:nvPicPr>
        <p:blipFill>
          <a:blip r:embed="rId4"/>
          <a:stretch/>
        </p:blipFill>
        <p:spPr>
          <a:xfrm>
            <a:off x="6372360" y="4005360"/>
            <a:ext cx="7300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родолжите фразу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егодня на уроке я узнал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егодня на уроке я науч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еперь я смогу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8000" y="1341360"/>
          <a:ext cx="8856720" cy="1462320"/>
        </p:xfrm>
        <a:graphic>
          <a:graphicData uri="http://schemas.openxmlformats.org/drawingml/2006/table">
            <a:tbl>
              <a:tblPr/>
              <a:tblGrid>
                <a:gridCol w="804960"/>
                <a:gridCol w="536400"/>
                <a:gridCol w="536760"/>
                <a:gridCol w="53784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8200"/>
                <a:gridCol w="536760"/>
                <a:gridCol w="536400"/>
                <a:gridCol w="5367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8000" y="1341360"/>
          <a:ext cx="8856720" cy="1462320"/>
        </p:xfrm>
        <a:graphic>
          <a:graphicData uri="http://schemas.openxmlformats.org/drawingml/2006/table">
            <a:tbl>
              <a:tblPr/>
              <a:tblGrid>
                <a:gridCol w="804960"/>
                <a:gridCol w="536400"/>
                <a:gridCol w="536760"/>
                <a:gridCol w="53784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8200"/>
                <a:gridCol w="536760"/>
                <a:gridCol w="536400"/>
                <a:gridCol w="5367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700360" y="3429000"/>
          <a:ext cx="3168720" cy="741240"/>
        </p:xfrm>
        <a:graphic>
          <a:graphicData uri="http://schemas.openxmlformats.org/drawingml/2006/table">
            <a:tbl>
              <a:tblPr/>
              <a:tblGrid>
                <a:gridCol w="1055520"/>
                <a:gridCol w="1057320"/>
                <a:gridCol w="105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8000" y="1341360"/>
          <a:ext cx="8856720" cy="1462320"/>
        </p:xfrm>
        <a:graphic>
          <a:graphicData uri="http://schemas.openxmlformats.org/drawingml/2006/table">
            <a:tbl>
              <a:tblPr/>
              <a:tblGrid>
                <a:gridCol w="804960"/>
                <a:gridCol w="536400"/>
                <a:gridCol w="536760"/>
                <a:gridCol w="53784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8200"/>
                <a:gridCol w="536760"/>
                <a:gridCol w="536400"/>
                <a:gridCol w="5367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700360" y="3429000"/>
          <a:ext cx="3168720" cy="741240"/>
        </p:xfrm>
        <a:graphic>
          <a:graphicData uri="http://schemas.openxmlformats.org/drawingml/2006/table">
            <a:tbl>
              <a:tblPr/>
              <a:tblGrid>
                <a:gridCol w="1055520"/>
                <a:gridCol w="1057320"/>
                <a:gridCol w="105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8000" y="1341360"/>
          <a:ext cx="8856720" cy="1462320"/>
        </p:xfrm>
        <a:graphic>
          <a:graphicData uri="http://schemas.openxmlformats.org/drawingml/2006/table">
            <a:tbl>
              <a:tblPr/>
              <a:tblGrid>
                <a:gridCol w="804960"/>
                <a:gridCol w="536400"/>
                <a:gridCol w="536760"/>
                <a:gridCol w="53784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8200"/>
                <a:gridCol w="536760"/>
                <a:gridCol w="536400"/>
                <a:gridCol w="5367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700360" y="3429000"/>
          <a:ext cx="3168720" cy="741240"/>
        </p:xfrm>
        <a:graphic>
          <a:graphicData uri="http://schemas.openxmlformats.org/drawingml/2006/table">
            <a:tbl>
              <a:tblPr/>
              <a:tblGrid>
                <a:gridCol w="1055520"/>
                <a:gridCol w="1057320"/>
                <a:gridCol w="105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341000"/>
            <a:ext cx="374472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538360" y="242100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Алгебр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08080" y="3645000"/>
            <a:ext cx="374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2052720" y="5013360"/>
            <a:ext cx="52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Физическая культур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4410000" y="3789360"/>
            <a:ext cx="431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Обществознание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734000" y="76500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Иностранный язык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Определение последова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бъекты, которые пронумерованы подряд натуральными числами 1, 2, 3, …,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, … образуют последова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611280" y="2048040"/>
            <a:ext cx="81500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Формирование представления о числовой последовательности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79280" y="3714840"/>
            <a:ext cx="87854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План урока: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Определение числовой последовательности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Виды числовых последовательностей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Способы задания числовой последовательности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Применение на практике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250920" y="189000"/>
            <a:ext cx="864216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03.03.2020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ема урока</a:t>
            </a:r>
            <a:br>
              <a:rPr sz="4400"/>
            </a:b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Числовые последовательности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лан уро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пределение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иды числовых последователь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пособы задания числов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именение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Картинки по запросу &quot;галочка&quot;"/>
          <p:cNvPicPr/>
          <p:nvPr/>
        </p:nvPicPr>
        <p:blipFill>
          <a:blip r:embed="rId1"/>
          <a:stretch/>
        </p:blipFill>
        <p:spPr>
          <a:xfrm>
            <a:off x="6516720" y="1636560"/>
            <a:ext cx="73008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3:08:41Z</dcterms:created>
  <dc:creator>Admin</dc:creator>
  <dc:description/>
  <dc:language>en-US</dc:language>
  <cp:lastModifiedBy>SLavA</cp:lastModifiedBy>
  <dcterms:modified xsi:type="dcterms:W3CDTF">2020-03-02T03:46:20Z</dcterms:modified>
  <cp:revision>91</cp:revision>
  <dc:subject/>
  <dc:title>Слайд 1</dc:title>
</cp:coreProperties>
</file>