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8C9-18D5-4542-8729-58DDF87D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4D8-68E9-4BAB-84B3-61A45CA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FB9-A06F-488C-A090-9CD193FC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3F7-C88E-4135-BE55-C4667CCE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6D1-6E5D-4F83-8B83-E62EAD2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00F-6B7B-4595-A9A6-A8268032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175-0E7C-4108-9154-F8726EF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6D6-9174-433A-B8AC-8953978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C22-3C21-4F80-8785-8DC7A5C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ECF-8FF3-4C9B-ADE7-95030BB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3B3-978C-445B-B50E-2387BE5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C40-7BA2-466C-9DA9-0B9E787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B75D-FCD4-484D-9811-7659C96C87C9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УРОК МАТЕМАТ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учитель Чеснов Вячеслав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893320" y="40464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Все упорядочивается согласно чисе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Пифаго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50920" y="9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Числовая последовательность - последовательность, членами которой являются числ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65" name="AutoShape 5"/>
          <p:cNvCxnSpPr/>
          <p:nvPr/>
        </p:nvCxnSpPr>
        <p:spPr>
          <a:xfrm flipH="1">
            <a:off x="3276360" y="1486080"/>
            <a:ext cx="4197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4"/>
          <p:cNvCxnSpPr/>
          <p:nvPr/>
        </p:nvCxnSpPr>
        <p:spPr>
          <a:xfrm>
            <a:off x="5724360" y="1486080"/>
            <a:ext cx="504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Rectangle 6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981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Числовые последовательност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Прямоугольник 9"/>
          <p:cNvSpPr/>
          <p:nvPr/>
        </p:nvSpPr>
        <p:spPr>
          <a:xfrm>
            <a:off x="1403280" y="1844640"/>
            <a:ext cx="2879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Конечны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5724360" y="1844640"/>
            <a:ext cx="28814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Бесконечны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252360" y="35733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Обозначение членов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5796000" y="350208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</a:t>
            </a: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… , 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252360" y="4149720"/>
            <a:ext cx="55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первый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796000" y="407664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144360" y="47260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второй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5796000" y="4653000"/>
            <a:ext cx="302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108000" y="5302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n-</a:t>
            </a: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ый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Прямоугольник 19"/>
          <p:cNvSpPr/>
          <p:nvPr/>
        </p:nvSpPr>
        <p:spPr>
          <a:xfrm>
            <a:off x="5796000" y="522936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Прямоугольник 20"/>
          <p:cNvSpPr/>
          <p:nvPr/>
        </p:nvSpPr>
        <p:spPr>
          <a:xfrm>
            <a:off x="252360" y="292572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Последовательность обозначается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5796000" y="285264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Прямоугольник 18"/>
          <p:cNvSpPr/>
          <p:nvPr/>
        </p:nvSpPr>
        <p:spPr>
          <a:xfrm>
            <a:off x="144360" y="587700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следующий за 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n-</a:t>
            </a: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ым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Прямоугольник 20"/>
          <p:cNvSpPr/>
          <p:nvPr/>
        </p:nvSpPr>
        <p:spPr>
          <a:xfrm>
            <a:off x="6804000" y="5805360"/>
            <a:ext cx="187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+1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6372360" y="156204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Картинки по запросу &quot;галочка&quot;"/>
          <p:cNvPicPr/>
          <p:nvPr/>
        </p:nvPicPr>
        <p:blipFill>
          <a:blip r:embed="rId2"/>
          <a:stretch/>
        </p:blipFill>
        <p:spPr>
          <a:xfrm>
            <a:off x="7885080" y="2411280"/>
            <a:ext cx="7304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ритерии оценки работы группы экспер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едставленная информация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соответствует/не соответствует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зад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оретический материал изложен в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доступной/непонятной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фор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Имеются/не имеются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ополнения к выступл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6372360" y="156204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Картинки по запросу &quot;галочка&quot;"/>
          <p:cNvPicPr/>
          <p:nvPr/>
        </p:nvPicPr>
        <p:blipFill>
          <a:blip r:embed="rId2"/>
          <a:stretch/>
        </p:blipFill>
        <p:spPr>
          <a:xfrm>
            <a:off x="7885080" y="2411280"/>
            <a:ext cx="730440" cy="851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Картинки по запросу &quot;галочка&quot;"/>
          <p:cNvPicPr/>
          <p:nvPr/>
        </p:nvPicPr>
        <p:blipFill>
          <a:blip r:embed="rId3"/>
          <a:stretch/>
        </p:blipFill>
        <p:spPr>
          <a:xfrm>
            <a:off x="6804000" y="3284640"/>
            <a:ext cx="7304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1042920" y="566640"/>
            <a:ext cx="7047000" cy="1152720"/>
          </a:xfrm>
          <a:prstGeom prst="rect">
            <a:avLst/>
          </a:prstGeom>
          <a:ln w="0">
            <a:noFill/>
          </a:ln>
        </p:spPr>
      </p:pic>
      <p:sp>
        <p:nvSpPr>
          <p:cNvPr id="95" name="Рамка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81800 w 9144000"/>
              <a:gd name="textAreaRight" fmla="*/ 8962200 w 9144000"/>
              <a:gd name="textAreaTop" fmla="*/ 181800 h 6858000"/>
              <a:gd name="textAreaBottom" fmla="*/ 66762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182011" y="182011"/>
                </a:moveTo>
                <a:lnTo>
                  <a:pt x="182011" y="6675989"/>
                </a:lnTo>
                <a:lnTo>
                  <a:pt x="8961989" y="6675989"/>
                </a:lnTo>
                <a:lnTo>
                  <a:pt x="8961989" y="1820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rcRect l="4701" t="13406" r="31656" b="34424"/>
          <a:stretch/>
        </p:blipFill>
        <p:spPr>
          <a:xfrm>
            <a:off x="431640" y="2060640"/>
            <a:ext cx="828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79280" y="1268280"/>
          <a:ext cx="8713800" cy="532944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3457800"/>
                <a:gridCol w="3384360"/>
              </a:tblGrid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член посл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комплекс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набор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делать два хлоп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ами над г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) опусти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ую руку на плечо, правую руку на плеч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поднять правую руку на плечо, левую руку на плеч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) опусти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ую руку на пояс, правую руку на поя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ую руку вверх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ую руку в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 поднять правую руку на пояс, левую руку на поя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Рамка 5"/>
          <p:cNvSpPr/>
          <p:nvPr/>
        </p:nvSpPr>
        <p:spPr>
          <a:xfrm>
            <a:off x="0" y="0"/>
            <a:ext cx="9144000" cy="6885000"/>
          </a:xfrm>
          <a:custGeom>
            <a:avLst/>
            <a:gdLst>
              <a:gd name="textAreaLeft" fmla="*/ 182520 w 9144000"/>
              <a:gd name="textAreaRight" fmla="*/ 8961480 w 9144000"/>
              <a:gd name="textAreaTop" fmla="*/ 182520 h 6885000"/>
              <a:gd name="textAreaBottom" fmla="*/ 6702480 h 6885000"/>
            </a:gdLst>
            <a:ahLst/>
            <a:rect l="textAreaLeft" t="textAreaTop" r="textAreaRight" b="textAreaBottom"/>
            <a:pathLst>
              <a:path w="9144000" h="6885384">
                <a:moveTo>
                  <a:pt x="0" y="0"/>
                </a:moveTo>
                <a:lnTo>
                  <a:pt x="9144000" y="0"/>
                </a:lnTo>
                <a:lnTo>
                  <a:pt x="9144000" y="6885384"/>
                </a:lnTo>
                <a:lnTo>
                  <a:pt x="0" y="6885384"/>
                </a:lnTo>
                <a:close/>
                <a:moveTo>
                  <a:pt x="182738" y="182738"/>
                </a:moveTo>
                <a:lnTo>
                  <a:pt x="182738" y="6702646"/>
                </a:lnTo>
                <a:lnTo>
                  <a:pt x="8961262" y="6702646"/>
                </a:lnTo>
                <a:lnTo>
                  <a:pt x="8961262" y="18273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24000" y="189000"/>
            <a:ext cx="52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следовательность, задана формулой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932360" y="115920"/>
            <a:ext cx="266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</a:t>
            </a:r>
            <a:r>
              <a:rPr b="0" lang="en-US" sz="30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= 3</a:t>
            </a:r>
            <a:r>
              <a:rPr b="0" lang="en-US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+1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50920" y="5493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йдите первые 6 членов последовательности и поставьте в соответствие каждому из них физическое упражнени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835280" y="2637000"/>
            <a:ext cx="79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332000" y="220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332000" y="28843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1332000" y="3605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1332000" y="429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1332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1332000" y="58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2124000" y="270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днять правую руку на плечо, левую руку на плеч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2050920" y="573264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устить левую руку на пояс, правую руку на поя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2050920" y="34290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авую руку вверх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левую руку ввер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2050920" y="20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днять правую руку на пояс, левую руку на поя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2124000" y="4149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делать два хлопка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уками над голово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2124000" y="48690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устить левую руку на плечо, правую руку на плеч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ыполнит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16286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следовательность (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) задана условиями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5,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n+1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+ 3. Найдите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7697880" y="159372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Картинки по запросу &quot;галочка&quot;"/>
          <p:cNvPicPr/>
          <p:nvPr/>
        </p:nvPicPr>
        <p:blipFill>
          <a:blip r:embed="rId2"/>
          <a:stretch/>
        </p:blipFill>
        <p:spPr>
          <a:xfrm>
            <a:off x="7740720" y="2332080"/>
            <a:ext cx="730080" cy="85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Картинки по запросу &quot;галочка&quot;"/>
          <p:cNvPicPr/>
          <p:nvPr/>
        </p:nvPicPr>
        <p:blipFill>
          <a:blip r:embed="rId3"/>
          <a:stretch/>
        </p:blipFill>
        <p:spPr>
          <a:xfrm>
            <a:off x="7248600" y="327168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Картинки по запросу &quot;галочка&quot;"/>
          <p:cNvPicPr/>
          <p:nvPr/>
        </p:nvPicPr>
        <p:blipFill>
          <a:blip r:embed="rId4"/>
          <a:stretch/>
        </p:blipFill>
        <p:spPr>
          <a:xfrm>
            <a:off x="6372360" y="4005360"/>
            <a:ext cx="7300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одолжите фраз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егодня на уроке я узнал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егодня на уроке 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перь я смогу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700360" y="3429000"/>
          <a:ext cx="3168720" cy="74124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700360" y="3429000"/>
          <a:ext cx="3168720" cy="74124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700360" y="3429000"/>
          <a:ext cx="3168720" cy="74124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341000"/>
            <a:ext cx="37447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538360" y="24210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Алгебр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08080" y="3645000"/>
            <a:ext cx="37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2052720" y="5013360"/>
            <a:ext cx="52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Физическая культур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4410000" y="378936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734000" y="765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ностранный язык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пределение последова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бъекты, которые пронумерованы подряд натуральными числами 1, 2, 3, …,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, … образуют последова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11280" y="2048040"/>
            <a:ext cx="81500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Формирование представления о числовой последовательност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79280" y="3714840"/>
            <a:ext cx="87854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План урока: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Определение числовой последовательност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Виды числовых последовательностей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Способы задания числовой последовательност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Применение на практике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250920" y="189000"/>
            <a:ext cx="864216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03.03.202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ма урока</a:t>
            </a:r>
            <a:br>
              <a:rPr sz="4400"/>
            </a:b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Числовые последовательности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6516720" y="1636560"/>
            <a:ext cx="73008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08:41Z</dcterms:created>
  <dc:creator>Admin</dc:creator>
  <dc:description/>
  <dc:language>en-US</dc:language>
  <cp:lastModifiedBy>SLavA</cp:lastModifiedBy>
  <dcterms:modified xsi:type="dcterms:W3CDTF">2020-03-02T03:46:20Z</dcterms:modified>
  <cp:revision>91</cp:revision>
  <dc:subject/>
  <dc:title>Слайд 1</dc:title>
</cp:coreProperties>
</file>