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129-6067-46E8-A94E-CAC282D1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EE6-A108-4E02-AF1B-FE9DFE5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59A-2C97-47CD-A454-46590597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4CB-AF76-466E-A506-D595734B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097D-F121-4189-AD32-E3535E1B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DFB7-DDAB-4D7D-8EBE-AF4BD6CD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8CC7-DC35-490E-922F-4A90747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8099-27D6-4C5F-A42A-1C4A648D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F892-0013-49E1-ABFB-49DF5E89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10972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69F1-F9A0-44EC-8C2B-030A1CCE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8F29-0B7F-46C0-9BE4-B98A492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037-E56B-4A1D-9348-CC5901D3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6DEC-90BF-4BA0-A18A-12691B6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B997-2555-475B-8030-124727A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31E-BDD2-4BDD-82E2-3837285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229-107D-4B8C-8115-7DF4A58B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CD27-7E1D-4F8D-9F0E-1C97A0FB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DEA-C079-4C04-9327-4E0A3D9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2AC-0C9B-414E-8387-10972975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3B2-E9BB-40E8-BACC-529A782D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10972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9F5-FC78-43CF-A3DB-816AC13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644-7D93-4FE1-A12A-C12ABAA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779-5C6F-4F0B-B541-06781F8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C0C-BE5E-4FCC-AFCE-426F9B1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5200" y="6356520"/>
            <a:ext cx="278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7948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390040" y="6356520"/>
            <a:ext cx="7491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566EB-0151-45D1-BEB7-205F864CA0A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Oval 6"/>
          <p:cNvSpPr/>
          <p:nvPr/>
        </p:nvSpPr>
        <p:spPr>
          <a:xfrm>
            <a:off x="1127772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Oval 7"/>
          <p:cNvSpPr/>
          <p:nvPr/>
        </p:nvSpPr>
        <p:spPr>
          <a:xfrm>
            <a:off x="75888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1127772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Oval 7"/>
          <p:cNvSpPr/>
          <p:nvPr/>
        </p:nvSpPr>
        <p:spPr>
          <a:xfrm>
            <a:off x="758880" y="649908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Oval 6"/>
          <p:cNvSpPr/>
          <p:nvPr/>
        </p:nvSpPr>
        <p:spPr>
          <a:xfrm>
            <a:off x="5994360" y="392436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Oval 7"/>
          <p:cNvSpPr/>
          <p:nvPr/>
        </p:nvSpPr>
        <p:spPr>
          <a:xfrm>
            <a:off x="6261120" y="392436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Oval 8"/>
          <p:cNvSpPr/>
          <p:nvPr/>
        </p:nvSpPr>
        <p:spPr>
          <a:xfrm>
            <a:off x="5729400" y="3924360"/>
            <a:ext cx="11268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972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485200" y="6356520"/>
            <a:ext cx="278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87948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1390040" y="6356520"/>
            <a:ext cx="7491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4B396-8B0D-47C5-9162-D6B59CC334C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640" y="1127160"/>
            <a:ext cx="8594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ОРГАНИЗАЦИЯ ПРОЕКТНОЙ ДЕЯТЕЛЬНОСТИ УЧАЩИХСЯ КАК </a:t>
            </a:r>
            <a:br>
              <a:rPr sz="3600"/>
            </a:b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ОДИН ИЗ ПУТЕЙ </a:t>
            </a:r>
            <a:br>
              <a:rPr sz="3600"/>
            </a:b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ПОСТРОЕНИЯ ИНДИВИДУАЛЬНОЙ</a:t>
            </a:r>
            <a:br>
              <a:rPr sz="3600"/>
            </a:b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ОБРАЗОВАТЕЛЬНОЙ ТРАЕКТОР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11720" y="4435560"/>
            <a:ext cx="586440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imes New Roman"/>
              </a:rPr>
              <a:t>Доклад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</a:rPr>
              <a:t>Лапина Т.П.,</a:t>
            </a: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методис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МБУ ДО «Станция юных натуралистов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8320" y="281160"/>
            <a:ext cx="106077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</a:rPr>
              <a:t>Оформление проектной работы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9600" y="1432080"/>
            <a:ext cx="1126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текста исследовательской работы, включая формулы и список литературы, не должен быть  менее 5 машинописных страниц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ложений может быть отведено дополнительно не более 10 стандартных страниц.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яется на листах стандарта  А 4, шрифтом Times New Roman, размером шрифта  14. Интервал между строк – 1,5. Размер полей: верхнее – 2см, нижнее – 1,5 см,  левое – 3см, правое – 2 с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 считается первым, но не нумеруется;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новая глава начинается с новой страницы, точку в конце заголовка, располагаемого   посредине строки, не ставят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разделы (названия  глав, выводы,  заключение, список литературы, каждое  приложение) начинаются с новых страниц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7320" y="623520"/>
            <a:ext cx="10086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9720" y="1479600"/>
            <a:ext cx="109126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работы – это не только современный тренд развития общества в целом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а это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, возможность творчески организовать работу своего объединения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расширить круг интересов детей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индивидуализировать образовательный проце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3240" y="1996560"/>
            <a:ext cx="102250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5897"/>
                </a:solidFill>
                <a:latin typeface="Georgia"/>
              </a:rPr>
              <a:t>Благодарю за внимание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3280" y="1539360"/>
            <a:ext cx="1126152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учебно-исследовательская деятельность учащихся является неотъемлемой частью учебного процесса, что подтверждают требования к аттестации педагогических работников на первую и высшую квалификационные категор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проектной и учебно-исследовательской деятельности учащихся лежит системно-деятельностный подход как принцип организации образовательного процесс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06400" y="544320"/>
            <a:ext cx="78948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5320" y="334440"/>
            <a:ext cx="1095696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Цели учебного проекта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ащихс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монстрировать свои достижения в самостоятельном освоении избранной области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ов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 условия  для  формирования  УУД  учащихся,  развития  их  творческих  способностей  и  логического мышл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7160" y="623520"/>
            <a:ext cx="1037736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дачи учебного проекта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1280" y="1476000"/>
            <a:ext cx="110012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планированию: учащийся должен уметь определить цель, описать шаги      по её достижению,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еативности и аналитического мышл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   позитивного     отношения    к   деятельности    через проявление   инициативы,    творческого подхода в выборе методов и форм работы над проектом. 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4520" y="365040"/>
            <a:ext cx="962964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Типы проектов</a:t>
            </a: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5200" y="1417320"/>
            <a:ext cx="11139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a6717"/>
                </a:solidFill>
                <a:uFillTx/>
                <a:latin typeface="Cambria"/>
                <a:ea typeface="Angsana New"/>
              </a:rPr>
              <a:t>Практико-ориентированный проект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актических задач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й игры,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лектронной презентации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34440"/>
            <a:ext cx="1036332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5897"/>
                </a:solidFill>
                <a:latin typeface="Times New Roman"/>
              </a:rPr>
              <a:t>Типы проектов</a:t>
            </a: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9080" y="1341360"/>
            <a:ext cx="11491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entury Gothic"/>
              </a:rPr>
              <a:t>	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mbria"/>
              </a:rPr>
              <a:t>Исследовательский проек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какой-либо гипотез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 проведенном исследовании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е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резентац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5320" y="334440"/>
            <a:ext cx="1097280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ипы проектов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7960" y="1293480"/>
            <a:ext cx="10926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	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Информационный проект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бор информации о каком-либо объекте или явлен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стенда, стенгазеты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идеоролика, презентации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онных материалов на сайтах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12760"/>
            <a:ext cx="103806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Times New Roman"/>
              </a:rPr>
              <a:t>Типы проектов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050840"/>
            <a:ext cx="1025712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Times New Roman"/>
              </a:rPr>
              <a:t>Творческий проект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е опыта участия в решении креативной проблемы проект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, картина, творческая работа (сувениры, элементы декора, одежды) и т.д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фильм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, сказка, очерк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анимац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30560" y="380520"/>
            <a:ext cx="89121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Этапы работы над проектом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2160" y="1189080"/>
            <a:ext cx="117349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ительный этап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выбор темы  проектной работ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планир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 себя определение цели и задач проектной работы,  выбор средств и методов достижения поставленной ц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работы над проек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работу с информационными и литературными источниками, проведение исследования, написание статьи, эссе, очерка, викторины, игры, создание творческой работы, электронной презентац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ормление проектной работ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щита проектн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ференции, конкурсы и т.д.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6:59:57Z</dcterms:created>
  <dc:creator>Nastya</dc:creator>
  <dc:description/>
  <dc:language>en-US</dc:language>
  <cp:lastModifiedBy>Татьяна</cp:lastModifiedBy>
  <dcterms:modified xsi:type="dcterms:W3CDTF">2020-12-25T04:57:17Z</dcterms:modified>
  <cp:revision>99</cp:revision>
  <dc:subject/>
  <dc:title>АНАЛИЗ ВИДОВОГО РАЗНООБРАЗИЯ И ДИНАМИКИ ПОПУЛЯЦИЙ ДОМАШНИХ ЖИВОТНЫХ В ЗАВОДСКОМ РАЙОНЕ ГОРОДА НОВОКУЗНЕЦКА</dc:title>
</cp:coreProperties>
</file>