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567-D571-4F4A-A3A4-329AD345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5EB-1B5C-44DB-A155-0FE64475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72A-D19A-49E1-8700-0B60764D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E7A-EFD5-44DE-B260-174B4FDE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05D-F41A-4134-B495-4DE03E62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9858-6CFA-40B0-973E-9551C336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4CB-F9E1-4412-926E-B626194B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1DB2-2E2D-4EF8-A9F2-006B6323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129F-0D76-4408-81B6-C6FBF286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10972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3679-765B-4F77-B392-8687D8C2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AD0B-EDA6-4475-919B-5D499C47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F34-6B3D-46DB-9402-D3E942C0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50F4-A97D-42AB-8D17-4B09956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93EB-93F4-49DB-A239-6AEDC9E8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7B78-AB01-429D-9744-F326189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75D2-4C97-4BC1-AA55-D2308F41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85AE-E173-48CE-A846-87AF28AB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67F-F9C8-4C31-A3F0-C42842E0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916-D835-4720-9005-84C04D7E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37E-7D3B-458C-8C31-FFB7792E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10972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515-FDB5-4C9F-9881-7442495E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15B-B6C8-4133-8F2B-535F7D9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DFD-E53B-4B70-8029-C552928D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3F0-3884-4FC3-8264-2362AA2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5200" y="6356520"/>
            <a:ext cx="278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7948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390040" y="6356520"/>
            <a:ext cx="7491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6775C-DD97-4FD7-B3FB-F0998DEE8E8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Oval 6"/>
          <p:cNvSpPr/>
          <p:nvPr/>
        </p:nvSpPr>
        <p:spPr>
          <a:xfrm>
            <a:off x="1127772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Oval 7"/>
          <p:cNvSpPr/>
          <p:nvPr/>
        </p:nvSpPr>
        <p:spPr>
          <a:xfrm>
            <a:off x="75888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1127772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Oval 7"/>
          <p:cNvSpPr/>
          <p:nvPr/>
        </p:nvSpPr>
        <p:spPr>
          <a:xfrm>
            <a:off x="75888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Oval 6"/>
          <p:cNvSpPr/>
          <p:nvPr/>
        </p:nvSpPr>
        <p:spPr>
          <a:xfrm>
            <a:off x="5994360" y="392436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Oval 7"/>
          <p:cNvSpPr/>
          <p:nvPr/>
        </p:nvSpPr>
        <p:spPr>
          <a:xfrm>
            <a:off x="6261120" y="392436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Oval 8"/>
          <p:cNvSpPr/>
          <p:nvPr/>
        </p:nvSpPr>
        <p:spPr>
          <a:xfrm>
            <a:off x="5729400" y="392436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485200" y="6356520"/>
            <a:ext cx="278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87948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1390040" y="6356520"/>
            <a:ext cx="7491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7C35B-F4F6-44D5-AB02-A1914A29874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640" y="1127160"/>
            <a:ext cx="8594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ОРГАНИЗАЦИЯ ПРОЕКТНОЙ ДЕЯТЕЛЬНОСТИ УЧАЩИХСЯ КАК </a:t>
            </a:r>
            <a:br>
              <a:rPr sz="3600"/>
            </a:b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ОДИН ИЗ ПУТЕЙ </a:t>
            </a:r>
            <a:br>
              <a:rPr sz="3600"/>
            </a:b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ПОСТРОЕНИЯ ИНДИВИДУАЛЬНОЙ</a:t>
            </a:r>
            <a:br>
              <a:rPr sz="3600"/>
            </a:b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ОБРАЗОВАТЕЛЬНОЙ ТРАЕКТОР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11720" y="4435560"/>
            <a:ext cx="586440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imes New Roman"/>
              </a:rPr>
              <a:t>Доклад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</a:rPr>
              <a:t>Лапина Т.П.,</a:t>
            </a:r>
            <a:r>
              <a:rPr b="1" lang="ru-RU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Times New Roman"/>
              </a:rPr>
              <a:t>методист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Times New Roman"/>
              </a:rPr>
              <a:t>МБУ ДО «Станция юных натуралистов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8320" y="281160"/>
            <a:ext cx="106077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</a:rPr>
              <a:t>Оформление проектной работы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9600" y="1432080"/>
            <a:ext cx="1126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текста исследовательской работы, включая формулы и список литературы, не должен быть  менее 5 машинописных страниц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ложений может быть отведено дополнительно не более 10 стандартных страниц.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яется на листах стандарта  А 4, шрифтом Times New Roman, размером шрифта  14. Интервал между строк – 1,5. Размер полей: верхнее – 2см, нижнее – 1,5 см,  левое – 3см, правое – 2 с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 считается первым, но не нумеруется;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новая глава начинается с новой страницы, точку в конце заголовка, располагаемого   посредине строки, не ставят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разделы (названия  глав, выводы,  заключение, список литературы, каждое  приложение) начинаются с новых страниц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7320" y="623520"/>
            <a:ext cx="10086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9720" y="1479600"/>
            <a:ext cx="109126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работы – это не только современный тренд развития общества в целом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а это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, возможность творчески организовать работу своего объединения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расширить круг интересов детей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индивидуализировать образовательный проце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3240" y="1996560"/>
            <a:ext cx="102250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5897"/>
                </a:solidFill>
                <a:latin typeface="Georgia"/>
              </a:rPr>
              <a:t>Благодарю за внимание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3280" y="1539360"/>
            <a:ext cx="1126152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учебно-исследовательская деятельность учащихся является неотъемлемой частью учебного процесса, что подтверждают требования к аттестации педагогических работников на первую и высшую квалификационные категор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проектной и учебно-исследовательской деятельности учащихся лежит системно-деятельностный подход как принцип организации образовательного процесс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06400" y="544320"/>
            <a:ext cx="78948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5320" y="334440"/>
            <a:ext cx="1095696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Цели учебного проекта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ащихс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монстрировать свои достижения в самостоятельном освоении избранной области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ов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 условия  для  формирования  УУД  учащихся,  развития  их  творческих  способностей  и  логического мышл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7160" y="623520"/>
            <a:ext cx="1037736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дачи учебного проекта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1280" y="1476000"/>
            <a:ext cx="110012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планированию: учащийся должен уметь определить цель, описать шаги      по её достижению,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реативности и аналитического мышл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   позитивного     отношения    к   деятельности    через проявление   инициативы,    творческого подхода в выборе методов и форм работы над проектом. 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4520" y="365040"/>
            <a:ext cx="962964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Типы проектов</a:t>
            </a: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55200" y="1417320"/>
            <a:ext cx="11139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a6717"/>
                </a:solidFill>
                <a:uFillTx/>
                <a:latin typeface="Cambria"/>
                <a:ea typeface="Angsana New"/>
              </a:rPr>
              <a:t>Практико-ориентированный проект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актических задач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й игры,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лектронной презентации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34440"/>
            <a:ext cx="1036332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Типы проектов</a:t>
            </a: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9080" y="1341360"/>
            <a:ext cx="11491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entury Gothic"/>
              </a:rPr>
              <a:t>	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mbria"/>
              </a:rPr>
              <a:t>Исследовательский проект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 какой-либо гипотез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 проведенном исследовании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ет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презентац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5320" y="334440"/>
            <a:ext cx="10972800" cy="8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ипы проектов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7960" y="1293480"/>
            <a:ext cx="10926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	</a:t>
            </a: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Информационный проект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бор информации о каком-либо объекте или явлен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стенда, стенгазеты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идеоролика, презентации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онных материалов на сайтах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12760"/>
            <a:ext cx="103806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</a:rPr>
              <a:t>Типы проектов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050840"/>
            <a:ext cx="1025712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Times New Roman"/>
              </a:rPr>
              <a:t>Творческий проект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ие опыта участия в решении креативной проблемы проект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, картина, творческая работа (сувениры, элементы декора, одежды) и т.д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фильм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, сказка, очерк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анимац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30560" y="380520"/>
            <a:ext cx="89121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Этапы работы над проектом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2160" y="1189080"/>
            <a:ext cx="1173492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ительный этап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выбор темы  проектной работ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планир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 себя определение цели и задач проектной работы,  выбор средств и методов достижения поставленной ц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работы над проек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 себя работу с информационными и литературными источниками, проведение исследования, написание статьи, эссе, очерка, викторины, игры, создание творческой работы, электронной презентац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ормление проектной работ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щита проектн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ференции, конкурсы и т.д.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6:59:57Z</dcterms:created>
  <dc:creator>Nastya</dc:creator>
  <dc:description/>
  <dc:language>en-US</dc:language>
  <cp:lastModifiedBy>Татьяна</cp:lastModifiedBy>
  <dcterms:modified xsi:type="dcterms:W3CDTF">2020-12-25T04:57:17Z</dcterms:modified>
  <cp:revision>99</cp:revision>
  <dc:subject/>
  <dc:title>АНАЛИЗ ВИДОВОГО РАЗНООБРАЗИЯ И ДИНАМИКИ ПОПУЛЯЦИЙ ДОМАШНИХ ЖИВОТНЫХ В ЗАВОДСКОМ РАЙОНЕ ГОРОДА НОВОКУЗНЕЦКА</dc:title>
</cp:coreProperties>
</file>