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5.jpeg" ContentType="image/jpeg"/>
  <Override PartName="/ppt/media/image32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7.png" ContentType="image/png"/>
  <Override PartName="/ppt/media/image36.png" ContentType="image/png"/>
  <Override PartName="/ppt/media/image37.jpeg" ContentType="image/jpeg"/>
  <Override PartName="/ppt/media/image41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B20-CB73-4998-996B-C11F50A4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17D-566E-4E9E-B507-41C4DD6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2B2-6DDE-434D-BA4F-CF4D13EA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C8C-39C4-40F7-A6DA-602EE944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92C2-6A47-4029-80B8-843A3485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23B4-6B60-44A3-B49C-FAC31E8E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DFD6-5214-40D3-8411-4C85B400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BC68-9B74-4204-BA90-61BE8C43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D4DE-58A8-4665-9F6E-7049DF18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8FB3-1A58-43F2-9732-6CC963AD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4A3F-F28C-467B-8A74-8385236D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9BE-3E84-41CE-9B54-2862303D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F3C8-4578-44FA-B38D-CABC6EA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6D29-71C5-4C1E-9A94-1D427790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AEA8-128D-4690-BA8A-87F08966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E021-E7D7-4D75-AA39-4E9CDE4B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E352-FFE3-47AB-A50D-D281AB27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9590-616A-46F7-B918-DF8B1A1A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4E7E2-3B7F-431B-9179-9A33D0A1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4DE9-5E63-457C-9C25-14895C0F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3621-685A-48C0-8D82-F4269024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B7C9-6B44-4DD6-8C4B-FB2D986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17E-346F-41AF-9A04-68D5208D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FE77-D872-4D5D-B719-04AE862C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5F82-CD9E-427C-A5F7-4322D5E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C511-787C-4E9F-8B5E-2A43CAE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0492-34D2-4E93-9CAC-D571C2A9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D249-7246-4E09-A2D9-06ADC52D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095F-85AB-40DC-B62C-FB95D90F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9209-D057-4230-805E-E922D9FC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551B-29D3-4D20-8F2D-E0813209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E47D1-B11B-4C97-9794-77D9102E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30F7-A333-428F-95B8-315C9B4B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D83-B7BC-4917-9A51-5361F560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9AEFD-E3BA-4967-B78D-709009BC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34C3-AC61-4C3F-815C-7221F563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42DBC-34EE-42EB-9E3B-07317020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298A-22EB-4363-907E-6BAE034C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1E479-5EA4-4C3C-9D1A-28B4AC0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9325E-B60E-4E1C-A36C-EC21649A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8091-45A5-4226-A197-5393B23B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84AC-7AA7-41A7-B62A-E1023B86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3DDD-C5CE-4B9F-ACB4-3243B7C5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AE0CE-7B2E-45F5-A35C-9C951449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6D1-7D01-4BE7-8D6C-A7871C92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5FA5F-FE90-479B-BED5-AB75607F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6171D-93D6-4B52-9C26-73ABF3C8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6484-8E56-4C3C-9A2E-F5703BD3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C10BC-FD2F-42D6-9FBB-F489BFE0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6E69E-06D0-42DE-870E-55A4A169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50B6-A19B-4AB4-81C4-C37BB4B0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D16AB-FB8C-4973-9B02-727034BF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C3ACF-DA06-42C2-A158-226ECB5E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E9741-2AD8-43E2-9CDF-A67E83EC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56DE-5D63-4809-9EDB-1A93221B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97D-1E72-4E7A-B0A6-47825A96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8EF0-9318-439F-BF3F-4B2C277C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89B15-36BD-4182-93F5-BD1FCF5F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2E60-C31D-4690-BE3D-7DBC984A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B7AB0-8DF4-4F62-BE79-5AB040FA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C37BC-22D6-4733-B9F8-E3608E1C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62142-9283-4D59-B9D1-2C383F4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24E9F-7603-4CCB-A991-97309DEA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ADD29-2470-44C3-89B7-5B11507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DB82-6EDD-4B6F-8851-D178A642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0C977-4C07-4067-AAF0-ED8D9C4B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A69-A259-46FF-AC0F-3FD43911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04FE7-9D49-429C-B651-11BF2749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AB90E-1294-4195-85D4-146B9FD1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24699-DC1A-41FB-B776-233C0F68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24325-01E5-445B-8232-050E2737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EE43-B57D-44D9-844B-7CD00844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C3F94-2289-4577-B0C7-48D06B6B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536DE-55F9-4FD9-97C5-3630DCE8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7C730-030F-4F98-AFB1-AD83FDF8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F8270-E8CC-44E3-B859-25139057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34F2C-6EAF-4267-9C7A-D9C6E1D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ED4-0C48-4D1F-99FA-F7C5170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75AC-7B12-4B97-975F-CFE82E71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8D942-9661-4744-B3C5-E5628FC0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7CC9B-730A-4952-B896-4B8C85BD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A08D8-1BBC-4DD7-9269-733A518F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B34A4-C573-42AD-9CEA-7D72FF44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67DFA-4BB6-4901-B0CA-8B9A1090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675A2-7D4C-4E9B-AF81-1D8EF72A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0859D-5BEA-448F-94BA-438B3397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C62F2-8122-4E49-BA26-50D57609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B61A7-C868-4056-8DB5-E504E58C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C01-010E-40C4-B7DC-3529331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2EAE1-BB40-4E1F-B215-A80488E6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9E91-2F65-478D-93BC-B66907CC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C59D9-9FA7-45C9-91E5-D36003F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6C8AB-F820-440B-A7BE-EC57CA7E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6C7BB-166A-4BD6-B7F1-A3D4519C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85273-E16B-4B75-8474-7FF95E7C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D122D-0F52-4FC9-A431-76CB93BC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5E06-F3D1-4461-A605-E1A1231A45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B4E7-668F-459D-AA13-50500C2534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2228-5F85-488B-9097-EC7767900B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38F5-6B78-4B37-9962-E4F6FD8F9F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059E-086C-480F-AC86-EA1DDE37FB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234F-852D-4445-BDB1-54AEAD0B7B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811C-018F-45D3-849B-5187A8F5D6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DFDD-F21A-4FC2-B33D-C6C3CA85E1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353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БУ ДО «Станция юных натуралистов»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Выступление на методическом объединении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ическая компетентность педагога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ных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ситуаций»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Разработала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Лапина Т.П., методист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ысшей квалификационной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атегори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г. Новокузнецк, 2020 г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643960" cy="8524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394920" y="134100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3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едагогических ситуаций внешне прост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е входит педагог, учащийся, их эмоционально-интеллектуальное взаимодействие. Педагогические ситуации могут создаваться целенаправленно или возникать стихийн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Объект 6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600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643960" cy="1139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5040000" y="1444320"/>
            <a:ext cx="410364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ситуации должны разрешаться продуманн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егда согласование педагогического процесса с интересами его участников и оперативный учет индивидуальных особенностей конкретных людей и реальной обстанов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Объект 6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424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3640" y="14810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ситуация – это проблема. Педагогическая проблема – это объективно возникающий в педагогической теории или практике вопрос относительно обучения и воспитания. Педагогические ситуации могут носить общий характер, связанный с педагогическим процессом в целом, либо частный характер, когда педагогические проблемы возникают в ходе обучения. Педагогические проблемы требуют решения, однако они не всегда могут быть разрешены немедленн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24000" y="14842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писание проблемной ситуа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сследование причин возникновения проблемной ситуа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троение прогноза дальнейшего развития ситуа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строение модели решения задачи, представление идеального конечного результата (ИКР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флекс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125360"/>
            <a:ext cx="850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ическая ситуация №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нятий к педагогу робко подходит первоклассник и, смущаясь, просит: «Ольга Алексеевна, дайте мне, пожалуйста, телефон Маши Иваново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спрашивает: «Дима, зачем тебе телефон Маши?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в глаза, мальчик говорит, что ему очень нравится Маша, а поговорить с ней он не решается. Он надеется, что сможет общаться с ней по телефон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поступить педагогу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469800" y="11592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неоднозначная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й стороны, очень хочется помочь застенчивому мальчику, с другой стороны, дать телефон девочки, значит, поступить некорректно по отношению к ней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педагогом стоит сложная задача, которая требует тактичного решения, чтобы помочь мальчику и не навредить девочк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914400" y="189000"/>
            <a:ext cx="7832880" cy="865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95280" y="980640"/>
            <a:ext cx="4248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номер телефона девочки – это неправильно, так как такой поступок педагога может не понравиться родителям ребенка и самой девочке. Не давать номер телефона – тоже неправильно, т. К. ребенок может потерять доверие к педагог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Объект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7794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0" y="907560"/>
            <a:ext cx="457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лжен сказать мальчику, что не может дать телефон девочки, потому что не имеет на это права по этическим причинам, но постарается ему помочь наладить с ней отношения. На следующем занятии педагог может дать ребятам общее задание, что позволит поближе познакомиться, возможно, даже подружить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Объект 6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4105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50560" y="1267920"/>
            <a:ext cx="87138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с конца ряда передается записка. Ученики молча читают ее, смотрят на потолок и хихикают, после чего передают записку дальше, не скрывая ее от учителя. Учитель видит записку, забирает ее, видит сообщение: «Посмотри на потолок». Учитель смотрит на потолок. Класс смеет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ыходит из себя. Пытается узнать, кто был инициатором, грозится поставить плохие отметки и вызвать родителей в школ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08000" y="1052640"/>
            <a:ext cx="468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й ситуации учащиеся стараются протестировать учителя и увидеть его эмоции и действ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дагог начинает паниковать, кричать, грозить директором, это вызовет негативное отношение учащихся. Учитель потеряет уважение учеников, так как он поддался на провокацию, и дети будут придумывать новые каверзные ситуац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Объект 8" descr=""/>
          <p:cNvPicPr/>
          <p:nvPr/>
        </p:nvPicPr>
        <p:blipFill>
          <a:blip r:embed="rId2"/>
          <a:stretch/>
        </p:blipFill>
        <p:spPr>
          <a:xfrm>
            <a:off x="4896000" y="1700280"/>
            <a:ext cx="3997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</a:rPr>
              <a:t>Цель методического объединения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й компетентности педагогов по вопросам применения технологии педагогических кейсов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63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704840" y="981000"/>
            <a:ext cx="4472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ю рекомендуется спокойно реагировать на такие ситуации и отнестись к ней с юмором. Возможны фразы: «Мне нравится ваш сплоченный коллектив, наличие у вас чувства юмора, однако не всегда следует поддаваться «стадному чувству». Давайте перейдем к теме нашего занятия и выясним ваши индивидуальные способности»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Объект 10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394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0" y="274680"/>
            <a:ext cx="8967960" cy="1139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539280" y="1444320"/>
            <a:ext cx="39610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занимается ребенок, физически слабый, отличающийся от других детей наличием какого-либо дефекта развити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 группе смеются над ним, подтрунивают, даже издеваютс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Объект 6" descr=""/>
          <p:cNvPicPr/>
          <p:nvPr/>
        </p:nvPicPr>
        <p:blipFill>
          <a:blip r:embed="rId2"/>
          <a:stretch/>
        </p:blipFill>
        <p:spPr>
          <a:xfrm>
            <a:off x="4788000" y="2041560"/>
            <a:ext cx="41050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79280" y="14810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 слабый ребенок отличается от других детей, переживает свою «инаковость». Такой ребенок нуждается в поддержке педагога, которая будет осуществляться тактично и психологически грамотно. В случае полного отсутствия взаимопонимания со сверстниками и педагогом у ребенка может сформироваться «комплекс неудачника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Заголовок 6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3" descr=""/>
          <p:cNvPicPr/>
          <p:nvPr/>
        </p:nvPicPr>
        <p:blipFill>
          <a:blip r:embed="rId1"/>
          <a:stretch/>
        </p:blipFill>
        <p:spPr>
          <a:xfrm>
            <a:off x="396720" y="274680"/>
            <a:ext cx="8571240" cy="1139760"/>
          </a:xfrm>
          <a:prstGeom prst="rect">
            <a:avLst/>
          </a:prstGeom>
          <a:ln w="0">
            <a:noFill/>
          </a:ln>
        </p:spPr>
      </p:pic>
      <p:pic>
        <p:nvPicPr>
          <p:cNvPr id="421" name="Объект 10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745080" cy="295092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13"/>
          <p:cNvSpPr/>
          <p:nvPr/>
        </p:nvSpPr>
        <p:spPr>
          <a:xfrm>
            <a:off x="4500720" y="1268280"/>
            <a:ext cx="4174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лжен выяснить круг интересов своего ученика, давать задания, с которыми он может справиться, создавать ситуации успешности, однако при этом, не выделяя его из группы и не создавая «особых услови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480680"/>
            <a:ext cx="850752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ходит в класс и видит на доске карикатуру на себя. Рисунок смешной и выразительный. Класс молча ждет реакции учител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ассматривает карикатуру и говорит: «Нарисовано очень хорошо, мне жаль это стирать. Художник – талантливый карикатурист, такой дар необходимо развивать»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3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140000" y="1267920"/>
            <a:ext cx="467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одемонстрировал свою зрелость. Он не воспринял карикатуру как личную обиду, не стал обижаться на детскую выходку. Учитель  не искал виноватого и не пытался пристыдить его, таким образом он избежал лишнего морализаторства. Такая реакция учителя позволила детям увидеть сильную личность, и в следующий раз у детей не возникнет желание так поступат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Объект 8" descr=""/>
          <p:cNvPicPr/>
          <p:nvPr/>
        </p:nvPicPr>
        <p:blipFill>
          <a:blip r:embed="rId2"/>
          <a:stretch/>
        </p:blipFill>
        <p:spPr>
          <a:xfrm>
            <a:off x="0" y="1413000"/>
            <a:ext cx="4105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116000" y="171360"/>
            <a:ext cx="7126200" cy="88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179280" y="980640"/>
            <a:ext cx="46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комендуется устраивать скандал, искать того, кто нарисовал карикатуру. Деструктивное поведение приведет к ухудшению отношений между учениками и учителе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ндартное поведение учителя обезоруживает детей. На положительном примере они учатся конструктивно реагировать на жизненные вызовы, уважать других люд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Объект 6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887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79280" y="148392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сихологи говорят, что нет неразрешимых ситуаций, выход есть всегд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у в современном обществе необходимо самосовершенствоваться в педагогическом мастерстве. Они всегда первыми принимают вызовы со стороны постоянно меняющихся социальных тенденций и настроени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этом педагог должен умело избегать конфронтации детей между собой и конфликтов  учащихся с педагогом на своих занятиях, воспитывать вежливое и уважительное отношение детей к другим людя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7892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ейзеров В.А. 105 кейсов по педагогике. Педагогические задачи ситуации. – М.6 Флинта, 2014. – 162 с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кач А.А. Рабочая книга практического психолога. - М.: Красная площадь, 1996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укьянова Н.И. Психолого-педагогическая компетентность учителя. Диагностика развития. М.: Педагогика, 2004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мов Р.С. Психология. Книга 2. - М.: Владос, 2002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огов Е.И. Личность учителя: теория и практика. – Ростовн/Д: Феникс, 1996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толяренко, Л.Д., Самыгин, С.И. Психология и педагогика в вопросах и ответах. [Текст]. - Ростов н/Д: Феникс, 2000 – 576 с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Rectangle 4" descr=""/>
          <p:cNvPicPr/>
          <p:nvPr/>
        </p:nvPicPr>
        <p:blipFill>
          <a:blip r:embed="rId1"/>
          <a:stretch/>
        </p:blipFill>
        <p:spPr>
          <a:xfrm>
            <a:off x="969840" y="457200"/>
            <a:ext cx="77169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-360" y="2421000"/>
            <a:ext cx="8064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БЛАГОДАРЮ  ЗА  ВНИМАНИ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сведомлённость, авторитетность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уг вопросов, явлений, в которых данное лицо обладает познанием, опытом, кругом полномочий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дагогической науке понят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о-педагогическая компетентность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как максимально адекватная совокупность профессиональных, коммуникативных, личностных свойств педагога, позволяющая достигать качественных результатов в процессе обучения и воспитания учащихс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3640" y="404640"/>
            <a:ext cx="8459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ессионал» -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убъект профессиональной деятельности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ющий высокими показателями профессионализма деятельности, имеющий развитую систему личностной 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й регуляции, постоянно нацеленный на саморазвитие и самосовершенствование, на личностные и профессиональные достижен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554400" indent="-5544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7" descr=""/>
          <p:cNvPicPr/>
          <p:nvPr/>
        </p:nvPicPr>
        <p:blipFill>
          <a:blip r:embed="rId1"/>
          <a:stretch/>
        </p:blipFill>
        <p:spPr>
          <a:xfrm>
            <a:off x="1359000" y="457200"/>
            <a:ext cx="7785000" cy="669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23640" y="549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мой составляющей педагога-профессионала является его компетентност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едагога относится к типу професс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ловек - человек», и особая роль в её эффективном осуществлении принадлежит психологической компетентности, которая позволяет эффективно взаимодействовать и управлять в профессиональном пространств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-49536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23640" y="1052640"/>
            <a:ext cx="467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компетент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это совокупность знаний, умений и навыков в области психологии; умение использовать психологические знания в работе; умение видеть за поведением ребёнка его состояние, способность оценивать психологическую ситуацию в отношениях с ребёнком и коллективом детей и избирать рациональный способ общ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6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8229600" cy="1006560"/>
          </a:xfrm>
          <a:prstGeom prst="rect">
            <a:avLst/>
          </a:prstGeom>
          <a:ln w="0">
            <a:noFill/>
          </a:ln>
        </p:spPr>
      </p:pic>
      <p:pic>
        <p:nvPicPr>
          <p:cNvPr id="378" name="Объект 10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960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69800" y="274680"/>
            <a:ext cx="8498160" cy="9936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24000" y="1444320"/>
            <a:ext cx="44640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психологическая компетентность» выходит за рамки психологической грамотност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компетентность педагога должна включать профессионально-действенный компонент, личностные установки на восприятие и использование психологической информаци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716000" y="1412640"/>
            <a:ext cx="403236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и психологической компетентнос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выделить следующие структурные элементы (блоки)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блок психологических знаний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блок "Я-концепции"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блок активности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блок саморегуляции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блок профессионального самосозна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79280" y="105264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рамотность и педагогический такт - это соблюдение педагогом принципа меры в общении с детьми в самых разнообразных сферах деятельности, умение выбрать правильный подход к учащимс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тельност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работать с детьм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ходить из мотивации учащихся при планировании и организации учебно-воспитательного процесс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ские способности как умение организовать коллективную и индивидуальную деятельность, умение увлечь, стимулировать детскую активност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атия. Это способность эмоционально откликнуться на проблемы ученика: умение поставить себя на место ребенка, взглянуть на события с его позиций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сотрудничеству  с детьм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176040" y="60480"/>
            <a:ext cx="8755200" cy="12078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284720" y="1413000"/>
            <a:ext cx="468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мы расширяем свой горизонт познаний и обсуждаем один из методов проблемного обучения –  метод кейсо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 (англ.) – случай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ейсов, или метод решения педагогических ситуаций, предполагает решение педагогами реальных ситуаций из педагогической практики других учителей и педагогических работнико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Объект 7" descr=""/>
          <p:cNvPicPr/>
          <p:nvPr/>
        </p:nvPicPr>
        <p:blipFill>
          <a:blip r:embed="rId2"/>
          <a:stretch/>
        </p:blipFill>
        <p:spPr>
          <a:xfrm>
            <a:off x="179280" y="2068560"/>
            <a:ext cx="3861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1:10Z</dcterms:created>
  <dc:creator>Костя</dc:creator>
  <dc:description/>
  <dc:language>en-US</dc:language>
  <cp:lastModifiedBy>Татьяна</cp:lastModifiedBy>
  <dcterms:modified xsi:type="dcterms:W3CDTF">2020-03-23T02:29:37Z</dcterms:modified>
  <cp:revision>1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