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image16.png" ContentType="image/png"/>
  <Override PartName="/ppt/media/image15.jpeg" ContentType="image/jpeg"/>
  <Override PartName="/ppt/media/image5.jpeg" ContentType="image/jpeg"/>
  <Override PartName="/ppt/media/image32.jpeg" ContentType="image/jpeg"/>
  <Override PartName="/ppt/media/image40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10.png" ContentType="image/png"/>
  <Override PartName="/ppt/media/image35.jpeg" ContentType="image/jpeg"/>
  <Override PartName="/ppt/media/image30.jpeg" ContentType="image/jpeg"/>
  <Override PartName="/ppt/media/image7.png" ContentType="image/png"/>
  <Override PartName="/ppt/media/image36.png" ContentType="image/png"/>
  <Override PartName="/ppt/media/image37.jpeg" ContentType="image/jpeg"/>
  <Override PartName="/ppt/media/image41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9.jpeg" ContentType="image/jpeg"/>
  <Override PartName="/ppt/media/image11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0B55-DBC1-4CC7-9843-B4A418B0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8C3A-9CB3-4765-9856-F71B0B7C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CA03-42C3-407B-A2D9-179BE94D9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90F8-E3E0-4B1F-8A7B-591A7DB01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5FD9-62BC-48E9-AA83-1C94042A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55DF-D659-494B-A81E-20CE3BCC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18BB-EFE1-427C-966B-7875AE5C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6111-7C3F-429E-9FFC-BCA3FF63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9F12-8B2C-4121-A014-91F3A01D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4B3F-BC87-4412-A15B-0B244A70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F497-0F85-4D8C-B42A-42C022BC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CAAC-23C3-4C07-AE5E-2C251654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D4E8-787C-4869-AC86-0C891B8A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5FEE-28BA-48C6-BE61-1B8A0EE3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D692-CCC9-4377-8BB2-5A752CED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CA18-F304-4BE0-827F-9AD75875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EA7C-D11B-42E1-94BD-C04BA8D10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95670-EBC9-4CBA-9C02-FA86894B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9480A-45D5-4A63-A251-BD5185EF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84766-46BB-4DB4-B27A-7B7527EE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0EDEC-A4FA-469E-AE41-8EBACDF9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64603-0125-4734-B280-4F1740F7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3716-0CC4-48BF-8A9A-1E3B4CBE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11151-C34C-4A59-BDD8-CC3E69A9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B993C-1B86-4277-8440-EF74685B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54AE0-C531-486E-817B-B60D4EF4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698B1-F361-4539-9B23-9A9263E8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500E4-5829-4F23-8877-6F5441D2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92894-679C-4B6B-B2F7-63CE7252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239C3-E18A-4E67-A0C8-705BEE4C0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A7C00-9CD5-42FA-B794-2B7328ED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84C0E-A657-4730-B56B-0D14EA69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07AD1-019F-40E2-BADE-28322F13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D9AA-9464-4C06-958C-458C9752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08605-7380-49DE-BA89-35717A49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409FF-C74D-4F68-8BD0-1B968469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14897-F399-4B0C-AEDA-C0CD4E84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A9635-A840-4477-A153-D5A540E4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930AD-D905-44D4-9A50-78E07BAE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7184A-15C0-463E-BA5E-618AE198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24713-3393-4DA9-9C1F-5E052BBB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0F916-EB4B-481C-ABE2-3ADEA29EA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EAA05-F303-4C32-800C-8113EC27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66613-1844-48A4-B653-5997F8514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3AD9-BF43-42CE-8A21-03335769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C1C07-0A88-4DC5-BD68-BF6BDBAE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9E3C4-2172-4303-A997-57E44D17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7D999-3400-4ADB-ADB0-A8F8B126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A59FA-9528-49B8-88EE-C96A1B84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A7556-369B-4B85-81E6-26E9B1EE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73BE5-66D3-4420-9FE2-13F1BA51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165B1-278B-4F3E-BF5C-BA902722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DB79B-5875-494D-A560-0D3D1C7D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E50F7-23F8-45C8-AA9C-8C77007A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7D5A5-7792-41C0-B13E-0AE47697A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EEDA-ACD9-4F66-AED0-45471E6B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E930B-24A8-4E13-8B1A-1B3E9079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0949D-2880-4204-A717-6391FF2D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391E1-A90D-4FF1-98BF-CCDBF85F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8C43A-C4E4-4346-8295-125259CD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55117-B224-42BA-9070-29E177E4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962C8-AA53-4380-AB73-D3F51ADB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1D1BF-0936-4D49-B9A4-6E17201B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129B1-2B6F-4B12-B113-93DCB026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7B42D-B2CC-46E1-A83E-D142CC2C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D0428-20A3-4303-BA35-EF4DBF07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5F1E-035A-4983-AC76-48E976AF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41C0E-09BC-47C4-9742-46AA139E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C3888-C585-4873-B8DE-2577F69D0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1EF1E-9558-4546-8835-864977174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6F39A-5FD9-4763-AF3E-9E5BC4A9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82C1B-9F67-4D6E-BE67-6418D7BC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BEFC3-5F62-4862-A2D5-5EA63914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25C6D-2967-47A3-A018-6225B82D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C586A-F7F9-40F3-A6CB-B27CEB71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F97F6-A42C-4177-9030-BD0F839B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34E3B-B184-4A90-9067-F60AB510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635E-94A0-498B-BAB0-8C3F69B9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E88A2-F529-4708-8971-0A391F5F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8D19B-3784-4127-8654-D2550808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3A77E-8174-400C-AF31-D7B0187D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A72C7-6D3C-4D7D-B5D3-E39A4E55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739B6-3B27-4849-94DE-C641E733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B0FD9-4D45-4344-B78E-6315143F1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D6643-3FEB-41F3-9B65-D65ACC8C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E986C-0D42-4A37-BB03-3251DF26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E72D6-156E-4996-A74D-105128BE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914C4-8EAB-4358-8819-9E87A7AF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0CB5-9EE6-4AD5-9251-2943A966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05307-0184-4AD2-9EF1-4441BAE8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142A3-E196-4964-9989-3BA7C088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35331-A3DA-4FDA-B0CC-76B107FA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6E190-439C-4475-87CE-B4402718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F07E0-7949-4D8A-A3A3-FF45ECF0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30134-E1E9-4EE4-8B61-8B31F188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0ABA8-3E44-464F-BD66-E5AD0816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026C-B1F4-4B29-9226-F8B34CE7018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8BD6-7933-4E4C-8DD1-90F6BA71262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1E74-F3AE-4A21-9DCC-603E98BE618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BFA5-0343-4B7B-925C-5A60ADE9683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FF7C-AB13-4209-8DED-72571B8DCE4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EA02-B02D-49BA-8A56-C50387034E5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FDBE-FA1D-43C0-8D2B-88F20F75CB7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743A-CD7A-4B07-AFAB-35B1E643C43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539640" y="333360"/>
            <a:ext cx="83534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МБУ ДО «Станция юных натуралистов»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Выступление на методическом объединении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сихологическая компетентность педагога: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проблемных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х ситуаций»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Разработала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Лапина Т.П., методист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высшей квалификационной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категории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г. Новокузнецк, 2020 г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Заголовок 1" descr=""/>
          <p:cNvPicPr/>
          <p:nvPr/>
        </p:nvPicPr>
        <p:blipFill>
          <a:blip r:embed="rId1"/>
          <a:stretch/>
        </p:blipFill>
        <p:spPr>
          <a:xfrm>
            <a:off x="324000" y="274680"/>
            <a:ext cx="8643960" cy="8524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394920" y="1341000"/>
            <a:ext cx="453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3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едагогических ситуаций внешне проста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3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е входит педагог, учащийся, их эмоционально-интеллектуальное взаимодействие. Педагогические ситуации могут создаваться целенаправленно или возникать стихийно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3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Объект 6" descr=""/>
          <p:cNvPicPr/>
          <p:nvPr/>
        </p:nvPicPr>
        <p:blipFill>
          <a:blip r:embed="rId2"/>
          <a:stretch/>
        </p:blipFill>
        <p:spPr>
          <a:xfrm>
            <a:off x="5292720" y="2276640"/>
            <a:ext cx="36003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324000" y="274680"/>
            <a:ext cx="8643960" cy="11397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5040000" y="1444320"/>
            <a:ext cx="410364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е ситуации должны разрешаться продуманно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всегда согласование педагогического процесса с интересами его участников и оперативный учет индивидуальных особенностей конкретных людей и реальной обстанов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Объект 6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4248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23640" y="148104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ая ситуация – это проблема. Педагогическая проблема – это объективно возникающий в педагогической теории или практике вопрос относительно обучения и воспитания. Педагогические ситуации могут носить общий характер, связанный с педагогическим процессом в целом, либо частный характер, когда педагогические проблемы возникают в ходе обучения. Педагогические проблемы требуют решения, однако они не всегда могут быть разрешены немедленно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Заголовок 7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324000" y="148428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Описание проблемной ситуаци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Исследование причин возникновения проблемной ситуаци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остроение прогноза дальнейшего развития ситуаци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Построение модели решения задачи, представление идеального конечного результата (ИКР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Рефлекс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Заголовок 2" descr=""/>
          <p:cNvPicPr/>
          <p:nvPr/>
        </p:nvPicPr>
        <p:blipFill>
          <a:blip r:embed="rId1"/>
          <a:stretch/>
        </p:blipFill>
        <p:spPr>
          <a:xfrm>
            <a:off x="457200" y="212760"/>
            <a:ext cx="822960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125360"/>
            <a:ext cx="850752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058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дагогическая ситуация №1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занятий к педагогу робко подходит первоклассник и, смущаясь, просит: «Ольга Алексеевна, дайте мне, пожалуйста, телефон Маши Ивановой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спрашивает: «Дима, зачем тебе телефон Маши?»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устив глаза, мальчик говорит, что ему очень нравится Маша, а поговорить с ней он не решается. Он надеется, что сможет общаться с ней по телефону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 поступить педагогу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58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Заголовок 2" descr=""/>
          <p:cNvPicPr/>
          <p:nvPr/>
        </p:nvPicPr>
        <p:blipFill>
          <a:blip r:embed="rId1"/>
          <a:stretch/>
        </p:blipFill>
        <p:spPr>
          <a:xfrm>
            <a:off x="469800" y="11592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я неоднозначная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дной стороны, очень хочется помочь застенчивому мальчику, с другой стороны, дать телефон девочки, значит, поступить некорректно по отношению к ней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педагогом стоит сложная задача, которая требует тактичного решения, чтобы помочь мальчику и не навредить девочке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2" descr=""/>
          <p:cNvPicPr/>
          <p:nvPr/>
        </p:nvPicPr>
        <p:blipFill>
          <a:blip r:embed="rId1"/>
          <a:stretch/>
        </p:blipFill>
        <p:spPr>
          <a:xfrm>
            <a:off x="914400" y="189000"/>
            <a:ext cx="7832880" cy="8650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95280" y="980640"/>
            <a:ext cx="42480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47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номер телефона девочки – это неправильно, так как такой поступок педагога может не понравиться родителям ребенка и самой девочке. Не давать номер телефона – тоже неправильно, т. К. ребенок может потерять доверие к педагогу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Объект 6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396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0" y="274680"/>
            <a:ext cx="8229600" cy="7794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0" y="907560"/>
            <a:ext cx="4572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должен сказать мальчику, что не может дать телефон девочки, потому что не имеет на это права по этическим причинам, но постарается ему помочь наладить с ней отношения. На следующем занятии педагог может дать ребятам общее задание, что позволит поближе познакомиться, возможно, даже подружитьс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Объект 6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41054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250560" y="1267920"/>
            <a:ext cx="87138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е с конца ряда передается записка. Ученики молча читают ее, смотрят на потолок и хихикают, после чего передают записку дальше, не скрывая ее от учителя. Учитель видит записку, забирает ее, видит сообщение: «Посмотри на потолок». Учитель смотрит на потолок. Класс смеется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выходит из себя. Пытается узнать, кто был инициатором, грозится поставить плохие отметки и вызвать родителей в школу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3" descr=""/>
          <p:cNvPicPr/>
          <p:nvPr/>
        </p:nvPicPr>
        <p:blipFill>
          <a:blip r:embed="rId1"/>
          <a:stretch/>
        </p:blipFill>
        <p:spPr>
          <a:xfrm>
            <a:off x="0" y="274680"/>
            <a:ext cx="9144000" cy="9208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108000" y="1052640"/>
            <a:ext cx="468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нной ситуации учащиеся стараются протестировать учителя и увидеть его эмоции и действия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едагог начинает паниковать, кричать, грозить директором, это вызовет негативное отношение учащихся. Учитель потеряет уважение учеников, так как он поддался на провокацию, и дети будут придумывать новые каверзные ситуаци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Объект 8" descr=""/>
          <p:cNvPicPr/>
          <p:nvPr/>
        </p:nvPicPr>
        <p:blipFill>
          <a:blip r:embed="rId2"/>
          <a:stretch/>
        </p:blipFill>
        <p:spPr>
          <a:xfrm>
            <a:off x="4896000" y="1700280"/>
            <a:ext cx="39970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820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ru-RU" sz="3200" spc="-1" strike="noStrike">
                <a:solidFill>
                  <a:srgbClr val="6d1014"/>
                </a:solidFill>
                <a:latin typeface="Times New Roman"/>
              </a:rPr>
              <a:t>Цель методического объединения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о-педагогической компетентности педагогов по вопросам применения технологии педагогических кейсов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0" y="244440"/>
            <a:ext cx="9144000" cy="6634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704840" y="981000"/>
            <a:ext cx="4472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ю рекомендуется спокойно реагировать на такие ситуации и отнестись к ней с юмором. Возможны фразы: «Мне нравится ваш сплоченный коллектив, наличие у вас чувства юмора, однако не всегда следует поддаваться «стадному чувству». Давайте перейдем к теме нашего занятия и выясним ваши индивидуальные способности»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Объект 10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43941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0" y="274680"/>
            <a:ext cx="8967960" cy="11397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539280" y="1444320"/>
            <a:ext cx="39610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0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е занимается ребенок, физически слабый, отличающийся от других детей наличием какого-либо дефекта развития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в группе смеются над ним, подтрунивают, даже издеваются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58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Объект 6" descr=""/>
          <p:cNvPicPr/>
          <p:nvPr/>
        </p:nvPicPr>
        <p:blipFill>
          <a:blip r:embed="rId2"/>
          <a:stretch/>
        </p:blipFill>
        <p:spPr>
          <a:xfrm>
            <a:off x="4788000" y="2041560"/>
            <a:ext cx="41050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179280" y="148104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 слабый ребенок отличается от других детей, переживает свою «инаковость». Такой ребенок нуждается в поддержке педагога, которая будет осуществляться тактично и психологически грамотно. В случае полного отсутствия взаимопонимания со сверстниками и педагогом у ребенка может сформироваться «комплекс неудачника»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Заголовок 6" descr=""/>
          <p:cNvPicPr/>
          <p:nvPr/>
        </p:nvPicPr>
        <p:blipFill>
          <a:blip r:embed="rId1"/>
          <a:stretch/>
        </p:blipFill>
        <p:spPr>
          <a:xfrm>
            <a:off x="469800" y="189000"/>
            <a:ext cx="82296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3" descr=""/>
          <p:cNvPicPr/>
          <p:nvPr/>
        </p:nvPicPr>
        <p:blipFill>
          <a:blip r:embed="rId1"/>
          <a:stretch/>
        </p:blipFill>
        <p:spPr>
          <a:xfrm>
            <a:off x="396720" y="274680"/>
            <a:ext cx="8571240" cy="1139760"/>
          </a:xfrm>
          <a:prstGeom prst="rect">
            <a:avLst/>
          </a:prstGeom>
          <a:ln w="0">
            <a:noFill/>
          </a:ln>
        </p:spPr>
      </p:pic>
      <p:pic>
        <p:nvPicPr>
          <p:cNvPr id="421" name="Объект 10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3745080" cy="2950920"/>
          </a:xfrm>
          <a:prstGeom prst="rect">
            <a:avLst/>
          </a:prstGeom>
          <a:ln w="0">
            <a:noFill/>
          </a:ln>
        </p:spPr>
      </p:pic>
      <p:sp>
        <p:nvSpPr>
          <p:cNvPr id="422" name="Прямоугольник 13"/>
          <p:cNvSpPr/>
          <p:nvPr/>
        </p:nvSpPr>
        <p:spPr>
          <a:xfrm>
            <a:off x="4500720" y="1268280"/>
            <a:ext cx="4174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должен выяснить круг интересов своего ученика, давать задания, с которыми он может справиться, создавать ситуации успешности, однако при этом, не выделяя его из группы и не создавая «особых условий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1480680"/>
            <a:ext cx="8507520" cy="38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входит в класс и видит на доске карикатуру на себя. Рисунок смешной и выразительный. Класс молча ждет реакции учителя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ассматривает карикатуру и говорит: «Нарисовано очень хорошо, мне жаль это стирать. Художник – талантливый карикатурист, такой дар необходимо развивать»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3" descr=""/>
          <p:cNvPicPr/>
          <p:nvPr/>
        </p:nvPicPr>
        <p:blipFill>
          <a:blip r:embed="rId1"/>
          <a:stretch/>
        </p:blipFill>
        <p:spPr>
          <a:xfrm>
            <a:off x="0" y="27468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140000" y="1267920"/>
            <a:ext cx="4679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продемонстрировал свою зрелость. Он не воспринял карикатуру как личную обиду, не стал обижаться на детскую выходку. Учитель  не искал виноватого и не пытался пристыдить его, таким образом он избежал лишнего морализаторства. Такая реакция учителя позволила детям увидеть сильную личность, и в следующий раз у детей не возникнет желание так поступать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Объект 8" descr=""/>
          <p:cNvPicPr/>
          <p:nvPr/>
        </p:nvPicPr>
        <p:blipFill>
          <a:blip r:embed="rId2"/>
          <a:stretch/>
        </p:blipFill>
        <p:spPr>
          <a:xfrm>
            <a:off x="0" y="1413000"/>
            <a:ext cx="410544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1116000" y="171360"/>
            <a:ext cx="7126200" cy="8827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179280" y="980640"/>
            <a:ext cx="46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екомендуется устраивать скандал, искать того, кто нарисовал карикатуру. Деструктивное поведение приведет к ухудшению отношений между учениками и учителем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андартное поведение учителя обезоруживает детей. На положительном примере они учатся конструктивно реагировать на жизненные вызовы, уважать других людей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Объект 6" descr=""/>
          <p:cNvPicPr/>
          <p:nvPr/>
        </p:nvPicPr>
        <p:blipFill>
          <a:blip r:embed="rId2"/>
          <a:stretch/>
        </p:blipFill>
        <p:spPr>
          <a:xfrm>
            <a:off x="4932360" y="1341360"/>
            <a:ext cx="3887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179280" y="1483920"/>
            <a:ext cx="8785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30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сихологи говорят, что нет неразрешимых ситуаций, выход есть всегда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-230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дагогу в современном обществе необходимо самосовершенствоваться в педагогическом мастерстве. Они всегда первыми принимают вызовы со стороны постоянно меняющихся социальных тенденций и настроений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-230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этом педагог должен умело избегать конфронтации детей между собой и конфликтов  учащихся с педагогом на своих занятиях, воспитывать вежливое и уважительное отношение детей к другим людям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-230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-230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-230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178920" y="1268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06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Бейзеров В.А. 105 кейсов по педагогике. Педагогические задачи ситуации. – М.6 Флинта, 2014. – 162 с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ркач А.А. Рабочая книга практического психолога. - М.: Красная площадь, 1996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Лукьянова Н.И. Психолого-педагогическая компетентность учителя. Диагностика развития. М.: Педагогика, 2004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емов Р.С. Психология. Книга 2. - М.: Владос, 2002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огов Е.И. Личность учителя: теория и практика. – Ростовн/Д: Феникс, 1996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Столяренко, Л.Д., Самыгин, С.И. Психология и педагогика в вопросах и ответах. [Текст]. - Ростов н/Д: Феникс, 2000 – 576 с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4" name="Rectangle 4" descr=""/>
          <p:cNvPicPr/>
          <p:nvPr/>
        </p:nvPicPr>
        <p:blipFill>
          <a:blip r:embed="rId1"/>
          <a:stretch/>
        </p:blipFill>
        <p:spPr>
          <a:xfrm>
            <a:off x="969840" y="457200"/>
            <a:ext cx="771696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-360" y="2421000"/>
            <a:ext cx="8064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БЛАГОДАРЮ  ЗА  ВНИМАНИЕ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640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844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т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сведомлённость, авторитетность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уг вопросов, явлений, в которых данное лицо обладает познанием, опытом, кругом полномочий»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дагогической науке поняти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сихолого-педагогическая компетентность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тся как максимально адекватная совокупность профессиональных, коммуникативных, личностных свойств педагога, позволяющая достигать качественных результатов в процессе обучения и воспитания учащихся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0" algn="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0" algn="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0" algn="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0" algn="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0" algn="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0" algn="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0" algn="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0" algn="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0" algn="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0" algn="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0" algn="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23640" y="404640"/>
            <a:ext cx="84596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54400" indent="-55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  <a:p>
            <a:pPr marL="554400" indent="-55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фессионал» -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4400" indent="-55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убъект профессиональной деятельности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4400" indent="-55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дающий высокими показателями профессионализма деятельности, имеющий развитую систему личностной и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4400" indent="-55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й регуляции, постоянно нацеленный на саморазвитие и самосовершенствование, на личностные и профессиональные достижения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4400" indent="-55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4400" indent="-55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4400" indent="-55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554400" indent="-55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  <a:p>
            <a:pPr marL="554400" indent="-55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554400" indent="-55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  <a:p>
            <a:pPr marL="554400" indent="-55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554400" indent="-55440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  <a:p>
            <a:pPr marL="554400" indent="-55440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554400" indent="-55440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  <a:p>
            <a:pPr marL="554400" indent="-55440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0" lang="ru-RU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Заголовок 7" descr=""/>
          <p:cNvPicPr/>
          <p:nvPr/>
        </p:nvPicPr>
        <p:blipFill>
          <a:blip r:embed="rId1"/>
          <a:stretch/>
        </p:blipFill>
        <p:spPr>
          <a:xfrm>
            <a:off x="1359000" y="457200"/>
            <a:ext cx="7785000" cy="6699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323640" y="54900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95360" indent="-495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мой составляющей педагога-профессионала является его компетентность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95360" indent="-495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95360" indent="-495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педагога относится к типу професси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95360" indent="-495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ловек - человек», и особая роль в её эффективном осуществлении принадлежит психологической компетентности, которая позволяет эффективно взаимодействовать и управлять в профессиональном пространств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95360" indent="-49536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95360" indent="-49536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95360" indent="-49536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95360" indent="-49536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95360" indent="-49536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95360" indent="-49536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95360" indent="-49536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95360" indent="-49536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95360" indent="-49536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95360" indent="-49536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95360" indent="-49536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95360" indent="-49536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95360" indent="-49536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23640" y="1052640"/>
            <a:ext cx="4679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ая компетентнос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это совокупность знаний, умений и навыков в области психологии; умение использовать психологические знания в работе; умение видеть за поведением ребёнка его состояние, способность оценивать психологическую ситуацию в отношениях с ребёнком и коллективом детей и избирать рациональный способ общения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Заголовок 6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8229600" cy="1006560"/>
          </a:xfrm>
          <a:prstGeom prst="rect">
            <a:avLst/>
          </a:prstGeom>
          <a:ln w="0">
            <a:noFill/>
          </a:ln>
        </p:spPr>
      </p:pic>
      <p:pic>
        <p:nvPicPr>
          <p:cNvPr id="378" name="Объект 10" descr=""/>
          <p:cNvPicPr/>
          <p:nvPr/>
        </p:nvPicPr>
        <p:blipFill>
          <a:blip r:embed="rId2"/>
          <a:stretch/>
        </p:blipFill>
        <p:spPr>
          <a:xfrm>
            <a:off x="4932360" y="1844640"/>
            <a:ext cx="396072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469800" y="274680"/>
            <a:ext cx="8498160" cy="9936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324000" y="1444320"/>
            <a:ext cx="44640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«психологическая компетентность» выходит за рамки психологической грамотности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ая компетентность педагога должна включать профессионально-действенный компонент, личностные установки на восприятие и использование психологической информации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716000" y="1412640"/>
            <a:ext cx="403236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i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дели психологической компетентности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выделить следующие структурные элементы (блоки):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блок психологических знаний,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блок "Я-концепции",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блок активности,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блок саморегуляции,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блок профессионального самосознания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58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5248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179280" y="1052640"/>
            <a:ext cx="8856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ая грамотность и педагогический такт - это соблюдение педагогом принципа меры в общении с детьми в самых разнообразных сферах деятельности, умение выбрать правильный подход к учащимся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ательность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ние работать с детьми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исходить из мотивации учащихся при планировании и организации учебно-воспитательного процесса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торские способности как умение организовать коллективную и индивидуальную деятельность, умение увлечь, стимулировать детскую активность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патия. Это способность эмоционально откликнуться на проблемы ученика: умение поставить себя на место ребенка, взглянуть на события с его позиций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к сотрудничеству  с детьми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Заголовок 2" descr=""/>
          <p:cNvPicPr/>
          <p:nvPr/>
        </p:nvPicPr>
        <p:blipFill>
          <a:blip r:embed="rId1"/>
          <a:stretch/>
        </p:blipFill>
        <p:spPr>
          <a:xfrm>
            <a:off x="176040" y="60480"/>
            <a:ext cx="8755200" cy="12078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284720" y="1413000"/>
            <a:ext cx="4680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мы расширяем свой горизонт познаний и обсуждаем один из методов проблемного обучения –  метод кейсов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йс (англ.) – случай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кейсов, или метод решения педагогических ситуаций, предполагает решение педагогами реальных ситуаций из педагогической практики других учителей и педагогических работников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Объект 7" descr=""/>
          <p:cNvPicPr/>
          <p:nvPr/>
        </p:nvPicPr>
        <p:blipFill>
          <a:blip r:embed="rId2"/>
          <a:stretch/>
        </p:blipFill>
        <p:spPr>
          <a:xfrm>
            <a:off x="179280" y="2068560"/>
            <a:ext cx="386100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5:21:10Z</dcterms:created>
  <dc:creator>Костя</dc:creator>
  <dc:description/>
  <dc:language>en-US</dc:language>
  <cp:lastModifiedBy>Татьяна</cp:lastModifiedBy>
  <dcterms:modified xsi:type="dcterms:W3CDTF">2020-03-23T02:29:37Z</dcterms:modified>
  <cp:revision>17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91049</vt:lpwstr>
  </property>
</Properties>
</file>