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308-DEEE-4664-AB86-A273F55C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5B3-458D-4604-967A-71F0C8C0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C04-25F1-4DD4-8E63-29FA448D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2E9-02A8-48E8-A603-8FAC160D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1D8-2A9C-4D98-B145-CBD678B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E54-8589-4C0D-B410-DADAADAB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C9B-3A2A-4C39-B7E5-8562FAD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342-24AA-4BFE-B2DE-2185D172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8D7-E403-4301-A412-DD6718A4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46F-A445-4C8B-931A-9ED756D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E97-32E1-4760-9918-3B1981A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FB1-06A2-4078-B5E3-798DDBF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762-08CD-48DE-9823-0DBE9ABA49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0" y="2133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чем может сказать язык поэз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ма назначения поэта и поэзии в творчестве Фета А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екрасова Н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чаем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чувства вызвали у вас эти 2 произвед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авторы стих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щаемся к Пушкин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лаголом жги сердца людей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хотворение «Прор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C:\Users\Ирина\Pictures\Картинки\GNOEbcA6O9Q.jpg"/>
          <p:cNvPicPr/>
          <p:nvPr/>
        </p:nvPicPr>
        <p:blipFill>
          <a:blip r:embed="rId1"/>
          <a:stretch/>
        </p:blipFill>
        <p:spPr>
          <a:xfrm>
            <a:off x="5651640" y="2060640"/>
            <a:ext cx="237168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жите, чем вы сегодня занимались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,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эмоции вы ощутили при выполнении заданий на сегодняшнем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ышления на досуг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аписать  творческую работу на одну из перечисленных тем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лаголом жги сердца люде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м не дано предугадать, / Как слово наше отзовется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чем хотел бы сказать я, используя язык поэзии?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рческое вступ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844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з Тютчева нельзя жить», - Толстой Л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можно ли, на ваш взгляд, жить без поэзии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ем Высоцког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аем творческий диалог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какова, на ваш взгляд, роль поэта и поэзии в жизни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одим первые итоги и делаем выводы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ем высказы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лажен,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то, отряхнув земли унылый пр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ставив мир скорбей коснеть в тумане мглист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змывает гордо ввысь, плывёт в эфире чи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 мощных, широко раскинутых крылах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.Бодлер «Воспарение», пер. В.Е.Ш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исатель, — если только 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на, а океан — Рос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может быть не возмущё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гда возмущена стих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.Поло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ушаем и обсужда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дним толчком согнать ладью живую» А.А.Ф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т не поэт» Н.А.Некрас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Афанасий фет"/>
          <p:cNvPicPr/>
          <p:nvPr/>
        </p:nvPicPr>
        <p:blipFill>
          <a:blip r:embed="rId1"/>
          <a:stretch/>
        </p:blipFill>
        <p:spPr>
          <a:xfrm>
            <a:off x="2195640" y="3429000"/>
            <a:ext cx="1933560" cy="2629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Картинки по запросу Некрасов портреты"/>
          <p:cNvPicPr/>
          <p:nvPr/>
        </p:nvPicPr>
        <p:blipFill>
          <a:blip r:embed="rId2"/>
          <a:stretch/>
        </p:blipFill>
        <p:spPr>
          <a:xfrm>
            <a:off x="4211640" y="3429000"/>
            <a:ext cx="197964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ируем поэтические миниатю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лан анализа стихотвор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стихотворения (о чём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рический герой стихотворения, его характерист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ская позиция по отношению к лирическому герою стихотво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ые средства, которые помогают понять мировосприятие автора (не менее 3-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отворный размер и его значение для данного стихотво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онация стихотворения. Её роль для понимания смысла данного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в все вышесказанные пункты плана, приходим к следующему выводу: идеей, смыслом данного стихотворения является, на наш взгляд, следующее: а) назначение поэта и поэзии для данного автора проявляется в … б) поэт, по мнению, Некрасова (Фета) должен быть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упаем в группа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56500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 – граждани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 – пев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и выступ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ритерии оценки выступ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емя, в которое уложились (5 минут)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ный текст (связность частей текста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амотность и образность реч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едение во время выступления другой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просы, комментарии, допол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ыкальное воплощени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робейн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 заре ты её не буд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сполнении С.Я.Лемеш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Картинки по запросу Лемешев"/>
          <p:cNvPicPr/>
          <p:nvPr/>
        </p:nvPicPr>
        <p:blipFill>
          <a:blip r:embed="rId1"/>
          <a:stretch/>
        </p:blipFill>
        <p:spPr>
          <a:xfrm>
            <a:off x="6084720" y="1628640"/>
            <a:ext cx="183528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7:08Z</dcterms:created>
  <dc:creator>Petruha</dc:creator>
  <dc:description/>
  <dc:language>en-US</dc:language>
  <cp:lastModifiedBy>Ирина</cp:lastModifiedBy>
  <dcterms:modified xsi:type="dcterms:W3CDTF">2015-12-13T20:30:24Z</dcterms:modified>
  <cp:revision>179</cp:revision>
  <dc:subject/>
  <dc:title>Слайд 1</dc:title>
</cp:coreProperties>
</file>