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597-FD48-40F2-B98A-5F3E706D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61A-D806-477B-8540-705B6CD7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59F-8802-41A5-AB15-7235C5CC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44C-1F36-452D-ADEC-0AF03F32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759-6839-4C42-9107-F8BD080F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821-37CB-4063-9415-D27C844D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336-4B80-48D3-9CB1-6DCFC0B4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81B-8884-43CE-83C5-6305FB0C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8BD-8BA5-4BD1-91D1-16C2FE2B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A51-A418-478F-B598-939A473F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6FF-623B-4557-988D-50A7A92A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69FE-2AAC-45F9-901B-503661BB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364-6275-4E1D-876A-A3ADBE22C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0" y="21337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чем может сказать язык поэзи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ма назначения поэта и поэзии в творчестве Фета А.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екрасова Н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чаем на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чувства вызвали у вас эти 2 произвед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авторы стих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щаемся к Пушкину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лаголом жги сердца людей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хотворение «Прор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C:\Users\Ирина\Pictures\Картинки\GNOEbcA6O9Q.jpg"/>
          <p:cNvPicPr/>
          <p:nvPr/>
        </p:nvPicPr>
        <p:blipFill>
          <a:blip r:embed="rId1"/>
          <a:stretch/>
        </p:blipFill>
        <p:spPr>
          <a:xfrm>
            <a:off x="5651640" y="2060640"/>
            <a:ext cx="237168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жите, чем вы сегодня занимались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шите,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эмоции вы ощутили при выполнении заданий на сегодняшнем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ышления на досуг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аписать  творческую работу на одну из перечисленных тем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Глаголом жги сердца людей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м не дано предугадать, / Как слово наше отзовется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 чем хотел бы сказать я, используя язык поэзии?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ворческое вступ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8446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Без Тютчева нельзя жить», - Толстой Л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можно ли, на ваш взгляд, жить без поэзии?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ушаем Высоцког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олжаем творческий диалог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какова, на ваш взгляд, роль поэта и поэзии в жизни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одим первые итоги и делаем выводы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6836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ем высказы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лажен,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то, отряхнув земли унылый пр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ставив мир скорбей коснеть в тумане мглист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змывает гордо ввысь, плывёт в эфире чи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 мощных, широко раскинутых крылах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.Бодлер «Воспарение», пер. В.Е.Ш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исатель, — если только 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лна, а океан — Росс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может быть не возмущё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гда возмущена стих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.Поло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ушаем и обсуждае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дним толчком согнать ладью живую» А.А.Ф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т не поэт» Н.А.Некрас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Афанасий фет"/>
          <p:cNvPicPr/>
          <p:nvPr/>
        </p:nvPicPr>
        <p:blipFill>
          <a:blip r:embed="rId1"/>
          <a:stretch/>
        </p:blipFill>
        <p:spPr>
          <a:xfrm>
            <a:off x="2195640" y="3429000"/>
            <a:ext cx="1933560" cy="2629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Картинки по запросу Некрасов портреты"/>
          <p:cNvPicPr/>
          <p:nvPr/>
        </p:nvPicPr>
        <p:blipFill>
          <a:blip r:embed="rId2"/>
          <a:stretch/>
        </p:blipFill>
        <p:spPr>
          <a:xfrm>
            <a:off x="4211640" y="3429000"/>
            <a:ext cx="197964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ируем поэтические миниатю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лан анализа стихотвор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стихотворения (о чём?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рический герой стихотворения, его характерист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ская позиция по отношению к лирическому герою стихотво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ые средства, которые помогают понять мировосприятие автора (не менее 3-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хотворный размер и его значение для данного стихотво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онация стихотворения. Её роль для понимания смысла данного произ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ев все вышесказанные пункты плана, приходим к следующему выводу: идеей, смыслом данного стихотворения является, на наш взгляд, следующее: а) назначение поэта и поэзии для данного автора проявляется в … б) поэт, по мнению, Некрасова (Фета) должен быть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упаем в группах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56500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 – граждани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 – певе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и выступ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Критерии оценки выступ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емя, в которое уложились (5 минут)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ный текст (связность частей текста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рамотность и образность реч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ведение во время выступления другой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просы, комментарии, дополн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зыкальное воплощени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оробейни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 заре ты её не буд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исполнении С.Я.Лемеш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Картинки по запросу Лемешев"/>
          <p:cNvPicPr/>
          <p:nvPr/>
        </p:nvPicPr>
        <p:blipFill>
          <a:blip r:embed="rId1"/>
          <a:stretch/>
        </p:blipFill>
        <p:spPr>
          <a:xfrm>
            <a:off x="6084720" y="1628640"/>
            <a:ext cx="1835280" cy="275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7:47:08Z</dcterms:created>
  <dc:creator>Petruha</dc:creator>
  <dc:description/>
  <dc:language>en-US</dc:language>
  <cp:lastModifiedBy>Ирина</cp:lastModifiedBy>
  <dcterms:modified xsi:type="dcterms:W3CDTF">2015-12-13T20:30:24Z</dcterms:modified>
  <cp:revision>179</cp:revision>
  <dc:subject/>
  <dc:title>Слайд 1</dc:title>
</cp:coreProperties>
</file>