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41365-28E0-48E0-8B04-605D295FF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15DE4-5BCD-48A8-B166-FECE2E1C1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91E16-2E46-4780-BE84-56CD0329F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9076B-3C91-4437-99D3-331A1006F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B787E-BDB3-4933-8689-3C2D494E3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A2EF3-FBF3-4A6A-97C5-EB5FB6F75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D2296-AC45-4D6F-8581-D15F6DC46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FF4B0-4927-4FB9-9BCD-E3EC913B5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BB823-A0A2-452A-B3D6-A7FCB53F1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9E1C8-6E60-4803-B654-12AC858F0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2B0A8-3BA0-4DE5-A3F8-4AAD0C266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95CDB-F661-4D18-AF50-EAB37C481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000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35D19-989D-457C-989A-9F0820ADFD7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1"/>
          <p:cNvPicPr/>
          <p:nvPr/>
        </p:nvPicPr>
        <p:blipFill>
          <a:blip r:embed="rId1"/>
          <a:stretch/>
        </p:blipFill>
        <p:spPr>
          <a:xfrm>
            <a:off x="-6480" y="1262160"/>
            <a:ext cx="3683160" cy="23889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355640" y="1844280"/>
            <a:ext cx="4319640" cy="151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у детей навыков контроля и самоконтрол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Прямоугольник 5"/>
          <p:cNvSpPr/>
          <p:nvPr/>
        </p:nvSpPr>
        <p:spPr>
          <a:xfrm>
            <a:off x="250920" y="260280"/>
            <a:ext cx="856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СУДАРСТВЕННОЕ АВТОНОМНОЕ ОБРАЗОВАТЕЛЬНОЕ УЧРЕЖДЕНИЕ ВЫСШЕГО ОБРАЗОВАНИЯ ЛЕНИНГРАДСКОЙ ОБЛАСТИ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ЛЕНИНГРАДСКИЙ ГОСУДАРСТВЕННЫЙ УНИВЕРСИТЕТ ИМЕНИ А.С.ПУШКИН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Прямоугольник 7"/>
          <p:cNvSpPr/>
          <p:nvPr/>
        </p:nvSpPr>
        <p:spPr>
          <a:xfrm>
            <a:off x="3492360" y="3500280"/>
            <a:ext cx="540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.03.03 Специальное (дефектологическое ) образов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800240" y="4723920"/>
            <a:ext cx="396252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ила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удентка 2 курс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очной формы обучен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оновой Анастасии Андреевн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сихические особенности развития навыков самоконтроля у дете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м младше ребенок, тем больше он нуждается в контроле своих усилий. Как сделать, чтобы ученик совершал усилия не ради учительской похвалы или хотя бы не только ради нее? Зависимость от внешнего контроля снижается тогда, когда у человека формируется внутренняя контролирующая инстанция - самоконтрол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ходе самоконтроля человек совершает умственные и практические действия по самооценке, корректированию и совершенствованию выполняемой ими работы, овладевает соответствующими умениями и навыками. Кроме того, самоконтроль способствует развитию мышл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вою очередь самоконтроль опирается на мышление и другие психические процессы. Большое значение для поведения человека, его самооценки и саморегуляции имеет речь. Особенно велика роль внутренней речи, являющейся механизмом самосознания. Самоконтроль также тесно связан с памятью и вниманием. Так, память обеспечивает закрепление образца, чтобы можно было сравнивать с ним ход и результаты выполняемой работы. Большую роль в реализации самоконтроля играют ощущения и восприяти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468360" y="476280"/>
            <a:ext cx="822960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сихологи разработали уровни сформированности самоконтроля и контроля в действиях детей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Первый уровень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отсутствие контроля. Совершаемые учеником действия и операции никак не контролируются, часто оказываются неправильными, допущенные ошибки не замечаются и не исправляются. Часто допускаются ошибки даже при решении хорошо знакомых задач. Не умеет исправлять ошибку ни самостоятельно, ни по просьбе учител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Второй уровень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контроль на уровне непроизвольного внимания. Контроль выполняется неустойчиво и неосознанно. В его основе лежит неосознаваемая ил плохо осознаваемая учеником схема действия, которая зафиксировалась в его непроизвольной памяти за счет многократного выполнения одного и того же действия. Контроль же в форме специального целенаправленного действия по соотнесению выполняемого учеником процесса решения задачи с усвоенной им схемой действия отсутствует. Ученик действует импульсивно, хаотично, но за счет непроизвольного запоминания схемы и непроизвольного внимания как бы предугадывает направление правильных действий, однако не может объяснить, почему следует делать именно так, а не иначе, легко отказывается от своего решен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Третий уровень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потенциальный контроль на уровне произвольного внимания. Выполняя новое задание, ученик может допустить ошибку, однако, если учитель просит его проверить свои действия или найти и исправить ошибку, ученик, как правило, находит ее и исправляет и может при этом объяснить свои действия. Одновременно совершать новое действие и соотносить его со схемой ребенок затрудняется. Что касается хорошо освоенных или неоднократно повторенных действий, то в них ребенок почти не допускает ошибок, а если допустит, может самостоятельно найти и исправит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Четвертый уровень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актуальный контроль на уровне произвольного внимания. В процессе выполнения действия ученик ориентируется на хорошо осознанную и усвоенную им обобщенную схему действия и успешно соотносит с ней процесс решения задачи. Это приводит к тому, что действия выполняются, как правило, безошибочно. Допущенные ошибки обнаруживаются и исправляются самостоятельно, причем случаи повторения одних и тех же ошибок крайне ред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Пятый уровень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потенциальный рефлексивный контроль. Столкнувшись с новой задачей, внешне похожей на решавшиеся ранее, ученик точно выполняет учебные действия в соответствии с прежней схемой, не замечая того, что схема оказывается неадекватной новым условиям. Допущенные ошибки может обнаружить с помощью учителя и, отвечая на его наводящие вопросы, может объяснить их источник - несоответствие примененного действия новым условиям задачи. Обычно после этого ученик пытается исправить свои действия, перестроить применяемый способ, тем не менее это ему удается сделать только с помощью учител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Шестой уровень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актуальный рефлексивный контроль. Решая новую задачу, внешне похожую на решаемые ранее, ученик может самостоятельно обнаружить ошибки, возникающие из-за несоответствия применяемого им обобщенного способа действия (или схемы) новым условиям задачи и в связи с этим самостоятельно вносить коррективы в применяемую схему действия за счет поиска и выявления еще более общих оснований действия, т.е. принципов его построения. Другими словами, ученик умеет контролировать не только соответствие выполняемых действий обобщенной их схеме, но и соответствие самой обобщенной схеме изменившимся условиям задач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самоконтроля у младших школьников подчинено закономерностя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ачала он является отдельной формой деятельност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епенно превращается в обязательный элемент выполнения основного задан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 как изменяется отношение ученика к самоконтролю, меняется и уровень его сформирован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     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Можно говорить о следующих педагогических показателях сформированного самоконтрол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ие спланировать работу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ие изменять свои действия, учитывая изменившиеся условия, находить рациональные способы реше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ие осознанно переходить на знаковые символы и схем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ие осознанно чередовать развернутые и сокращенные формулы контрол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ие самостоятельно составлять системы проверочных заданий, алгоритм провер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4"/>
          <p:cNvSpPr/>
          <p:nvPr/>
        </p:nvSpPr>
        <p:spPr>
          <a:xfrm>
            <a:off x="4067280" y="1341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6"/>
          <p:cNvSpPr/>
          <p:nvPr/>
        </p:nvSpPr>
        <p:spPr>
          <a:xfrm>
            <a:off x="4140360" y="2060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4" descr="8"/>
          <p:cNvPicPr/>
          <p:nvPr/>
        </p:nvPicPr>
        <p:blipFill>
          <a:blip r:embed="rId1"/>
          <a:stretch/>
        </p:blipFill>
        <p:spPr>
          <a:xfrm>
            <a:off x="4716360" y="2997360"/>
            <a:ext cx="3381480" cy="328608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250920" y="47628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воря о способностях и возможностях самопроверки в начальных классах, надо учитывать уровень подготовленности и индивидуальные особенности учащихся. Возрастными особенностями младших школьников объясняется использование игровых заданий и дидактических игр с элементами соревнования. Это оживляет учебную деятельность, повышает интерес и воспитывает веру в свои силы и возможности. В результате такого построения уроков, учащиеся приучаются работать коллективно, и вместе с тем, каждый самостоятельно. Предлагаемые приемы позволят учителю так организовать урок, чтобы дети практически тренировались контролировать не только товарищей, но и формировали навык самоконтроля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рка с написанным образцом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рка по словесной инструкци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аимопроверка с товарищем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рка с готовым ответом или выполненным заданием в учебнике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лективное выполнение задания и коллективная проверк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четание коллективной и индивидуальной работы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стоятельное придумывание задани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ение задания по алгоритму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ение задания по наводящим вопросам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ение задания по образу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рка с помощью сигнальных карточек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бор нескольких способов выполнения задания и выбор самого рационального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оваривание “про себя” объяснения выбор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и приемы будут способствовать формированию ответственности за свои действия, а, в конечном счете - сформируется привычка самоконтрол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755640" y="549360"/>
            <a:ext cx="7834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Таким образом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енности действия контроля у разных учеников могут быть различными, и эти различия могут проявляться в его направленности ,в критериях, на основе которых строится контроль и т.п. Эти и другие характеристики контроля и составляют предмет его диагности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68360" y="404640"/>
            <a:ext cx="8229600" cy="604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Times New Roman"/>
              </a:rPr>
              <a:t>Спасибо за внимание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68360" y="76464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настоящее время на первый план выдвигаются развивающие функции обучения, способствующие становлению личности младшего школьника и обеспечивающие раскрытию его индивидуальных способносте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организация и саморегуляция учения обеспечиваются контрольной частью учебной деятельности и именно с формирования самоконтроля рационально начинать процесс постепенной передачи учащимся элементов деятельности для её самостоятельного осуществле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Oval 2"/>
          <p:cNvSpPr/>
          <p:nvPr/>
        </p:nvSpPr>
        <p:spPr>
          <a:xfrm>
            <a:off x="3203640" y="765000"/>
            <a:ext cx="2448000" cy="72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рол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3"/>
          <p:cNvSpPr/>
          <p:nvPr/>
        </p:nvSpPr>
        <p:spPr>
          <a:xfrm>
            <a:off x="395280" y="1844640"/>
            <a:ext cx="2448000" cy="792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Побуждение учащихся к самоконтролю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3564000" y="2133720"/>
            <a:ext cx="230328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свенное развитие самоконтрол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5"/>
          <p:cNvSpPr/>
          <p:nvPr/>
        </p:nvSpPr>
        <p:spPr>
          <a:xfrm>
            <a:off x="6227640" y="1700280"/>
            <a:ext cx="237672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епосредственное развитие самоконтроля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6"/>
          <p:cNvSpPr/>
          <p:nvPr/>
        </p:nvSpPr>
        <p:spPr>
          <a:xfrm>
            <a:off x="2319480" y="2728800"/>
            <a:ext cx="183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7"/>
          <p:cNvSpPr/>
          <p:nvPr/>
        </p:nvSpPr>
        <p:spPr>
          <a:xfrm>
            <a:off x="2392200" y="2368440"/>
            <a:ext cx="184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8"/>
          <p:cNvSpPr/>
          <p:nvPr/>
        </p:nvSpPr>
        <p:spPr>
          <a:xfrm>
            <a:off x="611280" y="3213000"/>
            <a:ext cx="2736720" cy="136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Формирование потребностей в самоконтрол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Разъяснени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сущности параметров самоконтроля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Инструктаж по проведению самоконтрол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9"/>
          <p:cNvSpPr/>
          <p:nvPr/>
        </p:nvSpPr>
        <p:spPr>
          <a:xfrm>
            <a:off x="3635280" y="3860640"/>
            <a:ext cx="2232000" cy="1224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рка учителем деятельности учащихс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аимные проверки учащихся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рка учащимися деятельности учителя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0"/>
          <p:cNvSpPr/>
          <p:nvPr/>
        </p:nvSpPr>
        <p:spPr>
          <a:xfrm>
            <a:off x="6084720" y="3213000"/>
            <a:ext cx="2087640" cy="1224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яснение причин собственных ошибок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проверки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упреждение ошибок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Oval 11"/>
          <p:cNvSpPr/>
          <p:nvPr/>
        </p:nvSpPr>
        <p:spPr>
          <a:xfrm>
            <a:off x="2268360" y="5516640"/>
            <a:ext cx="5112000" cy="50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контрол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12"/>
          <p:cNvSpPr/>
          <p:nvPr/>
        </p:nvSpPr>
        <p:spPr>
          <a:xfrm flipH="1">
            <a:off x="2627280" y="1268280"/>
            <a:ext cx="43200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13"/>
          <p:cNvSpPr/>
          <p:nvPr/>
        </p:nvSpPr>
        <p:spPr>
          <a:xfrm>
            <a:off x="4572000" y="1557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4"/>
          <p:cNvSpPr/>
          <p:nvPr/>
        </p:nvSpPr>
        <p:spPr>
          <a:xfrm>
            <a:off x="5867280" y="1268280"/>
            <a:ext cx="86544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15"/>
          <p:cNvSpPr/>
          <p:nvPr/>
        </p:nvSpPr>
        <p:spPr>
          <a:xfrm>
            <a:off x="2124000" y="2781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16"/>
          <p:cNvSpPr/>
          <p:nvPr/>
        </p:nvSpPr>
        <p:spPr>
          <a:xfrm>
            <a:off x="4859280" y="314172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7"/>
          <p:cNvSpPr/>
          <p:nvPr/>
        </p:nvSpPr>
        <p:spPr>
          <a:xfrm>
            <a:off x="7308720" y="2708280"/>
            <a:ext cx="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18"/>
          <p:cNvSpPr/>
          <p:nvPr/>
        </p:nvSpPr>
        <p:spPr>
          <a:xfrm>
            <a:off x="1835280" y="4724280"/>
            <a:ext cx="144144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19"/>
          <p:cNvSpPr/>
          <p:nvPr/>
        </p:nvSpPr>
        <p:spPr>
          <a:xfrm>
            <a:off x="4788000" y="515772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20"/>
          <p:cNvSpPr/>
          <p:nvPr/>
        </p:nvSpPr>
        <p:spPr>
          <a:xfrm flipH="1">
            <a:off x="6804000" y="4653000"/>
            <a:ext cx="72072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ы контроля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539640" y="1268280"/>
          <a:ext cx="8136000" cy="4542120"/>
        </p:xfrm>
        <a:graphic>
          <a:graphicData uri="http://schemas.openxmlformats.org/drawingml/2006/table">
            <a:tbl>
              <a:tblPr/>
              <a:tblGrid>
                <a:gridCol w="2509920"/>
                <a:gridCol w="2813040"/>
                <a:gridCol w="2813040"/>
              </a:tblGrid>
              <a:tr h="68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ды контрол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держа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тод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97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водны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ровень знаний школьников, общая эрудиция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стирование, беседа, анкетирование,наблюдение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100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кущи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воение учебного материала по теме, учебной единице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агностические задания: опросы, практические работы, тестирование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ррекц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квидация пробелов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вторные тесты, индивидуальные консультаци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93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оговы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троль выполнения поставленных задач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ставление продукта на разных уровнях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</a:tbl>
          </a:graphicData>
        </a:graphic>
      </p:graphicFrame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Методы контрол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9640" y="119664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1. Устный опро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уроках контроль знаний учащихся осуществляется в виде фронтальной и индивидуальной провер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фронтальном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просе за короткое время проверяется состояние знаний учащихся всего класса по определенному вопросу или группе вопрос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дивидуальный устный опрос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зволяет выявить правильность ответа по содержанию, его последовательность, самостоятельность суждений и выводов, степень развития логического мышления, культуру речи учащихс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2. Письменный контрол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сьменная проверка позволяет за короткое время проверить знания большого числа учащихся одновременно. Используется письменный контроль знаний учащихся в целях диагностики умения применять знания в учебной практике и осуществляется в виде диктантов, контрольных, проверочных и самостоятельных работ, тестов, реферат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3</a:t>
            </a:r>
            <a:r>
              <a:rPr b="0" lang="ru-RU" sz="2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. Диктан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ктант используется как форма опроса для контроля за усвоением проходимого материала, его обобщения и систематизации и выявления готовности учащихся к восприятию новог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4. Самостоятельная рабо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адиционная форма контроля знаний, которая по своему назначению делится на обучающую самостоятельную работу и контролирующую. Самостоятельная работа творческого характера позволит не только проверить определенные знания, умения, но и развивать творческие способности учащих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стоятельная работа является необходимым этапом любой темы. Как правило, она проводится после коллективного решения или обсуждения задач новой темы и обязательно предшествует контрольной работе по этой теме. Работа выполняется без помощи учител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5</a:t>
            </a:r>
            <a:r>
              <a:rPr b="0" lang="ru-RU" sz="2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. Контрольная рабо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одятся с целью определения конечного результата в обучении по данной теме или раздел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6. </a:t>
            </a:r>
            <a:r>
              <a:rPr b="1" lang="ru-RU" sz="2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Практическая рабо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закрепления теоретических знаний и отработки навыков и умений, способности применять знания при решении конкретных задач используется практическая рабо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Используются и нетрадиционные виды контрол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Кроссвор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Головолом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Ребус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Шара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Виктори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10"/>
          <p:cNvPicPr/>
          <p:nvPr/>
        </p:nvPicPr>
        <p:blipFill>
          <a:blip r:embed="rId1"/>
          <a:stretch/>
        </p:blipFill>
        <p:spPr>
          <a:xfrm>
            <a:off x="3995640" y="1700280"/>
            <a:ext cx="4286520" cy="42861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395280" y="83664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Контроль и самоконтроль навыков следует выстраивать на следующих принципах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  Содержательный самоконтроль работы должен быть предельно дифференцирован, чтобы каждое усилие ученика контролировать отдельн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  Контрольные шкалы должны быть все время разные, чтобы система контроля обладала гибкостью, могла тонко реагировать на процесс (или регресс) в успеваемости ребен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  Контроль учителя - это прежде всего средство выращивания здорового самоконтроля ребенка, следовательно ученики должн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олучить от учителя однозначные, предельно четкие критерии контрол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участвовать в разработке шкал контроля вместе с учителе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   Самоконтроль ребенка должен предшествовать контролю учителя, лишь тогда отношения перестанут быть односторонни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5T12:57:02Z</dcterms:created>
  <dc:creator>User</dc:creator>
  <dc:description/>
  <dc:language>en-US</dc:language>
  <cp:lastModifiedBy>Анастасия</cp:lastModifiedBy>
  <dcterms:modified xsi:type="dcterms:W3CDTF">2020-12-12T14:30:42Z</dcterms:modified>
  <cp:revision>15</cp:revision>
  <dc:subject/>
  <dc:title>Развитие у детей навыков контроля и самоконтроля</dc:title>
</cp:coreProperties>
</file>