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406-EE08-45B7-8690-076E5BD5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0DD-E5D0-46C9-A176-D5D1C59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DDD-7D6A-432B-A129-AE28D8D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4EC-DE08-4154-BFD5-349F8600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CF6-CC9C-47A7-B1BF-852C05E0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ACD-F84C-4D54-9E31-B151A91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105-0C2D-41A4-BA1C-22EE076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73E-8102-4C0F-8054-75259AD3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88C-9B8B-4829-818D-7E6628C3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A88-6934-4C14-86F7-FA35FEC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05F-ED0D-456B-8936-9D2E1D8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D8B-28B9-4D14-99E4-6C8CF2A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911-DCAA-4E0B-AD62-2DEB53040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-6480" y="1262160"/>
            <a:ext cx="3683160" cy="23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5640" y="1844280"/>
            <a:ext cx="43196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навыков контроля и само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5092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ОБРАЗОВАТЕЛЬНОЕ УЧРЕЖДЕНИЕ ВЫСШЕГО ОБРАЗОВАНИЯ ЛЕНИНГРАДСКОЙ ОБЛА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НИНГРАДСКИЙ ГОСУДАРСТВЕННЫЙ УНИВЕРСИТЕТ ИМЕНИ А.С.ПУШК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3492360" y="35002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.03.03 Специальное (дефектологическое )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00240" y="47239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2 кур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ой форм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овой Анастасии Андреев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ические особенности развития навыков самоконтроля у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ладше ребенок, тем больше он нуждается в контроле своих усилий. Как сделать, чтобы ученик совершал усилия не ради учительской похвалы или хотя бы не только ради нее? Зависимость от внешнего контроля снижается тогда, когда у человека формируется внутренняя контролирующая инстанция - самоконтро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амоконтроля человек совершает умственные и практические действия по самооценке, корректированию и совершенствованию выполняемой ими работы, овладевает соответствующими умениями и навыками. Кроме того, самоконтроль способствует развитию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ю очередь самоконтроль опирается на мышление и другие психические процессы. Большое значение для поведения человека, его самооценки и саморегуляции имеет речь. Особенно велика роль внутренней речи, являющейся механизмом самосознания. Самоконтроль также тесно связан с памятью и вниманием. Так, память обеспечивает закрепление образца, чтобы можно было сравнивать с ним ход и результаты выполняемой работы. Большую роль в реализации самоконтроля играют ощущения и восприя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 разработали уровни сформированности самоконтроля и контроля в действиях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р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тсутствие контроля. Совершаемые учеником действия и операции никак не контролируются, часто оказываются неправильными, допущенные ошибки не замечаются и не исправляются. Часто допускаются ошибки даже при решении хорошо знакомых задач. Не умеет исправлять ошибку ни самостоятельно, ни по просьбе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торо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нтроль на уровне непроизвольного внимания. Контроль выполняется неустойчиво и неосознанно. В его основе лежит неосознаваемая ил плохо осознаваемая учеником схема действия, которая зафиксировалась в его непроизвольной памяти за счет многократного выполнения одного и того же действия. Контроль же в форме специального целенаправленного действия по соотнесению выполняемого учеником процесса решения задачи с усвоенной им схемой действия отсутствует. Ученик действует импульсивно, хаотично, но за счет непроизвольного запоминания схемы и непроизвольного внимания как бы предугадывает направление правильных действий, однако не может объяснить, почему следует делать именно так, а не иначе, легко отказывается от сво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ети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тенциальный контроль на уровне произвольного внимания. Выполняя новое задание, ученик может допустить ошибку, однако, если учитель просит его проверить свои действия или найти и исправить ошибку, ученик, как правило, находит ее и исправляет и может при этом объяснить свои действия. Одновременно совершать новое действие и соотносить его со схемой ребенок затрудняется. Что касается хорошо освоенных или неоднократно повторенных действий, то в них ребенок почти не допускает ошибок, а если допустит, может самостоятельно найти и исправ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етверт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туальный контроль на уровне произвольного внимания. В процессе выполнения действия ученик ориентируется на хорошо осознанную и усвоенную им обобщенную схему действия и успешно соотносит с ней процесс решения задачи. Это приводит к тому, что действия выполняются, как правило, безошибочно. Допущенные ошибки обнаруживаются и исправляются самостоятельно, причем случаи повторения одних и тех же ошибок крайне ре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ят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тенциальный рефлексивный контроль. Столкнувшись с новой задачей, внешне похожей на решавшиеся ранее, ученик точно выполняет учебные действия в соответствии с прежней схемой, не замечая того, что схема оказывается неадекватной новым условиям. Допущенные ошибки может обнаружить с помощью учителя и, отвечая на его наводящие вопросы, может объяснить их источник - несоответствие примененного действия новым условиям задачи. Обычно после этого ученик пытается исправить свои действия, перестроить применяемый способ, тем не менее это ему удается сделать только с помощью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есто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туальный рефлексивный контроль. Решая новую задачу, внешне похожую на решаемые ранее, ученик может самостоятельно обнаружить ошибки, возникающие из-за несоответствия применяемого им обобщенного способа действия (или схемы) новым условиям задачи и в связи с этим самостоятельно вносить коррективы в применяемую схему действия за счет поиска и выявления еще более общих оснований действия, т.е. принципов его построения. Другими словами, ученик умеет контролировать не только соответствие выполняемых действий обобщенной их схеме, но и соответствие самой обобщенной схеме изменившимся условиям за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амоконтроля у младших школьников подчинено закономер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он является отдельной форм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превращается в обязательный элемент выполнения основно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изменяется отношение ученика к самоконтролю, меняется и уровень его сформиров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жно говорить о следующих педагогических показателях сформированного самоконт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планировать раб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зменять свои действия, учитывая изменившиеся условия, находить рациональные способы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переходить на знаковые символы и сх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чередовать развернутые и сокращенные формулы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составлять системы проверочных заданий, алгоритм 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06728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414036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8"/>
          <p:cNvPicPr/>
          <p:nvPr/>
        </p:nvPicPr>
        <p:blipFill>
          <a:blip r:embed="rId1"/>
          <a:stretch/>
        </p:blipFill>
        <p:spPr>
          <a:xfrm>
            <a:off x="4716360" y="2997360"/>
            <a:ext cx="33814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о способностях и возможностях самопроверки в начальных классах, надо учитывать уровень подготовленности и индивидуальные особенности учащихся. Возрастными особенностями младших школьников объясняется использование игровых заданий и дидактических игр с элементами соревнования. Это оживляет учебную деятельность, повышает интерес и воспитывает веру в свои силы и возможности. В результате такого построения уроков, учащиеся приучаются работать коллективно, и вместе с тем, каждый самостоятельно. Предлагаемые приемы позволят учителю так организовать урок, чтобы дети практически тренировались контролировать не только товарищей, но и формировали навык самоконтрол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написанным образц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словесной инстр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роверка с товарищ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готовым ответом или выполненным заданием в учебн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выполнение задания и коллективная провер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коллективной и индивидуа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придумывание зад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алгорит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наводящи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образ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мощью сигнальных карточ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ескольких способов выполнения задания и выбор самого рациональ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аривание “про себя” объяснения выб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емы будут способствовать формированию ответственности за свои действия, а, в конечном счете - сформируется привычка само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действия контроля у разных учеников могут быть различными, и эти различия могут проявляться в его направленности ,в критериях, на основе которых строится контроль и т.п. Эти и другие характеристики контроля и составляют предмет его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а первый план выдвигаются развивающие функции обучения, способствующие становлению личности младшего школьника и обеспечивающие раскрытию его индивидуальны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рганизация и саморегуляция учения обеспечиваются контрольной частью учебной деятельности и именно с формирования самоконтроля рационально начинать процесс постепенной передачи учащимся элементов деятельности для её самостоятельного осущест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3203640" y="765000"/>
            <a:ext cx="2448000" cy="72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95280" y="1844640"/>
            <a:ext cx="244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буждение учащихся к самоконтрол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564000" y="2133720"/>
            <a:ext cx="23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е развитие само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227640" y="170028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посредственное развитие самоконтр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319480" y="27288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392200" y="23684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11280" y="3213000"/>
            <a:ext cx="2736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рмирование потребностей в самоконтро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ъяс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ущности параметров самоконтрол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структаж по проведению самоконтро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635280" y="3860640"/>
            <a:ext cx="2232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чителем деятельности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ые проверки учащих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чащимися деятельности учител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084720" y="321300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причин собственных ошиб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ошиб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2268360" y="5516640"/>
            <a:ext cx="511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2627280" y="1268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57200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867280" y="1268280"/>
            <a:ext cx="86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2124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485928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7308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835280" y="472428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788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6804000" y="465300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нтр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9640" y="1268280"/>
          <a:ext cx="8136000" cy="4542120"/>
        </p:xfrm>
        <a:graphic>
          <a:graphicData uri="http://schemas.openxmlformats.org/drawingml/2006/table">
            <a:tbl>
              <a:tblPr/>
              <a:tblGrid>
                <a:gridCol w="2509920"/>
                <a:gridCol w="2813040"/>
                <a:gridCol w="28130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знаний школьников, общая эруди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ирование, беседа, анкетирование,наблю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учебного материала по теме, учебной едини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 задания: опросы, практические работы, тест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видация пробе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е тесты, индивидуальные консульт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ыполнения поставленных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продукта на разных уровн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контр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. Устный 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контроль знаний учащихся осуществляется в виде фронтальной и индивидуальной 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ронтальн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осе за короткое время проверяется состояние знаний учащихся всего класса по определенному вопросу или группе вопро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устный опр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ыявить правильность ответа по содержанию, его последовательность, самостоятельность суждений и выводов, степень развития логического мышления, культуру речи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Письменный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проверка позволяет за короткое время проверить знания большого числа учащихся одновременно. Используется письменный контроль знаний учащихся в целях диагностики умения применять знания в учебной практике и осуществляется в виде диктантов, контрольных, проверочных и самостоятельных работ, тестов, рефе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Дикт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используется как форма опроса для контроля за усвоением проходимого материала, его обобщения и систематизации и выявления готовности учащихся к восприятию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форма контроля знаний, которая по своему назначению делится на обучающую самостоятельную работу и контролирующую. Самостоятельная работа творческого характера позволит не только проверить определенные знания, умения, но и развивать творческие способност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является необходимым этапом любой темы. Как правило, она проводится после коллективного решения или обсуждения задач новой темы и обязательно предшествует контрольной работе по этой теме. Работа выполняется без помощ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Контро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ся с целью определения конечного результата в обучении по данной теме или раз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.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крепления теоретических знаний и отработки навыков и умений, способности применять знания при решении конкретных задач используется практическ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ются и нетрадиционные виды контр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оссвор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ловоло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0"/>
          <p:cNvPicPr/>
          <p:nvPr/>
        </p:nvPicPr>
        <p:blipFill>
          <a:blip r:embed="rId1"/>
          <a:stretch/>
        </p:blipFill>
        <p:spPr>
          <a:xfrm>
            <a:off x="3995640" y="170028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ь и самоконтроль навыков следует выстраивать на следующих принцип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Содержательный самоконтроль работы должен быть предельно дифференцирован, чтобы каждое усилие ученика контролировать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онтрольные шкалы должны быть все время разные, чтобы система контроля обладала гибкостью, могла тонко реагировать на процесс (или регресс) в успеваем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Контроль учителя - это прежде всего средство выращивания здорового самоконтроля ребенка, следовательно ученики долж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ить от учителя однозначные, предельно четкие критерии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вовать в разработке шкал контроля вместе с учи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Самоконтроль ребенка должен предшествовать контролю учителя, лишь тогда отношения перестанут быть односторон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2:57:02Z</dcterms:created>
  <dc:creator>User</dc:creator>
  <dc:description/>
  <dc:language>en-US</dc:language>
  <cp:lastModifiedBy>Анастасия</cp:lastModifiedBy>
  <dcterms:modified xsi:type="dcterms:W3CDTF">2020-12-12T14:30:42Z</dcterms:modified>
  <cp:revision>15</cp:revision>
  <dc:subject/>
  <dc:title>Развитие у детей навыков контроля и самоконтроля</dc:title>
</cp:coreProperties>
</file>