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BD49-BF4F-475F-9CBA-7924AE13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270-B79D-47A1-9446-AE18335F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A45-1ED7-47DA-9050-BF858084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AFE-279E-4742-A108-87B14975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10D4-D92F-4D66-97AA-43604026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2A54-59F5-45E7-9579-E2C5486E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A8D8-7147-4993-917A-3109E4F1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BC1C-BBAE-4896-9202-011DA1C8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DAFE-ED2B-4666-872F-93B4F9F8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5021-1493-4825-818D-7E21BB8D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73CA-7601-4FF8-A585-0374FEDA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7AA-DC91-476B-946A-6B825AEA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F825-04C6-43C1-9BEF-8E212EBE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F6F0-FFA7-4CF2-A0B0-EE8C63BD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F386-78D1-4D31-88ED-314B8D56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1829-E6ED-4362-BDA1-DB4EAD27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806D-3FEB-4F75-94A1-391A3BCF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FF30-BC5F-45F2-924B-B71F1B92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8BC2C-06C2-4128-9A92-9EE391A4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EE8B3-1E33-4CBA-B301-38DDA987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7D2F1-9943-4A52-B868-59485423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4634-095F-4686-9A9E-1B044894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4A1-058E-4DCB-ABD9-0F6F5702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AE704-9C82-4743-A50D-8C726EBE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5E918-A77A-450B-A6BA-7A75C3A5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1A76-66EB-4850-9B00-0F7154B3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0BA0A-4590-43FA-9459-8D46E885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C695-ED64-4E91-9063-DC109EDE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ADD2D-FD38-415D-9C52-726E5033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75E6-A692-4070-A9FB-0DE64A66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78C97-8FED-4521-B370-23A01C24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05802-2537-4836-BD77-1CF49979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E65ED-36B0-4440-976F-A7E9413F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EF7-7366-42D5-9188-1D3297B4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0BB5-66F1-47C3-A479-8807214C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7CE2F-3C14-4497-AE03-860F74C1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95F79-CF46-488B-A56C-A3453E62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D4239-FC45-4F83-8D54-5A811B94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75B59-315B-4288-B776-5018EEFE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B1E7C-2825-47D7-B02A-E9486D17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A1741-F46B-4FFD-9C9C-7EA4F21A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BE524-7804-46B7-BE56-EC440949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A4D09-2ED5-4DB3-9918-DB3ECBC0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583B2-86E2-48BB-8B1B-6D9980B0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923-A0D1-4800-A5B5-0C9C5C0D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E1EA3-8F88-4A23-84E8-03976702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ACA73-CFA9-4F29-8C26-F8D1ECFD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5353A-4478-4FEE-ADC8-47888B20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A1182-4DC0-407F-9751-C1580CE6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A0E1B-231E-435B-8645-D7EE55ED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FE91C-2BC9-4D8D-8EF0-AA2E9601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58DDD-AB60-4239-BDA0-BE6AEE68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A844F-CCD5-4888-A131-37CC33A1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94112-C73D-4B86-94F0-BAACDE05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23CED-3B94-42AC-BE64-6FE44D8C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1032-4F70-4C37-9892-41ACA32C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6F66B-A8B5-42C2-B03E-5C76AC5C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F7739-045C-4ADE-A829-4A896F9B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29D5D-FD1A-421F-8F35-696985E1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E9E69-525D-4460-972B-00050C80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04B1A-D387-489B-8874-4BF252C3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15474-DCAB-4626-8B0B-E6C00700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A1530-3701-4E49-918B-DBA3977B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6FC30-5438-4D7B-A17E-64FAB8BF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F04C4-9468-4908-92C7-2687ABD7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E80E7-EE3F-4121-BA7D-D771C6C5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006-620A-43A0-B7A3-CE9A6BB3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A170D-9542-4D6F-9404-39BEE519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9F353-774F-492F-AC9B-2F66F4BC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7991C-4D6B-4E9C-A039-1AA57D90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332F8-54A9-4642-802E-3712FD3A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65458-C201-46D8-9E6F-089FE3F9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E017A-1D1A-4075-A744-07E29EB6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71509-1ED4-4923-A355-54AD08E0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4F74E-843C-4B23-A310-D56B9454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AF81C-B85B-47C4-9B8F-B7A56E32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EF356-DEDA-44A7-8EE3-49F9CB96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E5C-8A80-4D2D-9666-19F6A527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628A1-3F10-4F71-8BC9-5C2D23CD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38873-59FF-4AFB-9A75-8276309C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98E6F-0F2F-4267-8A95-149F2D15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5AE6D-EDC2-4E4B-B6AB-DA884B17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5E2A1-D519-4919-A12F-1C93FCDE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82F-5C6C-4EF6-B024-7A0FCD20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A160-F8C1-4BD4-9C09-177BB0E016F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1E89-17DB-4B15-A85D-8301E539399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0384-157E-4745-A20B-1E7BFE73999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A50C-6C13-4ADE-9C25-9279EAE0045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6B2A-E8FB-43F7-AD39-00AA5328427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30C5-0078-46F4-912B-E328029673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BB74-FDA0-4902-88C8-4B5BD31D9E8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" descr="D:\Desktop\картинки\i.jpg"/>
          <p:cNvPicPr/>
          <p:nvPr/>
        </p:nvPicPr>
        <p:blipFill>
          <a:blip r:embed="rId1"/>
          <a:stretch/>
        </p:blipFill>
        <p:spPr>
          <a:xfrm>
            <a:off x="1693800" y="165240"/>
            <a:ext cx="2843280" cy="2160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D:\Desktop\картинки\i-1.jpg"/>
          <p:cNvPicPr/>
          <p:nvPr/>
        </p:nvPicPr>
        <p:blipFill>
          <a:blip r:embed="rId2"/>
          <a:stretch/>
        </p:blipFill>
        <p:spPr>
          <a:xfrm>
            <a:off x="4836960" y="174600"/>
            <a:ext cx="2759400" cy="2143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D:\Desktop\картинки\i-3.jpg"/>
          <p:cNvPicPr/>
          <p:nvPr/>
        </p:nvPicPr>
        <p:blipFill>
          <a:blip r:embed="rId3"/>
          <a:stretch/>
        </p:blipFill>
        <p:spPr>
          <a:xfrm>
            <a:off x="1668600" y="2473200"/>
            <a:ext cx="2887560" cy="2140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D:\Desktop\картинки\i-4.jpg"/>
          <p:cNvPicPr/>
          <p:nvPr/>
        </p:nvPicPr>
        <p:blipFill>
          <a:blip r:embed="rId4"/>
          <a:stretch/>
        </p:blipFill>
        <p:spPr>
          <a:xfrm>
            <a:off x="4836960" y="2370240"/>
            <a:ext cx="2759400" cy="2138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D:\Desktop\картинки\i-5.jpg"/>
          <p:cNvPicPr/>
          <p:nvPr/>
        </p:nvPicPr>
        <p:blipFill>
          <a:blip r:embed="rId5"/>
          <a:stretch/>
        </p:blipFill>
        <p:spPr>
          <a:xfrm>
            <a:off x="1668600" y="4664160"/>
            <a:ext cx="2862000" cy="21114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D:\Desktop\картинки\i-6.jpg"/>
          <p:cNvPicPr/>
          <p:nvPr/>
        </p:nvPicPr>
        <p:blipFill>
          <a:blip r:embed="rId6"/>
          <a:stretch/>
        </p:blipFill>
        <p:spPr>
          <a:xfrm>
            <a:off x="4849920" y="4664160"/>
            <a:ext cx="27464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ДОМАШНИЕ ЖИВОТНЫЕ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Picture 2" descr="D:\Desktop\картинки\i.jpg"/>
          <p:cNvPicPr/>
          <p:nvPr/>
        </p:nvPicPr>
        <p:blipFill>
          <a:blip r:embed="rId1"/>
          <a:stretch/>
        </p:blipFill>
        <p:spPr>
          <a:xfrm>
            <a:off x="826920" y="1341360"/>
            <a:ext cx="3745080" cy="2476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D:\Desktop\картинки\i-3.jpg"/>
          <p:cNvPicPr/>
          <p:nvPr/>
        </p:nvPicPr>
        <p:blipFill>
          <a:blip r:embed="rId2"/>
          <a:stretch/>
        </p:blipFill>
        <p:spPr>
          <a:xfrm>
            <a:off x="5435640" y="1413000"/>
            <a:ext cx="3368520" cy="2322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D:\Desktop\картинки\i-5.jpg"/>
          <p:cNvPicPr/>
          <p:nvPr/>
        </p:nvPicPr>
        <p:blipFill>
          <a:blip r:embed="rId3"/>
          <a:stretch/>
        </p:blipFill>
        <p:spPr>
          <a:xfrm>
            <a:off x="2627280" y="3809880"/>
            <a:ext cx="4429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ДИКИЕ ЖИВОТНЫЕ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2" descr="D:\Desktop\картинки\i-1.jpg"/>
          <p:cNvPicPr/>
          <p:nvPr/>
        </p:nvPicPr>
        <p:blipFill>
          <a:blip r:embed="rId1"/>
          <a:stretch/>
        </p:blipFill>
        <p:spPr>
          <a:xfrm>
            <a:off x="2987640" y="1417680"/>
            <a:ext cx="3714840" cy="247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D:\Desktop\картинки\i-4.jpg"/>
          <p:cNvPicPr/>
          <p:nvPr/>
        </p:nvPicPr>
        <p:blipFill>
          <a:blip r:embed="rId2"/>
          <a:stretch/>
        </p:blipFill>
        <p:spPr>
          <a:xfrm>
            <a:off x="324000" y="4076640"/>
            <a:ext cx="3962160" cy="24764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D:\Desktop\картинки\i-6.jpg"/>
          <p:cNvPicPr/>
          <p:nvPr/>
        </p:nvPicPr>
        <p:blipFill>
          <a:blip r:embed="rId3"/>
          <a:stretch/>
        </p:blipFill>
        <p:spPr>
          <a:xfrm>
            <a:off x="5148360" y="4076640"/>
            <a:ext cx="37144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https://fb.ru/misc/i/gallery/72162/2380041.jpg"/>
          <p:cNvPicPr/>
          <p:nvPr/>
        </p:nvPicPr>
        <p:blipFill>
          <a:blip r:embed="rId1"/>
          <a:stretch/>
        </p:blipFill>
        <p:spPr>
          <a:xfrm>
            <a:off x="395280" y="404640"/>
            <a:ext cx="5006880" cy="4389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https://i.pinimg.com/originals/c6/49/26/c649265452e54e9e4cadcdf02c643e37.jpg"/>
          <p:cNvPicPr/>
          <p:nvPr/>
        </p:nvPicPr>
        <p:blipFill>
          <a:blip r:embed="rId2"/>
          <a:stretch/>
        </p:blipFill>
        <p:spPr>
          <a:xfrm>
            <a:off x="4959360" y="3068640"/>
            <a:ext cx="3876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8101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КОЛЛАЖ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-это композиция (картина) из вырезанных фотографий, рисунков, наклеенных на какую-либо основу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Picture 2" descr="https://fb.ru/misc/i/gallery/72162/2380041.jpg"/>
          <p:cNvPicPr/>
          <p:nvPr/>
        </p:nvPicPr>
        <p:blipFill>
          <a:blip r:embed="rId1"/>
          <a:stretch/>
        </p:blipFill>
        <p:spPr>
          <a:xfrm>
            <a:off x="1187280" y="3406680"/>
            <a:ext cx="3240360" cy="2841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https://i.pinimg.com/originals/c6/49/26/c649265452e54e9e4cadcdf02c643e37.jpg"/>
          <p:cNvPicPr/>
          <p:nvPr/>
        </p:nvPicPr>
        <p:blipFill>
          <a:blip r:embed="rId2"/>
          <a:stretch/>
        </p:blipFill>
        <p:spPr>
          <a:xfrm>
            <a:off x="4859280" y="3427560"/>
            <a:ext cx="38768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D:\Desktop\картинки\i-11.jpg"/>
          <p:cNvPicPr/>
          <p:nvPr/>
        </p:nvPicPr>
        <p:blipFill>
          <a:blip r:embed="rId1"/>
          <a:stretch/>
        </p:blipFill>
        <p:spPr>
          <a:xfrm>
            <a:off x="341280" y="115920"/>
            <a:ext cx="4176720" cy="29145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D:\Desktop\картинки\i-13.jpg"/>
          <p:cNvPicPr/>
          <p:nvPr/>
        </p:nvPicPr>
        <p:blipFill>
          <a:blip r:embed="rId2"/>
          <a:stretch/>
        </p:blipFill>
        <p:spPr>
          <a:xfrm>
            <a:off x="324000" y="3284640"/>
            <a:ext cx="4211640" cy="3384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D:\Desktop\картинки\i-8.jpg"/>
          <p:cNvPicPr/>
          <p:nvPr/>
        </p:nvPicPr>
        <p:blipFill>
          <a:blip r:embed="rId3"/>
          <a:stretch/>
        </p:blipFill>
        <p:spPr>
          <a:xfrm>
            <a:off x="4741920" y="115920"/>
            <a:ext cx="3935520" cy="2914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D:\Desktop\картинки\i-7.jpg"/>
          <p:cNvPicPr/>
          <p:nvPr/>
        </p:nvPicPr>
        <p:blipFill>
          <a:blip r:embed="rId4"/>
          <a:stretch/>
        </p:blipFill>
        <p:spPr>
          <a:xfrm>
            <a:off x="4788000" y="3284640"/>
            <a:ext cx="3927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1405080" y="142560"/>
            <a:ext cx="74995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ЛАН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БО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2" name="Объект 3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3137040" cy="306072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" descr=""/>
          <p:cNvPicPr/>
          <p:nvPr/>
        </p:nvPicPr>
        <p:blipFill>
          <a:blip r:embed="rId2"/>
          <a:stretch/>
        </p:blipFill>
        <p:spPr>
          <a:xfrm>
            <a:off x="3924360" y="333360"/>
            <a:ext cx="469584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7:35:06Z</dcterms:created>
  <dc:creator>Мама</dc:creator>
  <dc:description/>
  <dc:language>en-US</dc:language>
  <cp:lastModifiedBy>Учитель</cp:lastModifiedBy>
  <dcterms:modified xsi:type="dcterms:W3CDTF">2020-11-20T05:32:01Z</dcterms:modified>
  <cp:revision>82</cp:revision>
  <dc:subject/>
  <dc:title>Слайд 1</dc:title>
</cp:coreProperties>
</file>