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DBC-1189-4BB4-B56B-0D258BC1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905-48BC-4888-A0B2-8F65F01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B96-1E76-4C23-8F97-9EB0AA13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C2B-4620-447D-9237-5247D3E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CE2-916D-4347-964C-6D0FA785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C46F-DCD9-4E9C-892C-F67EDB9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DE1-467D-4CA9-877A-64AAB797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AD34-FA8C-4304-B166-5B55A5D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0A10-E904-4EED-893E-0877157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80D-6E33-4AFD-ACCB-D113CFC5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4771-B6C4-41DD-839B-2A8B5F1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108-2776-4C3E-8AF2-F78D963A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F6F-B812-4817-9A85-E0140754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F442-54CC-4816-A74E-1361586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D9E8-C3D6-480F-AF1C-70ED9FC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00B2-8A5B-4C2B-95BC-C599A87D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6FAF-CA45-47BA-B5E4-6C896279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E7C4-27F6-4046-B407-25B8FDB7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B276-04D1-49E5-A10E-FAEFDF91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4698-B632-4FF8-A7D9-CE53AE83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A0EC-B4A5-4DC9-8B74-A1EE29B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B000-4841-4A81-9BE4-CCD6ECC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029-C29A-4874-B517-D8D9A3E4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B560-DB58-455B-A6A7-439CB5C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3D38-2B2C-4ED5-84AE-D736890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AE8F-984D-425A-8DDF-8E4C686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98E0-D0D5-4898-8432-96DA5D8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CE0D-57C2-43E8-8515-53101D0F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B528-AECC-42E4-BE61-70B79FC3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7306-ADD6-4443-A27F-5864E9F0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3CC4-9863-49FF-AA66-C359E6B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1EAE-31C2-4BC9-BE15-36AA1EE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0F32-E5D2-4BDE-9738-4F058673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26A-4468-4FE8-9E22-677A4B8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4925-C9B2-4274-AE0F-BC8197E9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6357-3C98-4D97-B353-A17CA8C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0A09-14F6-4FA8-AED2-4255D8A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D3A6-9F48-46B4-85C9-B21D197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8B2E-655D-4EB8-A4EC-73A9AA7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6818-091B-4D52-93BE-C73FAAD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490E-9B6E-407D-AA1C-EC6A265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D44B-42DF-47A6-A156-94991C57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8D51-59C6-4C00-AFC8-89B8C874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88C7-FBA0-44EB-B5C9-BC1D0F12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654-1BC3-4799-9F92-3FA45B72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87E8-F89B-4F7A-BC04-96A59F0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0C15-0526-4C03-A534-D147BE3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6132-0157-4B91-9798-F442ECBC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D664-DA4F-48D2-BA30-F715159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C8C9-6B75-413C-B415-6F0B67C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A11F-9BB0-472E-8A8C-3DDD3C1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9BB9-3031-4C39-9675-F26B4EB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E595-EF56-486D-BA07-0944C9A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FF7A-255C-4635-BD82-C4C7C613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646E-7F1F-47C9-B3CD-101ACCB5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D4E-DEF9-49D3-860C-60A68E2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D195-AA59-4663-8100-3ECAEA1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13BE-823B-494C-BF72-3B3038AC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A18B-19DE-4CCC-AF04-A9EEFA8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23AA8-1AD9-44DC-AE78-FC45AFBF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C674-511C-4A19-AAEC-80AC0BB3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A9E4D-3F16-448E-B77F-7832295F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9F6A-A48A-472E-AFD1-1708B27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3D6FE-83F1-4F94-B265-FEE2BF7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BBD8-903F-4BA6-98CB-141F7A3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1BE7-B307-4EFE-A7DE-EB18571C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B1B-2ED8-4C1E-B0A2-EFE6614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4F09-2DFE-43AC-8BD3-8BDCBA0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7E88-FBF6-4D8B-95EC-D20EAD4F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2382-DB35-42DA-902C-ED3E7DE5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E49D-D8FD-447F-BA09-E55BA718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C58E-9796-4FF4-97BE-40C6442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6185-9E24-44F0-A162-9F24293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7724-DE10-4503-A62F-9DC8853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9341-CCCF-4C24-9E7D-AFF0B32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B102-620D-4FDD-9EC8-4B1272C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0C7C-0451-4C33-877F-29453CA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37B-3BF6-4983-A3D7-7DAD35F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1130-E47C-4007-B4C2-179FB54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A465-7F9F-4E7D-B905-62A83B0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19E8-E73B-457D-90AA-F50A52E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87E2F-EC8F-45F3-9019-DE78B99A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7C0FA-B0A5-4810-9184-7AC1868A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C26-6515-480E-A260-2FABAFF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261-6A8D-4181-91EE-004E8CF685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4EF7-BB5B-4B2E-B2D1-ACE58ED120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586-688D-40A4-A942-865FCA9CEB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C613-E74E-44AB-89BD-53872024AF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4455-8C19-4016-B29C-5E93A46A53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4CA-1543-4C56-B412-CAC703EFDC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A436-1ABC-4382-8D63-863BB14099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D:\Desktop\картинки\i.jpg"/>
          <p:cNvPicPr/>
          <p:nvPr/>
        </p:nvPicPr>
        <p:blipFill>
          <a:blip r:embed="rId1"/>
          <a:stretch/>
        </p:blipFill>
        <p:spPr>
          <a:xfrm>
            <a:off x="1693800" y="165240"/>
            <a:ext cx="2843280" cy="2160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D:\Desktop\картинки\i-1.jpg"/>
          <p:cNvPicPr/>
          <p:nvPr/>
        </p:nvPicPr>
        <p:blipFill>
          <a:blip r:embed="rId2"/>
          <a:stretch/>
        </p:blipFill>
        <p:spPr>
          <a:xfrm>
            <a:off x="4836960" y="174600"/>
            <a:ext cx="2759400" cy="2143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D:\Desktop\картинки\i-3.jpg"/>
          <p:cNvPicPr/>
          <p:nvPr/>
        </p:nvPicPr>
        <p:blipFill>
          <a:blip r:embed="rId3"/>
          <a:stretch/>
        </p:blipFill>
        <p:spPr>
          <a:xfrm>
            <a:off x="1668600" y="2473200"/>
            <a:ext cx="2887560" cy="214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D:\Desktop\картинки\i-4.jpg"/>
          <p:cNvPicPr/>
          <p:nvPr/>
        </p:nvPicPr>
        <p:blipFill>
          <a:blip r:embed="rId4"/>
          <a:stretch/>
        </p:blipFill>
        <p:spPr>
          <a:xfrm>
            <a:off x="4836960" y="2370240"/>
            <a:ext cx="2759400" cy="213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D:\Desktop\картинки\i-5.jpg"/>
          <p:cNvPicPr/>
          <p:nvPr/>
        </p:nvPicPr>
        <p:blipFill>
          <a:blip r:embed="rId5"/>
          <a:stretch/>
        </p:blipFill>
        <p:spPr>
          <a:xfrm>
            <a:off x="1668600" y="4664160"/>
            <a:ext cx="2862000" cy="2111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D:\Desktop\картинки\i-6.jpg"/>
          <p:cNvPicPr/>
          <p:nvPr/>
        </p:nvPicPr>
        <p:blipFill>
          <a:blip r:embed="rId6"/>
          <a:stretch/>
        </p:blipFill>
        <p:spPr>
          <a:xfrm>
            <a:off x="4849920" y="4664160"/>
            <a:ext cx="2746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ДОМАШНИЕ ЖИВОТНЫ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2" descr="D:\Desktop\картинки\i.jpg"/>
          <p:cNvPicPr/>
          <p:nvPr/>
        </p:nvPicPr>
        <p:blipFill>
          <a:blip r:embed="rId1"/>
          <a:stretch/>
        </p:blipFill>
        <p:spPr>
          <a:xfrm>
            <a:off x="826920" y="1341360"/>
            <a:ext cx="3745080" cy="2476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D:\Desktop\картинки\i-3.jpg"/>
          <p:cNvPicPr/>
          <p:nvPr/>
        </p:nvPicPr>
        <p:blipFill>
          <a:blip r:embed="rId2"/>
          <a:stretch/>
        </p:blipFill>
        <p:spPr>
          <a:xfrm>
            <a:off x="5435640" y="1413000"/>
            <a:ext cx="3368520" cy="2322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:\Desktop\картинки\i-5.jpg"/>
          <p:cNvPicPr/>
          <p:nvPr/>
        </p:nvPicPr>
        <p:blipFill>
          <a:blip r:embed="rId3"/>
          <a:stretch/>
        </p:blipFill>
        <p:spPr>
          <a:xfrm>
            <a:off x="2627280" y="3809880"/>
            <a:ext cx="442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ДИКИЕ ЖИВОТНЫ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D:\Desktop\картинки\i-1.jpg"/>
          <p:cNvPicPr/>
          <p:nvPr/>
        </p:nvPicPr>
        <p:blipFill>
          <a:blip r:embed="rId1"/>
          <a:stretch/>
        </p:blipFill>
        <p:spPr>
          <a:xfrm>
            <a:off x="2987640" y="1417680"/>
            <a:ext cx="3714840" cy="24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D:\Desktop\картинки\i-4.jpg"/>
          <p:cNvPicPr/>
          <p:nvPr/>
        </p:nvPicPr>
        <p:blipFill>
          <a:blip r:embed="rId2"/>
          <a:stretch/>
        </p:blipFill>
        <p:spPr>
          <a:xfrm>
            <a:off x="324000" y="4076640"/>
            <a:ext cx="3962160" cy="2476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D:\Desktop\картинки\i-6.jpg"/>
          <p:cNvPicPr/>
          <p:nvPr/>
        </p:nvPicPr>
        <p:blipFill>
          <a:blip r:embed="rId3"/>
          <a:stretch/>
        </p:blipFill>
        <p:spPr>
          <a:xfrm>
            <a:off x="5148360" y="4076640"/>
            <a:ext cx="3714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s://fb.ru/misc/i/gallery/72162/2380041.jpg"/>
          <p:cNvPicPr/>
          <p:nvPr/>
        </p:nvPicPr>
        <p:blipFill>
          <a:blip r:embed="rId1"/>
          <a:stretch/>
        </p:blipFill>
        <p:spPr>
          <a:xfrm>
            <a:off x="395280" y="404640"/>
            <a:ext cx="5006880" cy="4389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https://i.pinimg.com/originals/c6/49/26/c649265452e54e9e4cadcdf02c643e37.jpg"/>
          <p:cNvPicPr/>
          <p:nvPr/>
        </p:nvPicPr>
        <p:blipFill>
          <a:blip r:embed="rId2"/>
          <a:stretch/>
        </p:blipFill>
        <p:spPr>
          <a:xfrm>
            <a:off x="4959360" y="3068640"/>
            <a:ext cx="387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101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ОЛЛАЖ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это композиция (картина) из вырезанных фотографий, рисунков, наклеенных на какую-либо основу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https://fb.ru/misc/i/gallery/72162/2380041.jpg"/>
          <p:cNvPicPr/>
          <p:nvPr/>
        </p:nvPicPr>
        <p:blipFill>
          <a:blip r:embed="rId1"/>
          <a:stretch/>
        </p:blipFill>
        <p:spPr>
          <a:xfrm>
            <a:off x="1187280" y="3406680"/>
            <a:ext cx="3240360" cy="2841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https://i.pinimg.com/originals/c6/49/26/c649265452e54e9e4cadcdf02c643e37.jpg"/>
          <p:cNvPicPr/>
          <p:nvPr/>
        </p:nvPicPr>
        <p:blipFill>
          <a:blip r:embed="rId2"/>
          <a:stretch/>
        </p:blipFill>
        <p:spPr>
          <a:xfrm>
            <a:off x="4859280" y="3427560"/>
            <a:ext cx="38768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D:\Desktop\картинки\i-11.jpg"/>
          <p:cNvPicPr/>
          <p:nvPr/>
        </p:nvPicPr>
        <p:blipFill>
          <a:blip r:embed="rId1"/>
          <a:stretch/>
        </p:blipFill>
        <p:spPr>
          <a:xfrm>
            <a:off x="341280" y="115920"/>
            <a:ext cx="4176720" cy="2914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D:\Desktop\картинки\i-13.jpg"/>
          <p:cNvPicPr/>
          <p:nvPr/>
        </p:nvPicPr>
        <p:blipFill>
          <a:blip r:embed="rId2"/>
          <a:stretch/>
        </p:blipFill>
        <p:spPr>
          <a:xfrm>
            <a:off x="324000" y="3284640"/>
            <a:ext cx="4211640" cy="3384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Desktop\картинки\i-8.jpg"/>
          <p:cNvPicPr/>
          <p:nvPr/>
        </p:nvPicPr>
        <p:blipFill>
          <a:blip r:embed="rId3"/>
          <a:stretch/>
        </p:blipFill>
        <p:spPr>
          <a:xfrm>
            <a:off x="4741920" y="115920"/>
            <a:ext cx="3935520" cy="2914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D:\Desktop\картинки\i-7.jpg"/>
          <p:cNvPicPr/>
          <p:nvPr/>
        </p:nvPicPr>
        <p:blipFill>
          <a:blip r:embed="rId4"/>
          <a:stretch/>
        </p:blipFill>
        <p:spPr>
          <a:xfrm>
            <a:off x="4788000" y="3284640"/>
            <a:ext cx="3927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1405080" y="142560"/>
            <a:ext cx="74995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137040" cy="3060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46958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35:06Z</dcterms:created>
  <dc:creator>Мама</dc:creator>
  <dc:description/>
  <dc:language>en-US</dc:language>
  <cp:lastModifiedBy>Учитель</cp:lastModifiedBy>
  <dcterms:modified xsi:type="dcterms:W3CDTF">2020-11-20T05:32:01Z</dcterms:modified>
  <cp:revision>82</cp:revision>
  <dc:subject/>
  <dc:title>Слайд 1</dc:title>
</cp:coreProperties>
</file>