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7300-3800-44AC-8B61-7D7325F59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E6B2-F768-4B55-8DC7-164A06DC65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9C07-E256-494F-BCC0-5EE9A35B78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8361-51F3-4494-960B-449A1D5785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C7A5-9232-41C8-BE7E-475C455D68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4C1E-439C-4120-917D-D2A5C3507A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C48C-B08B-420E-A4A4-2D7C47312F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987F-9D3C-405B-B2ED-E95B2602B7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B71B-B1B5-44EF-BCB0-B9B3334706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AFB2-CF2A-4D6A-887C-1B8E03216F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338C-9088-497A-A650-5D79ED0502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A5FD-6B0E-4EBA-BB64-CEB3DB9708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1E1-4834-47DE-BB0A-6615CA88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F6E-4B00-4C2F-B4CB-32B4DE77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6969-35B1-4875-9168-9572BA72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A27-6DFC-45FB-9A2C-39441DB1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6592-2554-48F7-B80A-0D878756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2AF6-7978-45FF-9D49-2465D35D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A2BB-4B82-4D44-8576-F6369D75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7BB6-028B-4F14-8E78-20529C3C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F03E-CF13-49FB-A726-26079A52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B534-D719-4132-BE02-A630DBC3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7EC1-E12F-454A-A625-00BF6018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35B-015F-4363-B1ED-B2159841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4AF5-AC94-41FC-85FC-03D20B0F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E61A-7D9C-47F9-AAA0-5073577B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5B6C-9A54-47BF-9FF3-263017E0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40DA-BD83-415E-A6E6-3C3EBA0C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8160-7AE2-46C4-85BD-25066B55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365-306B-4378-A5C9-C2DA732B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854-0DCB-4A7A-BC1D-33ED3579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677-4B70-4750-8504-2AE1C150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F01-E412-4F30-BB05-7B451BB6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DC9-BB8E-4F18-B6BF-7316CE74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054-85AB-4FDE-BBD0-80FC30F0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BF3-A61C-493B-BB95-73538C07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674E-2620-41A0-8508-9217ECD61E9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3409-9112-4CAC-8FE9-D3F24F80352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ff00"/>
                </a:solidFill>
                <a:latin typeface="Tahoma"/>
              </a:rPr>
              <a:t>Жестокое обращение с деть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ff00"/>
                </a:solidFill>
                <a:latin typeface="Tahoma"/>
              </a:rPr>
              <a:t>в сем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6" descr="0a813e8e653616bdd350ba4a7adbc9ea_448"/>
          <p:cNvPicPr/>
          <p:nvPr/>
        </p:nvPicPr>
        <p:blipFill>
          <a:blip r:embed="rId1"/>
          <a:stretch/>
        </p:blipFill>
        <p:spPr>
          <a:xfrm>
            <a:off x="2057400" y="2895480"/>
            <a:ext cx="4267080" cy="3122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1905120" y="60948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334120" cy="1904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ru-RU" sz="3300" spc="-1" strike="noStrike">
                <a:solidFill>
                  <a:srgbClr val="ffffff"/>
                </a:solidFill>
                <a:latin typeface="Tahoma"/>
              </a:rPr>
              <a:t>Органы, занимающиеся защитой прав детей:</a:t>
            </a:r>
            <a:endParaRPr b="0" lang="en-US" sz="3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Rectangle 35"/>
          <p:cNvSpPr/>
          <p:nvPr/>
        </p:nvSpPr>
        <p:spPr>
          <a:xfrm>
            <a:off x="380880" y="2743200"/>
            <a:ext cx="8534520" cy="21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Центральная КДН и ЗП города Братск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(665708, г. Братск, ул. Подбельского, 26, код (8-3953, факс 41-57-88) E-mail: KDN@bratsk-city.ru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редседатель КДН и ЗП (3953) 349-703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Заместитель председателя КДН и ЗП (3953) 349-705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Ответственный секретарь КДН и ЗП (3953) 349-723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562720" y="152280"/>
            <a:ext cx="335268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380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удьте бдительны!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Не оставляйте без внимания особенности поведения родителей и детей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Отнеситесь к детям, подвергшимся насилию или жестокому обращению, с любовью, лаской, добротой, и тогда они отплатят Вам тем же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6" descr="kl"/>
          <p:cNvPicPr/>
          <p:nvPr/>
        </p:nvPicPr>
        <p:blipFill>
          <a:blip r:embed="rId1"/>
          <a:stretch/>
        </p:blipFill>
        <p:spPr>
          <a:xfrm>
            <a:off x="4343400" y="3276720"/>
            <a:ext cx="4343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Жестокое обращ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с детьми – эт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мышленное и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осторожное обращ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ли действия со стороны взрослых или сверстников, котор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вели к травмам, нарушению в развитии, смерти ребенка, либо угрожают его правам и благополуч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7381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ffcc"/>
                </a:solidFill>
                <a:latin typeface="Tahoma"/>
              </a:rPr>
              <a:t>Типы жестокого обращения с детьми:</a:t>
            </a:r>
            <a:r>
              <a:rPr b="1" lang="ru-RU" sz="4000" spc="-1" strike="noStrike">
                <a:solidFill>
                  <a:srgbClr val="00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1.Физическое насилие 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2. Психологическое насилие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3. Сексуальное насилие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4. Пренебрежение  детьми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5. Экономическое насил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630440"/>
          </a:xfrm>
          <a:prstGeom prst="rect">
            <a:avLst/>
          </a:prstGeom>
          <a:solidFill>
            <a:srgbClr val="f6f244"/>
          </a:solidFill>
          <a:ln w="9360">
            <a:solidFill>
              <a:srgbClr val="cc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d0d3a"/>
                </a:solidFill>
                <a:latin typeface="Tahoma"/>
              </a:rPr>
              <a:t>Особенности психического состояния и поведения ребёнка, позволяющие заподозрить жестокое отношение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0556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4c1f1c"/>
                </a:solidFill>
                <a:uFillTx/>
                <a:latin typeface="Tahoma"/>
              </a:rPr>
              <a:t>Дети</a:t>
            </a:r>
            <a:r>
              <a:rPr b="0" lang="ru-RU" sz="2600" spc="-1" strike="noStrike" u="sng">
                <a:solidFill>
                  <a:srgbClr val="4c1f1c"/>
                </a:solidFill>
                <a:uFillTx/>
                <a:latin typeface="Times New Roman"/>
              </a:rPr>
              <a:t>:</a:t>
            </a:r>
            <a:r>
              <a:rPr b="0" lang="ru-RU" sz="2600" spc="-1" strike="noStrike">
                <a:solidFill>
                  <a:srgbClr val="4c1f1c"/>
                </a:solidFill>
                <a:latin typeface="Times New Roman"/>
              </a:rPr>
              <a:t> стремление скрыть причину травм, одиночество, отсутствие друзей, боязнь идти домой после</a:t>
            </a:r>
            <a:r>
              <a:rPr b="0" lang="ru-RU" sz="2600" spc="-1" strike="noStrike">
                <a:solidFill>
                  <a:srgbClr val="4c1f1c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4c1f1c"/>
                </a:solidFill>
                <a:latin typeface="Times New Roman"/>
              </a:rPr>
              <a:t>детского сада, школы, утомлённый вид, отставание в физическом и (или) психологическом развит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4c1f1c"/>
                </a:solidFill>
                <a:uFillTx/>
                <a:latin typeface="Tahoma"/>
              </a:rPr>
              <a:t>Подростки</a:t>
            </a:r>
            <a:r>
              <a:rPr b="0" lang="ru-RU" sz="2600" spc="-1" strike="noStrike" u="sng">
                <a:solidFill>
                  <a:srgbClr val="4c1f1c"/>
                </a:solidFill>
                <a:uFillTx/>
                <a:latin typeface="Times New Roman"/>
              </a:rPr>
              <a:t>:</a:t>
            </a:r>
            <a:r>
              <a:rPr b="0" lang="ru-RU" sz="2600" spc="-1" strike="noStrike">
                <a:solidFill>
                  <a:srgbClr val="4c1f1c"/>
                </a:solidFill>
                <a:latin typeface="Times New Roman"/>
              </a:rPr>
              <a:t> побеги из дома, девиантное или деликвентное поведение, суицидальные попытки (мысли), употребление алкоголя, наркотиков, разговоры о том, что все надоело, желание бросить школу, частые вялотекущие заболева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Факторы риск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пособствующие нарушению прав ребёнка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полные и многодетные семьи, семьи с приемными детьми, с наличием отчима и мачех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сутствие в семье больного алкоголизмом (наркоманией) или вернувшегося из мест лишения свобод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зработица, финансовые труд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стоянные внутрисемейные конфликт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атус беженцев, вынужденных переселенце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изкий уровень культуры, образования родителей, негативные семейные традици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  Нежеланный ребенок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8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мственные или физические недостатки ребен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9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Трудный» ребен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00"/>
                </a:solidFill>
                <a:latin typeface="Tahoma"/>
              </a:rPr>
              <a:t>Основные признаки, которые должны привлечь внимание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598760"/>
            <a:ext cx="8610480" cy="510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сихическое и физическое развитие ребенка не соответствует его возрас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ухоженность, неопрятность; апатичность или, наоборот, агрессивность ребен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зменчивое поведение: переход от спокойного состояния к внезапному возбуждению (такое поведение часто является причиной нарушения контактов с другими деть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блемы с обучением в связи с плохой концентрацией вним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172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каз ребенка раздеться, чтобы скрыть синяки и раны на теле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вторяющиеся жалобы на недомогание (головную боль, боли в животе и др.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раждебность или чувство страха по отношению к отцу или матери или к другим членам семь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ильная реакция испуга или отвращения в связи с физической близостью определенного взросл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резмерное стремление к одобрению, ласке любого взрослого, гипертрофированная забота обо всем и обо всех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Характерные особенности в поведении родителей, которые должны подтвердить Ваши опасе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AutoShape 6"/>
          <p:cNvSpPr/>
          <p:nvPr/>
        </p:nvSpPr>
        <p:spPr>
          <a:xfrm rot="5400000">
            <a:off x="973440" y="184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 rot="5400000">
            <a:off x="2909520" y="2957400"/>
            <a:ext cx="3200400" cy="486000"/>
          </a:xfrm>
          <a:prstGeom prst="rightArrow">
            <a:avLst>
              <a:gd name="adj1" fmla="val 50000"/>
              <a:gd name="adj2" fmla="val 16463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 rot="5400000">
            <a:off x="6765120" y="1845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228600" y="2743200"/>
            <a:ext cx="27432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152280" y="2819520"/>
            <a:ext cx="3124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В беседе о ребенк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родители проявляю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настороженность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или безразлич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5638680" y="2895480"/>
            <a:ext cx="32767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На жалобы по повод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Поведения ребенк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 ОУ реагирую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либо холодно, либ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очень бурно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эмоциональн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1676520" y="5181480"/>
            <a:ext cx="5638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Часто меняют детског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участкового врача, часто переводя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ребенка из одного ОУ в друг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2362320" y="2743200"/>
            <a:ext cx="190476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яв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ту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си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бен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28600" y="3124080"/>
            <a:ext cx="16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каз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724280" y="2666880"/>
            <a:ext cx="3962520" cy="19814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общить  о фак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естокого  обраще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силия админист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в соответствующ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рг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2895480" y="5410080"/>
            <a:ext cx="5867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ведение реабилитационных мероприятий по выводу ребенка из кризисной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533520" y="5029200"/>
            <a:ext cx="2057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нят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2666880" y="30492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00"/>
                </a:solidFill>
                <a:latin typeface="Arial"/>
              </a:rPr>
              <a:t>АЛГОРИТМ ДЕЙСТВИЙ ПЕДАГОГА ПРИ ВЫЯВЛЕНИИ ЖЕСТОКОГО ОБРАЩЕНИЯ С РЕБЕНКОМ В СЕМЬ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5"/>
          <p:cNvSpPr/>
          <p:nvPr/>
        </p:nvSpPr>
        <p:spPr>
          <a:xfrm>
            <a:off x="0" y="53341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6"/>
          <p:cNvSpPr/>
          <p:nvPr/>
        </p:nvSpPr>
        <p:spPr>
          <a:xfrm flipH="1" rot="10815600">
            <a:off x="1219320" y="6019560"/>
            <a:ext cx="1598400" cy="609480"/>
          </a:xfrm>
          <a:custGeom>
            <a:avLst/>
            <a:gdLst>
              <a:gd name="textAreaLeft" fmla="*/ 919800 w 1598400"/>
              <a:gd name="textAreaRight" fmla="*/ 1348920 w 159840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7"/>
          <p:cNvSpPr/>
          <p:nvPr/>
        </p:nvSpPr>
        <p:spPr>
          <a:xfrm>
            <a:off x="8686800" y="33526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8"/>
          <p:cNvSpPr/>
          <p:nvPr/>
        </p:nvSpPr>
        <p:spPr>
          <a:xfrm>
            <a:off x="1828800" y="33526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9"/>
          <p:cNvSpPr/>
          <p:nvPr/>
        </p:nvSpPr>
        <p:spPr>
          <a:xfrm>
            <a:off x="4267080" y="33526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1" descr="ideal2_l"/>
          <p:cNvPicPr/>
          <p:nvPr/>
        </p:nvPicPr>
        <p:blipFill>
          <a:blip r:embed="rId1"/>
          <a:stretch/>
        </p:blipFill>
        <p:spPr>
          <a:xfrm>
            <a:off x="228600" y="228600"/>
            <a:ext cx="2209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21-06-17T07:13:41Z</dcterms:modified>
  <cp:revision>126</cp:revision>
  <dc:subject/>
  <dc:title>Презентация Дятловой Марины Георгиевны "Жестокое обращение с детьми: что это такое?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