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5566-EEF4-4631-9FF0-6E6A9CFE17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3A20-4CF6-40BC-8720-8DC9B05738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6BF0-C9F4-48D8-8060-40FC07C951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2348-9B65-47DD-8678-7636DD9085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EE60-CCD6-4371-A453-C387EA91C0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7EF5-E595-487B-A43B-EAB76DACCA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E268-116A-4B0E-A147-E4743B1E05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6864-E03A-438A-96E7-88B7D30BBA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4A60-1568-4B13-909B-B27A8ED1D3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D831-35BE-482E-A441-95A466D9CA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43BE-3170-40B6-8883-635A4DACF4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EF42-1842-404D-BF24-3C4A0B918C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A2E2-9779-49C7-BF86-E8CFB864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61CA-C82F-4746-B18F-2AD80844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4326-FE6C-4D3C-8AF1-149A6766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E557-F52E-42B3-811A-05EC8FDF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5C24-1AC4-4DB2-B361-A5072702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694F-3AF7-45D0-92E1-D18BE295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1F14-3473-4791-B025-11D33FC8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0FB0-91C4-4DAA-9A58-032E58A2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595B-D470-4862-8858-12F4E90F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EE2A-9409-43EB-8A3F-07E1766F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F6CE-16F3-4244-9765-28D09356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096A-C86A-4584-9865-329DC73F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36EE-3AEC-417D-99A5-8B73ED45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7E90-0ABE-49D1-AC12-D69AAEA1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0E6F-D1EB-43CF-B547-078A06B8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1C59-BDBB-4C52-9272-B6D54803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44DD-FAD5-4444-BDA1-C10AB017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FF8-A0BA-4145-87F0-5167C176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8ED0-711E-4484-88F5-35398A0A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FEF4-568D-4728-A0D0-5B623014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5CB-0679-4CBA-AED1-8AC8CCCD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919E-B2A4-410F-9C23-2D08187E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A2BF-21A5-4EC4-A14E-E37057DA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E5C2-8BE8-496E-8A55-D4E0692C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7CEE-0F02-468E-A512-7D1FB987CCB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D33D-A01E-4F2E-8D0E-2C94B07A25E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ff00"/>
                </a:solidFill>
                <a:latin typeface="Tahoma"/>
              </a:rPr>
              <a:t>Жестокое обращение с деть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ff00"/>
                </a:solidFill>
                <a:latin typeface="Tahoma"/>
              </a:rPr>
              <a:t>в семь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6" descr="0a813e8e653616bdd350ba4a7adbc9ea_448"/>
          <p:cNvPicPr/>
          <p:nvPr/>
        </p:nvPicPr>
        <p:blipFill>
          <a:blip r:embed="rId1"/>
          <a:stretch/>
        </p:blipFill>
        <p:spPr>
          <a:xfrm>
            <a:off x="2057400" y="2895480"/>
            <a:ext cx="4267080" cy="3122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9"/>
          <p:cNvSpPr/>
          <p:nvPr/>
        </p:nvSpPr>
        <p:spPr>
          <a:xfrm>
            <a:off x="1905120" y="60948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334120" cy="1904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ru-RU" sz="3300" spc="-1" strike="noStrike">
                <a:solidFill>
                  <a:srgbClr val="ffffff"/>
                </a:solidFill>
                <a:latin typeface="Tahoma"/>
              </a:rPr>
              <a:t>Органы, занимающиеся защитой прав детей:</a:t>
            </a:r>
            <a:endParaRPr b="0" lang="en-US" sz="3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Rectangle 35"/>
          <p:cNvSpPr/>
          <p:nvPr/>
        </p:nvSpPr>
        <p:spPr>
          <a:xfrm>
            <a:off x="380880" y="2743200"/>
            <a:ext cx="8534520" cy="210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Центральная КДН и ЗП города Братск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(665708, г. Братск, ул. Подбельского, 26, код (8-3953, факс 41-57-88) E-mail: KDN@bratsk-city.ru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Председатель КДН и ЗП (3953) 349-703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Заместитель председателя КДН и ЗП (3953) 349-705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Ответственный секретарь КДН и ЗП (3953) 349-723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5562720" y="152280"/>
            <a:ext cx="335268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3808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удьте бдительны!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Не оставляйте без внимания особенности поведения родителей и детей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Отнеситесь к детям, подвергшимся насилию или жестокому обращению, с любовью, лаской, добротой, и тогда они отплатят Вам тем же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6" descr="kl"/>
          <p:cNvPicPr/>
          <p:nvPr/>
        </p:nvPicPr>
        <p:blipFill>
          <a:blip r:embed="rId1"/>
          <a:stretch/>
        </p:blipFill>
        <p:spPr>
          <a:xfrm>
            <a:off x="4343400" y="3276720"/>
            <a:ext cx="4343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Tahoma"/>
              </a:rPr>
              <a:t>Жестокое обращ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Tahoma"/>
              </a:rPr>
              <a:t>с детьми – это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мышленное ил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осторожное обращ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ли действия со стороны взрослых или сверстников, котор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вели к травмам, нарушению в развитии, смерти ребенка, либо угрожают его правам и благополуч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273816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00ffcc"/>
                </a:solidFill>
                <a:latin typeface="Tahoma"/>
              </a:rPr>
              <a:t>Типы жестокого обращения с детьми:</a:t>
            </a:r>
            <a:r>
              <a:rPr b="1" lang="ru-RU" sz="4000" spc="-1" strike="noStrike">
                <a:solidFill>
                  <a:srgbClr val="00ffcc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1.Физическое насилие 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2. Психологическое насилие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3. Сексуальное насилие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4. Пренебрежение  детьми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5. Экономическое насили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86800" cy="1630440"/>
          </a:xfrm>
          <a:prstGeom prst="rect">
            <a:avLst/>
          </a:prstGeom>
          <a:solidFill>
            <a:srgbClr val="f6f244"/>
          </a:solidFill>
          <a:ln w="9360">
            <a:solidFill>
              <a:srgbClr val="cc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d0d3a"/>
                </a:solidFill>
                <a:latin typeface="Tahoma"/>
              </a:rPr>
              <a:t>Особенности психического состояния и поведения ребёнка, позволяющие заподозрить жестокое отношение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30556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4c1f1c"/>
                </a:solidFill>
                <a:uFillTx/>
                <a:latin typeface="Tahoma"/>
              </a:rPr>
              <a:t>Дети</a:t>
            </a:r>
            <a:r>
              <a:rPr b="0" lang="ru-RU" sz="2600" spc="-1" strike="noStrike" u="sng">
                <a:solidFill>
                  <a:srgbClr val="4c1f1c"/>
                </a:solidFill>
                <a:uFillTx/>
                <a:latin typeface="Times New Roman"/>
              </a:rPr>
              <a:t>:</a:t>
            </a:r>
            <a:r>
              <a:rPr b="0" lang="ru-RU" sz="2600" spc="-1" strike="noStrike">
                <a:solidFill>
                  <a:srgbClr val="4c1f1c"/>
                </a:solidFill>
                <a:latin typeface="Times New Roman"/>
              </a:rPr>
              <a:t> стремление скрыть причину травм, одиночество, отсутствие друзей, боязнь идти домой после</a:t>
            </a:r>
            <a:r>
              <a:rPr b="0" lang="ru-RU" sz="2600" spc="-1" strike="noStrike">
                <a:solidFill>
                  <a:srgbClr val="4c1f1c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4c1f1c"/>
                </a:solidFill>
                <a:latin typeface="Times New Roman"/>
              </a:rPr>
              <a:t>детского сада, школы, утомлённый вид, отставание в физическом и (или) психологическом развити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4c1f1c"/>
                </a:solidFill>
                <a:uFillTx/>
                <a:latin typeface="Tahoma"/>
              </a:rPr>
              <a:t>Подростки</a:t>
            </a:r>
            <a:r>
              <a:rPr b="0" lang="ru-RU" sz="2600" spc="-1" strike="noStrike" u="sng">
                <a:solidFill>
                  <a:srgbClr val="4c1f1c"/>
                </a:solidFill>
                <a:uFillTx/>
                <a:latin typeface="Times New Roman"/>
              </a:rPr>
              <a:t>:</a:t>
            </a:r>
            <a:r>
              <a:rPr b="0" lang="ru-RU" sz="2600" spc="-1" strike="noStrike">
                <a:solidFill>
                  <a:srgbClr val="4c1f1c"/>
                </a:solidFill>
                <a:latin typeface="Times New Roman"/>
              </a:rPr>
              <a:t> побеги из дома, девиантное или деликвентное поведение, суицидальные попытки (мысли), употребление алкоголя, наркотиков, разговоры о том, что все надоело, желание бросить школу, частые вялотекущие заболевани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Факторы риска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пособствующие нарушению прав ребёнка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полные и многодетные семьи, семьи с приемными детьми, с наличием отчима и мачех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сутствие в семье больного алкоголизмом (наркоманией) или вернувшегося из мест лишения свобод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езработица, финансовые труд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стоянные внутрисемейные конфликт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атус беженцев, вынужденных переселенцев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изкий уровень культуры, образования родителей, негативные семейные традици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7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  Нежеланный ребенок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8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мственные или физические недостатки ребен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9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Трудный» ребен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00"/>
                </a:solidFill>
                <a:latin typeface="Tahoma"/>
              </a:rPr>
              <a:t>Основные признаки, которые должны привлечь внимание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598760"/>
            <a:ext cx="8610480" cy="5106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сихическое и физическое развитие ребенка не соответствует его возраст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ухоженность, неопрятность; апатичность или, наоборот, агрессивность ребен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зменчивое поведение: переход от спокойного состояния к внезапному возбуждению (такое поведение часто является причиной нарушения контактов с другими детьм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блемы с обучением в связи с плохой концентрацией внима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6172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каз ребенка раздеться, чтобы скрыть синяки и раны на теле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вторяющиеся жалобы на недомогание (головную боль, боли в животе и др.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раждебность или чувство страха по отношению к отцу или матери или к другим членам семь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ильная реакция испуга или отвращения в связи с физической близостью определенного взросл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резмерное стремление к одобрению, ласке любого взрослого, гипертрофированная забота обо всем и обо всех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Характерные особенности в поведении родителей, которые должны подтвердить Ваши опасен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AutoShape 6"/>
          <p:cNvSpPr/>
          <p:nvPr/>
        </p:nvSpPr>
        <p:spPr>
          <a:xfrm rot="5400000">
            <a:off x="973440" y="184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 rot="5400000">
            <a:off x="2909520" y="2957400"/>
            <a:ext cx="3200400" cy="486000"/>
          </a:xfrm>
          <a:prstGeom prst="rightArrow">
            <a:avLst>
              <a:gd name="adj1" fmla="val 50000"/>
              <a:gd name="adj2" fmla="val 16463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 rot="5400000">
            <a:off x="6765120" y="1845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228600" y="2743200"/>
            <a:ext cx="27432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152280" y="2819520"/>
            <a:ext cx="3124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В беседе о ребенк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родители проявляю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настороженность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или безразлич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5638680" y="2895480"/>
            <a:ext cx="327672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На жалобы по повод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Поведения ребенк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в ОУ реагирую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либо холодно, либо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очень бурно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эмоциональн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1676520" y="5181480"/>
            <a:ext cx="56386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Часто меняют детского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участкового врача, часто переводя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ребенка из одного ОУ в друго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2362320" y="2743200"/>
            <a:ext cx="1904760" cy="1828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ыявл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ту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си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ебен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228600" y="3124080"/>
            <a:ext cx="16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каз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е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мо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724280" y="2666880"/>
            <a:ext cx="3962520" cy="19814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общить  о фак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жестокого  обраще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силия администр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в соответствующ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рг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23"/>
          <p:cNvSpPr/>
          <p:nvPr/>
        </p:nvSpPr>
        <p:spPr>
          <a:xfrm>
            <a:off x="2895480" y="5410080"/>
            <a:ext cx="5867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ведение реабилитационных мероприятий по выводу ребенка из кризисной ситу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533520" y="5029200"/>
            <a:ext cx="2057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нят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5"/>
          <p:cNvSpPr/>
          <p:nvPr/>
        </p:nvSpPr>
        <p:spPr>
          <a:xfrm>
            <a:off x="2666880" y="304920"/>
            <a:ext cx="6172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00"/>
                </a:solidFill>
                <a:latin typeface="Arial"/>
              </a:rPr>
              <a:t>АЛГОРИТМ ДЕЙСТВИЙ ПЕДАГОГА ПРИ ВЫЯВЛЕНИИ ЖЕСТОКОГО ОБРАЩЕНИЯ С РЕБЕНКОМ В СЕМЬ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5"/>
          <p:cNvSpPr/>
          <p:nvPr/>
        </p:nvSpPr>
        <p:spPr>
          <a:xfrm>
            <a:off x="0" y="53341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6"/>
          <p:cNvSpPr/>
          <p:nvPr/>
        </p:nvSpPr>
        <p:spPr>
          <a:xfrm flipH="1" rot="10815600">
            <a:off x="1219320" y="6019560"/>
            <a:ext cx="1598400" cy="609480"/>
          </a:xfrm>
          <a:custGeom>
            <a:avLst/>
            <a:gdLst>
              <a:gd name="textAreaLeft" fmla="*/ 919800 w 1598400"/>
              <a:gd name="textAreaRight" fmla="*/ 1348920 w 159840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7"/>
          <p:cNvSpPr/>
          <p:nvPr/>
        </p:nvSpPr>
        <p:spPr>
          <a:xfrm>
            <a:off x="8686800" y="33526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8"/>
          <p:cNvSpPr/>
          <p:nvPr/>
        </p:nvSpPr>
        <p:spPr>
          <a:xfrm>
            <a:off x="1828800" y="33526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9"/>
          <p:cNvSpPr/>
          <p:nvPr/>
        </p:nvSpPr>
        <p:spPr>
          <a:xfrm>
            <a:off x="4267080" y="33526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1" descr="ideal2_l"/>
          <p:cNvPicPr/>
          <p:nvPr/>
        </p:nvPicPr>
        <p:blipFill>
          <a:blip r:embed="rId1"/>
          <a:stretch/>
        </p:blipFill>
        <p:spPr>
          <a:xfrm>
            <a:off x="228600" y="228600"/>
            <a:ext cx="2209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</cp:lastModifiedBy>
  <dcterms:modified xsi:type="dcterms:W3CDTF">2021-06-17T07:13:41Z</dcterms:modified>
  <cp:revision>126</cp:revision>
  <dc:subject/>
  <dc:title>Презентация Дятловой Марины Георгиевны "Жестокое обращение с детьми: что это такое?"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