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1FE-B535-4A66-A4A2-FA9E988F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FA1-5466-40E8-81B8-4BB5A23C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FA2-4478-448F-AE2C-94DF9EF4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A2B-987B-4E4B-9647-D5F4E40C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5DE4-66A5-4DDC-8C47-17B5BB60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A437-EED8-4859-8C64-A06B1860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9857-5523-4FE3-800D-C44D4C7C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A525-1938-45CC-92B3-CBEEDB3F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D11-A90D-484E-9544-2FAD24CF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D9E7-08F9-429C-88F2-9B4DEA81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89E5-7DCA-4602-8B12-F6325ECD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0A5-6014-4658-95E7-7579ABE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CED4-E3AF-4C96-A68C-F10AF97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D0E1-E214-411E-B994-BB065BE8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757-9520-4602-8C0D-2F9E3126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1B50-C9F9-4053-A0A4-8405FC3D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A354-2EE5-41AD-9D51-A3F622E8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AB1-0E46-464F-8FDD-ADD746C5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37A-0307-43CB-89B9-FB906519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8CF-A2FC-46BD-9887-D6684A78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B90-46E9-4F22-9C5A-A2FC65A7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B99-D652-476C-9295-00C066FD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EBA-825A-47C9-81C3-852B9DBE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54D-2C81-46AD-AACD-2325979C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eb6b9">
                  <a:alpha val="45098"/>
                </a:srgbClr>
              </a:gs>
              <a:gs pos="100000">
                <a:srgbClr val="a9eef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dbdbf">
                  <a:alpha val="45098"/>
                </a:srgbClr>
              </a:gs>
              <a:gs pos="100000">
                <a:srgbClr val="bbdce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2e9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bf5f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9fa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CB06-9102-4EF8-A6A4-D8A7CDB085B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eb6b9">
                  <a:alpha val="45098"/>
                </a:srgbClr>
              </a:gs>
              <a:gs pos="100000">
                <a:srgbClr val="a9eef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dbdbf">
                  <a:alpha val="45098"/>
                </a:srgbClr>
              </a:gs>
              <a:gs pos="100000">
                <a:srgbClr val="bbdce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2e9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bf5f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9fa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5E3A-DC5E-4AAC-A201-F8E1515BE50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15964"/>
                </a:solidFill>
                <a:latin typeface="Calibri"/>
              </a:rPr>
              <a:t>Ожирение – болезнь нашего века</a:t>
            </a:r>
            <a:br>
              <a:rPr sz="5400"/>
            </a:b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98" name="Picture 2" descr="C:\Users\Женя\Desktop\Ожирение\Obesity-causes-and-treatments.png"/>
          <p:cNvPicPr/>
          <p:nvPr/>
        </p:nvPicPr>
        <p:blipFill>
          <a:blip r:embed="rId1"/>
          <a:stretch/>
        </p:blipFill>
        <p:spPr>
          <a:xfrm>
            <a:off x="3059280" y="4076640"/>
            <a:ext cx="3241440" cy="2305080"/>
          </a:xfrm>
          <a:prstGeom prst="rect">
            <a:avLst/>
          </a:prstGeom>
          <a:ln w="19080">
            <a:solidFill>
              <a:srgbClr val="11596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765000"/>
            <a:ext cx="825804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676b"/>
                </a:solidFill>
                <a:latin typeface="Calibri"/>
              </a:rPr>
              <a:t>Стадии развития ожирения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2204640"/>
            <a:ext cx="4032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1) Прогрессирующая стадия заболевания.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2) Стабильная стадия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заболевания.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27" name="Picture 2" descr="http://www.clipartster.com/images/49/weak-woman-clipart-cliparthut-free-clipart-2AVrdv-clipart.jpg"/>
          <p:cNvPicPr/>
          <p:nvPr/>
        </p:nvPicPr>
        <p:blipFill>
          <a:blip r:embed="rId1"/>
          <a:srcRect l="0" t="0" r="0" b="2719"/>
          <a:stretch/>
        </p:blipFill>
        <p:spPr>
          <a:xfrm>
            <a:off x="5435640" y="1628640"/>
            <a:ext cx="2884320" cy="4778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Причины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773000"/>
            <a:ext cx="8280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1) нарушения равновесия между принятой пищей и потраченной энергией;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2) нарушения в работе поджелудочной железы, печени, тонкого и толстого кишечников;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3)</a:t>
            </a:r>
            <a:r>
              <a:rPr b="0" lang="ru-RU" sz="2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генетических нарушений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30" name="Picture 3" descr="http://www.cliparthut.com/clip-arts/385/obesity-clip-art-385010.jpg"/>
          <p:cNvPicPr/>
          <p:nvPr/>
        </p:nvPicPr>
        <p:blipFill>
          <a:blip r:embed="rId1"/>
          <a:stretch/>
        </p:blipFill>
        <p:spPr>
          <a:xfrm>
            <a:off x="5292720" y="3933720"/>
            <a:ext cx="2460600" cy="266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ttp://pharmprod.ru/upload/medialibrary/006/00672a01d7fb6f87e3a1ec6470cd585d.jpg"/>
          <p:cNvPicPr/>
          <p:nvPr/>
        </p:nvPicPr>
        <p:blipFill>
          <a:blip r:embed="rId2"/>
          <a:stretch/>
        </p:blipFill>
        <p:spPr>
          <a:xfrm>
            <a:off x="1187280" y="4149720"/>
            <a:ext cx="3168720" cy="2481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15964"/>
                </a:solidFill>
                <a:latin typeface="Calibri"/>
              </a:rPr>
              <a:t>Профилактика ожирения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11280" y="1934640"/>
            <a:ext cx="4321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1) здоровый образ жизни,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2) здоровое питание,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3) физическая активность.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34" name="Picture 4" descr="https://static.vecteezy.com/system/resources/previews/000/106/063/original/free-fat-guy-character-vector.png"/>
          <p:cNvPicPr/>
          <p:nvPr/>
        </p:nvPicPr>
        <p:blipFill>
          <a:blip r:embed="rId1"/>
          <a:srcRect l="35001" t="1851" r="35187" b="48151"/>
          <a:stretch/>
        </p:blipFill>
        <p:spPr>
          <a:xfrm>
            <a:off x="163440" y="1989000"/>
            <a:ext cx="2320920" cy="288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s://static.vecteezy.com/system/resources/previews/000/106/063/original/free-fat-guy-character-vector.png"/>
          <p:cNvPicPr/>
          <p:nvPr/>
        </p:nvPicPr>
        <p:blipFill>
          <a:blip r:embed="rId2"/>
          <a:srcRect l="3042" t="52177" r="65509" b="0"/>
          <a:stretch/>
        </p:blipFill>
        <p:spPr>
          <a:xfrm>
            <a:off x="6732720" y="2349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s://static.vecteezy.com/system/resources/previews/000/106/063/original/free-fat-guy-character-vector.png"/>
          <p:cNvPicPr/>
          <p:nvPr/>
        </p:nvPicPr>
        <p:blipFill>
          <a:blip r:embed="rId3"/>
          <a:srcRect l="62254" t="59663" r="1501" b="0"/>
          <a:stretch/>
        </p:blipFill>
        <p:spPr>
          <a:xfrm>
            <a:off x="2771640" y="4076640"/>
            <a:ext cx="331308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Питани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62828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1596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снова питания – сбалансированность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1596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Продукты важно  употреблять в пищу в их естественном состоянии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11596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Необходимо пить достаточный объем воды – 2,5-3 литра в сутки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39" name="Picture 2" descr="http://vodopodgotovka-vodi.ru/sites/default/files/images/jestkaya-voda-chto-delat3.jpg"/>
          <p:cNvPicPr/>
          <p:nvPr/>
        </p:nvPicPr>
        <p:blipFill>
          <a:blip r:embed="rId1"/>
          <a:stretch/>
        </p:blipFill>
        <p:spPr>
          <a:xfrm>
            <a:off x="4716360" y="3860640"/>
            <a:ext cx="3602160" cy="239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drpozvonkov.ru/wp-content/uploads/2016/01/racionalnoe-pitanoe-pri-artroze-e1437415577795.jpg"/>
          <p:cNvPicPr/>
          <p:nvPr/>
        </p:nvPicPr>
        <p:blipFill>
          <a:blip r:embed="rId2"/>
          <a:stretch/>
        </p:blipFill>
        <p:spPr>
          <a:xfrm>
            <a:off x="611280" y="3860640"/>
            <a:ext cx="377820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Лечение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844640"/>
            <a:ext cx="51944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бщие требования в назначении диет: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115964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граничение жидкости и поваренной соли;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115964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соблюдение режима питания;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115964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использование рекомендуемых врачами отдельных продуктов и блюд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43" name="Picture 2" descr="http://www.kotofey-tlt.ru/image/keys/239220"/>
          <p:cNvPicPr/>
          <p:nvPr/>
        </p:nvPicPr>
        <p:blipFill>
          <a:blip r:embed="rId1"/>
          <a:stretch/>
        </p:blipFill>
        <p:spPr>
          <a:xfrm>
            <a:off x="5796000" y="1844640"/>
            <a:ext cx="3024000" cy="196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lecheniepochek.ru/wp-content/uploads/2016/05/42785719-aloe-i-gipertoniya.jpg"/>
          <p:cNvPicPr/>
          <p:nvPr/>
        </p:nvPicPr>
        <p:blipFill>
          <a:blip r:embed="rId2"/>
          <a:stretch/>
        </p:blipFill>
        <p:spPr>
          <a:xfrm>
            <a:off x="5867280" y="4149720"/>
            <a:ext cx="300060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Аутогенная тренировк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 rot="21074400">
            <a:off x="2585520" y="1996200"/>
            <a:ext cx="450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Я смогу похудеть!</a:t>
            </a:r>
            <a:endParaRPr b="0" lang="en-US" sz="36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47" name="Picture 2" descr="http://www.creativewomen.ru/wp-content/uploads/2014/02/%D0%9F%D1%80%D0%BE%D0%B4%D0%BB%D0%B8%D1%82%D1%8C-%D0%BC%D0%BE%D0%BB%D0%BE%D0%B4%D0%BE%D1%81%D1%82%D1%8C-3.jpg"/>
          <p:cNvPicPr/>
          <p:nvPr/>
        </p:nvPicPr>
        <p:blipFill>
          <a:blip r:embed="rId1"/>
          <a:stretch/>
        </p:blipFill>
        <p:spPr>
          <a:xfrm>
            <a:off x="4859280" y="2924280"/>
            <a:ext cx="4105440" cy="32385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 rot="883800">
            <a:off x="284040" y="30304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Segoe Script"/>
              </a:rPr>
              <a:t>Я здоровый, уверенный в себе человек!</a:t>
            </a:r>
            <a:endParaRPr b="0" lang="en-US" sz="3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9" name="Прямоугольник 5"/>
          <p:cNvSpPr/>
          <p:nvPr/>
        </p:nvSpPr>
        <p:spPr>
          <a:xfrm rot="21180000">
            <a:off x="885600" y="4568040"/>
            <a:ext cx="286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e9fb4"/>
                </a:solidFill>
                <a:latin typeface="Corbel"/>
              </a:rPr>
              <a:t>Я справлюсь!</a:t>
            </a:r>
            <a:endParaRPr b="0" lang="en-US" sz="40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Лечение сокам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9280" y="1935000"/>
            <a:ext cx="8280360" cy="27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Constantia"/>
              </a:rPr>
              <a:t>Свежевыжатый сок — идеальное средство для похудения.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Constantia"/>
              </a:rPr>
              <a:t>Пектины, находящиеся в свежевыжатом соке, помогают организму очищаться и освобождаться от токсинов.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52" name="Picture 2" descr="http://www.gigagerc.ru/image/keys/229524"/>
          <p:cNvPicPr/>
          <p:nvPr/>
        </p:nvPicPr>
        <p:blipFill>
          <a:blip r:embed="rId1"/>
          <a:srcRect l="0" t="3196" r="0" b="0"/>
          <a:stretch/>
        </p:blipFill>
        <p:spPr>
          <a:xfrm>
            <a:off x="4932360" y="4292640"/>
            <a:ext cx="3548160" cy="218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gurmania.wmj.ru/sites/www.gurmania.ru/files/article/37914/main-image/0608_11.jpg"/>
          <p:cNvPicPr/>
          <p:nvPr/>
        </p:nvPicPr>
        <p:blipFill>
          <a:blip r:embed="rId2"/>
          <a:stretch/>
        </p:blipFill>
        <p:spPr>
          <a:xfrm>
            <a:off x="611280" y="4292640"/>
            <a:ext cx="3965400" cy="2206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Вегетарианство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nstantia"/>
              </a:rPr>
              <a:t>Согласно исследованиям, у людей с вегетарианским рационом индекс массы значительно меньше, чем у заядлых мясоедов. 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56" name="Picture 2" descr="http://nadel-poo.ru/img/58282c96bf342.jpg"/>
          <p:cNvPicPr/>
          <p:nvPr/>
        </p:nvPicPr>
        <p:blipFill>
          <a:blip r:embed="rId1"/>
          <a:stretch/>
        </p:blipFill>
        <p:spPr>
          <a:xfrm>
            <a:off x="2556000" y="3357720"/>
            <a:ext cx="3671640" cy="333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15964"/>
                </a:solidFill>
                <a:latin typeface="Calibri"/>
              </a:rPr>
              <a:t>Статистика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00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жирение "молодеет" с каждым годом. 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Каждый десятый человек в мире страдает ожирением. 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От ожирения страдают 40 миллионов детей в возрасте до 5 лет.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59" name="Picture 2" descr="http://uvenksib.ru/photos/golovnye-boli-energeticheskiy-udar-125088-large.jpg"/>
          <p:cNvPicPr/>
          <p:nvPr/>
        </p:nvPicPr>
        <p:blipFill>
          <a:blip r:embed="rId1"/>
          <a:stretch/>
        </p:blipFill>
        <p:spPr>
          <a:xfrm>
            <a:off x="2556000" y="3284640"/>
            <a:ext cx="396072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3640" y="1483920"/>
            <a:ext cx="8135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15964"/>
                </a:solidFill>
                <a:latin typeface="Constantia"/>
              </a:rPr>
              <a:t>Спасибо за внимание!</a:t>
            </a:r>
            <a:endParaRPr b="0" lang="en-US" sz="48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600" y="765000"/>
            <a:ext cx="78152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15964"/>
                </a:solidFill>
                <a:latin typeface="Calibri"/>
              </a:rPr>
              <a:t>Понятие «ожирение»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50655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15964"/>
                </a:solidFill>
                <a:uFillTx/>
                <a:latin typeface="Constantia"/>
              </a:rPr>
              <a:t>Ожирение </a:t>
            </a: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– 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увеличение массы тела за счёт жировой ткани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01" name="Picture 4" descr="C:\Users\Женя\Desktop\Ожирение\ogirenie.png"/>
          <p:cNvPicPr/>
          <p:nvPr/>
        </p:nvPicPr>
        <p:blipFill>
          <a:blip r:embed="rId1"/>
          <a:stretch/>
        </p:blipFill>
        <p:spPr>
          <a:xfrm>
            <a:off x="2195640" y="2924280"/>
            <a:ext cx="4464000" cy="3375000"/>
          </a:xfrm>
          <a:prstGeom prst="rect">
            <a:avLst/>
          </a:prstGeom>
          <a:ln w="12600">
            <a:solidFill>
              <a:srgbClr val="072428"/>
            </a:solidFill>
            <a:miter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15964"/>
                </a:solidFill>
                <a:latin typeface="Calibri"/>
              </a:rPr>
              <a:t>Для определения ожирения  нужно использовать </a:t>
            </a:r>
            <a:r>
              <a:rPr b="1" lang="ru-RU" sz="2600" spc="-1" strike="noStrike">
                <a:solidFill>
                  <a:srgbClr val="115964"/>
                </a:solidFill>
                <a:latin typeface="Calibri"/>
              </a:rPr>
              <a:t>индекс массы тела (ИМТ)</a:t>
            </a:r>
            <a:endParaRPr b="0" lang="en-US" sz="2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547640" y="2924280"/>
            <a:ext cx="669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5964"/>
                </a:solidFill>
                <a:latin typeface="Calibri"/>
              </a:rPr>
              <a:t>ИМТ </a:t>
            </a:r>
            <a:r>
              <a:rPr b="1" lang="en-US" sz="4800" spc="-1" strike="noStrike">
                <a:solidFill>
                  <a:srgbClr val="115964"/>
                </a:solidFill>
                <a:latin typeface="Calibri"/>
              </a:rPr>
              <a:t>=</a:t>
            </a:r>
            <a:r>
              <a:rPr b="1" lang="ru-RU" sz="4800" spc="-1" strike="noStrike">
                <a:solidFill>
                  <a:srgbClr val="115964"/>
                </a:solidFill>
                <a:latin typeface="Calibri"/>
              </a:rPr>
              <a:t> вес(кг)</a:t>
            </a:r>
            <a:r>
              <a:rPr b="1" lang="en-US" sz="4800" spc="-1" strike="noStrike">
                <a:solidFill>
                  <a:srgbClr val="115964"/>
                </a:solidFill>
                <a:latin typeface="Calibri"/>
              </a:rPr>
              <a:t>/</a:t>
            </a:r>
            <a:r>
              <a:rPr b="1" lang="ru-RU" sz="4800" spc="-1" strike="noStrike">
                <a:solidFill>
                  <a:srgbClr val="115964"/>
                </a:solidFill>
                <a:latin typeface="Calibri"/>
              </a:rPr>
              <a:t>рост(м)</a:t>
            </a:r>
            <a:endParaRPr b="0" lang="en-US" sz="48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0560" y="83664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ru-RU" sz="2800" spc="-1" strike="noStrike" u="sng">
                <a:solidFill>
                  <a:srgbClr val="115964"/>
                </a:solidFill>
                <a:uFillTx/>
                <a:latin typeface="Constantia"/>
              </a:rPr>
              <a:t>Окружность талии </a:t>
            </a: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– важный показатель здоровья.</a:t>
            </a:r>
            <a:br>
              <a:rPr sz="2800"/>
            </a:b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Норма для женщин: менее 88 см;</a:t>
            </a:r>
            <a:br>
              <a:rPr sz="2800"/>
            </a:b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Норма для мужчин: менее 102 см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05" name="Picture 5" descr="C:\Users\Женя\Desktop\Ожирение\ожирение.jpg"/>
          <p:cNvPicPr/>
          <p:nvPr/>
        </p:nvPicPr>
        <p:blipFill>
          <a:blip r:embed="rId1"/>
          <a:stretch/>
        </p:blipFill>
        <p:spPr>
          <a:xfrm>
            <a:off x="1403280" y="3213000"/>
            <a:ext cx="6337440" cy="3168720"/>
          </a:xfrm>
          <a:prstGeom prst="rect">
            <a:avLst/>
          </a:prstGeom>
          <a:ln w="12600">
            <a:solidFill>
              <a:srgbClr val="115964"/>
            </a:solidFill>
            <a:miter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15964"/>
                </a:solidFill>
                <a:latin typeface="Calibri"/>
              </a:rPr>
              <a:t>Внешний вид ожирения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1915920"/>
            <a:ext cx="3600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1) гиноидный фенотип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08" name="Picture 3" descr="C:\Users\Женя\Desktop\Ожирение\fat3.jpg"/>
          <p:cNvPicPr/>
          <p:nvPr/>
        </p:nvPicPr>
        <p:blipFill>
          <a:blip r:embed="rId1"/>
          <a:srcRect l="0" t="6945" r="0" b="0"/>
          <a:stretch/>
        </p:blipFill>
        <p:spPr>
          <a:xfrm>
            <a:off x="3389400" y="1860480"/>
            <a:ext cx="5070240" cy="3656160"/>
          </a:xfrm>
          <a:prstGeom prst="rect">
            <a:avLst/>
          </a:prstGeom>
          <a:ln w="0">
            <a:noFill/>
          </a:ln>
        </p:spPr>
      </p:pic>
      <p:sp>
        <p:nvSpPr>
          <p:cNvPr id="109" name="Содержимое 2"/>
          <p:cNvSpPr/>
          <p:nvPr/>
        </p:nvSpPr>
        <p:spPr>
          <a:xfrm>
            <a:off x="684360" y="3141720"/>
            <a:ext cx="360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2) андроидный фенотип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Содержимое 2"/>
          <p:cNvSpPr/>
          <p:nvPr/>
        </p:nvSpPr>
        <p:spPr>
          <a:xfrm>
            <a:off x="684360" y="4292640"/>
            <a:ext cx="360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Constantia"/>
              </a:rPr>
              <a:t>3) смешанный фенотип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3880" y="836640"/>
            <a:ext cx="767268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6676b"/>
                </a:solidFill>
                <a:latin typeface="Calibri"/>
              </a:rPr>
              <a:t>Формы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178560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15964"/>
                </a:solidFill>
                <a:latin typeface="Constantia"/>
              </a:rPr>
              <a:t>Конституционально-экзогенное ожирение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nstantia"/>
              </a:rPr>
              <a:t>Главная  причина – наследственная предрасположенность.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13" name="Picture 2" descr="C:\Users\Женя\Desktop\Ожирение\1153460_20090317181234.gif"/>
          <p:cNvPicPr/>
          <p:nvPr/>
        </p:nvPicPr>
        <p:blipFill>
          <a:blip r:embed="rId1"/>
          <a:stretch/>
        </p:blipFill>
        <p:spPr>
          <a:xfrm>
            <a:off x="2195640" y="285264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76726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6676b"/>
                </a:solidFill>
                <a:latin typeface="Calibri"/>
              </a:rPr>
              <a:t>Формы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785600"/>
            <a:ext cx="8569080" cy="495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15964"/>
                </a:solidFill>
                <a:latin typeface="Constantia"/>
              </a:rPr>
              <a:t>Церебральная форма 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nstantia"/>
              </a:rPr>
              <a:t>Главная  причина – патология головного мозга, умственная отсталость.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16" name="Picture 4" descr="http://dealinda.ru/media/cache/9f/1a/9f1ab3eeea17d9dbd3f955221f53c3ba.jpg"/>
          <p:cNvPicPr/>
          <p:nvPr/>
        </p:nvPicPr>
        <p:blipFill>
          <a:blip r:embed="rId1"/>
          <a:stretch/>
        </p:blipFill>
        <p:spPr>
          <a:xfrm>
            <a:off x="2195640" y="3213000"/>
            <a:ext cx="4248000" cy="3218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3880" y="836640"/>
            <a:ext cx="767268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6676b"/>
                </a:solidFill>
                <a:latin typeface="Calibri"/>
              </a:rPr>
              <a:t>Формы ожирения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560" y="1628640"/>
            <a:ext cx="8569080" cy="4548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5964"/>
                </a:solidFill>
                <a:latin typeface="Constantia"/>
              </a:rPr>
              <a:t>Гипоталамический синдром пубертатного периода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nstantia"/>
              </a:rPr>
              <a:t>Главная  причина – изменение гормонального фона организма.</a:t>
            </a: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  <a:p>
            <a:pPr marL="457200" indent="-457200" algn="just">
              <a:spcBef>
                <a:spcPts val="601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19" name="Picture 2" descr="http://krasota-zdorowie.ru/wp-content/uploads/2014/03/Ozhirenie-detei-3.jpg"/>
          <p:cNvPicPr/>
          <p:nvPr/>
        </p:nvPicPr>
        <p:blipFill>
          <a:blip r:embed="rId1"/>
          <a:stretch/>
        </p:blipFill>
        <p:spPr>
          <a:xfrm>
            <a:off x="3708360" y="46371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clipartkid.com/images/341/ways-parents-make-their-kids-fat-why-childhood-obesity-is-your-fault-TX3XOU-clipart.jpg"/>
          <p:cNvPicPr/>
          <p:nvPr/>
        </p:nvPicPr>
        <p:blipFill>
          <a:blip r:embed="rId2"/>
          <a:stretch/>
        </p:blipFill>
        <p:spPr>
          <a:xfrm>
            <a:off x="6588000" y="3417840"/>
            <a:ext cx="1962360" cy="247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diane-35.ru/wp-content/uploads/2013/08/kartinka5.jpg"/>
          <p:cNvPicPr/>
          <p:nvPr/>
        </p:nvPicPr>
        <p:blipFill>
          <a:blip r:embed="rId3"/>
          <a:stretch/>
        </p:blipFill>
        <p:spPr>
          <a:xfrm>
            <a:off x="250920" y="3559320"/>
            <a:ext cx="30924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63468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15964"/>
                </a:solidFill>
                <a:latin typeface="Calibri"/>
              </a:rPr>
              <a:t>Степени ожирения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628640"/>
            <a:ext cx="66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1) I степень ожирения  - превышение нормальной массы не более, чем на 29%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2) I степень ожирения - избыток массы тела составляет 30-40%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3) III степень ожирения – избыток массы тела составляет 50-99%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4) IV степень ожирения -  фактическая масса тела превосходит идеальную на 100% и более.</a:t>
            </a: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9faf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24" name="Picture 2" descr="https://naturalmantra.files.wordpress.com/2014/08/images-3.jpg?w=611"/>
          <p:cNvPicPr/>
          <p:nvPr/>
        </p:nvPicPr>
        <p:blipFill>
          <a:blip r:embed="rId1"/>
          <a:srcRect l="37509" t="0" r="0" b="27816"/>
          <a:stretch/>
        </p:blipFill>
        <p:spPr>
          <a:xfrm>
            <a:off x="6948360" y="1916280"/>
            <a:ext cx="1900440" cy="1584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5T06:33:22Z</dcterms:created>
  <dc:creator>Женя</dc:creator>
  <dc:description/>
  <dc:language>en-US</dc:language>
  <cp:lastModifiedBy>Лапина Татьяна</cp:lastModifiedBy>
  <dcterms:modified xsi:type="dcterms:W3CDTF">2021-06-18T03:29:56Z</dcterms:modified>
  <cp:revision>131</cp:revision>
  <dc:subject/>
  <dc:title>Слайд 1</dc:title>
</cp:coreProperties>
</file>