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89B-5B4A-4F48-8DCD-44A487F4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A66-5DF7-4108-8F80-F4B600E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174-CF5B-4BC3-99A7-C5A93B85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74B-1E49-4B75-8B9C-DBCC66D7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A363-B2CB-4B62-BA20-5B1CD89A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F5B-1884-4C74-B87F-34AF108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8DC7-AF78-4A99-A86B-B14F54FA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7E4-38B5-46BA-9D8A-EF4C4DD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DA5-0E67-4708-B3BD-FB89DEE7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E086-64F9-4B3E-88FD-C1AF821C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3F8F-890B-483E-B12E-44067CF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5D3-2508-4546-84D3-F19594F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9339-5242-4D53-AD83-8D8DD2F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A441-A1E9-42C5-AA2D-D7BA261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CDE3-3278-4555-A0E4-143BA93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D021-322C-4751-B91E-46F64BDF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8B01-9B00-43CA-BE3E-139206F2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795-8E4F-44DB-8B42-D8CE3C0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42C-8A4F-4C31-BDBE-A2E2583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434-098F-4091-AC13-608294C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559-0D4D-44C0-861C-A2848BA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728-6A8F-4068-A1DF-878D302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C2A-5A5C-4AFD-A138-FC5631E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722-38E2-477B-99DF-74B6A79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eb6b9">
                  <a:alpha val="45098"/>
                </a:srgbClr>
              </a:gs>
              <a:gs pos="100000">
                <a:srgbClr val="a9eef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bdbf">
                  <a:alpha val="45098"/>
                </a:srgbClr>
              </a:gs>
              <a:gs pos="100000">
                <a:srgbClr val="bbdce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2e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bf5f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9fa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731-63E2-4F86-97A1-956B4CADD8C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eb6b9">
                  <a:alpha val="45098"/>
                </a:srgbClr>
              </a:gs>
              <a:gs pos="100000">
                <a:srgbClr val="a9eef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bdbf">
                  <a:alpha val="45098"/>
                </a:srgbClr>
              </a:gs>
              <a:gs pos="100000">
                <a:srgbClr val="bbdce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2e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bf5f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9fa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4B79-4071-4EC9-BBA1-A575228937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15964"/>
                </a:solidFill>
                <a:latin typeface="Calibri"/>
              </a:rPr>
              <a:t>Ожирение – болезнь нашего века</a:t>
            </a:r>
            <a:br>
              <a:rPr sz="5400"/>
            </a:b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98" name="Picture 2" descr="C:\Users\Женя\Desktop\Ожирение\Obesity-causes-and-treatments.png"/>
          <p:cNvPicPr/>
          <p:nvPr/>
        </p:nvPicPr>
        <p:blipFill>
          <a:blip r:embed="rId1"/>
          <a:stretch/>
        </p:blipFill>
        <p:spPr>
          <a:xfrm>
            <a:off x="3059280" y="4076640"/>
            <a:ext cx="3241440" cy="2305080"/>
          </a:xfrm>
          <a:prstGeom prst="rect">
            <a:avLst/>
          </a:prstGeom>
          <a:ln w="19080">
            <a:solidFill>
              <a:srgbClr val="11596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765000"/>
            <a:ext cx="825804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676b"/>
                </a:solidFill>
                <a:latin typeface="Calibri"/>
              </a:rPr>
              <a:t>Стадии развития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2204640"/>
            <a:ext cx="4032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Прогрессирующая стадия заболевания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Стабильная стадия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аболевания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27" name="Picture 2" descr="http://www.clipartster.com/images/49/weak-woman-clipart-cliparthut-free-clipart-2AVrdv-clipart.jpg"/>
          <p:cNvPicPr/>
          <p:nvPr/>
        </p:nvPicPr>
        <p:blipFill>
          <a:blip r:embed="rId1"/>
          <a:srcRect l="0" t="0" r="0" b="2719"/>
          <a:stretch/>
        </p:blipFill>
        <p:spPr>
          <a:xfrm>
            <a:off x="5435640" y="1628640"/>
            <a:ext cx="2884320" cy="477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Причин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773000"/>
            <a:ext cx="828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нарушения равновесия между принятой пищей и потраченной энергией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нарушения в работе поджелудочной железы, печени, тонкого и толстого кишечников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</a:t>
            </a:r>
            <a:r>
              <a:rPr b="0" lang="ru-RU" sz="2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генетических нарушений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0" name="Picture 3" descr="http://www.cliparthut.com/clip-arts/385/obesity-clip-art-385010.jpg"/>
          <p:cNvPicPr/>
          <p:nvPr/>
        </p:nvPicPr>
        <p:blipFill>
          <a:blip r:embed="rId1"/>
          <a:stretch/>
        </p:blipFill>
        <p:spPr>
          <a:xfrm>
            <a:off x="5292720" y="3933720"/>
            <a:ext cx="2460600" cy="26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pharmprod.ru/upload/medialibrary/006/00672a01d7fb6f87e3a1ec6470cd585d.jpg"/>
          <p:cNvPicPr/>
          <p:nvPr/>
        </p:nvPicPr>
        <p:blipFill>
          <a:blip r:embed="rId2"/>
          <a:stretch/>
        </p:blipFill>
        <p:spPr>
          <a:xfrm>
            <a:off x="1187280" y="4149720"/>
            <a:ext cx="316872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Профилактика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11280" y="1934640"/>
            <a:ext cx="432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здоровый образ жизни,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здоровое питание,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 физическая активность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4" name="Picture 4" descr="https://static.vecteezy.com/system/resources/previews/000/106/063/original/free-fat-guy-character-vector.png"/>
          <p:cNvPicPr/>
          <p:nvPr/>
        </p:nvPicPr>
        <p:blipFill>
          <a:blip r:embed="rId1"/>
          <a:srcRect l="35001" t="1851" r="35187" b="48151"/>
          <a:stretch/>
        </p:blipFill>
        <p:spPr>
          <a:xfrm>
            <a:off x="163440" y="1989000"/>
            <a:ext cx="2320920" cy="288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s://static.vecteezy.com/system/resources/previews/000/106/063/original/free-fat-guy-character-vector.png"/>
          <p:cNvPicPr/>
          <p:nvPr/>
        </p:nvPicPr>
        <p:blipFill>
          <a:blip r:embed="rId2"/>
          <a:srcRect l="3042" t="52177" r="65509" b="0"/>
          <a:stretch/>
        </p:blipFill>
        <p:spPr>
          <a:xfrm>
            <a:off x="6732720" y="2349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s://static.vecteezy.com/system/resources/previews/000/106/063/original/free-fat-guy-character-vector.png"/>
          <p:cNvPicPr/>
          <p:nvPr/>
        </p:nvPicPr>
        <p:blipFill>
          <a:blip r:embed="rId3"/>
          <a:srcRect l="62254" t="59663" r="1501" b="0"/>
          <a:stretch/>
        </p:blipFill>
        <p:spPr>
          <a:xfrm>
            <a:off x="2771640" y="4076640"/>
            <a:ext cx="331308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Питани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снова питания – сбалансированность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родукты важно  употреблять в пищу в их естественном состояни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Необходимо пить достаточный объем воды – 2,5-3 литра в сутк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9" name="Picture 2" descr="http://vodopodgotovka-vodi.ru/sites/default/files/images/jestkaya-voda-chto-delat3.jpg"/>
          <p:cNvPicPr/>
          <p:nvPr/>
        </p:nvPicPr>
        <p:blipFill>
          <a:blip r:embed="rId1"/>
          <a:stretch/>
        </p:blipFill>
        <p:spPr>
          <a:xfrm>
            <a:off x="4716360" y="3860640"/>
            <a:ext cx="3602160" cy="239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drpozvonkov.ru/wp-content/uploads/2016/01/racionalnoe-pitanoe-pri-artroze-e1437415577795.jpg"/>
          <p:cNvPicPr/>
          <p:nvPr/>
        </p:nvPicPr>
        <p:blipFill>
          <a:blip r:embed="rId2"/>
          <a:stretch/>
        </p:blipFill>
        <p:spPr>
          <a:xfrm>
            <a:off x="611280" y="3860640"/>
            <a:ext cx="377820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Лечение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844640"/>
            <a:ext cx="5194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бщие требования в назначении диет: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граничение жидкости и поваренной соли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соблюдение режима питания;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использование рекомендуемых врачами отдельных продуктов и блюд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43" name="Picture 2" descr="http://www.kotofey-tlt.ru/image/keys/239220"/>
          <p:cNvPicPr/>
          <p:nvPr/>
        </p:nvPicPr>
        <p:blipFill>
          <a:blip r:embed="rId1"/>
          <a:stretch/>
        </p:blipFill>
        <p:spPr>
          <a:xfrm>
            <a:off x="5796000" y="1844640"/>
            <a:ext cx="3024000" cy="196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lecheniepochek.ru/wp-content/uploads/2016/05/42785719-aloe-i-gipertoniya.jpg"/>
          <p:cNvPicPr/>
          <p:nvPr/>
        </p:nvPicPr>
        <p:blipFill>
          <a:blip r:embed="rId2"/>
          <a:stretch/>
        </p:blipFill>
        <p:spPr>
          <a:xfrm>
            <a:off x="5867280" y="4149720"/>
            <a:ext cx="300060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Аутогенная тренировк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 rot="21074400">
            <a:off x="2585520" y="1996200"/>
            <a:ext cx="450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Я смогу похудеть!</a:t>
            </a: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47" name="Picture 2" descr="http://www.creativewomen.ru/wp-content/uploads/2014/02/%D0%9F%D1%80%D0%BE%D0%B4%D0%BB%D0%B8%D1%82%D1%8C-%D0%BC%D0%BE%D0%BB%D0%BE%D0%B4%D0%BE%D1%81%D1%82%D1%8C-3.jpg"/>
          <p:cNvPicPr/>
          <p:nvPr/>
        </p:nvPicPr>
        <p:blipFill>
          <a:blip r:embed="rId1"/>
          <a:stretch/>
        </p:blipFill>
        <p:spPr>
          <a:xfrm>
            <a:off x="4859280" y="2924280"/>
            <a:ext cx="4105440" cy="32385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 rot="883800">
            <a:off x="284040" y="3030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Segoe Script"/>
              </a:rPr>
              <a:t>Я здоровый, уверенный в себе человек!</a:t>
            </a: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Прямоугольник 5"/>
          <p:cNvSpPr/>
          <p:nvPr/>
        </p:nvSpPr>
        <p:spPr>
          <a:xfrm rot="21180000">
            <a:off x="885600" y="4568040"/>
            <a:ext cx="286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9fb4"/>
                </a:solidFill>
                <a:latin typeface="Corbel"/>
              </a:rPr>
              <a:t>Я справлюсь!</a:t>
            </a:r>
            <a:endParaRPr b="0" lang="en-US" sz="40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Лечение сокам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280" y="1935000"/>
            <a:ext cx="828036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onstantia"/>
              </a:rPr>
              <a:t>Свежевыжатый сок — идеальное средство для похудения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onstantia"/>
              </a:rPr>
              <a:t>Пектины, находящиеся в свежевыжатом соке, помогают организму очищаться и освобождаться от токсинов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2" name="Picture 2" descr="http://www.gigagerc.ru/image/keys/229524"/>
          <p:cNvPicPr/>
          <p:nvPr/>
        </p:nvPicPr>
        <p:blipFill>
          <a:blip r:embed="rId1"/>
          <a:srcRect l="0" t="3196" r="0" b="0"/>
          <a:stretch/>
        </p:blipFill>
        <p:spPr>
          <a:xfrm>
            <a:off x="4932360" y="4292640"/>
            <a:ext cx="3548160" cy="218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gurmania.wmj.ru/sites/www.gurmania.ru/files/article/37914/main-image/0608_11.jpg"/>
          <p:cNvPicPr/>
          <p:nvPr/>
        </p:nvPicPr>
        <p:blipFill>
          <a:blip r:embed="rId2"/>
          <a:stretch/>
        </p:blipFill>
        <p:spPr>
          <a:xfrm>
            <a:off x="611280" y="4292640"/>
            <a:ext cx="3965400" cy="2206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Вегетарианство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Согласно исследованиям, у людей с вегетарианским рационом индекс массы значительно меньше, чем у заядлых мясоедов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6" name="Picture 2" descr="http://nadel-poo.ru/img/58282c96bf342.jpg"/>
          <p:cNvPicPr/>
          <p:nvPr/>
        </p:nvPicPr>
        <p:blipFill>
          <a:blip r:embed="rId1"/>
          <a:stretch/>
        </p:blipFill>
        <p:spPr>
          <a:xfrm>
            <a:off x="2556000" y="3357720"/>
            <a:ext cx="3671640" cy="333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Статистика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00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жирение "молодеет" с каждым годом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Каждый десятый человек в мире страдает ожирением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т ожирения страдают 40 миллионов детей в возрасте до 5 лет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9" name="Picture 2" descr="http://uvenksib.ru/photos/golovnye-boli-energeticheskiy-udar-125088-large.jpg"/>
          <p:cNvPicPr/>
          <p:nvPr/>
        </p:nvPicPr>
        <p:blipFill>
          <a:blip r:embed="rId1"/>
          <a:stretch/>
        </p:blipFill>
        <p:spPr>
          <a:xfrm>
            <a:off x="2556000" y="3284640"/>
            <a:ext cx="396072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3640" y="1483920"/>
            <a:ext cx="813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15964"/>
                </a:solidFill>
                <a:latin typeface="Constantia"/>
              </a:rPr>
              <a:t>Спасибо за внимание!</a:t>
            </a:r>
            <a:endParaRPr b="0" lang="en-US" sz="4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600" y="765000"/>
            <a:ext cx="78152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5964"/>
                </a:solidFill>
                <a:latin typeface="Calibri"/>
              </a:rPr>
              <a:t>Понятие «ожирение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5065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15964"/>
                </a:solidFill>
                <a:uFillTx/>
                <a:latin typeface="Constantia"/>
              </a:rPr>
              <a:t>Ожирение </a:t>
            </a: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– 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увеличение массы тела за счёт жировой ткани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1" name="Picture 4" descr="C:\Users\Женя\Desktop\Ожирение\ogirenie.png"/>
          <p:cNvPicPr/>
          <p:nvPr/>
        </p:nvPicPr>
        <p:blipFill>
          <a:blip r:embed="rId1"/>
          <a:stretch/>
        </p:blipFill>
        <p:spPr>
          <a:xfrm>
            <a:off x="2195640" y="2924280"/>
            <a:ext cx="4464000" cy="3375000"/>
          </a:xfrm>
          <a:prstGeom prst="rect">
            <a:avLst/>
          </a:prstGeom>
          <a:ln w="12600">
            <a:solidFill>
              <a:srgbClr val="072428"/>
            </a:solidFill>
            <a:miter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alibri"/>
              </a:rPr>
              <a:t>Для определения ожирения  нужно использовать </a:t>
            </a:r>
            <a:r>
              <a:rPr b="1" lang="ru-RU" sz="2600" spc="-1" strike="noStrike">
                <a:solidFill>
                  <a:srgbClr val="115964"/>
                </a:solidFill>
                <a:latin typeface="Calibri"/>
              </a:rPr>
              <a:t>индекс массы тела (ИМТ)</a:t>
            </a:r>
            <a:endParaRPr b="0" lang="en-US" sz="2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547640" y="2924280"/>
            <a:ext cx="66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ИМТ </a:t>
            </a:r>
            <a:r>
              <a:rPr b="1" lang="en-US" sz="4800" spc="-1" strike="noStrike">
                <a:solidFill>
                  <a:srgbClr val="115964"/>
                </a:solidFill>
                <a:latin typeface="Calibri"/>
              </a:rPr>
              <a:t>=</a:t>
            </a: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 вес(кг)</a:t>
            </a:r>
            <a:r>
              <a:rPr b="1" lang="en-US" sz="4800" spc="-1" strike="noStrike">
                <a:solidFill>
                  <a:srgbClr val="115964"/>
                </a:solidFill>
                <a:latin typeface="Calibri"/>
              </a:rPr>
              <a:t>/</a:t>
            </a: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рост(м)</a:t>
            </a:r>
            <a:endParaRPr b="0" lang="en-US" sz="4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560" y="83664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ru-RU" sz="2800" spc="-1" strike="noStrike" u="sng">
                <a:solidFill>
                  <a:srgbClr val="115964"/>
                </a:solidFill>
                <a:uFillTx/>
                <a:latin typeface="Constantia"/>
              </a:rPr>
              <a:t>Окружность талии </a:t>
            </a: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– важный показатель здоровья.</a:t>
            </a:r>
            <a:br>
              <a:rPr sz="2800"/>
            </a:b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Норма для женщин: менее 88 см;</a:t>
            </a:r>
            <a:br>
              <a:rPr sz="2800"/>
            </a:b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Норма для мужчин: менее 102 см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5" name="Picture 5" descr="C:\Users\Женя\Desktop\Ожирение\ожирение.jpg"/>
          <p:cNvPicPr/>
          <p:nvPr/>
        </p:nvPicPr>
        <p:blipFill>
          <a:blip r:embed="rId1"/>
          <a:stretch/>
        </p:blipFill>
        <p:spPr>
          <a:xfrm>
            <a:off x="1403280" y="3213000"/>
            <a:ext cx="6337440" cy="3168720"/>
          </a:xfrm>
          <a:prstGeom prst="rect">
            <a:avLst/>
          </a:prstGeom>
          <a:ln w="12600">
            <a:solidFill>
              <a:srgbClr val="115964"/>
            </a:solidFill>
            <a:miter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Внешний вид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915920"/>
            <a:ext cx="3600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1) гиноид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8" name="Picture 3" descr="C:\Users\Женя\Desktop\Ожирение\fat3.jpg"/>
          <p:cNvPicPr/>
          <p:nvPr/>
        </p:nvPicPr>
        <p:blipFill>
          <a:blip r:embed="rId1"/>
          <a:srcRect l="0" t="6945" r="0" b="0"/>
          <a:stretch/>
        </p:blipFill>
        <p:spPr>
          <a:xfrm>
            <a:off x="3389400" y="1860480"/>
            <a:ext cx="5070240" cy="3656160"/>
          </a:xfrm>
          <a:prstGeom prst="rect">
            <a:avLst/>
          </a:prstGeom>
          <a:ln w="0">
            <a:noFill/>
          </a:ln>
        </p:spPr>
      </p:pic>
      <p:sp>
        <p:nvSpPr>
          <p:cNvPr id="109" name="Содержимое 2"/>
          <p:cNvSpPr/>
          <p:nvPr/>
        </p:nvSpPr>
        <p:spPr>
          <a:xfrm>
            <a:off x="684360" y="3141720"/>
            <a:ext cx="36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2) андроид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684360" y="4292640"/>
            <a:ext cx="360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3) смешан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3880" y="836640"/>
            <a:ext cx="767268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178560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15964"/>
                </a:solidFill>
                <a:latin typeface="Constantia"/>
              </a:rPr>
              <a:t>Конституционально-экзогенное ожирение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наследственная предрасположенность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3" name="Picture 2" descr="C:\Users\Женя\Desktop\Ожирение\1153460_20090317181234.gif"/>
          <p:cNvPicPr/>
          <p:nvPr/>
        </p:nvPicPr>
        <p:blipFill>
          <a:blip r:embed="rId1"/>
          <a:stretch/>
        </p:blipFill>
        <p:spPr>
          <a:xfrm>
            <a:off x="2195640" y="285264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6726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785600"/>
            <a:ext cx="8569080" cy="495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5964"/>
                </a:solidFill>
                <a:latin typeface="Constantia"/>
              </a:rPr>
              <a:t>Церебральная форма 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патология головного мозга, умственная отсталость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6" name="Picture 4" descr="http://dealinda.ru/media/cache/9f/1a/9f1ab3eeea17d9dbd3f955221f53c3ba.jpg"/>
          <p:cNvPicPr/>
          <p:nvPr/>
        </p:nvPicPr>
        <p:blipFill>
          <a:blip r:embed="rId1"/>
          <a:stretch/>
        </p:blipFill>
        <p:spPr>
          <a:xfrm>
            <a:off x="2195640" y="3213000"/>
            <a:ext cx="4248000" cy="3218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836640"/>
            <a:ext cx="767268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628640"/>
            <a:ext cx="8569080" cy="4548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5964"/>
                </a:solidFill>
                <a:latin typeface="Constantia"/>
              </a:rPr>
              <a:t>Гипоталамический синдром пубертатного периода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изменение гормонального фона организма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9" name="Picture 2" descr="http://krasota-zdorowie.ru/wp-content/uploads/2014/03/Ozhirenie-detei-3.jpg"/>
          <p:cNvPicPr/>
          <p:nvPr/>
        </p:nvPicPr>
        <p:blipFill>
          <a:blip r:embed="rId1"/>
          <a:stretch/>
        </p:blipFill>
        <p:spPr>
          <a:xfrm>
            <a:off x="3708360" y="46371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clipartkid.com/images/341/ways-parents-make-their-kids-fat-why-childhood-obesity-is-your-fault-TX3XOU-clipart.jpg"/>
          <p:cNvPicPr/>
          <p:nvPr/>
        </p:nvPicPr>
        <p:blipFill>
          <a:blip r:embed="rId2"/>
          <a:stretch/>
        </p:blipFill>
        <p:spPr>
          <a:xfrm>
            <a:off x="6588000" y="3417840"/>
            <a:ext cx="1962360" cy="24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diane-35.ru/wp-content/uploads/2013/08/kartinka5.jpg"/>
          <p:cNvPicPr/>
          <p:nvPr/>
        </p:nvPicPr>
        <p:blipFill>
          <a:blip r:embed="rId3"/>
          <a:stretch/>
        </p:blipFill>
        <p:spPr>
          <a:xfrm>
            <a:off x="250920" y="3559320"/>
            <a:ext cx="30924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3468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Степени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628640"/>
            <a:ext cx="66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I степень ожирения  - превышение нормальной массы не более, чем на 29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I степень ожирения - избыток массы тела составляет 30-40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 III степень ожирения – избыток массы тела составляет 50-99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4) IV степень ожирения -  фактическая масса тела превосходит идеальную на 100% и более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24" name="Picture 2" descr="https://naturalmantra.files.wordpress.com/2014/08/images-3.jpg?w=611"/>
          <p:cNvPicPr/>
          <p:nvPr/>
        </p:nvPicPr>
        <p:blipFill>
          <a:blip r:embed="rId1"/>
          <a:srcRect l="37509" t="0" r="0" b="27816"/>
          <a:stretch/>
        </p:blipFill>
        <p:spPr>
          <a:xfrm>
            <a:off x="6948360" y="1916280"/>
            <a:ext cx="1900440" cy="1584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6:33:22Z</dcterms:created>
  <dc:creator>Женя</dc:creator>
  <dc:description/>
  <dc:language>en-US</dc:language>
  <cp:lastModifiedBy>Лапина Татьяна</cp:lastModifiedBy>
  <dcterms:modified xsi:type="dcterms:W3CDTF">2021-06-18T03:29:56Z</dcterms:modified>
  <cp:revision>131</cp:revision>
  <dc:subject/>
  <dc:title>Слайд 1</dc:title>
</cp:coreProperties>
</file>