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098-40E4-4BCE-BEC8-EFDB4835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343-81AA-491F-A67A-6986DDC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C66-F339-401B-B259-5CCE44E4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ABF-343B-42B0-A051-69BA4F2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6CD-2E64-48B9-84C3-1FEA3127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7AD-D054-442D-A22C-A583E12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48A-0A0A-4E6D-8726-C1D3203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5DC-C82E-4777-8F98-0DB5485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FAD-D307-4DB2-96A2-41FF0A2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A2C-88DE-4423-9911-75AA15A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6B6-FF27-491E-9416-7F3A1244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73E-BC4E-4C23-BADA-580E965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B22-1BD7-474C-A006-373B736C1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pryug.ru/gallery.html" TargetMode="External"/><Relationship Id="rId2" Type="http://schemas.openxmlformats.org/officeDocument/2006/relationships/hyperlink" Target="http://dpryug.ru/gallery.html" TargetMode="External"/><Relationship Id="rId3" Type="http://schemas.openxmlformats.org/officeDocument/2006/relationships/hyperlink" Target="http://dpryug.ru/gallery.html" TargetMode="External"/><Relationship Id="rId4" Type="http://schemas.openxmlformats.org/officeDocument/2006/relationships/hyperlink" Target="http://dpryug.ru/gallery.html" TargetMode="External"/><Relationship Id="rId5" Type="http://schemas.openxmlformats.org/officeDocument/2006/relationships/hyperlink" Target="http://dpryug.ru/gallery.html" TargetMode="External"/><Relationship Id="rId6" Type="http://schemas.openxmlformats.org/officeDocument/2006/relationships/hyperlink" Target="http://www.salebis.ru/fulllist/sale/423/page3/" TargetMode="External"/><Relationship Id="rId7" Type="http://schemas.openxmlformats.org/officeDocument/2006/relationships/hyperlink" Target="http://www.salebis.ru/fulllist/sale/423/page3/" TargetMode="External"/><Relationship Id="rId8" Type="http://schemas.openxmlformats.org/officeDocument/2006/relationships/hyperlink" Target="http://www.salebis.ru/fulllist/sale/423/page3/" TargetMode="External"/><Relationship Id="rId9" Type="http://schemas.openxmlformats.org/officeDocument/2006/relationships/hyperlink" Target="http://www.salebis.ru/fulllist/sale/423/page3/" TargetMode="External"/><Relationship Id="rId10" Type="http://schemas.openxmlformats.org/officeDocument/2006/relationships/hyperlink" Target="http://www.salebis.ru/fulllist/sale/423/page3/" TargetMode="External"/><Relationship Id="rId11" Type="http://schemas.openxmlformats.org/officeDocument/2006/relationships/hyperlink" Target="http://www.salebis.ru/fulllist/sale/423/page3/" TargetMode="External"/><Relationship Id="rId12" Type="http://schemas.openxmlformats.org/officeDocument/2006/relationships/hyperlink" Target="http://www.salebis.ru/fulllist/sale/423/page3/" TargetMode="External"/><Relationship Id="rId13" Type="http://schemas.openxmlformats.org/officeDocument/2006/relationships/hyperlink" Target="http://www.salebis.ru/fulllist/sale/423/page3/" TargetMode="External"/><Relationship Id="rId14" Type="http://schemas.openxmlformats.org/officeDocument/2006/relationships/hyperlink" Target="http://www.musidora.ru/turrufabgo.htm" TargetMode="External"/><Relationship Id="rId15" Type="http://schemas.openxmlformats.org/officeDocument/2006/relationships/hyperlink" Target="http://www.musidora.ru/turrufabgo.htm" TargetMode="External"/><Relationship Id="rId16" Type="http://schemas.openxmlformats.org/officeDocument/2006/relationships/hyperlink" Target="http://www.musidora.ru/turrufabgo.htm" TargetMode="External"/><Relationship Id="rId17" Type="http://schemas.openxmlformats.org/officeDocument/2006/relationships/hyperlink" Target="http://www.musidora.ru/turrufabgo.htm" TargetMode="External"/><Relationship Id="rId18" Type="http://schemas.openxmlformats.org/officeDocument/2006/relationships/hyperlink" Target="http://www.musidora.ru/turrufabgo.htm" TargetMode="External"/><Relationship Id="rId19" Type="http://schemas.openxmlformats.org/officeDocument/2006/relationships/hyperlink" Target="http://dpryug.ru/gallery/14.html" TargetMode="External"/><Relationship Id="rId20" Type="http://schemas.openxmlformats.org/officeDocument/2006/relationships/hyperlink" Target="http://dpryug.ru/gallery/14.html" TargetMode="External"/><Relationship Id="rId21" Type="http://schemas.openxmlformats.org/officeDocument/2006/relationships/hyperlink" Target="http://dpryug.ru/gallery/14.html" TargetMode="External"/><Relationship Id="rId22" Type="http://schemas.openxmlformats.org/officeDocument/2006/relationships/hyperlink" Target="http://dpryug.ru/gallery/14.html" TargetMode="External"/><Relationship Id="rId23" Type="http://schemas.openxmlformats.org/officeDocument/2006/relationships/hyperlink" Target="http://dpryug.ru/gallery/14.html" TargetMode="External"/><Relationship Id="rId24" Type="http://schemas.openxmlformats.org/officeDocument/2006/relationships/hyperlink" Target="http://dpryug.ru/gallery/14.html" TargetMode="External"/><Relationship Id="rId25" Type="http://schemas.openxmlformats.org/officeDocument/2006/relationships/hyperlink" Target="http://dpryug.ru/gallery/14.html" TargetMode="External"/><Relationship Id="rId26" Type="http://schemas.openxmlformats.org/officeDocument/2006/relationships/hyperlink" Target="http://dpryug.ru/gallery/14.html" TargetMode="External"/><Relationship Id="rId27" Type="http://schemas.openxmlformats.org/officeDocument/2006/relationships/hyperlink" Target="http://dpryug.ru/gallery/14.html" TargetMode="External"/><Relationship Id="rId28" Type="http://schemas.openxmlformats.org/officeDocument/2006/relationships/hyperlink" Target="http://dpryug.ru/gallery/14.html" TargetMode="External"/><Relationship Id="rId29" Type="http://schemas.openxmlformats.org/officeDocument/2006/relationships/hyperlink" Target="http://dpryug.ru/gallery/14.html" TargetMode="External"/><Relationship Id="rId30" Type="http://schemas.openxmlformats.org/officeDocument/2006/relationships/hyperlink" Target="http://dpryug.ru/gallery/14.html" TargetMode="External"/><Relationship Id="rId31" Type="http://schemas.openxmlformats.org/officeDocument/2006/relationships/hyperlink" Target="http://gallery.photora.ru/main.php/v/aligor/Nature/.jpg.html" TargetMode="External"/><Relationship Id="rId32" Type="http://schemas.openxmlformats.org/officeDocument/2006/relationships/hyperlink" Target="http://gallery.photora.ru/main.php/v/aligor/Nature/.jpg.html" TargetMode="External"/><Relationship Id="rId33" Type="http://schemas.openxmlformats.org/officeDocument/2006/relationships/hyperlink" Target="http://gallery.photora.ru/main.php/v/aligor/Nature/.jpg.html" TargetMode="External"/><Relationship Id="rId34" Type="http://schemas.openxmlformats.org/officeDocument/2006/relationships/hyperlink" Target="http://gallery.photora.ru/main.php/v/aligor/Nature/.jpg.html" TargetMode="External"/><Relationship Id="rId35" Type="http://schemas.openxmlformats.org/officeDocument/2006/relationships/hyperlink" Target="http://gallery.photora.ru/main.php/v/aligor/Nature/.jpg.html" TargetMode="External"/><Relationship Id="rId36" Type="http://schemas.openxmlformats.org/officeDocument/2006/relationships/hyperlink" Target="http://gallery.photora.ru/main.php/v/aligor/Nature/.jpg.html" TargetMode="External"/><Relationship Id="rId37" Type="http://schemas.openxmlformats.org/officeDocument/2006/relationships/hyperlink" Target="http://gallery.photora.ru/main.php/v/aligor/Nature/.jpg.html" TargetMode="External"/><Relationship Id="rId38" Type="http://schemas.openxmlformats.org/officeDocument/2006/relationships/hyperlink" Target="http://gallery.photora.ru/main.php/v/aligor/Nature/.jpg.html" TargetMode="External"/><Relationship Id="rId39" Type="http://schemas.openxmlformats.org/officeDocument/2006/relationships/hyperlink" Target="http://gallery.photora.ru/main.php/v/aligor/Nature/.jpg.html" TargetMode="External"/><Relationship Id="rId40" Type="http://schemas.openxmlformats.org/officeDocument/2006/relationships/hyperlink" Target="http://gallery.photora.ru/main.php/v/aligor/Nature/.jpg.html" TargetMode="External"/><Relationship Id="rId41" Type="http://schemas.openxmlformats.org/officeDocument/2006/relationships/hyperlink" Target="http://gallery.photora.ru/main.php/v/aligor/Nature/.jpg.html" TargetMode="External"/><Relationship Id="rId42" Type="http://schemas.openxmlformats.org/officeDocument/2006/relationships/hyperlink" Target="http://www.edel629.ru/events/detail.php?ID=382" TargetMode="External"/><Relationship Id="rId43" Type="http://schemas.openxmlformats.org/officeDocument/2006/relationships/hyperlink" Target="http://www.edel629.ru/events/detail.php?ID=382" TargetMode="External"/><Relationship Id="rId44" Type="http://schemas.openxmlformats.org/officeDocument/2006/relationships/hyperlink" Target="http://www.edel629.ru/events/detail.php?ID=382" TargetMode="External"/><Relationship Id="rId45" Type="http://schemas.openxmlformats.org/officeDocument/2006/relationships/hyperlink" Target="http://www.edel629.ru/events/detail.php?ID=382" TargetMode="External"/><Relationship Id="rId46" Type="http://schemas.openxmlformats.org/officeDocument/2006/relationships/hyperlink" Target="http://ruschool.wordpress.com/2010/10/13" TargetMode="External"/><Relationship Id="rId47" Type="http://schemas.openxmlformats.org/officeDocument/2006/relationships/hyperlink" Target="http://ruschool.wordpress.com/2010/10/13" TargetMode="External"/><Relationship Id="rId48" Type="http://schemas.openxmlformats.org/officeDocument/2006/relationships/hyperlink" Target="http://ruschool.wordpress.com/2010/10/13" TargetMode="External"/><Relationship Id="rId49" Type="http://schemas.openxmlformats.org/officeDocument/2006/relationships/hyperlink" Target="http://ruschool.wordpress.com/2010/10/13" TargetMode="External"/><Relationship Id="rId50" Type="http://schemas.openxmlformats.org/officeDocument/2006/relationships/hyperlink" Target="http://www.ng.ru/tag/chukotka/8" TargetMode="External"/><Relationship Id="rId51" Type="http://schemas.openxmlformats.org/officeDocument/2006/relationships/hyperlink" Target="http://www.ng.ru/tag/chukotka/8" TargetMode="External"/><Relationship Id="rId52" Type="http://schemas.openxmlformats.org/officeDocument/2006/relationships/hyperlink" Target="http://www.ng.ru/tag/chukotka/8" TargetMode="External"/><Relationship Id="rId53" Type="http://schemas.openxmlformats.org/officeDocument/2006/relationships/hyperlink" Target="http://www.ng.ru/tag/chukotka/8" TargetMode="External"/><Relationship Id="rId54" Type="http://schemas.openxmlformats.org/officeDocument/2006/relationships/hyperlink" Target="http://www.ng.ru/tag/chukotka/8" TargetMode="External"/><Relationship Id="rId55" Type="http://schemas.openxmlformats.org/officeDocument/2006/relationships/hyperlink" Target="http://www.ng.ru/tag/chukotka/8" TargetMode="External"/><Relationship Id="rId56" Type="http://schemas.openxmlformats.org/officeDocument/2006/relationships/hyperlink" Target="http://www.ng.ru/tag/chukotka/8" TargetMode="External"/><Relationship Id="rId57" Type="http://schemas.openxmlformats.org/officeDocument/2006/relationships/hyperlink" Target="http://www.annews.ru/povolgye/index.php?SHOWALL_1=1&amp;PAGEN_8=269" TargetMode="External"/><Relationship Id="rId58" Type="http://schemas.openxmlformats.org/officeDocument/2006/relationships/hyperlink" Target="http://www.annews.ru/povolgye/index.php?SHOWALL_1=1&amp;PAGEN_8=269" TargetMode="External"/><Relationship Id="rId59" Type="http://schemas.openxmlformats.org/officeDocument/2006/relationships/hyperlink" Target="http://www.annews.ru/povolgye/index.php?SHOWALL_1=1&amp;PAGEN_8=269" TargetMode="External"/><Relationship Id="rId60" Type="http://schemas.openxmlformats.org/officeDocument/2006/relationships/hyperlink" Target="http://www.annews.ru/povolgye/index.php?SHOWALL_1=1&amp;PAGEN_8=269" TargetMode="External"/><Relationship Id="rId61" Type="http://schemas.openxmlformats.org/officeDocument/2006/relationships/hyperlink" Target="http://www.annews.ru/povolgye/index.php?SHOWALL_1=1&amp;PAGEN_8=269" TargetMode="External"/><Relationship Id="rId62" Type="http://schemas.openxmlformats.org/officeDocument/2006/relationships/hyperlink" Target="http://www.annews.ru/povolgye/index.php?SHOWALL_1=1&amp;PAGEN_8=269" TargetMode="External"/><Relationship Id="rId63" Type="http://schemas.openxmlformats.org/officeDocument/2006/relationships/hyperlink" Target="http://wap.tvoyray.ru/object/93/city/10/4/" TargetMode="External"/><Relationship Id="rId64" Type="http://schemas.openxmlformats.org/officeDocument/2006/relationships/hyperlink" Target="http://wap.tvoyray.ru/object/93/city/10/4/" TargetMode="External"/><Relationship Id="rId65" Type="http://schemas.openxmlformats.org/officeDocument/2006/relationships/hyperlink" Target="http://wap.tvoyray.ru/object/93/city/10/4/" TargetMode="External"/><Relationship Id="rId66" Type="http://schemas.openxmlformats.org/officeDocument/2006/relationships/hyperlink" Target="http://wap.tvoyray.ru/object/93/city/10/4/" TargetMode="External"/><Relationship Id="rId67" Type="http://schemas.openxmlformats.org/officeDocument/2006/relationships/hyperlink" Target="http://wap.tvoyray.ru/object/93/city/10/4/" TargetMode="External"/><Relationship Id="rId68" Type="http://schemas.openxmlformats.org/officeDocument/2006/relationships/hyperlink" Target="http://wap.tvoyray.ru/object/93/city/10/4/" TargetMode="External"/><Relationship Id="rId69" Type="http://schemas.openxmlformats.org/officeDocument/2006/relationships/hyperlink" Target="http://wap.tvoyray.ru/object/93/city/10/4/" TargetMode="External"/><Relationship Id="rId70" Type="http://schemas.openxmlformats.org/officeDocument/2006/relationships/hyperlink" Target="http://wap.tvoyray.ru/object/93/city/10/4/" TargetMode="External"/><Relationship Id="rId71" Type="http://schemas.openxmlformats.org/officeDocument/2006/relationships/image" Target="../media/image51.jpeg"/><Relationship Id="rId7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el629.ru/upload/medialibrary/680/680a35e8483eb5feb08e06ecdbda93cf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835280" y="981000"/>
            <a:ext cx="561636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erdana"/>
              </a:rPr>
              <a:t>Подземные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Verdana"/>
              </a:rPr>
              <a:t>сокровища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Verdana"/>
              </a:rPr>
              <a:t>Кубани</a:t>
            </a:r>
            <a:endParaRPr b="1" i="1" lang="en-US" sz="66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Verdana"/>
              <a:ea typeface="Verdana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5084640"/>
            <a:ext cx="6019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рок кубановедения в 4 класс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10" descr="C:\Users\USER\Pictures\Рисунок1.jpg"/>
          <p:cNvPicPr/>
          <p:nvPr/>
        </p:nvPicPr>
        <p:blipFill>
          <a:blip r:embed="rId7"/>
          <a:stretch/>
        </p:blipFill>
        <p:spPr>
          <a:xfrm>
            <a:off x="285840" y="214200"/>
            <a:ext cx="1457280" cy="1471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95640" y="981000"/>
            <a:ext cx="694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нашем крае большие запасы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пс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Он используется  в  строительстве и служит сырьем для химической промышленност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ые залежи его располагаются в районе станицы Баракаевской, около поселков Молдаванского, Нижнебаканского и Мостовског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сы в районе поселка Псебай — основа для производства гипса, гипсокартон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0"/>
          <p:cNvSpPr txBox="1"/>
          <p:nvPr/>
        </p:nvSpPr>
        <p:spPr>
          <a:xfrm>
            <a:off x="395280" y="189000"/>
            <a:ext cx="849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Полезные ископаемые для строительной индустрии 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95280" y="3213000"/>
            <a:ext cx="60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крае имеется небогатый выбор поделочных камне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(селенит и мраморный оникс)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звестны проявлени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рамор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от чисто белого до пестроокрашенного и черного)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лиственито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зеленого и красного цветов)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588000" y="436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нит красн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79280" y="28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68360" y="4653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лени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13200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рамор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119640" y="472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гидрит розов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C:\Users\USER\Pictures\Рисунок25.jpg"/>
          <p:cNvPicPr/>
          <p:nvPr/>
        </p:nvPicPr>
        <p:blipFill>
          <a:blip r:embed="rId1"/>
          <a:stretch/>
        </p:blipFill>
        <p:spPr>
          <a:xfrm>
            <a:off x="0" y="1071720"/>
            <a:ext cx="2090880" cy="169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C:\Users\USER\Pictures\Рисунок26.jpg"/>
          <p:cNvPicPr/>
          <p:nvPr/>
        </p:nvPicPr>
        <p:blipFill>
          <a:blip r:embed="rId2"/>
          <a:stretch/>
        </p:blipFill>
        <p:spPr>
          <a:xfrm>
            <a:off x="6357960" y="285768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C:\Users\USER\Pictures\Рисунок27.jpg"/>
          <p:cNvPicPr/>
          <p:nvPr/>
        </p:nvPicPr>
        <p:blipFill>
          <a:blip r:embed="rId3"/>
          <a:stretch/>
        </p:blipFill>
        <p:spPr>
          <a:xfrm>
            <a:off x="0" y="5078520"/>
            <a:ext cx="2800440" cy="177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C:\Users\USER\Pictures\Рисунок28.jpg"/>
          <p:cNvPicPr/>
          <p:nvPr/>
        </p:nvPicPr>
        <p:blipFill>
          <a:blip r:embed="rId4"/>
          <a:stretch/>
        </p:blipFill>
        <p:spPr>
          <a:xfrm>
            <a:off x="3000240" y="5048280"/>
            <a:ext cx="293688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C:\Users\USER\Pictures\Рисунок29.jpg"/>
          <p:cNvPicPr/>
          <p:nvPr/>
        </p:nvPicPr>
        <p:blipFill>
          <a:blip r:embed="rId5"/>
          <a:stretch/>
        </p:blipFill>
        <p:spPr>
          <a:xfrm>
            <a:off x="6149880" y="5108400"/>
            <a:ext cx="2994120" cy="1749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8000" y="378936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е добывают апатиты, фосфориты, барит, каменную соль, известняки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539640" y="260280"/>
            <a:ext cx="801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ерудные полезные ископаемые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166920" y="1341360"/>
            <a:ext cx="597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 поселка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Шедок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стовского района обнаружено одно из крупнейших в России месторождение каменной соли. Пласты хлористого натрия мощностью до 500 м тянутся на  десятки километров. Залегают они на глубине от 200                   до 1000 и более метров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мышленные запасы соли здесь огромны, они достигают 40 – 50 млрд. тонн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0" y="6093000"/>
            <a:ext cx="19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рмовочный песо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484360" y="4581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варцевый песо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022520" y="49417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0" y="6165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сфорит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1" descr="C:\Users\USER\Pictures\Рисунок32.jpg"/>
          <p:cNvPicPr/>
          <p:nvPr/>
        </p:nvPicPr>
        <p:blipFill>
          <a:blip r:embed="rId1"/>
          <a:stretch/>
        </p:blipFill>
        <p:spPr>
          <a:xfrm>
            <a:off x="2214720" y="5143680"/>
            <a:ext cx="2060280" cy="1590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USER\Pictures\Рисунок33.jpg"/>
          <p:cNvPicPr/>
          <p:nvPr/>
        </p:nvPicPr>
        <p:blipFill>
          <a:blip r:embed="rId2"/>
          <a:stretch/>
        </p:blipFill>
        <p:spPr>
          <a:xfrm>
            <a:off x="4429080" y="4500720"/>
            <a:ext cx="1994040" cy="151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C:\Users\USER\Pictures\Рисунок34.jpg"/>
          <p:cNvPicPr/>
          <p:nvPr/>
        </p:nvPicPr>
        <p:blipFill>
          <a:blip r:embed="rId3"/>
          <a:stretch/>
        </p:blipFill>
        <p:spPr>
          <a:xfrm>
            <a:off x="6500880" y="5286240"/>
            <a:ext cx="2374920" cy="142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C:\Users\USER\Pictures\Рисунок30.jpg"/>
          <p:cNvPicPr/>
          <p:nvPr/>
        </p:nvPicPr>
        <p:blipFill>
          <a:blip r:embed="rId4"/>
          <a:stretch/>
        </p:blipFill>
        <p:spPr>
          <a:xfrm>
            <a:off x="357120" y="1500120"/>
            <a:ext cx="2567160" cy="2114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C:\Users\USER\Pictures\Рисунок31.jpg"/>
          <p:cNvPicPr/>
          <p:nvPr/>
        </p:nvPicPr>
        <p:blipFill>
          <a:blip r:embed="rId5"/>
          <a:stretch/>
        </p:blipFill>
        <p:spPr>
          <a:xfrm>
            <a:off x="214200" y="4357800"/>
            <a:ext cx="1920960" cy="156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1547640" y="404640"/>
            <a:ext cx="61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Углеводородное и энергетическое сырье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нефти, газа, торфа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427640" y="1989000"/>
            <a:ext cx="46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убань – старейший нефтяной район страны. Нефть добывается главным образом в предгорной полосе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е открыто много нефтяных месторождений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0" y="5300640"/>
            <a:ext cx="514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и расположены в направлении Северская – Ильская – Абинск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ые месторождения – Калужское, Новодмитриевское, Холмское и  Крымское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C:\Users\USER\Pictures\Рисунок35.jpg"/>
          <p:cNvPicPr/>
          <p:nvPr/>
        </p:nvPicPr>
        <p:blipFill>
          <a:blip r:embed="rId1"/>
          <a:stretch/>
        </p:blipFill>
        <p:spPr>
          <a:xfrm>
            <a:off x="357120" y="1928880"/>
            <a:ext cx="3694320" cy="308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C:\Users\USER\Pictures\Рисунок36.jpg"/>
          <p:cNvPicPr/>
          <p:nvPr/>
        </p:nvPicPr>
        <p:blipFill>
          <a:blip r:embed="rId2"/>
          <a:stretch/>
        </p:blipFill>
        <p:spPr>
          <a:xfrm>
            <a:off x="5072040" y="3571920"/>
            <a:ext cx="3800520" cy="31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79280" y="2781360"/>
            <a:ext cx="417672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На территории края выявлено 280 месторождений нефти и газ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Залежи нефти и газа находятся в толще осадочных пород и расположены на глубине                     от 700 до 5200 м.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1547640" y="404640"/>
            <a:ext cx="61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Углеводородное и энергетическое сырье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нефти, газа, торфа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71" name="Picture 14" descr="C:\Users\USER\Pictures\Рисунок37.jpg"/>
          <p:cNvPicPr/>
          <p:nvPr/>
        </p:nvPicPr>
        <p:blipFill>
          <a:blip r:embed="rId1"/>
          <a:stretch/>
        </p:blipFill>
        <p:spPr>
          <a:xfrm>
            <a:off x="4572000" y="2571840"/>
            <a:ext cx="4381560" cy="345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-142920"/>
            <a:ext cx="9144000" cy="700092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0920" y="494172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187280" y="0"/>
            <a:ext cx="662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Минеральные источник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195640" y="1413000"/>
            <a:ext cx="324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ш регион славится запасами йодо-бромных вод. На крупнейшем (Троицко-Славянском) месторождении в 1994 г. добыча составляла 10 тыс. куб.м в сутки, производилось 130 — 140 т йода, что составляло 92% всего йода, производимого в Росси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395280" y="652140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запасам минеральных источников    лидирует Отрадненский район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108000" y="364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рячий клю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1" descr="C:\Users\USER\Pictures\Рисунок38.jpg"/>
          <p:cNvPicPr/>
          <p:nvPr/>
        </p:nvPicPr>
        <p:blipFill>
          <a:blip r:embed="rId1"/>
          <a:stretch/>
        </p:blipFill>
        <p:spPr>
          <a:xfrm>
            <a:off x="357120" y="1357200"/>
            <a:ext cx="1785960" cy="23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C:\Users\USER\Pictures\Рисунок39.jpg"/>
          <p:cNvPicPr/>
          <p:nvPr/>
        </p:nvPicPr>
        <p:blipFill>
          <a:blip r:embed="rId2"/>
          <a:stretch/>
        </p:blipFill>
        <p:spPr>
          <a:xfrm>
            <a:off x="5357880" y="1357200"/>
            <a:ext cx="3359160" cy="246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C:\Users\USER\Pictures\Рисунок40.jpg"/>
          <p:cNvPicPr/>
          <p:nvPr/>
        </p:nvPicPr>
        <p:blipFill>
          <a:blip r:embed="rId3"/>
          <a:stretch/>
        </p:blipFill>
        <p:spPr>
          <a:xfrm>
            <a:off x="642960" y="4000680"/>
            <a:ext cx="3359160" cy="2255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C:\Users\USER\Pictures\Рисунок41.jpg"/>
          <p:cNvPicPr/>
          <p:nvPr/>
        </p:nvPicPr>
        <p:blipFill>
          <a:blip r:embed="rId4"/>
          <a:stretch/>
        </p:blipFill>
        <p:spPr>
          <a:xfrm>
            <a:off x="4929120" y="3929040"/>
            <a:ext cx="3267000" cy="2487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437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ую ценность представляют подземные запасы термальных,  то есть горячих вод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еверной части г. Краснодара была пробурена скважина  глубиною 4342 м. Ею было вскрыто несколько водоносных горизонтов с температурой воды 142 градус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рикубанском районе г. Краснодара расположено Краснодарское месторождение площадью 3,75 га. Его основным водопотребителем является ЗАО «Краснодарская бальнеолечебница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5640" y="18900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Термальные источник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188" name="Picture 17" descr="C:\Users\USER\Pictures\Рисунок42.jpg"/>
          <p:cNvPicPr/>
          <p:nvPr/>
        </p:nvPicPr>
        <p:blipFill>
          <a:blip r:embed="rId1"/>
          <a:stretch/>
        </p:blipFill>
        <p:spPr>
          <a:xfrm>
            <a:off x="642960" y="1500120"/>
            <a:ext cx="3786120" cy="2876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C:\Users\USER\Pictures\Рисунок43.jpg"/>
          <p:cNvPicPr/>
          <p:nvPr/>
        </p:nvPicPr>
        <p:blipFill>
          <a:blip r:embed="rId2"/>
          <a:stretch/>
        </p:blipFill>
        <p:spPr>
          <a:xfrm>
            <a:off x="4643280" y="1500120"/>
            <a:ext cx="378648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0" y="5661000"/>
            <a:ext cx="903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несколько месторождений лечебных грязей, приуроченных в основном к Азовскому и Черноморскому побережью с общими запасами 8,3 млн. куб.м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6"/>
          <p:cNvSpPr txBox="1"/>
          <p:nvPr/>
        </p:nvSpPr>
        <p:spPr>
          <a:xfrm>
            <a:off x="1258920" y="189000"/>
            <a:ext cx="662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Лечебные гряз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1644120" y="474984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улкан Тиздар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727240" y="4653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улкан Гефес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1" descr="C:\Users\USER\Pictures\Рисунок44.jpg"/>
          <p:cNvPicPr/>
          <p:nvPr/>
        </p:nvPicPr>
        <p:blipFill>
          <a:blip r:embed="rId1"/>
          <a:stretch/>
        </p:blipFill>
        <p:spPr>
          <a:xfrm>
            <a:off x="214200" y="1643040"/>
            <a:ext cx="4224600" cy="29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C:\Users\USER\Pictures\Рисунок45.jpg"/>
          <p:cNvPicPr/>
          <p:nvPr/>
        </p:nvPicPr>
        <p:blipFill>
          <a:blip r:embed="rId2"/>
          <a:stretch/>
        </p:blipFill>
        <p:spPr>
          <a:xfrm>
            <a:off x="4643280" y="1714680"/>
            <a:ext cx="41450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250920" y="549360"/>
            <a:ext cx="58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1. Занимательное краеведени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2. И. П. Лотышев «Путешествие по родному краю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imes New Roman"/>
              </a:rPr>
              <a:t>3. Н. В. Ситдикова «Моя Кубань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24000" y="333360"/>
            <a:ext cx="309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 И Т Е Р А Т У Р 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198900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ery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alebis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ulllist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al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423/page3/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musidora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urrufabgo.ht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galler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14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pryu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galler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14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gallery.photora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main.ph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v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aligor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Natur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.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jpg.htm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www.edel629.ru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vents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detail.php?ID=382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ruschool.wordpress.com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2010/10/13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ttp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ww.ng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tag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chukotka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www.annews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povolgye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/index.php?SHOWALL_1=1&amp;PAGEN_8=269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http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:/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wap.tvoyray.ru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object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/93/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city</a:t>
            </a: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/10/4/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kurort.domkmv.ru/photo/bolshoj_kavkaz/kabardino_balkarija/priehlbruse/60-0-59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sankurtur.ru/russia/region/424/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suppershop.ru/An--N_159445_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taman-leto.ru/mp_firm_ekipazh/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anaparelax.narod.ru/anapa.htm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http://www.address.russia47.ru/lib_card/1165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: Шерстнева Е.В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324000" y="1557360"/>
            <a:ext cx="82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пользованы фотографии с сайтов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Picture 7" descr="003"/>
          <p:cNvPicPr/>
          <p:nvPr/>
        </p:nvPicPr>
        <p:blipFill>
          <a:blip r:embed="rId71"/>
          <a:stretch/>
        </p:blipFill>
        <p:spPr>
          <a:xfrm>
            <a:off x="7164360" y="260280"/>
            <a:ext cx="1725480" cy="1120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721512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2411280" y="189000"/>
            <a:ext cx="392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 Е Л И  У Р О К 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203640" y="198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ать представление о полезн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ископаемых Краснодарского кра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348000" y="33577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Обеспечить понимание значимости горных пород как величайшей ценности, необходимости их охран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419640" y="5373720"/>
            <a:ext cx="51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Развивать логическое мышление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внимание, устную речь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глобус"/>
          <p:cNvPicPr/>
          <p:nvPr/>
        </p:nvPicPr>
        <p:blipFill>
          <a:blip r:embed="rId3"/>
          <a:stretch/>
        </p:blipFill>
        <p:spPr>
          <a:xfrm>
            <a:off x="468360" y="2637000"/>
            <a:ext cx="2665440" cy="2012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47640" y="333360"/>
            <a:ext cx="5977080" cy="86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 в е т и т ь  н а  в о п р о с 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826920" y="1557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называется полезным ископаемы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684360" y="35002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ие полезные ископаемые тебе известны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59280" y="393372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Горючие строительные нерудные рудные, целебные источни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11280" y="6165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де используются полезные ископаемые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0" y="206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Всё что добывается из недр земли и используется человеком, называют полезными ископаемыми. Они образовались за многие, многие миллионы лет. На Кубани обнаружено более 60 видов полезных ископаемы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 rot="5400000">
            <a:off x="322200" y="17748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 rot="16200000">
            <a:off x="7488360" y="5192280"/>
            <a:ext cx="1439640" cy="151308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-2880" y="10548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6429240" y="4572000"/>
            <a:ext cx="157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24000" y="189000"/>
            <a:ext cx="8640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и и разнообразны природные богатства  Краснодарского кра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плодородные черноземные почвы, густые леса, моря, озера и реки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агоприятный климат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1" descr="C:\Users\USER\Pictures\Рисунок2.jpg"/>
          <p:cNvPicPr/>
          <p:nvPr/>
        </p:nvPicPr>
        <p:blipFill>
          <a:blip r:embed="rId1"/>
          <a:stretch/>
        </p:blipFill>
        <p:spPr>
          <a:xfrm>
            <a:off x="5500800" y="1143000"/>
            <a:ext cx="3408120" cy="23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C:\Users\USER\Pictures\Рисунок3.jpg"/>
          <p:cNvPicPr/>
          <p:nvPr/>
        </p:nvPicPr>
        <p:blipFill>
          <a:blip r:embed="rId2"/>
          <a:stretch/>
        </p:blipFill>
        <p:spPr>
          <a:xfrm>
            <a:off x="142920" y="1143000"/>
            <a:ext cx="3120840" cy="238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C:\Users\USER\Pictures\Рисунок4.jpg"/>
          <p:cNvPicPr/>
          <p:nvPr/>
        </p:nvPicPr>
        <p:blipFill>
          <a:blip r:embed="rId3"/>
          <a:stretch/>
        </p:blipFill>
        <p:spPr>
          <a:xfrm>
            <a:off x="142920" y="3714840"/>
            <a:ext cx="319392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C:\Users\USER\Pictures\Рисунок5.jpg"/>
          <p:cNvPicPr/>
          <p:nvPr/>
        </p:nvPicPr>
        <p:blipFill>
          <a:blip r:embed="rId4"/>
          <a:stretch/>
        </p:blipFill>
        <p:spPr>
          <a:xfrm>
            <a:off x="3357720" y="2000160"/>
            <a:ext cx="2070000" cy="3049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C:\Users\USER\Pictures\Рисунок6.jpg"/>
          <p:cNvPicPr/>
          <p:nvPr/>
        </p:nvPicPr>
        <p:blipFill>
          <a:blip r:embed="rId5"/>
          <a:stretch/>
        </p:blipFill>
        <p:spPr>
          <a:xfrm>
            <a:off x="5468760" y="3786120"/>
            <a:ext cx="3527640" cy="228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Картинка 140 из 12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0" y="4861080"/>
            <a:ext cx="9144000" cy="1923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езные ископаемые залегают в предгорьях, горах и на Азово-Кубанской равнине. Имеются запасы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ф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родного газ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ментного мергел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йодобромных во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рамо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вестня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счани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ав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варцевого пес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лезн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дн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патитов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рпентинитовы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енной со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ту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небольшое количеств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ол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4360" y="333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C:\Users\USER\Pictures\Рисунок7.jpg"/>
          <p:cNvPicPr/>
          <p:nvPr/>
        </p:nvPicPr>
        <p:blipFill>
          <a:blip r:embed="rId3"/>
          <a:stretch/>
        </p:blipFill>
        <p:spPr>
          <a:xfrm>
            <a:off x="142920" y="98280"/>
            <a:ext cx="3044880" cy="208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C:\Users\USER\Pictures\Рисунок8.jpg"/>
          <p:cNvPicPr/>
          <p:nvPr/>
        </p:nvPicPr>
        <p:blipFill>
          <a:blip r:embed="rId4"/>
          <a:stretch/>
        </p:blipFill>
        <p:spPr>
          <a:xfrm>
            <a:off x="5929200" y="119160"/>
            <a:ext cx="3071880" cy="20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C:\Users\USER\Pictures\Рисунок9.jpg"/>
          <p:cNvPicPr/>
          <p:nvPr/>
        </p:nvPicPr>
        <p:blipFill>
          <a:blip r:embed="rId5"/>
          <a:stretch/>
        </p:blipFill>
        <p:spPr>
          <a:xfrm>
            <a:off x="2928960" y="1500120"/>
            <a:ext cx="318780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C:\Users\USER\Pictures\Рисунок10.jpg"/>
          <p:cNvPicPr/>
          <p:nvPr/>
        </p:nvPicPr>
        <p:blipFill>
          <a:blip r:embed="rId6"/>
          <a:stretch/>
        </p:blipFill>
        <p:spPr>
          <a:xfrm>
            <a:off x="142920" y="2357280"/>
            <a:ext cx="3116160" cy="240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C:\Users\USER\Pictures\Рисунок11.jpg"/>
          <p:cNvPicPr/>
          <p:nvPr/>
        </p:nvPicPr>
        <p:blipFill>
          <a:blip r:embed="rId7"/>
          <a:stretch/>
        </p:blipFill>
        <p:spPr>
          <a:xfrm>
            <a:off x="5857920" y="2286000"/>
            <a:ext cx="3200400" cy="244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USER\Pictures\Рисунок12.jpg"/>
          <p:cNvPicPr/>
          <p:nvPr/>
        </p:nvPicPr>
        <p:blipFill>
          <a:blip r:embed="rId1"/>
          <a:stretch/>
        </p:blipFill>
        <p:spPr>
          <a:xfrm>
            <a:off x="1785960" y="0"/>
            <a:ext cx="7358040" cy="684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USER\Pictures\Рисунок13.jpg"/>
          <p:cNvPicPr/>
          <p:nvPr/>
        </p:nvPicPr>
        <p:blipFill>
          <a:blip r:embed="rId2"/>
          <a:stretch/>
        </p:blipFill>
        <p:spPr>
          <a:xfrm>
            <a:off x="0" y="142920"/>
            <a:ext cx="1857240" cy="126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USER\Pictures\Рисунок14.jpg"/>
          <p:cNvPicPr/>
          <p:nvPr/>
        </p:nvPicPr>
        <p:blipFill>
          <a:blip r:embed="rId3"/>
          <a:stretch/>
        </p:blipFill>
        <p:spPr>
          <a:xfrm>
            <a:off x="0" y="1428840"/>
            <a:ext cx="184788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Users\USER\Pictures\Рисунок15.jpg"/>
          <p:cNvPicPr/>
          <p:nvPr/>
        </p:nvPicPr>
        <p:blipFill>
          <a:blip r:embed="rId4"/>
          <a:stretch/>
        </p:blipFill>
        <p:spPr>
          <a:xfrm>
            <a:off x="0" y="2428920"/>
            <a:ext cx="1847880" cy="11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USER\Pictures\Рисунок16.jpg"/>
          <p:cNvPicPr/>
          <p:nvPr/>
        </p:nvPicPr>
        <p:blipFill>
          <a:blip r:embed="rId5"/>
          <a:stretch/>
        </p:blipFill>
        <p:spPr>
          <a:xfrm>
            <a:off x="0" y="3500280"/>
            <a:ext cx="1847880" cy="110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USER\Pictures\Рисунок17.jpg"/>
          <p:cNvPicPr/>
          <p:nvPr/>
        </p:nvPicPr>
        <p:blipFill>
          <a:blip r:embed="rId6"/>
          <a:stretch/>
        </p:blipFill>
        <p:spPr>
          <a:xfrm>
            <a:off x="0" y="4572000"/>
            <a:ext cx="1847880" cy="105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USER\Pictures\Рисунок18.jpg"/>
          <p:cNvPicPr/>
          <p:nvPr/>
        </p:nvPicPr>
        <p:blipFill>
          <a:blip r:embed="rId7"/>
          <a:stretch/>
        </p:blipFill>
        <p:spPr>
          <a:xfrm>
            <a:off x="0" y="5643720"/>
            <a:ext cx="186228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0"/>
          <p:cNvSpPr/>
          <p:nvPr/>
        </p:nvSpPr>
        <p:spPr>
          <a:xfrm>
            <a:off x="1870560" y="642960"/>
            <a:ext cx="394200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рф – Новокубан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1869120" y="1785960"/>
            <a:ext cx="444960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венит – Мостовско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1857240" y="2844720"/>
            <a:ext cx="400068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ьцит - Майкоп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1872000" y="4857840"/>
            <a:ext cx="45439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Железистая охра – на реке Бело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1857240" y="6000840"/>
            <a:ext cx="535788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ьяковая руда – Лазарев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1857240" y="3714840"/>
            <a:ext cx="500076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нит красный - Майкопский райо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141300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сторождения железных руд, обнаруженные на Таманском полуострове и в междуречье рек Белой           и Малой Лабы, имеют небольшую мощность, поэтому они не разрабатываютс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258920" y="2602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Рудные полезные ископаемы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95640" y="443700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ь найдена в бассейне реки Лауры, недалеко от поселка Красная Поляна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 разработка залежей  железа и меди не производится, так как эти месторождения не имеют промышленного значе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940360" y="378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урый железня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50920" y="6216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изоколла                (окислённая медная руда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C:\Users\USER\Pictures\Рисунок19.jpg"/>
          <p:cNvPicPr/>
          <p:nvPr/>
        </p:nvPicPr>
        <p:blipFill>
          <a:blip r:embed="rId1"/>
          <a:stretch/>
        </p:blipFill>
        <p:spPr>
          <a:xfrm>
            <a:off x="5357880" y="1000080"/>
            <a:ext cx="322884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:\Users\USER\Pictures\Рисунок20.jpg"/>
          <p:cNvPicPr/>
          <p:nvPr/>
        </p:nvPicPr>
        <p:blipFill>
          <a:blip r:embed="rId2"/>
          <a:stretch/>
        </p:blipFill>
        <p:spPr>
          <a:xfrm>
            <a:off x="285840" y="3643200"/>
            <a:ext cx="3524040" cy="2325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36360" y="-3636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16200000">
            <a:off x="7667640" y="5381640"/>
            <a:ext cx="1440000" cy="1512720"/>
          </a:xfrm>
          <a:prstGeom prst="rtTriangle">
            <a:avLst/>
          </a:prstGeom>
          <a:solidFill>
            <a:srgbClr val="ffa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987640" y="3645000"/>
            <a:ext cx="590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В крае находятся 4 месторождения ртути с запасами около 2000 т. В определенный период в Северском районе добывалось 100% отечественной ртути. В 1994 г. эксплуатация этого месторождения была прекращена из-за низкой рентабельности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Есть перспективы обнаружения новых месторождений ртути в районе поселка Ильског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есторождения железных руд, обнаруженные на Таманском полуострове и в междуречье рек Белой и Малой Лабы, имеют небольшую мощность, поэтому они не разрабатываю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7"/>
          <p:cNvSpPr txBox="1"/>
          <p:nvPr/>
        </p:nvSpPr>
        <p:spPr>
          <a:xfrm>
            <a:off x="1258920" y="2602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Рудные полезные ископаемые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обыча золота, ртути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08000" y="1628640"/>
            <a:ext cx="619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В 40 — 50 гг. прошлого века велась старательская добыча </a:t>
            </a:r>
            <a:r>
              <a:rPr b="1" i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россыпного золота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 в основном в бассейнах               рек Большая и Малая Лаба. Оно встречается также                        в верховьях рек Пшеха, Уруп, Сочи, Шахе и др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 весь период добыто 1291,1 кг золот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C:\Users\USER\Pictures\Рисунок22.jpg"/>
          <p:cNvPicPr/>
          <p:nvPr/>
        </p:nvPicPr>
        <p:blipFill>
          <a:blip r:embed="rId1"/>
          <a:stretch/>
        </p:blipFill>
        <p:spPr>
          <a:xfrm>
            <a:off x="214200" y="3857760"/>
            <a:ext cx="2706840" cy="206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C:\Users\USER\Pictures\Рисунок21.jpg"/>
          <p:cNvPicPr/>
          <p:nvPr/>
        </p:nvPicPr>
        <p:blipFill>
          <a:blip r:embed="rId2"/>
          <a:stretch/>
        </p:blipFill>
        <p:spPr>
          <a:xfrm>
            <a:off x="5929200" y="1643040"/>
            <a:ext cx="2954520" cy="1949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ab57"/>
              </a:gs>
              <a:gs pos="50000">
                <a:srgbClr val="ffffff"/>
              </a:gs>
              <a:gs pos="100000">
                <a:srgbClr val="ffab5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50920" y="3789360"/>
            <a:ext cx="849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8"/>
          <p:cNvSpPr txBox="1"/>
          <p:nvPr/>
        </p:nvSpPr>
        <p:spPr>
          <a:xfrm>
            <a:off x="395280" y="18900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Полезные ископаемые для строительной индустрии .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Залежи мергелей Новороссийс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0" y="52992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громны на Кубани запасы такого ценного ископаемого – как  мергель (основного сырья для производства цемента). В районе города Новороссийска и поселка Верхнебаканского им сложен Мархотский хребет. Разработка мергеля ведется открытым способо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базе этого сырья в крае развилась крупная цементная промышленность в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. Новороссийске и его окрестностях, а также в пос. Баканск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912000" y="44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ергел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C:\Users\USER\Pictures\Рисунок24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C:\Users\USER\Pictures\Рисунок23.jpg"/>
          <p:cNvPicPr/>
          <p:nvPr/>
        </p:nvPicPr>
        <p:blipFill>
          <a:blip r:embed="rId2"/>
          <a:stretch/>
        </p:blipFill>
        <p:spPr>
          <a:xfrm>
            <a:off x="7113600" y="4000680"/>
            <a:ext cx="2030400" cy="127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49:17Z</dcterms:created>
  <dc:creator>Ломскова Л. В.</dc:creator>
  <dc:description/>
  <dc:language>en-US</dc:language>
  <cp:lastModifiedBy>User</cp:lastModifiedBy>
  <dcterms:modified xsi:type="dcterms:W3CDTF">2014-11-07T18:51:22Z</dcterms:modified>
  <cp:revision>87</cp:revision>
  <dc:subject>Полезные ископаемые Краснодарского края</dc:subject>
  <dc:title>Презентация к уроку кубановедения</dc:title>
</cp:coreProperties>
</file>