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5CD-F7BD-44C3-ACC8-B1A217A5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8FF-6BEE-4500-8466-CE1ECDDB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044-57D1-4BCC-A0E1-EDDC2045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A8D-4A99-4BC3-9C12-2B0CC299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062-E80B-4109-A657-7174933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BE8-97BF-41FF-BF6D-B1C3774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51E-F0B8-419C-85E7-0372845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6E6-444E-45DA-8DFA-2648A4A0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D4C-3E72-460B-81B4-18AFF40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3CE-3236-415D-B74F-0C34B1A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E56-DF1B-449F-A2A4-94C6218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644-1EB8-4837-8195-569E910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052-A1DA-4F59-8EB5-C9537CC53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)  ed14b07ee91a"/>
          <p:cNvPicPr/>
          <p:nvPr/>
        </p:nvPicPr>
        <p:blipFill>
          <a:blip r:embed="rId2"/>
          <a:stretch/>
        </p:blipFill>
        <p:spPr>
          <a:xfrm flipH="1">
            <a:off x="6490800" y="208080"/>
            <a:ext cx="2652840" cy="21715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w_swim[1].jpg"/>
          <p:cNvPicPr/>
          <p:nvPr/>
        </p:nvPicPr>
        <p:blipFill>
          <a:blip r:embed="rId3"/>
          <a:stretch/>
        </p:blipFill>
        <p:spPr>
          <a:xfrm>
            <a:off x="3408480" y="314172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" descr=""/>
          <p:cNvPicPr/>
          <p:nvPr/>
        </p:nvPicPr>
        <p:blipFill>
          <a:blip r:embed="rId4"/>
          <a:stretch/>
        </p:blipFill>
        <p:spPr>
          <a:xfrm>
            <a:off x="176040" y="324000"/>
            <a:ext cx="6774120" cy="1249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203640" y="5661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готовила: воспитатель Каракчее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692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переохлаждайтесь и не перегревайтесь. При появлении озноба или сильной усталости выйди из воды, отдохни и согре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опия 5"/>
          <p:cNvPicPr/>
          <p:nvPr/>
        </p:nvPicPr>
        <p:blipFill>
          <a:blip r:embed="rId2"/>
          <a:stretch/>
        </p:blipFill>
        <p:spPr>
          <a:xfrm>
            <a:off x="1370160" y="404640"/>
            <a:ext cx="5578200" cy="34736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4979880"/>
            <a:ext cx="82296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боритесь с сильным течением. Плывите по течению постепенно приближаясь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опия (2) 9"/>
          <p:cNvPicPr/>
          <p:nvPr/>
        </p:nvPicPr>
        <p:blipFill>
          <a:blip r:embed="rId2"/>
          <a:stretch/>
        </p:blipFill>
        <p:spPr>
          <a:xfrm>
            <a:off x="2268360" y="476280"/>
            <a:ext cx="5400720" cy="3436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1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До 16 лет кататься на лодке можно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упание0005"/>
          <p:cNvPicPr/>
          <p:nvPr/>
        </p:nvPicPr>
        <p:blipFill>
          <a:blip r:embed="rId2"/>
          <a:stretch/>
        </p:blipFill>
        <p:spPr>
          <a:xfrm>
            <a:off x="2195640" y="404640"/>
            <a:ext cx="5832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81080" y="5013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используй для плавания самодельные устройства. Они могут не выдер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твой вес и перевер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9"/>
          <p:cNvPicPr/>
          <p:nvPr/>
        </p:nvPicPr>
        <p:blipFill>
          <a:blip r:embed="rId2"/>
          <a:stretch/>
        </p:blipFill>
        <p:spPr>
          <a:xfrm>
            <a:off x="1908000" y="480960"/>
            <a:ext cx="5543640" cy="34527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6" descr="1[1].jpg"/>
          <p:cNvPicPr/>
          <p:nvPr/>
        </p:nvPicPr>
        <p:blipFill>
          <a:blip r:embed="rId2"/>
          <a:stretch/>
        </p:blipFill>
        <p:spPr>
          <a:xfrm>
            <a:off x="1547640" y="1268280"/>
            <a:ext cx="52945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10[1].jpg"/>
          <p:cNvPicPr/>
          <p:nvPr/>
        </p:nvPicPr>
        <p:blipFill>
          <a:blip r:embed="rId2"/>
          <a:stretch/>
        </p:blipFill>
        <p:spPr>
          <a:xfrm>
            <a:off x="1403280" y="981000"/>
            <a:ext cx="6448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в разрешённых местах, на благоустроенных пляж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опия (2) 5"/>
          <p:cNvPicPr/>
          <p:nvPr/>
        </p:nvPicPr>
        <p:blipFill>
          <a:blip r:embed="rId2"/>
          <a:stretch/>
        </p:blipFill>
        <p:spPr>
          <a:xfrm>
            <a:off x="2050920" y="549360"/>
            <a:ext cx="5113440" cy="3192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упание0001"/>
          <p:cNvPicPr/>
          <p:nvPr/>
        </p:nvPicPr>
        <p:blipFill>
          <a:blip r:embed="rId2"/>
          <a:stretch/>
        </p:blipFill>
        <p:spPr>
          <a:xfrm>
            <a:off x="2195640" y="404640"/>
            <a:ext cx="4678200" cy="4248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508464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нырять в незнакомых местах, так как ты не знаешь, какое дно в этом месте водо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dgh"/>
          <p:cNvPicPr/>
          <p:nvPr/>
        </p:nvPicPr>
        <p:blipFill>
          <a:blip r:embed="rId2"/>
          <a:stretch/>
        </p:blipFill>
        <p:spPr>
          <a:xfrm>
            <a:off x="611280" y="260280"/>
            <a:ext cx="61214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Копия (3) 5"/>
          <p:cNvPicPr/>
          <p:nvPr/>
        </p:nvPicPr>
        <p:blipFill>
          <a:blip r:embed="rId2"/>
          <a:stretch/>
        </p:blipFill>
        <p:spPr>
          <a:xfrm>
            <a:off x="2147760" y="560520"/>
            <a:ext cx="5226120" cy="3281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плывай за ограничительные знаки, не взбирайся на буйки и          не подплывай к проходящим 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479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тевай опасных игр в воде. Ни в коем случае нельзя захватывать ноги под водой, пугать и «топить» кого-то, даже в ш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468360" y="1700280"/>
            <a:ext cx="7488360" cy="2808000"/>
            <a:chOff x="468360" y="1700280"/>
            <a:chExt cx="7488360" cy="2808000"/>
          </a:xfrm>
        </p:grpSpPr>
        <p:pic>
          <p:nvPicPr>
            <p:cNvPr id="60" name="Picture 6" descr="8"/>
            <p:cNvPicPr/>
            <p:nvPr/>
          </p:nvPicPr>
          <p:blipFill>
            <a:blip r:embed="rId2"/>
            <a:stretch/>
          </p:blipFill>
          <p:spPr>
            <a:xfrm>
              <a:off x="468360" y="1818360"/>
              <a:ext cx="3166920" cy="268992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pic>
          <p:nvPicPr>
            <p:cNvPr id="61" name="Picture 7" descr="3"/>
            <p:cNvPicPr/>
            <p:nvPr/>
          </p:nvPicPr>
          <p:blipFill>
            <a:blip r:embed="rId3"/>
            <a:stretch/>
          </p:blipFill>
          <p:spPr>
            <a:xfrm>
              <a:off x="4716360" y="1700280"/>
              <a:ext cx="3240360" cy="2782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Играя в воде, никогда нельзя в шутку кричать: «Тону! Помоги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9"/>
          <p:cNvGrpSpPr/>
          <p:nvPr/>
        </p:nvGrpSpPr>
        <p:grpSpPr>
          <a:xfrm>
            <a:off x="2411280" y="447840"/>
            <a:ext cx="4445280" cy="2836800"/>
            <a:chOff x="2411280" y="447840"/>
            <a:chExt cx="4445280" cy="2836800"/>
          </a:xfrm>
        </p:grpSpPr>
        <p:pic>
          <p:nvPicPr>
            <p:cNvPr id="65" name="Picture 7" descr="301"/>
            <p:cNvPicPr/>
            <p:nvPr/>
          </p:nvPicPr>
          <p:blipFill>
            <a:blip r:embed="rId2"/>
            <a:stretch/>
          </p:blipFill>
          <p:spPr>
            <a:xfrm>
              <a:off x="2411280" y="447840"/>
              <a:ext cx="4445280" cy="2836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66" name="AutoShape 8"/>
            <p:cNvSpPr/>
            <p:nvPr/>
          </p:nvSpPr>
          <p:spPr>
            <a:xfrm>
              <a:off x="3259440" y="538200"/>
              <a:ext cx="1268280" cy="545760"/>
            </a:xfrm>
            <a:prstGeom prst="wedgeEllipseCallout">
              <a:avLst>
                <a:gd name="adj1" fmla="val 16361"/>
                <a:gd name="adj2" fmla="val 88787"/>
              </a:avLst>
            </a:prstGeom>
            <a:solidFill>
              <a:srgbClr val="afeaff"/>
            </a:solidFill>
            <a:ln w="28440">
              <a:solidFill>
                <a:srgbClr val="61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99"/>
                  </a:solidFill>
                  <a:latin typeface="Comic Sans MS"/>
                </a:rPr>
                <a:t>Тону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5" descr="5)  ed14b07ee91a"/>
          <p:cNvPicPr/>
          <p:nvPr/>
        </p:nvPicPr>
        <p:blipFill>
          <a:blip r:embed="rId3"/>
          <a:stretch/>
        </p:blipFill>
        <p:spPr>
          <a:xfrm>
            <a:off x="6877080" y="3068640"/>
            <a:ext cx="19461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далеко заплывать на надувных матрасах или камерах. Они могут внезапно начать «спуска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2"/>
          <a:stretch/>
        </p:blipFill>
        <p:spPr>
          <a:xfrm>
            <a:off x="2124000" y="476280"/>
            <a:ext cx="4680000" cy="3664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Comic Sans MS"/>
              </a:rPr>
              <a:t>Во время грозы нужно отойти подальше от водоема. Вода очень хорошо проводит электрический ток – молния, попавшая в воду, поражает все вокруг в радиусе около 10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3"/>
          <p:cNvPicPr/>
          <p:nvPr/>
        </p:nvPicPr>
        <p:blipFill>
          <a:blip r:embed="rId2"/>
          <a:stretch/>
        </p:blipFill>
        <p:spPr>
          <a:xfrm>
            <a:off x="2268360" y="404640"/>
            <a:ext cx="4537080" cy="3168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08:14Z</dcterms:created>
  <dc:creator>мама</dc:creator>
  <dc:description/>
  <dc:language>en-US</dc:language>
  <cp:lastModifiedBy>DNA7 X64</cp:lastModifiedBy>
  <dcterms:modified xsi:type="dcterms:W3CDTF">2021-06-18T12:51:12Z</dcterms:modified>
  <cp:revision>19</cp:revision>
  <dc:subject/>
  <dc:title>Работа в паре</dc:title>
</cp:coreProperties>
</file>