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865E-DF40-478F-817D-61DBBDC01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3E1-D0B3-45C9-AD90-288DBA991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E246-9AE0-432B-B9D2-C76E74374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855-790F-4F89-B10D-D0037F3C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BEA-DCF1-45DB-BC1F-2D3277C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4B9-E71E-4CFC-B90E-51233030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900-7053-493B-B7B3-CC06EFA5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175-7140-4664-9008-A23B8A69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3D15-F7BB-4CF0-BFF7-DD96847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36B1-DD67-4505-8BAB-D1312D6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4251-A5C7-4C8E-B69D-9EE5F43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769A-4366-42CE-88A5-0ED6E48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21E8-8FDE-4D97-AB55-0626ACB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007-CC88-45F2-83E7-6A8004D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403-92C3-4A49-9C87-062FBF05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557B-283E-42EE-8FDD-0DC3D82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4FE-CE5D-465B-8294-65CDCC6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CE4D-B22B-4308-B410-5C76E1D6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B65-C36C-48DD-BBAD-B30FD6AD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0A4-D0B7-460B-8E1B-B251991A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0FFF-9C17-4B5E-A37C-4D71E98D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598E-2B9A-442D-ABEB-139463E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7E00-845E-417D-862C-BBBD6EA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805A-D559-47A7-B46B-1AE90B2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698D-BAD6-4912-ACDF-0058DF6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899-D5C6-451D-AE16-A48B403B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398E-F5EB-49F5-817A-980EDE20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AD3D-D776-4A60-AE77-2D479F9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EA21-2CB4-4DF9-A0F7-C1A9465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3DDA-130A-4029-88A1-31578BC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B89F-512F-41BC-A5CD-4B246FD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F4CD-D783-42D9-AFA6-EEFB01F6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44E1-29F5-4272-B06B-06CAF1B2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E57C-E6DF-4ACC-8099-3F343694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2800F-C112-4EB2-8FEA-7295D9B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4DF5-4D7C-4CAF-A568-AC7D4DF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1E4-25A2-4200-8676-DC6F0AB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C99E-9563-4E4E-BFFA-F68F81FA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5D30-FEBD-42FE-AC5B-450F6E5E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C17C-5731-4B4C-8291-036F69EE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38FE-CF7F-4272-8B15-208DF11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9D57-C53D-44E2-B4E9-CF837CA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9B7B-084C-4E56-9FC0-72F3467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5B75-62C0-422D-ACDB-765152B6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936D-A177-4693-A776-1B0A6BC3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692C-6517-4F16-8805-12B44CDD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445-2A4B-4F01-A64B-588E3FC4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893-D94F-4A41-BF44-B92E258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636-1D42-4C2F-AFDB-94782D8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DFD-9357-4E8E-8123-99330D0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8B0-2687-4095-A944-7A3A955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7A5-ABA7-4104-89C1-47D45D9629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9D6-9550-4313-B319-124ADC5096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845-0E86-4F56-A33D-1F5C610209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0A8-199F-40A3-805C-F27C0277253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f0f7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17680" y="-201600"/>
            <a:ext cx="8315280" cy="36338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5072040" y="442908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ельцова А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натовская О.В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36400" y="3492360"/>
            <a:ext cx="310212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I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детей о здоровосберегающем поведении в детском саду, д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соблюдать элементарные правила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изучению себя, своих физических возможностей (осанка, стопа, рост, картина здоровь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культурно-гигиенические  навыки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интерес к выполнению оздоровительных и закаливающих мероприятий ( зарядка, обливание рук до локтей, пальчиковая гимнастика, дорожки здоровья,,  физкультурные занятия, прогулки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дукты  проек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поделки по теме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: пальчиковых игр, подвижных игр, утренних гимнастик, гимнастик после сна, гимнастик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– передвижки, ширмы, буклеты на темы: « Витамины и их польза», «Зелёная аптека».«Что едят наши дети», «Плоскостопие и его профилактика»,  «Осанка вашего ребёнка», «Зарядка каждый день», «Зимние  игры детей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пап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спортивного досуга «Игры с Незнайкой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овых дорожек здоровь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2999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материал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5" descr="D:\женя\Женя\картинки\43009025_121258759033345.gif"/>
          <p:cNvPicPr/>
          <p:nvPr/>
        </p:nvPicPr>
        <p:blipFill>
          <a:blip r:embed="rId1"/>
          <a:stretch/>
        </p:blipFill>
        <p:spPr>
          <a:xfrm>
            <a:off x="357120" y="27792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http://img0.liveinternet.ru/images/attach/c/2/73/511/73511220_2.png"/>
          <p:cNvPicPr/>
          <p:nvPr/>
        </p:nvPicPr>
        <p:blipFill>
          <a:blip r:embed="rId2"/>
          <a:stretch/>
        </p:blipFill>
        <p:spPr>
          <a:xfrm>
            <a:off x="6572160" y="4357800"/>
            <a:ext cx="1835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500040" y="21420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ливание рук прохладной во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Содержимое 7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176720" cy="43894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1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48240" cy="2557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http://img0.liveinternet.ru/images/attach/c/2/67/869/67869213_1292344302_07.png"/>
          <p:cNvPicPr/>
          <p:nvPr/>
        </p:nvPicPr>
        <p:blipFill>
          <a:blip r:embed="rId3"/>
          <a:stretch/>
        </p:blipFill>
        <p:spPr>
          <a:xfrm>
            <a:off x="5580000" y="4508640"/>
            <a:ext cx="17287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Гимнастика для  глаз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4" descr="E:\1занятие Стрельцова\SAM_5360.JPG"/>
          <p:cNvPicPr/>
          <p:nvPr/>
        </p:nvPicPr>
        <p:blipFill>
          <a:blip r:embed="rId1"/>
          <a:stretch/>
        </p:blipFill>
        <p:spPr>
          <a:xfrm>
            <a:off x="1979640" y="1773360"/>
            <a:ext cx="5646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рожка  здоровь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468520" cy="4317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5572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3" descr="D:\Работа\папки передвижки\медик,здоровье\МАССАЖ ТОЧЕЧНЫЙ\2 ТОЧЕЧНЫЙ МАССАЖ.jpg"/>
          <p:cNvPicPr/>
          <p:nvPr/>
        </p:nvPicPr>
        <p:blipFill>
          <a:blip r:embed="rId1"/>
          <a:stretch/>
        </p:blipFill>
        <p:spPr>
          <a:xfrm>
            <a:off x="0" y="981000"/>
            <a:ext cx="2773440" cy="43894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D:\Работа\папки передвижки\медик,здоровье\МАССАЖ ТОЧЕЧНЫЙ\3 ТОЧЕЧНЫЙ МАССАЖ.jpg"/>
          <p:cNvPicPr/>
          <p:nvPr/>
        </p:nvPicPr>
        <p:blipFill>
          <a:blip r:embed="rId2"/>
          <a:stretch/>
        </p:blipFill>
        <p:spPr>
          <a:xfrm>
            <a:off x="2771640" y="981000"/>
            <a:ext cx="3044880" cy="43927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" descr="D:\Работа\папки передвижки\медик,здоровье\МАССАЖ ТОЧЕЧНЫЙ\4 ТОЧЕЧНЫЙ МАССАЖ.jpg"/>
          <p:cNvPicPr/>
          <p:nvPr/>
        </p:nvPicPr>
        <p:blipFill>
          <a:blip r:embed="rId3"/>
          <a:stretch/>
        </p:blipFill>
        <p:spPr>
          <a:xfrm>
            <a:off x="5867280" y="981000"/>
            <a:ext cx="3060720" cy="44006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324000" y="189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Точечный масса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Точечный массаж           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4" descr="E:\1занятие Стрельцова\SAM_5365.JPG"/>
          <p:cNvPicPr/>
          <p:nvPr/>
        </p:nvPicPr>
        <p:blipFill>
          <a:blip r:embed="rId1"/>
          <a:stretch/>
        </p:blipFill>
        <p:spPr>
          <a:xfrm>
            <a:off x="4500720" y="2565360"/>
            <a:ext cx="4005000" cy="404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E:\1занятие Стрельцова\SAM_5364.JPG"/>
          <p:cNvPicPr/>
          <p:nvPr/>
        </p:nvPicPr>
        <p:blipFill>
          <a:blip r:embed="rId2"/>
          <a:stretch/>
        </p:blipFill>
        <p:spPr>
          <a:xfrm>
            <a:off x="971640" y="1341360"/>
            <a:ext cx="3095640" cy="274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Картинки по запросу точечный массаж картинки для детей"/>
          <p:cNvPicPr/>
          <p:nvPr/>
        </p:nvPicPr>
        <p:blipFill>
          <a:blip r:embed="rId3"/>
          <a:stretch/>
        </p:blipFill>
        <p:spPr>
          <a:xfrm>
            <a:off x="1332000" y="4419720"/>
            <a:ext cx="162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гул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616360" cy="266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31273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разовательная деятельность                             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004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D:\женя\женя - 2\картинки\701532.jpeg"/>
          <p:cNvPicPr/>
          <p:nvPr/>
        </p:nvPicPr>
        <p:blipFill>
          <a:blip r:embed="rId1"/>
          <a:stretch/>
        </p:blipFill>
        <p:spPr>
          <a:xfrm>
            <a:off x="3214800" y="3786120"/>
            <a:ext cx="25714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 проект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ориентировоч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проект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 малыш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Admin\Рабочий стол\картинки\xffd27574ax0.jpg"/>
          <p:cNvPicPr/>
          <p:nvPr/>
        </p:nvPicPr>
        <p:blipFill>
          <a:blip r:embed="rId1"/>
          <a:stretch/>
        </p:blipFill>
        <p:spPr>
          <a:xfrm>
            <a:off x="5715000" y="2714760"/>
            <a:ext cx="20718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4" descr="E:\1занятие Стрельцова\SAM_5361.JPG"/>
          <p:cNvPicPr/>
          <p:nvPr/>
        </p:nvPicPr>
        <p:blipFill>
          <a:blip r:embed="rId1"/>
          <a:stretch/>
        </p:blipFill>
        <p:spPr>
          <a:xfrm>
            <a:off x="0" y="1628640"/>
            <a:ext cx="5832360" cy="437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E:\1занятие Стрельцова\SAM_5367.JPG"/>
          <p:cNvPicPr/>
          <p:nvPr/>
        </p:nvPicPr>
        <p:blipFill>
          <a:blip r:embed="rId2"/>
          <a:stretch/>
        </p:blipFill>
        <p:spPr>
          <a:xfrm>
            <a:off x="6012000" y="1268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E:\1занятие Стрельцова\SAM_5370.JPG"/>
          <p:cNvPicPr/>
          <p:nvPr/>
        </p:nvPicPr>
        <p:blipFill>
          <a:blip r:embed="rId3"/>
          <a:stretch/>
        </p:blipFill>
        <p:spPr>
          <a:xfrm>
            <a:off x="6156360" y="3645000"/>
            <a:ext cx="2771640" cy="2079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8"/>
          <p:cNvSpPr/>
          <p:nvPr/>
        </p:nvSpPr>
        <p:spPr>
          <a:xfrm>
            <a:off x="539640" y="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нятие «Здоровый образ жизни Мишутки</a:t>
            </a:r>
            <a:r>
              <a:rPr b="1" lang="ru-RU" sz="1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нятие «Здоровый образ жизни Мишутки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E:\1занятие Стрельцова\SAM_5371.JPG"/>
          <p:cNvPicPr/>
          <p:nvPr/>
        </p:nvPicPr>
        <p:blipFill>
          <a:blip r:embed="rId1"/>
          <a:stretch/>
        </p:blipFill>
        <p:spPr>
          <a:xfrm>
            <a:off x="324000" y="1413000"/>
            <a:ext cx="5111640" cy="383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:\1занятие Стрельцова\SAM_5372.JPG"/>
          <p:cNvPicPr/>
          <p:nvPr/>
        </p:nvPicPr>
        <p:blipFill>
          <a:blip r:embed="rId2"/>
          <a:stretch/>
        </p:blipFill>
        <p:spPr>
          <a:xfrm>
            <a:off x="5508720" y="3284640"/>
            <a:ext cx="3419280" cy="256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:\1занятие Стрельцова\SAM_5374.JPG"/>
          <p:cNvPicPr/>
          <p:nvPr/>
        </p:nvPicPr>
        <p:blipFill>
          <a:blip r:embed="rId3"/>
          <a:stretch/>
        </p:blipFill>
        <p:spPr>
          <a:xfrm>
            <a:off x="5796000" y="1268280"/>
            <a:ext cx="27352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Picture 4" descr="E:\1занятие Стрельцова\2 Разнатовская спорт\SAM_5221.JPG"/>
          <p:cNvPicPr/>
          <p:nvPr/>
        </p:nvPicPr>
        <p:blipFill>
          <a:blip r:embed="rId1"/>
          <a:stretch/>
        </p:blipFill>
        <p:spPr>
          <a:xfrm>
            <a:off x="6156360" y="450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E:\1занятие Стрельцова\2 Разнатовская спорт\SAM_5225.JPG"/>
          <p:cNvPicPr/>
          <p:nvPr/>
        </p:nvPicPr>
        <p:blipFill>
          <a:blip r:embed="rId2"/>
          <a:stretch/>
        </p:blipFill>
        <p:spPr>
          <a:xfrm>
            <a:off x="2484360" y="1197000"/>
            <a:ext cx="4294440" cy="322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E:\1занятие Стрельцова\2 Разнатовская спорт\SAM_5229.JPG"/>
          <p:cNvPicPr/>
          <p:nvPr/>
        </p:nvPicPr>
        <p:blipFill>
          <a:blip r:embed="rId3"/>
          <a:stretch/>
        </p:blipFill>
        <p:spPr>
          <a:xfrm>
            <a:off x="3348000" y="4508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E:\1занятие Стрельцова\2 Разнатовская спорт\SAM_5241.JPG"/>
          <p:cNvPicPr/>
          <p:nvPr/>
        </p:nvPicPr>
        <p:blipFill>
          <a:blip r:embed="rId4"/>
          <a:stretch/>
        </p:blipFill>
        <p:spPr>
          <a:xfrm>
            <a:off x="179280" y="4508640"/>
            <a:ext cx="2614680" cy="1962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8"/>
          <p:cNvSpPr/>
          <p:nvPr/>
        </p:nvSpPr>
        <p:spPr>
          <a:xfrm>
            <a:off x="32400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изкультурный праздник «Эстафеты с Незнайк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Выставка работ </a:t>
            </a:r>
            <a:br>
              <a:rPr sz="4800"/>
            </a:b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«Островок здоровья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Picture 4" descr="F:\DCIM\Camera\P_20170130_111702.jpg"/>
          <p:cNvPicPr/>
          <p:nvPr/>
        </p:nvPicPr>
        <p:blipFill>
          <a:blip r:embed="rId1"/>
          <a:stretch/>
        </p:blipFill>
        <p:spPr>
          <a:xfrm>
            <a:off x="1908000" y="1268280"/>
            <a:ext cx="4608720" cy="319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F:\DCIM\Camera\P_20170130_111714.jpg"/>
          <p:cNvPicPr/>
          <p:nvPr/>
        </p:nvPicPr>
        <p:blipFill>
          <a:blip r:embed="rId2"/>
          <a:stretch/>
        </p:blipFill>
        <p:spPr>
          <a:xfrm>
            <a:off x="2700360" y="4792680"/>
            <a:ext cx="3672000" cy="2065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F:\DCIM\Camera\P_20170130_111756.jpg"/>
          <p:cNvPicPr/>
          <p:nvPr/>
        </p:nvPicPr>
        <p:blipFill>
          <a:blip r:embed="rId3"/>
          <a:stretch/>
        </p:blipFill>
        <p:spPr>
          <a:xfrm>
            <a:off x="6588000" y="3703680"/>
            <a:ext cx="2160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a751e7"/>
              </a:solidFill>
              <a:latin typeface="Calibri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Картинки по запросу картинки для презентации спасибо за внимание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представлений 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  жизн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Admin\Рабочий стол\картинки\36862142.jpg"/>
          <p:cNvPicPr/>
          <p:nvPr/>
        </p:nvPicPr>
        <p:blipFill>
          <a:blip r:embed="rId1"/>
          <a:stretch/>
        </p:blipFill>
        <p:spPr>
          <a:xfrm>
            <a:off x="1979640" y="2924280"/>
            <a:ext cx="4887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2600" y="2214720"/>
            <a:ext cx="80010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правилам  здоровьесберегающего  и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представления  о доступном ребёнку предметном     мире и назначении предметов, о правилах их безопасн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ширять и углублять представления детей о правил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й гигиены, путях охраны своего здоровья и способах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C:\Documents and Settings\Admin\Рабочий стол\картинки\43009025_121258759033345.gif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6800" y="5572080"/>
            <a:ext cx="74437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4240" y="2643120"/>
            <a:ext cx="750096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785880" y="642960"/>
            <a:ext cx="7500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( 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, воспитатели,  педагоги ДОУ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 представ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овая 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5929200" y="4143240"/>
            <a:ext cx="24289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ктуальность проблемы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а о здоровье – это важнейший труд воспитателя.  От  жизнерадостности, бодрости детей зависит их духовная жизнь, мировоззрение, умственное развитие, прочность знаний, вера в свои си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ннего формирования культуры здоровья актуальна, своевременна и достаточно сложна. Известно, что дошкольный возраст является решающим в формировании фундамента физического и психического здоровья. Ведь именно до 7 лет человек проходит огромный путь развития, не повторяемый на протяжении последующей жизни. Именно в этот период идет интенсивное развитие органов и становление функциональных систем организма, закладываются основные черты личности, отношение к себе и окружающим. Важно на этом этапе сформировать  у  детей базу знаний и практических навыков здорового образа жизни, осознанную потребность в систематических занятий физической культурой и спортом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собственно - прак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– оценочно - рефлексивный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этап – презентационный (выступление на педсовете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 мотивации, цели, задач по организации  недел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ый  малыш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мотивацию по работе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фольклора,  стихов, загад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 – иллюстраций, картинок о здоровом образе жиз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г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расширять знания о здоровом образе через     практическую деятельность дет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 о том, что такое здоровье и здоровый человек, об основных навыках личной гиги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ражать в игре культурно –гигиенические навыки , правила здоровье сберегающего и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правилами безопасности в обращении с лекарствами –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заботливое отношение к своему здоров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ть родителей к  работе 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3:07:24Z</dcterms:created>
  <dc:creator>Admin</dc:creator>
  <dc:description/>
  <dc:language>en-US</dc:language>
  <cp:lastModifiedBy>Анастасия</cp:lastModifiedBy>
  <dcterms:modified xsi:type="dcterms:W3CDTF">2017-03-21T14:38:48Z</dcterms:modified>
  <cp:revision>117</cp:revision>
  <dc:subject/>
  <dc:title>Проект  «Здоровый малыш»</dc:title>
</cp:coreProperties>
</file>