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DEC-58CD-4CD8-9F88-AECC317EE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494C-6B59-4109-91C7-450601E08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0C3-4CB4-42E0-8C4E-87F95C4B63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8A4-67CA-4C6C-BC53-A58843FE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428-8DD6-467E-BCD4-87E37B63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F1D-F282-4C9B-8238-3A4FC30D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26C-C360-4E4C-9780-A3D2138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615-BF50-49D3-B3B6-1F453A9B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5EE3-26AC-4C42-AFD0-D3E76A8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CCB-6196-476C-8DFA-2DDB7A5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A046-0EA5-4C67-B831-F26F98B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39F7-2A9A-4593-AA4D-8447E8F6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1B5-A5F3-45CB-899D-9CF868FE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217A-B04B-4A17-B353-8026939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EFB-0511-4F87-AC60-5AF62C5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A0A9-97C7-4A48-B80F-4563DCE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EB4F-8ACE-4924-BBE7-BDCB047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695-2CEF-4FC9-93F2-A132442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6CDC-6D10-48D2-BAC3-AB4638E1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C328-FD8E-419A-95E7-6BC41F88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3AAA-7427-49A2-AE38-B2480167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8354-FAF1-4A86-8814-66B3578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CA21-807C-42D0-ABD6-1D1FF85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813B-4545-40A6-A641-2CD37DB8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FC42-0F14-49F3-8481-90D6D5A7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8C6-158B-4832-A92D-D2CFBA01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06AA-62C9-44A5-A832-000423C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31B6-3114-4C7C-A5D2-C523B39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99F2-1CB9-44F1-ADE4-D4876E41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E9F2-773A-4625-B2E1-42A3573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275E-E34C-4844-AA04-E0DD5756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570B-08D6-4F40-ABAB-C3E174AC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7ABD-9CC8-4F01-B2DC-B68CF3A3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73B4-B36E-4562-970D-B81CFAFA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B00B-66F6-4076-AB00-0B199EAE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DFA2-D7BF-40F3-9B96-5551D8D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760-0520-42E0-A383-C853F0E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B9C0-1670-4150-95B7-850131C2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FF74-DA1E-4A05-AB8B-0E244DC7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4F8C-CA30-4D97-B29C-E52C4604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26121-085C-4564-B337-51C3338B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76A71-952F-4312-90B3-5BAB823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B1E8-6432-4EA6-907A-7AC8FCE6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3F89-FFE3-4900-9729-2E3BB27C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2B29-15F7-4531-AE1F-FFFEBC2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0EBD-B771-426C-8B73-C3C32745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07C-D22F-4CBE-A7E7-2B1B40D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504-9016-40B7-9824-7CF046E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7AC-A840-4ADA-94AD-569B839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56E-29E7-4C40-9439-DB06A73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86D-C71B-4F39-BEE5-B72D752D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41C7-5FC5-437D-912F-72836850DD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1D6D-FF23-46EA-B183-50084CA1333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766D-D1A5-49B1-BB9F-69B85EE7A59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E96A-A902-457F-BC70-C9CC503119F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f0f7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17680" y="-201600"/>
            <a:ext cx="8315280" cy="36338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5072040" y="442908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ельцова А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натовская О.В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36400" y="3492360"/>
            <a:ext cx="310212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I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детей о здоровосберегающем поведении в детском саду, д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соблюдать элементарные правила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изучению себя, своих физических возможностей (осанка, стопа, рост, картина здоровь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 культурно-гигиенические  навыки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интерес к выполнению оздоровительных и закаливающих мероприятий ( зарядка, обливание рук до локтей, пальчиковая гимнастика, дорожки здоровья,,  физкультурные занятия, прогулки и т.д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дукты  проек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, поделки по теме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: пальчиковых игр, подвижных игр, утренних гимнастик, гимнастик после сна, гимнастик для гл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– передвижки, ширмы, буклеты на темы: « Витамины и их польза», «Зелёная аптека».«Что едят наши дети», «Плоскостопие и его профилактика»,  «Осанка вашего ребёнка», «Зарядка каждый день», «Зимние  игры детей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пап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спортивного досуга «Игры с Незнайкой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новых дорожек здоровь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2999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</a:t>
            </a:r>
            <a:r>
              <a:rPr b="1" lang="ru-RU" sz="6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отоматериал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5" descr="D:\женя\Женя\картинки\43009025_121258759033345.gif"/>
          <p:cNvPicPr/>
          <p:nvPr/>
        </p:nvPicPr>
        <p:blipFill>
          <a:blip r:embed="rId1"/>
          <a:stretch/>
        </p:blipFill>
        <p:spPr>
          <a:xfrm>
            <a:off x="357120" y="27792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http://img0.liveinternet.ru/images/attach/c/2/73/511/73511220_2.png"/>
          <p:cNvPicPr/>
          <p:nvPr/>
        </p:nvPicPr>
        <p:blipFill>
          <a:blip r:embed="rId2"/>
          <a:stretch/>
        </p:blipFill>
        <p:spPr>
          <a:xfrm>
            <a:off x="6572160" y="4357800"/>
            <a:ext cx="1835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500040" y="21420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бливание рук прохладной во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Содержимое 7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176720" cy="43894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1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48240" cy="2557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http://img0.liveinternet.ru/images/attach/c/2/67/869/67869213_1292344302_07.png"/>
          <p:cNvPicPr/>
          <p:nvPr/>
        </p:nvPicPr>
        <p:blipFill>
          <a:blip r:embed="rId3"/>
          <a:stretch/>
        </p:blipFill>
        <p:spPr>
          <a:xfrm>
            <a:off x="5580000" y="4508640"/>
            <a:ext cx="17287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Гимнастика для  глаз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4" descr="E:\1занятие Стрельцова\SAM_5360.JPG"/>
          <p:cNvPicPr/>
          <p:nvPr/>
        </p:nvPicPr>
        <p:blipFill>
          <a:blip r:embed="rId1"/>
          <a:stretch/>
        </p:blipFill>
        <p:spPr>
          <a:xfrm>
            <a:off x="1979640" y="1773360"/>
            <a:ext cx="5646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Дорожка  здоровь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468520" cy="4317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5572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3" descr="D:\Работа\папки передвижки\медик,здоровье\МАССАЖ ТОЧЕЧНЫЙ\2 ТОЧЕЧНЫЙ МАССАЖ.jpg"/>
          <p:cNvPicPr/>
          <p:nvPr/>
        </p:nvPicPr>
        <p:blipFill>
          <a:blip r:embed="rId1"/>
          <a:stretch/>
        </p:blipFill>
        <p:spPr>
          <a:xfrm>
            <a:off x="0" y="981000"/>
            <a:ext cx="2773440" cy="43894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" descr="D:\Работа\папки передвижки\медик,здоровье\МАССАЖ ТОЧЕЧНЫЙ\3 ТОЧЕЧНЫЙ МАССАЖ.jpg"/>
          <p:cNvPicPr/>
          <p:nvPr/>
        </p:nvPicPr>
        <p:blipFill>
          <a:blip r:embed="rId2"/>
          <a:stretch/>
        </p:blipFill>
        <p:spPr>
          <a:xfrm>
            <a:off x="2771640" y="981000"/>
            <a:ext cx="3044880" cy="43927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5" descr="D:\Работа\папки передвижки\медик,здоровье\МАССАЖ ТОЧЕЧНЫЙ\4 ТОЧЕЧНЫЙ МАССАЖ.jpg"/>
          <p:cNvPicPr/>
          <p:nvPr/>
        </p:nvPicPr>
        <p:blipFill>
          <a:blip r:embed="rId3"/>
          <a:stretch/>
        </p:blipFill>
        <p:spPr>
          <a:xfrm>
            <a:off x="5867280" y="981000"/>
            <a:ext cx="3060720" cy="44006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324000" y="189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Точечный масса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Точечный массаж           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4" descr="E:\1занятие Стрельцова\SAM_5365.JPG"/>
          <p:cNvPicPr/>
          <p:nvPr/>
        </p:nvPicPr>
        <p:blipFill>
          <a:blip r:embed="rId1"/>
          <a:stretch/>
        </p:blipFill>
        <p:spPr>
          <a:xfrm>
            <a:off x="4500720" y="2565360"/>
            <a:ext cx="4005000" cy="404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E:\1занятие Стрельцова\SAM_5364.JPG"/>
          <p:cNvPicPr/>
          <p:nvPr/>
        </p:nvPicPr>
        <p:blipFill>
          <a:blip r:embed="rId2"/>
          <a:stretch/>
        </p:blipFill>
        <p:spPr>
          <a:xfrm>
            <a:off x="971640" y="1341360"/>
            <a:ext cx="3095640" cy="274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Картинки по запросу точечный массаж картинки для детей"/>
          <p:cNvPicPr/>
          <p:nvPr/>
        </p:nvPicPr>
        <p:blipFill>
          <a:blip r:embed="rId3"/>
          <a:stretch/>
        </p:blipFill>
        <p:spPr>
          <a:xfrm>
            <a:off x="1332000" y="4419720"/>
            <a:ext cx="162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гул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5616360" cy="266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31273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бразовательная деятельность                             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004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D:\женя\женя - 2\картинки\701532.jpeg"/>
          <p:cNvPicPr/>
          <p:nvPr/>
        </p:nvPicPr>
        <p:blipFill>
          <a:blip r:embed="rId1"/>
          <a:stretch/>
        </p:blipFill>
        <p:spPr>
          <a:xfrm>
            <a:off x="3214800" y="3786120"/>
            <a:ext cx="25714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  проект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 -ориентировоч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проект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 малыш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Documents and Settings\Admin\Рабочий стол\картинки\xffd27574ax0.jpg"/>
          <p:cNvPicPr/>
          <p:nvPr/>
        </p:nvPicPr>
        <p:blipFill>
          <a:blip r:embed="rId1"/>
          <a:stretch/>
        </p:blipFill>
        <p:spPr>
          <a:xfrm>
            <a:off x="5715000" y="2714760"/>
            <a:ext cx="20718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4" descr="E:\1занятие Стрельцова\SAM_5361.JPG"/>
          <p:cNvPicPr/>
          <p:nvPr/>
        </p:nvPicPr>
        <p:blipFill>
          <a:blip r:embed="rId1"/>
          <a:stretch/>
        </p:blipFill>
        <p:spPr>
          <a:xfrm>
            <a:off x="0" y="1628640"/>
            <a:ext cx="5832360" cy="437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E:\1занятие Стрельцова\SAM_5367.JPG"/>
          <p:cNvPicPr/>
          <p:nvPr/>
        </p:nvPicPr>
        <p:blipFill>
          <a:blip r:embed="rId2"/>
          <a:stretch/>
        </p:blipFill>
        <p:spPr>
          <a:xfrm>
            <a:off x="6012000" y="1268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E:\1занятие Стрельцова\SAM_5370.JPG"/>
          <p:cNvPicPr/>
          <p:nvPr/>
        </p:nvPicPr>
        <p:blipFill>
          <a:blip r:embed="rId3"/>
          <a:stretch/>
        </p:blipFill>
        <p:spPr>
          <a:xfrm>
            <a:off x="6156360" y="3645000"/>
            <a:ext cx="2771640" cy="2079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8"/>
          <p:cNvSpPr/>
          <p:nvPr/>
        </p:nvSpPr>
        <p:spPr>
          <a:xfrm>
            <a:off x="539640" y="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нятие «Здоровый образ жизни Мишутки</a:t>
            </a:r>
            <a:r>
              <a:rPr b="1" lang="ru-RU" sz="1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нятие «Здоровый образ жизни Мишутки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4" descr="E:\1занятие Стрельцова\SAM_5371.JPG"/>
          <p:cNvPicPr/>
          <p:nvPr/>
        </p:nvPicPr>
        <p:blipFill>
          <a:blip r:embed="rId1"/>
          <a:stretch/>
        </p:blipFill>
        <p:spPr>
          <a:xfrm>
            <a:off x="324000" y="1413000"/>
            <a:ext cx="5111640" cy="383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:\1занятие Стрельцова\SAM_5372.JPG"/>
          <p:cNvPicPr/>
          <p:nvPr/>
        </p:nvPicPr>
        <p:blipFill>
          <a:blip r:embed="rId2"/>
          <a:stretch/>
        </p:blipFill>
        <p:spPr>
          <a:xfrm>
            <a:off x="5508720" y="3284640"/>
            <a:ext cx="3419280" cy="256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:\1занятие Стрельцова\SAM_5374.JPG"/>
          <p:cNvPicPr/>
          <p:nvPr/>
        </p:nvPicPr>
        <p:blipFill>
          <a:blip r:embed="rId3"/>
          <a:stretch/>
        </p:blipFill>
        <p:spPr>
          <a:xfrm>
            <a:off x="5796000" y="1268280"/>
            <a:ext cx="273528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Picture 4" descr="E:\1занятие Стрельцова\2 Разнатовская спорт\SAM_5221.JPG"/>
          <p:cNvPicPr/>
          <p:nvPr/>
        </p:nvPicPr>
        <p:blipFill>
          <a:blip r:embed="rId1"/>
          <a:stretch/>
        </p:blipFill>
        <p:spPr>
          <a:xfrm>
            <a:off x="6156360" y="450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E:\1занятие Стрельцова\2 Разнатовская спорт\SAM_5225.JPG"/>
          <p:cNvPicPr/>
          <p:nvPr/>
        </p:nvPicPr>
        <p:blipFill>
          <a:blip r:embed="rId2"/>
          <a:stretch/>
        </p:blipFill>
        <p:spPr>
          <a:xfrm>
            <a:off x="2484360" y="1197000"/>
            <a:ext cx="4294440" cy="322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E:\1занятие Стрельцова\2 Разнатовская спорт\SAM_5229.JPG"/>
          <p:cNvPicPr/>
          <p:nvPr/>
        </p:nvPicPr>
        <p:blipFill>
          <a:blip r:embed="rId3"/>
          <a:stretch/>
        </p:blipFill>
        <p:spPr>
          <a:xfrm>
            <a:off x="3348000" y="4508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E:\1занятие Стрельцова\2 Разнатовская спорт\SAM_5241.JPG"/>
          <p:cNvPicPr/>
          <p:nvPr/>
        </p:nvPicPr>
        <p:blipFill>
          <a:blip r:embed="rId4"/>
          <a:stretch/>
        </p:blipFill>
        <p:spPr>
          <a:xfrm>
            <a:off x="179280" y="4508640"/>
            <a:ext cx="2614680" cy="1962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8"/>
          <p:cNvSpPr/>
          <p:nvPr/>
        </p:nvSpPr>
        <p:spPr>
          <a:xfrm>
            <a:off x="324000" y="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изкультурный праздник «Эстафеты с Незнайк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Выставка работ </a:t>
            </a:r>
            <a:br>
              <a:rPr sz="4800"/>
            </a:b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«Островок здоровья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Picture 4" descr="F:\DCIM\Camera\P_20170130_111702.jpg"/>
          <p:cNvPicPr/>
          <p:nvPr/>
        </p:nvPicPr>
        <p:blipFill>
          <a:blip r:embed="rId1"/>
          <a:stretch/>
        </p:blipFill>
        <p:spPr>
          <a:xfrm>
            <a:off x="1908000" y="1268280"/>
            <a:ext cx="4608720" cy="319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F:\DCIM\Camera\P_20170130_111714.jpg"/>
          <p:cNvPicPr/>
          <p:nvPr/>
        </p:nvPicPr>
        <p:blipFill>
          <a:blip r:embed="rId2"/>
          <a:stretch/>
        </p:blipFill>
        <p:spPr>
          <a:xfrm>
            <a:off x="2700360" y="4792680"/>
            <a:ext cx="3672000" cy="2065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F:\DCIM\Camera\P_20170130_111756.jpg"/>
          <p:cNvPicPr/>
          <p:nvPr/>
        </p:nvPicPr>
        <p:blipFill>
          <a:blip r:embed="rId3"/>
          <a:stretch/>
        </p:blipFill>
        <p:spPr>
          <a:xfrm>
            <a:off x="6588000" y="3703680"/>
            <a:ext cx="2160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a751e7"/>
              </a:solidFill>
              <a:latin typeface="Calibri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Картинки по запросу картинки для презентации спасибо за внимание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представлений 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доровом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  жизн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Documents and Settings\Admin\Рабочий стол\картинки\36862142.jpg"/>
          <p:cNvPicPr/>
          <p:nvPr/>
        </p:nvPicPr>
        <p:blipFill>
          <a:blip r:embed="rId1"/>
          <a:stretch/>
        </p:blipFill>
        <p:spPr>
          <a:xfrm>
            <a:off x="1979640" y="2924280"/>
            <a:ext cx="4887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2600" y="2214720"/>
            <a:ext cx="80010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правилам  здоровьесберегающего  и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гащать представления  о доступном ребёнку предметном     мире и назначении предметов, о правилах их безопасн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ширять и углублять представления детей о правил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й гигиены, путях охраны своего здоровья и способах безопасного поведения в различных ситуац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C:\Documents and Settings\Admin\Рабочий стол\картинки\43009025_121258759033345.gif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6800" y="5572080"/>
            <a:ext cx="74437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14240" y="2643120"/>
            <a:ext cx="750096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785880" y="642960"/>
            <a:ext cx="75009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( 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, воспитатели,  педагоги ДОУ,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 представ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овая  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5929200" y="4143240"/>
            <a:ext cx="24289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Актуальность проблемы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бота о здоровье – это важнейший труд воспитателя.  От  жизнерадостности, бодрости детей зависит их духовная жизнь, мировоззрение, умственное развитие, прочность знаний, вера в свои си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раннего формирования культуры здоровья актуальна, своевременна и достаточно сложна. Известно, что дошкольный возраст является решающим в формировании фундамента физического и психического здоровья. Ведь именно до 7 лет человек проходит огромный путь развития, не повторяемый на протяжении последующей жизни. Именно в этот период идет интенсивное развитие органов и становление функциональных систем организма, закладываются основные черты личности, отношение к себе и окружающим. Важно на этом этапе сформировать  у  детей базу знаний и практических навыков здорового образа жизни, осознанную потребность в систематических занятий физической культурой и спортом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– собственно - прак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– оценочно - рефлексивный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этап – презентационный (выступление на педсовете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 мотивации, цели, задач по организации  недел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ый  малыш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мотивацию по работе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 фольклора,  стихов, загад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аглядного материала – иллюстраций, картинок о здоровом образе жизн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г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и расширять знания о здоровом образе через     практическую деятельность дет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 о том, что такое здоровье и здоровый человек, об основных навыках личной гигие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тражать в игре культурно –гигиенические навыки , правила здоровье сберегающего и 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правилами безопасности в обращении с лекарствами –витам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заботливое отношение к своему здоров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ть родителей к  работе в 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3:07:24Z</dcterms:created>
  <dc:creator>Admin</dc:creator>
  <dc:description/>
  <dc:language>en-US</dc:language>
  <cp:lastModifiedBy>Анастасия</cp:lastModifiedBy>
  <dcterms:modified xsi:type="dcterms:W3CDTF">2017-03-21T14:38:48Z</dcterms:modified>
  <cp:revision>117</cp:revision>
  <dc:subject/>
  <dc:title>Проект  «Здоровый малыш»</dc:title>
</cp:coreProperties>
</file>