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F26-2ABF-477F-9B2B-D2C29039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491-26FD-42B9-8F67-F679A56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7DC-1B3D-429A-9F49-BBE9D418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2B7-44C8-4DD5-8291-C3F7DDA0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592-6DE0-4B8D-A68A-1468DF17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676C-5D4A-4EB2-BA79-C3C6584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0421-56CB-4DD6-B9FC-0F6BBA0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9E62-55C2-43E3-AF7E-00964CA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CD5B-4BD1-4B8E-9C30-32B67E0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7E3-EAD0-462F-AF15-9F77208C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D09-B95E-4E82-B883-8078A87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DE4-8976-4038-BF32-A31AAF2D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95F-3752-4D80-9FAA-D8D4182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6404-FE17-4788-9302-6F69927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885-A6F1-4AE0-A243-A1431F0F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24F5-2614-4791-ADE8-D5DDDCF5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87E-4320-4DA3-9CAE-45BFE2AD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C4C-4754-4FE4-8223-70FAB504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E99-6991-432C-973A-E7B86DA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E72-1BEF-4EC2-9F19-B60CD734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227-E4D8-40F4-801A-2C201DC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2D9-10DC-4815-A1F0-761CC853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FCE-7368-46CA-BC8E-5157AEA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D09-5A23-464C-9743-454C543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249073-9D3C-4863-AA23-31D87EF182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664E64-F5E2-44C1-BD02-DADA962BE70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57200" y="274680"/>
            <a:ext cx="785880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Государственное бюджет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детский сад №24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ир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</a:rPr>
              <a:t>Познавательное развитие детей раннего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Подготовила: Мордовце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Группа: «Гном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Мышл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640" y="980640"/>
            <a:ext cx="8964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558ed5"/>
                </a:solidFill>
                <a:latin typeface="Times New Roman"/>
              </a:rPr>
              <a:t>Мышление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высший интеллектуальный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тельный процесс. Оно дает возможность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ть такие предметы и явления, которые не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гут быть непосредственно восприняты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рганами чувств. 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558ed5"/>
                </a:solidFill>
                <a:latin typeface="Times New Roman"/>
              </a:rPr>
              <a:t>Виды мышления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Наглядно-действ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          манипулирования предметами – игрушками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Наглядно-образ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лений предметов, явле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Словесно-логическое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ятий, слов, рассужде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развитии внимания формируется наглядно-действенное мышление (оно является ведущим до 3 лет). Больше никакого мышления не формируется. Ребенок думает с помощью рук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04360" y="2421000"/>
            <a:ext cx="2196360" cy="16437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softRound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Специальные приемы, или операции, используемые в процессе мыслительной деятельности: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64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Анализ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ысленное разложение целого на ча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Синте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ысленное объединение частей в единое целое;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Обобщ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мысленное объединение объектов по признаку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Сравнение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становление сходства, или различия между объектам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Абстра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ыделение существенных свойств предмета и отвлечение от несущественны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Особенности мышления детей раннего возраста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е признаки мышления дети обнаруживают к концу первого года жизни. Ребенок начинает понимать, что одни вещи и действия могут использоваться для обозначения других, служить их заменой – формируется способность к замещению, умение использовать при решении умственных задач условные заменители реальных предметов и явлен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558ed5"/>
                </a:solidFill>
                <a:latin typeface="Times New Roman"/>
              </a:rPr>
              <a:t>Воображе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640" y="98064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Вообра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психический процесс создания образа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а путем преобразования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альности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10243e"/>
                </a:solidFill>
                <a:latin typeface="Times New Roman"/>
              </a:rPr>
              <a:t>Виды воображени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зво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произволь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воображение не развито, так как оно основано на процессах  памяти и мышления. У детей раннего возраста нет опыта, чтобы придумать что-то новое. Воображение начинает развиваться только в дошкольном возрасте.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6" descr=""/>
          <p:cNvPicPr/>
          <p:nvPr/>
        </p:nvPicPr>
        <p:blipFill>
          <a:blip r:embed="rId1"/>
          <a:stretch/>
        </p:blipFill>
        <p:spPr>
          <a:xfrm>
            <a:off x="5148000" y="1453320"/>
            <a:ext cx="3672000" cy="2263320"/>
          </a:xfrm>
          <a:prstGeom prst="rect">
            <a:avLst/>
          </a:prstGeom>
          <a:ln w="0">
            <a:noFill/>
          </a:ln>
          <a:effectLst>
            <a:glow rad="101520">
              <a:srgbClr val="267de6">
                <a:alpha val="40000"/>
              </a:srgbClr>
            </a:glow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divot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3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Картотека игр для познавательного развития детей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Каталки и тележ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грах с каталками и тележками ребенок учится захватывать ручки тележки или каталки, веревочку, к которой привязана машинка; управлять движением предмета, меняя его скорость и направление; координировать свои движения и движение предме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«Змейка»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жите к веревочке пустую пластиковую бутылку, предварительно поместив в нее горошины, бусины или мелкие игрушки. На веревочку (длиной около 60 см) можно нанизать разные предметы домашнего обихода: катушки, пластиковые пузырьки и т.д. Сделайте петельку, за которую поделку легко тянуть, и предложите ребенку повозить за собой «змейку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«Каталки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оказывает детям, как катают тележку, и предлагает поиграть с ней. Самые маленькие дети будут катать игрушку без всякой цели, им будет интересно само это действи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928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558ed5"/>
                </a:solidFill>
                <a:latin typeface="Times New Roman"/>
              </a:rPr>
              <a:t>Сачки, удочки, черпачки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В процессе этих игр-занятий дети овладевают действиями  зачерпывания, захватывания, цепляния игрушки различными орудиями. Подготовьте емкости разного размера. Это могут быть аквариум, надувной бассейн, пластмассовые тазики и баночки с широким горлышком, корзинки, ведерки и т.п. Материал, которым вы заполняете данные емкости, должен различаться по размеру и физическим свойствам. Например, большие и маленькие, плавающие и тонущие предметы, предметы, пригодные для ловли в воде, и те, которые можно использовать для «сухой ловли»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Орудия, с помощью которых дети могут извлекать предметы, также должны быть разными по размеру и свойствам: ложки, черпачки, ковшики, ситечки, сачки, удочки с магнитом и т.д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i="1" lang="ru-RU" sz="9600" spc="-1" strike="noStrike">
                <a:solidFill>
                  <a:srgbClr val="558ed5"/>
                </a:solidFill>
                <a:latin typeface="Times New Roman"/>
              </a:rPr>
              <a:t>«Сачки и черпачки» 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Погрузите в емкость с водой плавающие и тонущие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предметы, например, резиновую уточку, пластмассовый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кораблик или рыбку, камешек, ракушку. Раздайте детям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сачки, ситечки, ковшики, ложки. Помогите малышам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удобно расположиться вокруг емкости так, чтобы они не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толкали друг друга, и предложите им доставать из воды разные игрушки. Дети могут доставать игрушки по очереди или одновременно, складывать их в тазик, ведерко, корзинку. Попросите детей называть вылавливаемые предметы. Подобное занятие можно организовать в «сухом» бассейне, заполнив его мячами разного размера, которые ребенок извлекает ковшиком, черпачком, сачком.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558ed5"/>
                </a:solidFill>
                <a:latin typeface="Times New Roman"/>
              </a:rPr>
              <a:t>«Удочки с магнитом»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В прозрачную, наполненную водой банку или аквариум опустите пластмассовых рыбок с металлическими вкладками и подготовьте удочку с магнитом на конце лески. Скажите детям: «Давайте попробуем поймать рыбок вот этой волшебной удочкой». Дайте малышам рассмотреть удочку. Покажите, как удочкой можно поймать рыбку. Вместо сосуда с водой и рыбок можно использовать любую другую емкость (коробку, ведерко) и магнитные держатели, которые сейчас широко используют в быту и в офисах для крепления бумаг на металлических поверхностях.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6516360" y="3069000"/>
            <a:ext cx="2323800" cy="180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856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Насыпаем — высып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е маленькие дети будут с удовольствием насыпать и пересыпать песок совочком из песочницы в ведерко, а из ведерка — в формочки; крупу — ложкой или ковшиком из миски в кружечку и обратно. Помогите малышам правильно удерживать в руке инструмент, следите за тем, чтобы песок не попал детям в глаза или в рот. Научите малышей насыпать песок совочком в ведерк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чки, утрамбовывать его лопаткой или ладошко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Коп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ое интересное занятие — выкапывать ямк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капывать «дороги», закапывать в песок камеш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другие предметы, а потом выкапывать их, меш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сок в формочке — «варить кашу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Постройки из песка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ите малышам построить из песка дом или несколько домиков, используя совок, лопатку. С помощью совка можно проложить дорожки вокруг дома или от одного домика к другому, дорожки можно выложить камешками. Предложите малышам соорудить вокруг домика ограду из прутиков, посадить «деревца» или цветочки: получится «садик». Если рядом выкопать ямку и заполнить ее водой, получится «пруд» или «озеро». Над прудиком можно соорудить мостик из дощечки, запустить в воду «лодочки» (скорлупки от орехов, крышки от бутылок и т.д.). Если насыпать горку и выкопать в ней нишу, получится «гараж». Можно поместить туда машинки. Если прокопать горку насквозь, получится тоннель, через который машинки смогут проезжать. Спросите детей, что еще они хотят построить в песочнице, помогите им реализовать свой замысе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588360" y="1845000"/>
            <a:ext cx="2277360" cy="15116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885672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Кнопки, застежки, замочк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азвития ручных действий полезно манипулирование разнообразными кнопками и выключателями, креплениями, застежками, шнурками и пр. Занятия с этими предметами способствуют развитию координации движений глаз и руки, точности движений и результативности действи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уппе в открытом доступе должны быть соответствующие игрушки, бытовые предметы, специальные пособия, тренажеры. Воспитатель показывает детям возможные действия со всеми предметами, при необходимости помогает ребенку освоить их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Застегиваем — расстегив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тенд, покрытый плотной тканью, прикрепите разноцветные пуговицы и петли разного размера, полоски со шнуровкой (с большими отверстиями), крупные молнии, кнопки, крючки и петли так, чтобы ребенок мог легко их застегнуть и расстегнуть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Открываем — закрыв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берите наборы бытовых предметов с разны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ами застежек и запоров (кошельки, сумоч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атулки, футляры и др.)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те в них маленькие игрушки и предложит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достать их. При затруднениях покажите детям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открывается запор, помогите им выполни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е действи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784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Нанизываем бусы»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те детям изготовить «бусы» для большой игрушки (медведя, тигра, бегемота и т.п.). Подготовьте куски гибкой проволоки и «бусины» — разнообразные предметы с большими отверстиями. Это могут быть катушки, кольца от пирамидок, кольца для штор, детали от конструктора, обрезанные с двух сторон пластиковые бутылки и пр. Самым младшим детям легче действовать с крупными деталями, более старшим можно предлагать детали меньшего размера. Кто-то из детей сможет нанизывать «бусы» не только на проволоку, но и на веревочку. Можно предложить нескольким малышам делать одни бусы вместе с воспитателем: по очереди нанизывать «бусины» на веревку. Готовое изделие наденьте на игрушку, поблагодарите детей от ее имен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Шнуровка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ные приспособления для шнуровки можн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в магазинах игрушек: больши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ые пуговицы и деревянная иголка со шнурком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ый «сыр» с дырками, набор для «вышивания» 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янутая на рамку канва с большими ячейками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ая игла со шнурком и др. Самые маленьк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смогут продевать шнурок в любые отверстия, более старшие — «вышивать» узоры, продевая шнурок в нужные отверстия.  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6437880" y="3141000"/>
            <a:ext cx="246672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6882480" y="5371920"/>
            <a:ext cx="1577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и занятия, направленные на развити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восприятия и мышлен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ление ребенка до трех лет непосредственно связано с восприятием: он мыслит, устанавливая связи между воспринимаемыми предметами и действуя с ними. Важно, чтобы ребенок научился сам выделять нужные свойства предметов, чтобы он сам подбирал и соединял части в нужном порядк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с соответствующими предметами развивают разные познавательные процессы ребенка: мышление, движения, восприятие, внимание, память, и речь. Для развивающих игр с малышами лучше использовать различные составные игрушки, которые требуют соотнесения размеров или цвета разных деталей. Для ребенка от года до трех больше всего подходят игры с пирамидками, кубиками, различного рода вкладышами, матрешкам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игры с картинками. В некоторых случаях будут необходимы два одинаковых предмета: один — для показа и образца, другой — для воспроизведения действия с ним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Игры с вкладыша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ет множество разнообразных наборов-вкладыш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оры вкладышей, которые представляют соб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о — от 3 до 12 — полых предметов одинако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 формы и разного размера (кубики, стаканчи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линдры, мисочки, половинки шара), убывающие п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чине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6588360" y="4941000"/>
            <a:ext cx="2178360" cy="16315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928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ские вкладыши со штампованными углубления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вырезанными отверстиями разной формы и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ющими им фигурами, абстрактными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ы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ные вкладыши (большие и маленькие кубы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ики, коробки) с прорезями разной формы и соответствующими деталя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акими наборами малыши могут заниматься как самостоятельно, так и вместе со взрослым. В процессе занятий со вкладышами дети учатся соотносить предметы по форме, размеру и цвету. Эти игры нужно проводить сначала индивидуально с каждым ребенком, затем с небольшой группой дет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107640" y="2739240"/>
            <a:ext cx="1800000" cy="20548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39" name="Рисунок 5" descr=""/>
          <p:cNvPicPr/>
          <p:nvPr/>
        </p:nvPicPr>
        <p:blipFill>
          <a:blip r:embed="rId2"/>
          <a:stretch/>
        </p:blipFill>
        <p:spPr>
          <a:xfrm>
            <a:off x="6524280" y="2750760"/>
            <a:ext cx="2520000" cy="20822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0" name="Рисунок 6" descr=""/>
          <p:cNvPicPr/>
          <p:nvPr/>
        </p:nvPicPr>
        <p:blipFill>
          <a:blip r:embed="rId3"/>
          <a:stretch/>
        </p:blipFill>
        <p:spPr>
          <a:xfrm>
            <a:off x="2051640" y="2761560"/>
            <a:ext cx="2457000" cy="20325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1" name="Рисунок 7" descr=""/>
          <p:cNvPicPr/>
          <p:nvPr/>
        </p:nvPicPr>
        <p:blipFill>
          <a:blip r:embed="rId4"/>
          <a:stretch/>
        </p:blipFill>
        <p:spPr>
          <a:xfrm>
            <a:off x="107640" y="4917960"/>
            <a:ext cx="271440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2" name="Рисунок 8" descr=""/>
          <p:cNvPicPr/>
          <p:nvPr/>
        </p:nvPicPr>
        <p:blipFill>
          <a:blip r:embed="rId5"/>
          <a:stretch/>
        </p:blipFill>
        <p:spPr>
          <a:xfrm>
            <a:off x="5378400" y="4917960"/>
            <a:ext cx="243792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3" name="Рисунок 9" descr=""/>
          <p:cNvPicPr/>
          <p:nvPr/>
        </p:nvPicPr>
        <p:blipFill>
          <a:blip r:embed="rId6"/>
          <a:stretch/>
        </p:blipFill>
        <p:spPr>
          <a:xfrm>
            <a:off x="2988000" y="4917960"/>
            <a:ext cx="230472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4" name="Рисунок 10" descr=""/>
          <p:cNvPicPr/>
          <p:nvPr/>
        </p:nvPicPr>
        <p:blipFill>
          <a:blip r:embed="rId7"/>
          <a:stretch/>
        </p:blipFill>
        <p:spPr>
          <a:xfrm>
            <a:off x="4634280" y="2739240"/>
            <a:ext cx="1809360" cy="20822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5" name="Рисунок 11" descr=""/>
          <p:cNvPicPr/>
          <p:nvPr/>
        </p:nvPicPr>
        <p:blipFill>
          <a:blip r:embed="rId8"/>
          <a:stretch/>
        </p:blipFill>
        <p:spPr>
          <a:xfrm>
            <a:off x="7816680" y="4917960"/>
            <a:ext cx="1235880" cy="1780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"/>
          <p:cNvPicPr/>
          <p:nvPr/>
        </p:nvPicPr>
        <p:blipFill>
          <a:blip r:embed="rId9"/>
          <a:stretch/>
        </p:blipFill>
        <p:spPr>
          <a:xfrm>
            <a:off x="6576480" y="116640"/>
            <a:ext cx="2387880" cy="11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71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Times New Roman"/>
              </a:rPr>
              <a:t>Теоретические основы познавательной сфе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640" y="908640"/>
            <a:ext cx="849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</a:rPr>
              <a:t>Познавательное развитие по ФГОС ДО –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это развитие интересов, любознательности, познавательной мотивации, развитие воображения и творческой активност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</a:rPr>
              <a:t>Познавательные процессы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 – это система психических функций, обеспечивающих отражение, познание субъектом явлений объективного мира, т.е. природной и социальной сред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595959"/>
                </a:solidFill>
                <a:latin typeface="Times New Roman"/>
              </a:rPr>
              <a:t>Познавательная сфера личности включает: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Ощущ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-    Восприят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Внима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Памя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Мышл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Вообра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1"/>
          <a:stretch/>
        </p:blipFill>
        <p:spPr>
          <a:xfrm>
            <a:off x="5004000" y="3861000"/>
            <a:ext cx="2504880" cy="2179080"/>
          </a:xfrm>
          <a:prstGeom prst="rect">
            <a:avLst/>
          </a:prstGeom>
          <a:ln w="0">
            <a:noFill/>
          </a:ln>
          <a:effectLst>
            <a:glow rad="63360">
              <a:srgbClr val="a8e034">
                <a:alpha val="40000"/>
              </a:srgbClr>
            </a:glow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85672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с кубика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уппе должны быть разнообразные наборы кубиков из дерева, пластмассы, поролона и др. Желательно, чтобы были кубики с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ыми и сюжетными картинками, с изображением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кв и цифр. Прежде чем организовывать игры-занятия с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биками, дайте малышам возможность свободно поигр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. Самые маленькие дети будут брать их в ру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вигать, бросать, постукивать, ставить друг на друг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д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ыши часто стремятся разрушить постройки. Не расценивайте эти действия как простое баловство: совершая их, ребенок получает возможность легко преобразовывать объекты, видеть результат своего действия. Старайтесь обыграть эти действия, соорудите башню вновь и позвольте ее опять разрушить. Со временем можно перейти к целенаправленным играм с кубикам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3132000" y="3868200"/>
            <a:ext cx="2880000" cy="25848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6721920" y="764640"/>
            <a:ext cx="2142720" cy="1583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"/>
          <p:cNvPicPr/>
          <p:nvPr/>
        </p:nvPicPr>
        <p:blipFill>
          <a:blip r:embed="rId3"/>
          <a:stretch/>
        </p:blipFill>
        <p:spPr>
          <a:xfrm>
            <a:off x="611640" y="3886920"/>
            <a:ext cx="2142720" cy="2566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"/>
          <p:cNvPicPr/>
          <p:nvPr/>
        </p:nvPicPr>
        <p:blipFill>
          <a:blip r:embed="rId4"/>
          <a:stretch/>
        </p:blipFill>
        <p:spPr>
          <a:xfrm>
            <a:off x="6516360" y="3943800"/>
            <a:ext cx="2190240" cy="250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84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с пирамидк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рамидка — очень полезная игрушка для малышей. Разбирая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бирая пирамидку, ребенок не только овладевает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ными практическими навыками, но и учится сравнивать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фицировать ее элементы по цвету и размеру, выстраив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в порядке убывания или возрастания величины. Участие ребенка в преобразовании пирамидки способствует формированию представлений об изменяемости внешнего вида одного и того же предмета и его обратимост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От большего — к меньшему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й игры используются традиционные пирамидки с кольцами разных размеров. В занятиях с самыми маленькими детьми сначала желательно использовать пирамидки из трех-четырех колечек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жите ребенку две пирамидки в собранном ви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те провести ладошкой или пальчиком п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и пирамидки сверху вниз и обратите ег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имание на то, какая она «ровная, гладкая». Разберит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месте с ребенком обе пирамидки и предложите: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авай соберем пирамидки снова, я — одну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ы — другую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6732360" y="4293000"/>
            <a:ext cx="1656000" cy="19328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856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Плоскостное конструировани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ой вид деятельности, как плоскостное конструирование, помогает ребенку создать изображение с помощью различных геометрических фигур (круг, овал, прямоугольник, треугольник, трапеция). Из этих фигур по заданному образу дети могут составить домик, цветочек, кораблик и др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йте ребенку лист бумаги, на котором нарисован цветочек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щий из кружка (сердцевина) и из 5–8 овалов (лепестков) и соответствующие им по форме и размеру вырезанные из картона детали. Предложите малышу собрать цветок, накладывая сердцевину и лепестки на контур. Задачу можно усложнить, если лепестки на образце и картонных деталей окрасить в разные цвет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акому же принципу из прямоугольника и двух кружков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оставить тележку; из двух-трех треугольников — елочку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нескольких кружков и трапеции — снеговика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прямоугольника и треугольника — домик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ребенок освоит приемы плоскостного конструирования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предлагать ему самостоятельно составлять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ки и целые композиции из предложенных детал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7434000" y="3357000"/>
            <a:ext cx="1638000" cy="25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1640" y="188640"/>
            <a:ext cx="8712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558ed5"/>
                </a:solidFill>
                <a:latin typeface="Times New Roman"/>
              </a:rPr>
              <a:t>Составные картинки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сложным вариантом плоскостного конструирования является работа с разрезными картинками. Собирая картинку по образцу, ребенок подбирает детали по цвету, рисунку, прикладывает их друг к другу, путем проб и ошибок отыскивает правильный вариант их соединени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Мозаи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с мозаикой очень полезны как для познавательного развития ребенка, так и для развития целенаправленности. Детям раннего возраста следует предлагать мозаики, состоящие из крупных элементов, которыми легко действовать. Выберите из предлагающихся к мозаике образцов самые простые, состоящие из небольшого числа деталей. Это могут быть домик с прямой крышей, цветок с тремя-четырьмя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пестками или простой геометрический узор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те с ребенком образец, помогит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брать необходимые по цвету и форме элементы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6372360" y="1429200"/>
            <a:ext cx="2268360" cy="17632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58" name="Рисунок 5" descr=""/>
          <p:cNvPicPr/>
          <p:nvPr/>
        </p:nvPicPr>
        <p:blipFill>
          <a:blip r:embed="rId2"/>
          <a:stretch/>
        </p:blipFill>
        <p:spPr>
          <a:xfrm>
            <a:off x="467640" y="1554120"/>
            <a:ext cx="2520000" cy="1658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3"/>
          <a:stretch/>
        </p:blipFill>
        <p:spPr>
          <a:xfrm>
            <a:off x="3245760" y="144936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Объект 3" descr=""/>
          <p:cNvPicPr/>
          <p:nvPr/>
        </p:nvPicPr>
        <p:blipFill>
          <a:blip r:embed="rId1"/>
          <a:stretch/>
        </p:blipFill>
        <p:spPr>
          <a:xfrm>
            <a:off x="899640" y="2853000"/>
            <a:ext cx="691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040" y="18864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Ощущ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06920" y="764640"/>
            <a:ext cx="87634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1e1c11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С ощущением ребенок уже рождается – это первая форма познания окружающей действи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С ощущений начинается развит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Различают пять основных  видов ощущ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1.Вкус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2.Такт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3.Обоня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4.Зр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5. Сл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4282560" y="2810880"/>
            <a:ext cx="4176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Восприят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640" y="760320"/>
            <a:ext cx="885672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</a:rPr>
              <a:t>Восприятие</a:t>
            </a: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ннем возрасте, это освоение основных сенсорных эталонов цвета, формы и величин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раннем возрасте (к 3 годам) восприятие носит предметный характер, т. е свойства предмета (цвет, форма, величина) на отделяются ребенком от самого предмета, а сливаются в единое целое с ним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уется восприятие мира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: круг, квадра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: маленький, больш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 - 4 основных цвет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ый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тый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й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ён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46764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1"/>
          <a:stretch/>
        </p:blipFill>
        <p:spPr>
          <a:xfrm>
            <a:off x="5796000" y="2988720"/>
            <a:ext cx="3096000" cy="216000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  <p:pic>
        <p:nvPicPr>
          <p:cNvPr id="95" name="Рисунок 7" descr=""/>
          <p:cNvPicPr/>
          <p:nvPr/>
        </p:nvPicPr>
        <p:blipFill>
          <a:blip r:embed="rId2"/>
          <a:stretch/>
        </p:blipFill>
        <p:spPr>
          <a:xfrm>
            <a:off x="5796000" y="5052600"/>
            <a:ext cx="3096000" cy="165600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116640"/>
            <a:ext cx="577080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558ed5"/>
                </a:solidFill>
                <a:latin typeface="Times New Roman"/>
              </a:rPr>
              <a:t>Внима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1e1c11"/>
                </a:solidFill>
                <a:uFillTx/>
                <a:latin typeface="Times New Roman"/>
              </a:rPr>
              <a:t>Вним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один из сложных познавательных процессов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558ed5"/>
                </a:solidFill>
                <a:latin typeface="Times New Roman"/>
              </a:rPr>
              <a:t>Внимание состоит из четырех свойств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концентрация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стойчивость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ереключение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распределение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Концентрация</a:t>
            </a:r>
            <a:r>
              <a:rPr b="1" i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это степень сосредоточенност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нания на одном и том же предмете, объекте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нцентрация внимания в раннем возрасте 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епроизвольная. Если понравился вид деятельности,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о ребенок увлекается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6732360" y="4221000"/>
            <a:ext cx="2265120" cy="252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relaxedInset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92872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Устойчи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характеристика внима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ени. Она определяется длительностью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я внимания на одном и том же объект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дной и той же задач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оизвольное внимание основано на интерес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етей раннего возраста устойчивость внимания 5 минут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Переключени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корость перемещения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куса внимания с одного объекта на другой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а от одного вида деятельности к другом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ючение внимания не зависит от возраста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зависит от темперамент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ангвиника и холерика процесс переключ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й и плохой уровень у флегматиков и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анхоликов. Переключение внимания можно натренирова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6945480" y="404640"/>
            <a:ext cx="1972440" cy="2016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cross" w="63500" h="63500"/>
            <a:contourClr>
              <a:srgbClr val="ffffff"/>
            </a:contourClr>
          </a:sp3d>
        </p:spPr>
      </p:pic>
      <p:pic>
        <p:nvPicPr>
          <p:cNvPr id="101" name="Рисунок 5" descr=""/>
          <p:cNvPicPr/>
          <p:nvPr/>
        </p:nvPicPr>
        <p:blipFill>
          <a:blip r:embed="rId2"/>
          <a:stretch/>
        </p:blipFill>
        <p:spPr>
          <a:xfrm>
            <a:off x="6660360" y="2997000"/>
            <a:ext cx="2234160" cy="3024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51640" y="188640"/>
            <a:ext cx="878472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Рас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свойство вни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щееся в процессе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ения не одного, а несколь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й одновременн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внимания в ранне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развито вообще и не формир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приобретение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i="1" lang="ru-RU" sz="2500" spc="-1" strike="noStrike">
                <a:solidFill>
                  <a:srgbClr val="558ed5"/>
                </a:solidFill>
                <a:latin typeface="Times New Roman"/>
              </a:rPr>
              <a:t>Особенности развития внимания у детей раннего возраст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ервые признаки внимания появляются на 2-3 недели жизни, в виде слухового и зрительного сосредото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В раннем возрасте внимание ребенка отражает его интерес к окружающим предметам и выполняемым с ними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сосредоточен до тех пор, пока не угаснет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нового предмета вызывает переключение в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6372360" y="332640"/>
            <a:ext cx="2567520" cy="288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slope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Память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>
            <a:off x="6598080" y="735480"/>
            <a:ext cx="2367360" cy="17427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divot" w="63500" h="63500"/>
            <a:contourClr>
              <a:srgbClr val="ffffff"/>
            </a:contourClr>
          </a:sp3d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692640"/>
            <a:ext cx="878472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Памя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сложный психический процесс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ющий как запечатление, сохранение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вание и воспроизведение человеком ег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39640" y="2997000"/>
            <a:ext cx="2108520" cy="3697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</a:t>
            </a:r>
            <a:r>
              <a:rPr b="1" lang="en-US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СИХ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1. ДВИГ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2. ОБРАЗ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1) ЗРИ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2) ОБОН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3)СЛУХ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4) ВКУС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5) ОС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3. ЭМОЦИОН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4. СЛОВЕС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ЛОГ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141000" y="2997000"/>
            <a:ext cx="2484720" cy="176400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ДОЛЖ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ХРА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6a0e0c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. КРАТКО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2. ДОЛГО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3. ОПЕРАТИ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132960" y="2997000"/>
            <a:ext cx="2086200" cy="13683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 СТЕПЕ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ВОЛ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РЕГУЛЯ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a0e0c"/>
                </a:solidFill>
                <a:latin typeface="Times New Roman"/>
              </a:rPr>
              <a:t>1.НЕПРОИЗВО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a0e0c"/>
                </a:solidFill>
                <a:latin typeface="Times New Roman"/>
              </a:rPr>
              <a:t>2. ПРОИЗВО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15640" y="2176920"/>
            <a:ext cx="2808000" cy="5043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ВИДЫ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3"/>
          <p:cNvCxnSpPr>
            <a:stCxn id="110" idx="2"/>
          </p:cNvCxnSpPr>
          <p:nvPr/>
        </p:nvCxnSpPr>
        <p:spPr>
          <a:xfrm flipH="1">
            <a:off x="2123640" y="2681280"/>
            <a:ext cx="2196360" cy="243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12" name="Прямая со стрелкой 11"/>
          <p:cNvCxnSpPr>
            <a:stCxn id="110" idx="2"/>
          </p:cNvCxnSpPr>
          <p:nvPr/>
        </p:nvCxnSpPr>
        <p:spPr>
          <a:xfrm>
            <a:off x="4319640" y="2681280"/>
            <a:ext cx="360" cy="315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13" name="Прямая со стрелкой 13"/>
          <p:cNvCxnSpPr>
            <a:stCxn id="110" idx="2"/>
          </p:cNvCxnSpPr>
          <p:nvPr/>
        </p:nvCxnSpPr>
        <p:spPr>
          <a:xfrm>
            <a:off x="4319640" y="2681280"/>
            <a:ext cx="2484720" cy="243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Возрастные особенности памяти </a:t>
            </a:r>
            <a:br>
              <a:rPr sz="3200"/>
            </a:b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у детей раннего возраст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знавание – первый процесс памяти,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яющийся у ребенк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ле 8 месяцев формируется воспроизведение –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становление в памяти образ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 дошкольному возрасту память становится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ирующей функцие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амять в раннем возрасте непроизвольна, ребенок не ставит перед собой цели что-то запомнить и не прилагает никаких усилий для запоминания. В его памяти  запечатлеваются интересные, эмоциональные,  красочные события и образы, а третий и четвертый год жизни становятся годами первых детских воспомина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5" descr=""/>
          <p:cNvPicPr/>
          <p:nvPr/>
        </p:nvPicPr>
        <p:blipFill>
          <a:blip r:embed="rId1"/>
          <a:stretch/>
        </p:blipFill>
        <p:spPr>
          <a:xfrm>
            <a:off x="6948360" y="1556640"/>
            <a:ext cx="2096280" cy="228564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</TotalTime>
  <Application>LibreOffice/7.4.7.2$Linux_X86_64 LibreOffice_project/40$Build-2</Application>
  <AppVersion>15.0000</AppVersion>
  <Words>2743</Words>
  <Paragraphs>2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5:56:08Z</dcterms:created>
  <dc:creator>Марина</dc:creator>
  <dc:description/>
  <dc:language>en-US</dc:language>
  <cp:lastModifiedBy>Admin</cp:lastModifiedBy>
  <dcterms:modified xsi:type="dcterms:W3CDTF">2021-05-30T19:51:08Z</dcterms:modified>
  <cp:revision>1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