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632-6F3C-4E8A-AA25-6125511D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A5C-898F-4343-8B32-C208DD32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94D-671C-46EB-A314-DAC762C4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A18-1A2C-497E-B2A0-06243FE4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1CE1-CA1B-4B4D-83B1-CFF84C6D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59CF-1138-4217-8433-FFECDA10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1C23-ADEF-408C-8EC8-A0E81DE3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DFA5-5A0C-4F94-9E7A-23E25CEE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B5CF-B7DF-43C8-A1EC-426EF327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B305-89D7-4DBA-8277-4102AECD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5E30-944C-4DE5-89BB-431CBDC8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030-612E-4D99-B7B5-C541143C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B1F4-EF95-46F5-B6B1-93F92B23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4491-EC91-4C6D-B037-55EE246B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741F-5C56-43B6-A393-6795CD6C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D9D6-9254-4FE7-ACD9-A1078C15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CA37-9930-4C03-9673-294A0FE0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E56F-BCB1-4198-9786-55A86949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5E87-CDC3-4A9C-88C4-F14399C4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231-AE5D-47D5-A240-4DD4F387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55D-B4B9-476F-8F55-D2A65DDD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C69-8A04-445C-BB3C-03742CF1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AE1-38E3-45F9-B55C-28050209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DBA-4CFC-4E09-BA1A-F9B3D97E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EC0613-EE79-4E6F-9D7F-E6547A04BDD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31B427-2FFD-4C81-9369-3758B58770C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457200" y="274680"/>
            <a:ext cx="7858800" cy="61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</a:rPr>
              <a:t>Государственное бюджетное дошкольное образовательное учреждение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Times New Roman"/>
              </a:rPr>
              <a:t>детский сад №24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Times New Roman"/>
              </a:rPr>
              <a:t>Киров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</a:rPr>
              <a:t>Познавательное развитие детей раннего возра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</a:rPr>
              <a:t>Подготовила: Мордовцева М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</a:rPr>
              <a:t>Группа: «Гном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Мышле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640" y="980640"/>
            <a:ext cx="8964000" cy="57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558ed5"/>
                </a:solidFill>
                <a:latin typeface="Times New Roman"/>
              </a:rPr>
              <a:t>Мышление</a:t>
            </a:r>
            <a:r>
              <a:rPr b="1" i="1" lang="ru-RU" sz="3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высший интеллектуальный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знавательный процесс. Оно дает возможность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знавать такие предметы и явления, которые не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гут быть непосредственно восприняты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рганами чувств. 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558ed5"/>
                </a:solidFill>
                <a:latin typeface="Times New Roman"/>
              </a:rPr>
              <a:t>Виды мышления: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ru-RU" sz="26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</a:rPr>
              <a:t>Наглядно-действенно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познание с помощью          манипулирования предметами – игрушками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ru-RU" sz="26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</a:rPr>
              <a:t>Наглядно-образно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познание с помощью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ставлений предметов, явлений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ru-RU" sz="26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</a:rPr>
              <a:t>Словесно-логическое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познание с помощью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нятий, слов, рассуждений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В развитии внимания формируется наглядно-действенное мышление (оно является ведущим до 3 лет). Больше никакого мышления не формируется. Ребенок думает с помощью рук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804360" y="2421000"/>
            <a:ext cx="2196360" cy="164376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softRound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rgbClr val="558ed5"/>
                </a:solidFill>
                <a:latin typeface="Times New Roman"/>
              </a:rPr>
              <a:t>Специальные приемы, или операции, используемые в процессе мыслительной деятельности: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640" y="1052640"/>
            <a:ext cx="8964000" cy="58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Анализ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мысленное разложение целого на части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Синте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мысленное объединение частей в единое целое;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Обобщ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мысленное объединение объектов по признаку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Сравнение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установление сходства, или различия между объектами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Абстраг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выделение существенных свойств предмета и отвлечение от несущественных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</a:rPr>
              <a:t>Особенности мышления детей раннего возраста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вые признаки мышления дети обнаруживают к концу первого года жизни. Ребенок начинает понимать, что одни вещи и действия могут использоваться для обозначения других, служить их заменой – формируется способность к замещению, умение использовать при решении умственных задач условные заменители реальных предметов и явлений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558ed5"/>
                </a:solidFill>
                <a:latin typeface="Times New Roman"/>
              </a:rPr>
              <a:t>Воображение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640" y="980640"/>
            <a:ext cx="88567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</a:rPr>
              <a:t>Воображе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– психический процесс создания образа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мета путем преобразования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альности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10243e"/>
                </a:solidFill>
                <a:latin typeface="Times New Roman"/>
              </a:rPr>
              <a:t>Виды воображения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оизвольно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произвольно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ннем возрасте воображение не развито, так как оно основано на процессах  памяти и мышления. У детей раннего возраста нет опыта, чтобы придумать что-то новое. Воображение начинает развиваться только в дошкольном возрасте.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6" descr=""/>
          <p:cNvPicPr/>
          <p:nvPr/>
        </p:nvPicPr>
        <p:blipFill>
          <a:blip r:embed="rId1"/>
          <a:stretch/>
        </p:blipFill>
        <p:spPr>
          <a:xfrm>
            <a:off x="5148000" y="1453320"/>
            <a:ext cx="3672000" cy="2263320"/>
          </a:xfrm>
          <a:prstGeom prst="rect">
            <a:avLst/>
          </a:prstGeom>
          <a:ln w="0">
            <a:noFill/>
          </a:ln>
          <a:effectLst>
            <a:glow rad="101520">
              <a:srgbClr val="267de6">
                <a:alpha val="40000"/>
              </a:srgbClr>
            </a:glow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divot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3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558ed5"/>
                </a:solidFill>
                <a:latin typeface="Times New Roman"/>
              </a:rPr>
              <a:t>Картотека игр для познавательного развития детей: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1640" y="1600200"/>
            <a:ext cx="8712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Каталки и тележк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играх с каталками и тележками ребенок учится захватывать ручки тележки или каталки, веревочку, к которой привязана машинка; управлять движением предмета, меняя его скорость и направление; координировать свои движения и движение предмет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«Змейка»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яжите к веревочке пустую пластиковую бутылку, предварительно поместив в нее горошины, бусины или мелкие игрушки. На веревочку (длиной около 60 см) можно нанизать разные предметы домашнего обихода: катушки, пластиковые пузырьки и т.д. Сделайте петельку, за которую поделку легко тянуть, и предложите ребенку повозить за собой «змейку»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«Каталки»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тель показывает детям, как катают тележку, и предлагает поиграть с ней. Самые маленькие дети будут катать игрушку без всякой цели, им будет интересно само это действие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7640" y="188640"/>
            <a:ext cx="8928720" cy="64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2000"/>
          </a:bodyPr>
          <a:p>
            <a:pPr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i="1" lang="ru-RU" sz="8000" spc="-1" strike="noStrike">
                <a:solidFill>
                  <a:srgbClr val="558ed5"/>
                </a:solidFill>
                <a:latin typeface="Times New Roman"/>
              </a:rPr>
              <a:t>Сачки, удочки, черпачки 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В процессе этих игр-занятий дети овладевают действиями  зачерпывания, захватывания, цепляния игрушки различными орудиями. Подготовьте емкости разного размера. Это могут быть аквариум, надувной бассейн, пластмассовые тазики и баночки с широким горлышком, корзинки, ведерки и т.п. Материал, которым вы заполняете данные емкости, должен различаться по размеру и физическим свойствам. Например, большие и маленькие, плавающие и тонущие предметы, предметы, пригодные для ловли в воде, и те, которые можно использовать для «сухой ловли»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Орудия, с помощью которых дети могут извлекать предметы, также должны быть разными по размеру и свойствам: ложки, черпачки, ковшики, ситечки, сачки, удочки с магнитом и т.д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i="1" lang="ru-RU" sz="9600" spc="-1" strike="noStrike">
                <a:solidFill>
                  <a:srgbClr val="558ed5"/>
                </a:solidFill>
                <a:latin typeface="Times New Roman"/>
              </a:rPr>
              <a:t>«Сачки и черпачки» </a:t>
            </a:r>
            <a:endParaRPr b="0" lang="ru-RU" sz="9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6400" spc="-1" strike="noStrike">
                <a:solidFill>
                  <a:srgbClr val="000000"/>
                </a:solidFill>
                <a:latin typeface="Times New Roman"/>
              </a:rPr>
              <a:t>Погрузите в емкость с водой плавающие и тонущие </a:t>
            </a:r>
            <a:endParaRPr b="0" lang="ru-RU" sz="6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6400" spc="-1" strike="noStrike">
                <a:solidFill>
                  <a:srgbClr val="000000"/>
                </a:solidFill>
                <a:latin typeface="Times New Roman"/>
              </a:rPr>
              <a:t>предметы, например, резиновую уточку, пластмассовый</a:t>
            </a:r>
            <a:endParaRPr b="0" lang="ru-RU" sz="6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6400" spc="-1" strike="noStrike">
                <a:solidFill>
                  <a:srgbClr val="000000"/>
                </a:solidFill>
                <a:latin typeface="Times New Roman"/>
              </a:rPr>
              <a:t>кораблик или рыбку, камешек, ракушку. Раздайте детям</a:t>
            </a:r>
            <a:endParaRPr b="0" lang="ru-RU" sz="6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6400" spc="-1" strike="noStrike">
                <a:solidFill>
                  <a:srgbClr val="000000"/>
                </a:solidFill>
                <a:latin typeface="Times New Roman"/>
              </a:rPr>
              <a:t>сачки, ситечки, ковшики, ложки. Помогите малышам</a:t>
            </a:r>
            <a:endParaRPr b="0" lang="ru-RU" sz="6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6400" spc="-1" strike="noStrike">
                <a:solidFill>
                  <a:srgbClr val="000000"/>
                </a:solidFill>
                <a:latin typeface="Times New Roman"/>
              </a:rPr>
              <a:t>удобно расположиться вокруг емкости так, чтобы они не </a:t>
            </a:r>
            <a:endParaRPr b="0" lang="ru-RU" sz="6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6400" spc="-1" strike="noStrike">
                <a:solidFill>
                  <a:srgbClr val="000000"/>
                </a:solidFill>
                <a:latin typeface="Times New Roman"/>
              </a:rPr>
              <a:t>толкали друг друга, и предложите им доставать из воды разные игрушки. Дети могут доставать игрушки по очереди или одновременно, складывать их в тазик, ведерко, корзинку. Попросите детей называть вылавливаемые предметы. Подобное занятие можно организовать в «сухом» бассейне, заполнив его мячами разного размера, которые ребенок извлекает ковшиком, черпачком, сачком. </a:t>
            </a:r>
            <a:endParaRPr b="0" lang="ru-RU" sz="6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i="1" lang="ru-RU" sz="8000" spc="-1" strike="noStrike">
                <a:solidFill>
                  <a:srgbClr val="558ed5"/>
                </a:solidFill>
                <a:latin typeface="Times New Roman"/>
              </a:rPr>
              <a:t>«Удочки с магнитом» 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1281"/>
              </a:spcBef>
              <a:buNone/>
              <a:tabLst>
                <a:tab algn="l" pos="0"/>
              </a:tabLst>
            </a:pPr>
            <a:r>
              <a:rPr b="0" lang="ru-RU" sz="6400" spc="-1" strike="noStrike">
                <a:solidFill>
                  <a:srgbClr val="000000"/>
                </a:solidFill>
                <a:latin typeface="Times New Roman"/>
              </a:rPr>
              <a:t>В прозрачную, наполненную водой банку или аквариум опустите пластмассовых рыбок с металлическими вкладками и подготовьте удочку с магнитом на конце лески. Скажите детям: «Давайте попробуем поймать рыбок вот этой волшебной удочкой». Дайте малышам рассмотреть удочку. Покажите, как удочкой можно поймать рыбку. Вместо сосуда с водой и рыбок можно использовать любую другую емкость (коробку, ведерко) и магнитные держатели, которые сейчас широко используют в быту и в офисах для крепления бумаг на металлических поверхностях.</a:t>
            </a:r>
            <a:endParaRPr b="0" lang="ru-RU" sz="6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4" descr=""/>
          <p:cNvPicPr/>
          <p:nvPr/>
        </p:nvPicPr>
        <p:blipFill>
          <a:blip r:embed="rId1"/>
          <a:stretch/>
        </p:blipFill>
        <p:spPr>
          <a:xfrm>
            <a:off x="6516360" y="3069000"/>
            <a:ext cx="2323800" cy="180000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640" y="116640"/>
            <a:ext cx="885672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«Насыпаем — высыпаем»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ые маленькие дети будут с удовольствием насыпать и пересыпать песок совочком из песочницы в ведерко, а из ведерка — в формочки; крупу — ложкой или ковшиком из миски в кружечку и обратно. Помогите малышам правильно удерживать в руке инструмент, следите за тем, чтобы песок не попал детям в глаза или в рот. Научите малышей насыпать песок совочком в ведерки,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очки, утрамбовывать его лопаткой или ладошко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«Копаем»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ое интересное занятие — выкапывать ямки,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капывать «дороги», закапывать в песок камешк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и другие предметы, а потом выкапывать их, мешат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сок в формочке — «варить кашу»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«Постройки из песка»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могите малышам построить из песка дом или несколько домиков, используя совок, лопатку. С помощью совка можно проложить дорожки вокруг дома или от одного домика к другому, дорожки можно выложить камешками. Предложите малышам соорудить вокруг домика ограду из прутиков, посадить «деревца» или цветочки: получится «садик». Если рядом выкопать ямку и заполнить ее водой, получится «пруд» или «озеро». Над прудиком можно соорудить мостик из дощечки, запустить в воду «лодочки» (скорлупки от орехов, крышки от бутылок и т.д.). Если насыпать горку и выкопать в ней нишу, получится «гараж». Можно поместить туда машинки. Если прокопать горку насквозь, получится тоннель, через который машинки смогут проезжать. Спросите детей, что еще они хотят построить в песочнице, помогите им реализовать свой замысел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6588360" y="1845000"/>
            <a:ext cx="2277360" cy="151164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7640" y="260640"/>
            <a:ext cx="8856720" cy="58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Кнопки, застежки, замочки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развития ручных действий полезно манипулирование разнообразными кнопками и выключателями, креплениями, застежками, шнурками и пр. Занятия с этими предметами способствуют развитию координации движений глаз и руки, точности движений и результативности действий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группе в открытом доступе должны быть соответствующие игрушки, бытовые предметы, специальные пособия, тренажеры. Воспитатель показывает детям возможные действия со всеми предметами, при необходимости помогает ребенку освоить их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«Застегиваем — расстегиваем»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стенд, покрытый плотной тканью, прикрепите разноцветные пуговицы и петли разного размера, полоски со шнуровкой (с большими отверстиями), крупные молнии, кнопки, крючки и петли так, чтобы ребенок мог легко их застегнуть и расстегнуть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«Открываем — закрываем»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берите наборы бытовых предметов с разным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ами застежек и запоров (кошельки, сумочки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катулки, футляры и др.)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жите в них маленькие игрушки и предложите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ям достать их. При затруднениях покажите детям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открывается запор, помогите им выполнит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жное действие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640" y="116640"/>
            <a:ext cx="878472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«Нанизываем бусы»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ожите детям изготовить «бусы» для большой игрушки (медведя, тигра, бегемота и т.п.). Подготовьте куски гибкой проволоки и «бусины» — разнообразные предметы с большими отверстиями. Это могут быть катушки, кольца от пирамидок, кольца для штор, детали от конструктора, обрезанные с двух сторон пластиковые бутылки и пр. Самым младшим детям легче действовать с крупными деталями, более старшим можно предлагать детали меньшего размера. Кто-то из детей сможет нанизывать «бусы» не только на проволоку, но и на веревочку. Можно предложить нескольким малышам делать одни бусы вместе с воспитателем: по очереди нанизывать «бусины» на веревку. Готовое изделие наденьте на игрушку, поблагодарите детей от ее имени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«Шнуровка»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нообразные приспособления для шнуровки можно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обрести в магазинах игрушек: большие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ревянные пуговицы и деревянная иголка со шнурком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ревянный «сыр» с дырками, набор для «вышивания» -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тянутая на рамку канва с большими ячейками 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ревянная игла со шнурком и др. Самые маленькие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смогут продевать шнурок в любые отверстия, более старшие — «вышивать» узоры, продевая шнурок в нужные отверстия.  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"/>
          <p:cNvPicPr/>
          <p:nvPr/>
        </p:nvPicPr>
        <p:blipFill>
          <a:blip r:embed="rId1"/>
          <a:stretch/>
        </p:blipFill>
        <p:spPr>
          <a:xfrm>
            <a:off x="6437880" y="3141000"/>
            <a:ext cx="2466720" cy="16560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"/>
          <p:cNvPicPr/>
          <p:nvPr/>
        </p:nvPicPr>
        <p:blipFill>
          <a:blip r:embed="rId2"/>
          <a:stretch/>
        </p:blipFill>
        <p:spPr>
          <a:xfrm>
            <a:off x="6882480" y="5371920"/>
            <a:ext cx="15771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640" y="188640"/>
            <a:ext cx="878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Игры и занятия, направленные на развитие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восприятия и мышления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шление ребенка до трех лет непосредственно связано с восприятием: он мыслит, устанавливая связи между воспринимаемыми предметами и действуя с ними. Важно, чтобы ребенок научился сам выделять нужные свойства предметов, чтобы он сам подбирал и соединял части в нужном порядке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ы с соответствующими предметами развивают разные познавательные процессы ребенка: мышление, движения, восприятие, внимание, память, и речь. Для развивающих игр с малышами лучше использовать различные составные игрушки, которые требуют соотнесения размеров или цвета разных деталей. Для ребенка от года до трех больше всего подходят игры с пирамидками, кубиками, различного рода вкладышами, матрешками,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также игры с картинками. В некоторых случаях будут необходимы два одинаковых предмета: один — для показа и образца, другой — для воспроизведения действия с ним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Times New Roman"/>
              </a:rPr>
              <a:t>Игры с вкладышам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ществует множество разнообразных наборов-вкладышей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боры вкладышей, которые представляют собой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сколько — от 3 до 12 — полых предметов одинако-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й формы и разного размера (кубики, стаканчики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илиндры, мисочки, половинки шара), убывающие по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личине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4" descr=""/>
          <p:cNvPicPr/>
          <p:nvPr/>
        </p:nvPicPr>
        <p:blipFill>
          <a:blip r:embed="rId1"/>
          <a:stretch/>
        </p:blipFill>
        <p:spPr>
          <a:xfrm>
            <a:off x="6588360" y="4941000"/>
            <a:ext cx="2178360" cy="163152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7640" y="188640"/>
            <a:ext cx="892872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ские вкладыши со штампованными углублениям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и вырезанными отверстиями разной формы и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ующими им фигурами, абстрактными 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метным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ъемные вкладыши (большие и маленькие кубы,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мики, коробки) с прорезями разной формы и соответствующими деталям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такими наборами малыши могут заниматься как самостоятельно, так и вместе со взрослым. В процессе занятий со вкладышами дети учатся соотносить предметы по форме, размеру и цвету. Эти игры нужно проводить сначала индивидуально с каждым ребенком, затем с небольшой группой детей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4" descr=""/>
          <p:cNvPicPr/>
          <p:nvPr/>
        </p:nvPicPr>
        <p:blipFill>
          <a:blip r:embed="rId1"/>
          <a:stretch/>
        </p:blipFill>
        <p:spPr>
          <a:xfrm>
            <a:off x="107640" y="2739240"/>
            <a:ext cx="1800000" cy="205488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pic>
        <p:nvPicPr>
          <p:cNvPr id="139" name="Рисунок 5" descr=""/>
          <p:cNvPicPr/>
          <p:nvPr/>
        </p:nvPicPr>
        <p:blipFill>
          <a:blip r:embed="rId2"/>
          <a:stretch/>
        </p:blipFill>
        <p:spPr>
          <a:xfrm>
            <a:off x="6524280" y="2750760"/>
            <a:ext cx="2520000" cy="208224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pic>
        <p:nvPicPr>
          <p:cNvPr id="140" name="Рисунок 6" descr=""/>
          <p:cNvPicPr/>
          <p:nvPr/>
        </p:nvPicPr>
        <p:blipFill>
          <a:blip r:embed="rId3"/>
          <a:stretch/>
        </p:blipFill>
        <p:spPr>
          <a:xfrm>
            <a:off x="2051640" y="2761560"/>
            <a:ext cx="2457000" cy="203256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pic>
        <p:nvPicPr>
          <p:cNvPr id="141" name="Рисунок 7" descr=""/>
          <p:cNvPicPr/>
          <p:nvPr/>
        </p:nvPicPr>
        <p:blipFill>
          <a:blip r:embed="rId4"/>
          <a:stretch/>
        </p:blipFill>
        <p:spPr>
          <a:xfrm>
            <a:off x="107640" y="4917960"/>
            <a:ext cx="2714400" cy="178092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pic>
        <p:nvPicPr>
          <p:cNvPr id="142" name="Рисунок 8" descr=""/>
          <p:cNvPicPr/>
          <p:nvPr/>
        </p:nvPicPr>
        <p:blipFill>
          <a:blip r:embed="rId5"/>
          <a:stretch/>
        </p:blipFill>
        <p:spPr>
          <a:xfrm>
            <a:off x="5378400" y="4917960"/>
            <a:ext cx="2437920" cy="178092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pic>
        <p:nvPicPr>
          <p:cNvPr id="143" name="Рисунок 9" descr=""/>
          <p:cNvPicPr/>
          <p:nvPr/>
        </p:nvPicPr>
        <p:blipFill>
          <a:blip r:embed="rId6"/>
          <a:stretch/>
        </p:blipFill>
        <p:spPr>
          <a:xfrm>
            <a:off x="2988000" y="4917960"/>
            <a:ext cx="2304720" cy="178092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pic>
        <p:nvPicPr>
          <p:cNvPr id="144" name="Рисунок 10" descr=""/>
          <p:cNvPicPr/>
          <p:nvPr/>
        </p:nvPicPr>
        <p:blipFill>
          <a:blip r:embed="rId7"/>
          <a:stretch/>
        </p:blipFill>
        <p:spPr>
          <a:xfrm>
            <a:off x="4634280" y="2739240"/>
            <a:ext cx="1809360" cy="208224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pic>
        <p:nvPicPr>
          <p:cNvPr id="145" name="Рисунок 11" descr=""/>
          <p:cNvPicPr/>
          <p:nvPr/>
        </p:nvPicPr>
        <p:blipFill>
          <a:blip r:embed="rId8"/>
          <a:stretch/>
        </p:blipFill>
        <p:spPr>
          <a:xfrm>
            <a:off x="7816680" y="4917960"/>
            <a:ext cx="1235880" cy="17809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3" descr=""/>
          <p:cNvPicPr/>
          <p:nvPr/>
        </p:nvPicPr>
        <p:blipFill>
          <a:blip r:embed="rId9"/>
          <a:stretch/>
        </p:blipFill>
        <p:spPr>
          <a:xfrm>
            <a:off x="6576480" y="116640"/>
            <a:ext cx="2387880" cy="11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71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558ed5"/>
                </a:solidFill>
                <a:latin typeface="Times New Roman"/>
              </a:rPr>
              <a:t>Теоретические основы познавательной сфер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640" y="908640"/>
            <a:ext cx="849672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17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imes New Roman"/>
              </a:rPr>
              <a:t>Познавательное развитие по ФГОС ДО –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</a:rPr>
              <a:t>это развитие интересов, любознательности, познавательной мотивации, развитие воображения и творческой активност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17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imes New Roman"/>
              </a:rPr>
              <a:t>Познавательные процессы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</a:rPr>
              <a:t> – это система психических функций, обеспечивающих отражение, познание субъектом явлений объективного мира, т.е. природной и социальной сред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1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595959"/>
                </a:solidFill>
                <a:latin typeface="Times New Roman"/>
              </a:rPr>
              <a:t>Познавательная сфера личности включает: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61160" indent="-419400">
              <a:lnSpc>
                <a:spcPct val="100000"/>
              </a:lnSpc>
              <a:spcBef>
                <a:spcPts val="641"/>
              </a:spcBef>
              <a:buClr>
                <a:srgbClr val="404040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Ощущ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1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-    Восприят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61160" indent="-419400">
              <a:lnSpc>
                <a:spcPct val="100000"/>
              </a:lnSpc>
              <a:spcBef>
                <a:spcPts val="641"/>
              </a:spcBef>
              <a:buClr>
                <a:srgbClr val="404040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Внима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61160" indent="-419400">
              <a:lnSpc>
                <a:spcPct val="100000"/>
              </a:lnSpc>
              <a:spcBef>
                <a:spcPts val="641"/>
              </a:spcBef>
              <a:buClr>
                <a:srgbClr val="404040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Памят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61160" indent="-419400">
              <a:lnSpc>
                <a:spcPct val="100000"/>
              </a:lnSpc>
              <a:spcBef>
                <a:spcPts val="641"/>
              </a:spcBef>
              <a:buClr>
                <a:srgbClr val="404040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Мышл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61160" indent="-419400">
              <a:lnSpc>
                <a:spcPct val="100000"/>
              </a:lnSpc>
              <a:spcBef>
                <a:spcPts val="641"/>
              </a:spcBef>
              <a:buClr>
                <a:srgbClr val="404040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Воображ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10" descr=""/>
          <p:cNvPicPr/>
          <p:nvPr/>
        </p:nvPicPr>
        <p:blipFill>
          <a:blip r:embed="rId1"/>
          <a:stretch/>
        </p:blipFill>
        <p:spPr>
          <a:xfrm>
            <a:off x="5004000" y="3861000"/>
            <a:ext cx="2504880" cy="2179080"/>
          </a:xfrm>
          <a:prstGeom prst="rect">
            <a:avLst/>
          </a:prstGeom>
          <a:ln w="0">
            <a:noFill/>
          </a:ln>
          <a:effectLst>
            <a:glow rad="63360">
              <a:srgbClr val="a8e034">
                <a:alpha val="40000"/>
              </a:srgbClr>
            </a:glow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7640" y="116640"/>
            <a:ext cx="8856720" cy="66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Игры с кубикам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группе должны быть разнообразные наборы кубиков из дерева, пластмассы, поролона и др. Желательно, чтобы были кубики с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метными и сюжетными картинками, с изображением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кв и цифр. Прежде чем организовывать игры-занятия с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биками, дайте малышам возможность свободно поиграт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ними. Самые маленькие дети будут брать их в руки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двигать, бросать, постукивать, ставить друг на друга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т.д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лыши часто стремятся разрушить постройки. Не расценивайте эти действия как простое баловство: совершая их, ребенок получает возможность легко преобразовывать объекты, видеть результат своего действия. Старайтесь обыграть эти действия, соорудите башню вновь и позвольте ее опять разрушить. Со временем можно перейти к целенаправленным играм с кубиками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3" descr=""/>
          <p:cNvPicPr/>
          <p:nvPr/>
        </p:nvPicPr>
        <p:blipFill>
          <a:blip r:embed="rId1"/>
          <a:stretch/>
        </p:blipFill>
        <p:spPr>
          <a:xfrm>
            <a:off x="3132000" y="3868200"/>
            <a:ext cx="2880000" cy="258480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pic>
        <p:nvPicPr>
          <p:cNvPr id="149" name="Рисунок 4" descr=""/>
          <p:cNvPicPr/>
          <p:nvPr/>
        </p:nvPicPr>
        <p:blipFill>
          <a:blip r:embed="rId2"/>
          <a:stretch/>
        </p:blipFill>
        <p:spPr>
          <a:xfrm>
            <a:off x="6721920" y="764640"/>
            <a:ext cx="2142720" cy="15836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" descr=""/>
          <p:cNvPicPr/>
          <p:nvPr/>
        </p:nvPicPr>
        <p:blipFill>
          <a:blip r:embed="rId3"/>
          <a:stretch/>
        </p:blipFill>
        <p:spPr>
          <a:xfrm>
            <a:off x="611640" y="3886920"/>
            <a:ext cx="2142720" cy="25660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6" descr=""/>
          <p:cNvPicPr/>
          <p:nvPr/>
        </p:nvPicPr>
        <p:blipFill>
          <a:blip r:embed="rId4"/>
          <a:stretch/>
        </p:blipFill>
        <p:spPr>
          <a:xfrm>
            <a:off x="6516360" y="3943800"/>
            <a:ext cx="2190240" cy="250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9640" y="188640"/>
            <a:ext cx="878472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Игры с пирамидкой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рамидка — очень полезная игрушка для малышей. Разбирая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собирая пирамидку, ребенок не только овладевает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ными практическими навыками, но и учится сравнивать 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ассифицировать ее элементы по цвету и размеру, выстраиват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в порядке убывания или возрастания величины. Участие ребенка в преобразовании пирамидки способствует формированию представлений об изменяемости внешнего вида одного и того же предмета и его обратимост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«От большего — к меньшему»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этой игры используются традиционные пирамидки с кольцами разных размеров. В занятиях с самыми маленькими детьми сначала желательно использовать пирамидки из трех-четырех колечек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жите ребенку две пирамидки в собранном виде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ожите провести ладошкой или пальчиком по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ерхности пирамидки сверху вниз и обратите его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имание на то, какая она «ровная, гладкая». Разберите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месте с ребенком обе пирамидки и предложите: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Давай соберем пирамидки снова, я — одну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ты — другую»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3" descr=""/>
          <p:cNvPicPr/>
          <p:nvPr/>
        </p:nvPicPr>
        <p:blipFill>
          <a:blip r:embed="rId1"/>
          <a:stretch/>
        </p:blipFill>
        <p:spPr>
          <a:xfrm>
            <a:off x="6732360" y="4293000"/>
            <a:ext cx="1656000" cy="193284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640" y="188640"/>
            <a:ext cx="885672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Плоскостное конструирование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ой вид деятельности, как плоскостное конструирование, помогает ребенку создать изображение с помощью различных геометрических фигур (круг, овал, прямоугольник, треугольник, трапеция). Из этих фигур по заданному образу дети могут составить домик, цветочек, кораблик и др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йте ребенку лист бумаги, на котором нарисован цветочек,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ящий из кружка (сердцевина) и из 5–8 овалов (лепестков) и соответствующие им по форме и размеру вырезанные из картона детали. Предложите малышу собрать цветок, накладывая сердцевину и лепестки на контур. Задачу можно усложнить, если лепестки на образце и картонных деталей окрасить в разные цвета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такому же принципу из прямоугольника и двух кружков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жно составить тележку; из двух-трех треугольников — елочку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нескольких кружков и трапеции — снеговика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прямоугольника и треугольника — домик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ребенок освоит приемы плоскостного конструирования,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жно предлагать ему самостоятельно составлять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гурки и целые композиции из предложенных деталей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1"/>
          <a:stretch/>
        </p:blipFill>
        <p:spPr>
          <a:xfrm>
            <a:off x="7434000" y="3357000"/>
            <a:ext cx="1638000" cy="25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1640" y="188640"/>
            <a:ext cx="871272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rgbClr val="558ed5"/>
                </a:solidFill>
                <a:latin typeface="Times New Roman"/>
              </a:rPr>
              <a:t>Составные картинки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ее сложным вариантом плоскостного конструирования является работа с разрезными картинками. Собирая картинку по образцу, ребенок подбирает детали по цвету, рисунку, прикладывает их друг к другу, путем проб и ошибок отыскивает правильный вариант их соединения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</a:rPr>
              <a:t>Мозаи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нятия с мозаикой очень полезны как для познавательного развития ребенка, так и для развития целенаправленности. Детям раннего возраста следует предлагать мозаики, состоящие из крупных элементов, которыми легко действовать. Выберите из предлагающихся к мозаике образцов самые простые, состоящие из небольшого числа деталей. Это могут быть домик с прямой крышей, цветок с тремя-четырьмя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пестками или простой геометрический узор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мотрите с ребенком образец, помогите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обрать необходимые по цвету и форме элементы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Рисунок 4" descr=""/>
          <p:cNvPicPr/>
          <p:nvPr/>
        </p:nvPicPr>
        <p:blipFill>
          <a:blip r:embed="rId1"/>
          <a:stretch/>
        </p:blipFill>
        <p:spPr>
          <a:xfrm>
            <a:off x="6372360" y="1429200"/>
            <a:ext cx="2268360" cy="176328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pic>
        <p:nvPicPr>
          <p:cNvPr id="158" name="Рисунок 5" descr=""/>
          <p:cNvPicPr/>
          <p:nvPr/>
        </p:nvPicPr>
        <p:blipFill>
          <a:blip r:embed="rId2"/>
          <a:stretch/>
        </p:blipFill>
        <p:spPr>
          <a:xfrm>
            <a:off x="467640" y="1554120"/>
            <a:ext cx="2520000" cy="16585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7" descr=""/>
          <p:cNvPicPr/>
          <p:nvPr/>
        </p:nvPicPr>
        <p:blipFill>
          <a:blip r:embed="rId3"/>
          <a:stretch/>
        </p:blipFill>
        <p:spPr>
          <a:xfrm>
            <a:off x="3245760" y="1449360"/>
            <a:ext cx="261900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558ed5"/>
                </a:solidFill>
                <a:latin typeface="Times New Roman"/>
              </a:rPr>
              <a:t>СПАСИБО ЗА ВНИМАНИЕ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Объект 3" descr=""/>
          <p:cNvPicPr/>
          <p:nvPr/>
        </p:nvPicPr>
        <p:blipFill>
          <a:blip r:embed="rId1"/>
          <a:stretch/>
        </p:blipFill>
        <p:spPr>
          <a:xfrm>
            <a:off x="899640" y="2853000"/>
            <a:ext cx="6912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040" y="18864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558ed5"/>
                </a:solidFill>
                <a:latin typeface="Times New Roman"/>
              </a:rPr>
              <a:t>Ощуще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06920" y="764640"/>
            <a:ext cx="87634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1e1c11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1e1c11"/>
                </a:solidFill>
                <a:latin typeface="Times New Roman"/>
              </a:rPr>
              <a:t>С ощущением ребенок уже рождается – это первая форма познания окружающей действи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1e1c11"/>
                </a:solidFill>
                <a:latin typeface="Times New Roman"/>
              </a:rPr>
              <a:t>С ощущений начинается развитие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Различают пять основных  видов ощущ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i="1" lang="ru-RU" sz="3200" spc="-1" strike="noStrike">
                <a:solidFill>
                  <a:srgbClr val="1e1c11"/>
                </a:solidFill>
                <a:latin typeface="Times New Roman"/>
              </a:rPr>
              <a:t>1.Вкусо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i="1" lang="ru-RU" sz="3200" spc="-1" strike="noStrike">
                <a:solidFill>
                  <a:srgbClr val="1e1c11"/>
                </a:solidFill>
                <a:latin typeface="Times New Roman"/>
              </a:rPr>
              <a:t>2.Такти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i="1" lang="ru-RU" sz="3200" spc="-1" strike="noStrike">
                <a:solidFill>
                  <a:srgbClr val="1e1c11"/>
                </a:solidFill>
                <a:latin typeface="Times New Roman"/>
              </a:rPr>
              <a:t>3.Обоня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i="1" lang="ru-RU" sz="3200" spc="-1" strike="noStrike">
                <a:solidFill>
                  <a:srgbClr val="1e1c11"/>
                </a:solidFill>
                <a:latin typeface="Times New Roman"/>
              </a:rPr>
              <a:t>4.Зрите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i="1" lang="ru-RU" sz="3200" spc="-1" strike="noStrike">
                <a:solidFill>
                  <a:srgbClr val="1e1c11"/>
                </a:solidFill>
                <a:latin typeface="Times New Roman"/>
              </a:rPr>
              <a:t>5. Слух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"/>
          <p:cNvPicPr/>
          <p:nvPr/>
        </p:nvPicPr>
        <p:blipFill>
          <a:blip r:embed="rId1"/>
          <a:stretch/>
        </p:blipFill>
        <p:spPr>
          <a:xfrm>
            <a:off x="4282560" y="2810880"/>
            <a:ext cx="417600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558ed5"/>
                </a:solidFill>
                <a:latin typeface="Times New Roman"/>
              </a:rPr>
              <a:t>Восприят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640" y="760320"/>
            <a:ext cx="885672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Times New Roman"/>
              </a:rPr>
              <a:t>Восприятие</a:t>
            </a:r>
            <a:r>
              <a:rPr b="1" lang="ru-RU" sz="2800" spc="-1" strike="noStrike">
                <a:solidFill>
                  <a:srgbClr val="558ed5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ннем возрасте, это освоение основных сенсорных эталонов цвета, формы и величин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В раннем возрасте (к 3 годам) восприятие носит предметный характер, т. е свойства предмета (цвет, форма, величина) на отделяются ребенком от самого предмета, а сливаются в единое целое с ним.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Формируется восприятие мира: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а: круг, квадрат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а: маленький, большой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вет - 4 основных цвет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сный,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лтый,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ий,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елёны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Заголовок 1"/>
          <p:cNvSpPr/>
          <p:nvPr/>
        </p:nvSpPr>
        <p:spPr>
          <a:xfrm>
            <a:off x="46764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6" descr=""/>
          <p:cNvPicPr/>
          <p:nvPr/>
        </p:nvPicPr>
        <p:blipFill>
          <a:blip r:embed="rId1"/>
          <a:stretch/>
        </p:blipFill>
        <p:spPr>
          <a:xfrm>
            <a:off x="5796000" y="2988720"/>
            <a:ext cx="3096000" cy="216000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>
            <a:bevelT prst="coolSlant" w="165100"/>
          </a:sp3d>
        </p:spPr>
      </p:pic>
      <p:pic>
        <p:nvPicPr>
          <p:cNvPr id="95" name="Рисунок 7" descr=""/>
          <p:cNvPicPr/>
          <p:nvPr/>
        </p:nvPicPr>
        <p:blipFill>
          <a:blip r:embed="rId2"/>
          <a:stretch/>
        </p:blipFill>
        <p:spPr>
          <a:xfrm>
            <a:off x="5796000" y="5052600"/>
            <a:ext cx="3096000" cy="165600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>
            <a:bevelT prst="coolSlant" w="16510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7640" y="116640"/>
            <a:ext cx="577080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558ed5"/>
                </a:solidFill>
                <a:latin typeface="Times New Roman"/>
              </a:rPr>
              <a:t>Внимание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3640" cy="60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1e1c11"/>
                </a:solidFill>
                <a:uFillTx/>
                <a:latin typeface="Times New Roman"/>
              </a:rPr>
              <a:t>Вним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один из сложных познавательных процессов.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558ed5"/>
                </a:solidFill>
                <a:latin typeface="Times New Roman"/>
              </a:rPr>
              <a:t>Внимание состоит из четырех свойств: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концентрация;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устойчивость;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ереключение;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распределение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Концентрация</a:t>
            </a:r>
            <a:r>
              <a:rPr b="1" i="1" lang="ru-RU" sz="24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 это степень сосредоточенности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знания на одном и том же предмете, объекте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еятельности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Концентрация внимания в раннем возрасте 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непроизвольная. Если понравился вид деятельности,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то ребенок увлекается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"/>
          <p:cNvPicPr/>
          <p:nvPr/>
        </p:nvPicPr>
        <p:blipFill>
          <a:blip r:embed="rId1"/>
          <a:stretch/>
        </p:blipFill>
        <p:spPr>
          <a:xfrm>
            <a:off x="6732360" y="4221000"/>
            <a:ext cx="2265120" cy="252000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relaxedInset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7640" y="116640"/>
            <a:ext cx="8928720" cy="66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558ed5"/>
                </a:solidFill>
                <a:latin typeface="Times New Roman"/>
              </a:rPr>
              <a:t>Устойчив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характеристика внимания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 времени. Она определяется длительностью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ения внимания на одном и том же объекте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одной и той же задаче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произвольное внимание основано на интересе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детей раннего возраста устойчивость внимания 5 минут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558ed5"/>
                </a:solidFill>
                <a:latin typeface="Times New Roman"/>
              </a:rPr>
              <a:t>Переключение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скорость перемещения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куса внимания с одного объекта на другой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а от одного вида деятельности к другому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ключение внимания не зависит от возраста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зависит от темперамента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сангвиника и холерика процесс переключения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ий и плохой уровень у флегматиков и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ланхоликов. Переключение внимания можно натренировать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4" descr=""/>
          <p:cNvPicPr/>
          <p:nvPr/>
        </p:nvPicPr>
        <p:blipFill>
          <a:blip r:embed="rId1"/>
          <a:stretch/>
        </p:blipFill>
        <p:spPr>
          <a:xfrm>
            <a:off x="6945480" y="404640"/>
            <a:ext cx="1972440" cy="201600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cross" w="63500" h="63500"/>
            <a:contourClr>
              <a:srgbClr val="ffffff"/>
            </a:contourClr>
          </a:sp3d>
        </p:spPr>
      </p:pic>
      <p:pic>
        <p:nvPicPr>
          <p:cNvPr id="101" name="Рисунок 5" descr=""/>
          <p:cNvPicPr/>
          <p:nvPr/>
        </p:nvPicPr>
        <p:blipFill>
          <a:blip r:embed="rId2"/>
          <a:stretch/>
        </p:blipFill>
        <p:spPr>
          <a:xfrm>
            <a:off x="6660360" y="2997000"/>
            <a:ext cx="2234160" cy="302400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51640" y="188640"/>
            <a:ext cx="8784720" cy="63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558ed5"/>
                </a:solidFill>
                <a:latin typeface="Times New Roman"/>
              </a:rPr>
              <a:t>Рас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свойство вним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являющееся в процессе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ения не одного, а несколь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ий одновременно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внимания в раннем возра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развито вообще и не формиру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приобретение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i="1" lang="ru-RU" sz="2500" spc="-1" strike="noStrike">
                <a:solidFill>
                  <a:srgbClr val="558ed5"/>
                </a:solidFill>
                <a:latin typeface="Times New Roman"/>
              </a:rPr>
              <a:t>Особенности развития внимания у детей раннего возраста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ервые признаки внимания появляются на 2-3 недели жизни, в виде слухового и зрительного сосредоточ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В раннем возрасте внимание ребенка отражает его интерес к окружающим предметам и выполняемым с ними действ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ок сосредоточен до тех пор, пока не угаснет интер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вление нового предмета вызывает переключение вним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8b8b8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6" descr=""/>
          <p:cNvPicPr/>
          <p:nvPr/>
        </p:nvPicPr>
        <p:blipFill>
          <a:blip r:embed="rId1"/>
          <a:stretch/>
        </p:blipFill>
        <p:spPr>
          <a:xfrm>
            <a:off x="6372360" y="332640"/>
            <a:ext cx="2567520" cy="288000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slope" w="63500" h="6350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57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Память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4" descr=""/>
          <p:cNvPicPr/>
          <p:nvPr/>
        </p:nvPicPr>
        <p:blipFill>
          <a:blip r:embed="rId1"/>
          <a:stretch/>
        </p:blipFill>
        <p:spPr>
          <a:xfrm>
            <a:off x="6598080" y="735480"/>
            <a:ext cx="2367360" cy="1742760"/>
          </a:xfrm>
          <a:prstGeom prst="rect">
            <a:avLst/>
          </a:prstGeom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divot" w="63500" h="63500"/>
            <a:contourClr>
              <a:srgbClr val="ffffff"/>
            </a:contourClr>
          </a:sp3d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7640" y="692640"/>
            <a:ext cx="8784720" cy="61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558ed5"/>
                </a:solidFill>
                <a:latin typeface="Times New Roman"/>
              </a:rPr>
              <a:t>Памя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это сложный психический процесс,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яющий как запечатление, сохранение,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знавание и воспроизведение человеком его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ыта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539640" y="2997000"/>
            <a:ext cx="2108520" cy="369792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28575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</a:t>
            </a:r>
            <a:r>
              <a:rPr b="1" lang="en-US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ОДЕРЖ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СИХИЧЕ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АКТИВ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6a0e0c"/>
                </a:solidFill>
                <a:latin typeface="Arial"/>
              </a:rPr>
              <a:t>1. ДВИГ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6a0e0c"/>
                </a:solidFill>
                <a:latin typeface="Arial"/>
              </a:rPr>
              <a:t>2. ОБРАЗ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1400" spc="-1" strike="noStrike">
                <a:solidFill>
                  <a:srgbClr val="6a0e0c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6a0e0c"/>
                </a:solidFill>
                <a:latin typeface="Arial"/>
              </a:rPr>
              <a:t>1) ЗРИ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1400" spc="-1" strike="noStrike">
                <a:solidFill>
                  <a:srgbClr val="6a0e0c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6a0e0c"/>
                </a:solidFill>
                <a:latin typeface="Arial"/>
              </a:rPr>
              <a:t>2) ОБОНЯ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1400" spc="-1" strike="noStrike">
                <a:solidFill>
                  <a:srgbClr val="6a0e0c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6a0e0c"/>
                </a:solidFill>
                <a:latin typeface="Arial"/>
              </a:rPr>
              <a:t>3)СЛУХОВ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1400" spc="-1" strike="noStrike">
                <a:solidFill>
                  <a:srgbClr val="6a0e0c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6a0e0c"/>
                </a:solidFill>
                <a:latin typeface="Arial"/>
              </a:rPr>
              <a:t>4) ВКУСОВ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1400" spc="-1" strike="noStrike">
                <a:solidFill>
                  <a:srgbClr val="6a0e0c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6a0e0c"/>
                </a:solidFill>
                <a:latin typeface="Arial"/>
              </a:rPr>
              <a:t>5) ОС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6a0e0c"/>
                </a:solidFill>
                <a:latin typeface="Arial"/>
              </a:rPr>
              <a:t>3. ЭМОЦИОНА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6a0e0c"/>
                </a:solidFill>
                <a:latin typeface="Arial"/>
              </a:rPr>
              <a:t>4. СЛОВЕС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6a0e0c"/>
                </a:solidFill>
                <a:latin typeface="Arial"/>
              </a:rPr>
              <a:t>ЛОГ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3141000" y="2997000"/>
            <a:ext cx="2484720" cy="176400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28575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РОДОЛЖИ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ОХРАН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200" spc="-1" strike="noStrike">
                <a:solidFill>
                  <a:srgbClr val="6a0e0c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6a0e0c"/>
                </a:solidFill>
                <a:latin typeface="Times New Roman"/>
              </a:rPr>
              <a:t>. КРАТКОВРЕМ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6a0e0c"/>
                </a:solidFill>
                <a:latin typeface="Times New Roman"/>
              </a:rPr>
              <a:t>2. ДОЛГОВРЕМ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6a0e0c"/>
                </a:solidFill>
                <a:latin typeface="Times New Roman"/>
              </a:rPr>
              <a:t>3. ОПЕРАТИВ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6132960" y="2997000"/>
            <a:ext cx="2086200" cy="13683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28575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О СТЕПЕ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ВОЛЕ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РЕГУЛЯ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6a0e0c"/>
                </a:solidFill>
                <a:latin typeface="Times New Roman"/>
              </a:rPr>
              <a:t>1.НЕПРОИЗВО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6a0e0c"/>
                </a:solidFill>
                <a:latin typeface="Times New Roman"/>
              </a:rPr>
              <a:t>2. ПРОИЗВО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915640" y="2176920"/>
            <a:ext cx="2808000" cy="5043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28575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558ed5"/>
                </a:solidFill>
                <a:latin typeface="Arial"/>
              </a:rPr>
              <a:t>ВИДЫ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3"/>
          <p:cNvCxnSpPr>
            <a:stCxn id="110" idx="2"/>
          </p:cNvCxnSpPr>
          <p:nvPr/>
        </p:nvCxnSpPr>
        <p:spPr>
          <a:xfrm flipH="1">
            <a:off x="2123640" y="2681280"/>
            <a:ext cx="2196360" cy="243720"/>
          </a:xfrm>
          <a:prstGeom prst="straightConnector1">
            <a:avLst/>
          </a:prstGeom>
          <a:ln w="38100">
            <a:solidFill>
              <a:srgbClr val="ffc000"/>
            </a:solidFill>
            <a:round/>
            <a:tailEnd len="med" type="arrow" w="med"/>
          </a:ln>
        </p:spPr>
      </p:cxnSp>
      <p:cxnSp>
        <p:nvCxnSpPr>
          <p:cNvPr id="112" name="Прямая со стрелкой 11"/>
          <p:cNvCxnSpPr>
            <a:stCxn id="110" idx="2"/>
          </p:cNvCxnSpPr>
          <p:nvPr/>
        </p:nvCxnSpPr>
        <p:spPr>
          <a:xfrm>
            <a:off x="4319640" y="2681280"/>
            <a:ext cx="360" cy="315720"/>
          </a:xfrm>
          <a:prstGeom prst="straightConnector1">
            <a:avLst/>
          </a:prstGeom>
          <a:ln w="38100">
            <a:solidFill>
              <a:srgbClr val="ffc000"/>
            </a:solidFill>
            <a:round/>
            <a:tailEnd len="med" type="arrow" w="med"/>
          </a:ln>
        </p:spPr>
      </p:cxnSp>
      <p:cxnSp>
        <p:nvCxnSpPr>
          <p:cNvPr id="113" name="Прямая со стрелкой 13"/>
          <p:cNvCxnSpPr>
            <a:stCxn id="110" idx="2"/>
          </p:cNvCxnSpPr>
          <p:nvPr/>
        </p:nvCxnSpPr>
        <p:spPr>
          <a:xfrm>
            <a:off x="4319640" y="2681280"/>
            <a:ext cx="2484720" cy="243720"/>
          </a:xfrm>
          <a:prstGeom prst="straightConnector1">
            <a:avLst/>
          </a:prstGeom>
          <a:ln w="38100">
            <a:solidFill>
              <a:srgbClr val="ffc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Возрастные особенности памяти </a:t>
            </a:r>
            <a:br>
              <a:rPr sz="3200"/>
            </a:br>
            <a:r>
              <a:rPr b="1" i="1" lang="ru-RU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у детей раннего возраст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640" y="141264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2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знавание – первый процесс памяти,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являющийся у ребенка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ле 8 месяцев формируется воспроизведение –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сстановление в памяти образа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 дошкольному возрасту память становится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минирующей функцией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амять в раннем возрасте непроизвольна, ребенок не ставит перед собой цели что-то запомнить и не прилагает никаких усилий для запоминания. В его памяти  запечатлеваются интересные, эмоциональные,  красочные события и образы, а третий и четвертый год жизни становятся годами первых детских воспоминаний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5" descr=""/>
          <p:cNvPicPr/>
          <p:nvPr/>
        </p:nvPicPr>
        <p:blipFill>
          <a:blip r:embed="rId1"/>
          <a:stretch/>
        </p:blipFill>
        <p:spPr>
          <a:xfrm>
            <a:off x="6948360" y="1556640"/>
            <a:ext cx="2096280" cy="2285640"/>
          </a:xfrm>
          <a:prstGeom prst="rect">
            <a:avLst/>
          </a:prstGeom>
          <a:ln w="0">
            <a:noFill/>
          </a:ln>
          <a:effectLst>
            <a:outerShdw algn="ctr" blurRad="184320" dir="11518873" dist="241051" sx="110000" sy="110000">
              <a:srgbClr val="000000">
                <a:alpha val="18000"/>
              </a:srgbClr>
            </a:outerShdw>
          </a:effectLst>
          <a:scene3d>
            <a:camera fov="5100000" prst="perspectiveFront">
              <a:rot lat="0" lon="2100000" rev="0"/>
            </a:camera>
            <a:lightRig dir="t" rig="flood">
              <a:rot lat="0" lon="0" rev="13800000"/>
            </a:lightRig>
          </a:scene3d>
          <a:sp3d extrusionH="107950" prstMaterial="plastic">
            <a:bevelT prst="divot" w="82550" h="6350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</TotalTime>
  <Application>LibreOffice/7.4.7.2$Linux_X86_64 LibreOffice_project/40$Build-2</Application>
  <AppVersion>15.0000</AppVersion>
  <Words>2743</Words>
  <Paragraphs>2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4T05:56:08Z</dcterms:created>
  <dc:creator>Марина</dc:creator>
  <dc:description/>
  <dc:language>en-US</dc:language>
  <cp:lastModifiedBy>Admin</cp:lastModifiedBy>
  <dcterms:modified xsi:type="dcterms:W3CDTF">2021-05-30T19:51:08Z</dcterms:modified>
  <cp:revision>17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4</vt:r8>
  </property>
</Properties>
</file>