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928-9552-462F-AB22-206096DA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348-5162-4E9D-8D1A-17360583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FA8-36E3-4FED-8512-34790C7D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D83-7BFF-4843-9195-B319B497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78FF-79EB-4340-B161-5D2E6678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5616-83D2-41C5-9940-396A82E6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9855-1A4E-445C-BFEE-CA40F8C9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8F27-B1D0-4DBA-87E9-50C17DC5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58FD-66F0-4DB7-A70B-AB07D681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1EB9-1C37-40E1-AF41-3A51E985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FEF5-449D-420D-A83E-E50A602D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3CB-68C7-46E8-BB5F-6D22D37B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E85F-9BAC-4266-BF30-6373D838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A408-33EA-407F-B243-EB4C788D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A5BC-DC13-4367-BEE2-86710C4E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EF98-A759-41DE-A7A2-B7528037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A3A6-80AD-47AF-B85C-37322E51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8D6CC-1234-464A-9ABC-06F9FBD8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8A88-AC50-4A38-8190-143FB976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464E-5898-4795-93BC-DFE658D3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3CC94-301C-4C23-91BA-CB08E377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BCC2-2B11-4EF8-AFB3-31398627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740-40B7-4F2D-A797-EB8D6606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0F60D-BC86-4B6F-8741-D443B473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3A26-D2D3-4AA0-A982-6BFACF47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AA291-F1DD-480A-8829-7DF0CDC5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5DD6-8BA8-4EED-8924-049488DE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9B0EF-4D71-4841-8C08-3EDAADB3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2A540-A431-485C-9C4E-95D67EB8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DB6D-AECD-4865-9BAF-BE13A6A0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D8F56-CC6E-4DDF-AE3E-9BC47FEC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E643A-9463-414E-BC2A-16C8DF60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32513-0152-4EB3-8F11-1C030910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F10-5B1B-47DC-8D37-A191F047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7C8D-C474-45C9-ADF8-4C27F0AD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C00C-8674-4D10-B0EE-9C9C40F7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5748-6D31-417F-BA7B-4F922818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4117C-0BC8-420D-9A38-C970F088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011CF-6000-4331-BC02-D3F8A1B6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B9CCF-B63B-43FF-834E-AED4418A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96731-2974-4BA5-8C25-BCCEE78B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B9A7-CC9C-4074-B984-D9B2FBE0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C58EE-3607-493C-AA0D-B69499CF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0FDF5-DF67-4BA7-9329-3B447365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39C-53D0-45D3-8081-72214373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9B2D9-A4F6-4C20-8B97-1911F680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DECA1-112E-4776-A2DA-11557458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EAD61-1950-44AD-8FC6-05CAD08A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B951A-4DFD-4644-9381-C858FF72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5423A-A6AE-4EAB-87BB-AD7C128A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E70A2-A74E-4614-96D1-2D5E327E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4C244-C46C-4C34-8873-8A0AD78A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09279-C837-4F65-AE74-9BEC5815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22D3F-DF2C-4D6B-AFE7-E5CD00E3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C3A89-725E-46BE-87AB-A1026C3E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8D4-17D2-4514-B8CD-8AE79C81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82D5E-8846-4AC3-A70B-014057FF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92D-5777-4959-B572-7182CAB0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F59-D557-40BD-A4C7-CCCE0FAB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628-04A6-4F25-B15C-DCACD0D5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959D-23AB-43F5-B7F9-A36E9EB57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1440-254C-488E-9728-00107FCFDF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BC0F-87E5-4D66-83EF-C321A50D1F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A20B-87AB-4DA8-9501-A86EAD9A73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D6CB-2C9B-4D39-8282-20AD355C06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42720" y="2071800"/>
            <a:ext cx="57150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Портфолио дошкольн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286240" y="5071680"/>
            <a:ext cx="34149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Воспитатель: Стрельцова А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Шипулина Е.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2"/>
          <p:cNvSpPr/>
          <p:nvPr/>
        </p:nvSpPr>
        <p:spPr>
          <a:xfrm>
            <a:off x="0" y="357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Этапы работы по составлению портфоли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3143160" y="171468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1 этап: Постановочный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3500280" y="2428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2 этап: Поиско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3214800" y="307188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3 этап: Заключительный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Портфолио для дошкольников - &quot;Герои мультфильмов&quot; &quot; &quot;Новая Береста"/>
          <p:cNvPicPr/>
          <p:nvPr/>
        </p:nvPicPr>
        <p:blipFill>
          <a:blip r:embed="rId1"/>
          <a:stretch/>
        </p:blipFill>
        <p:spPr>
          <a:xfrm>
            <a:off x="500040" y="1428840"/>
            <a:ext cx="29718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571680" y="448200"/>
            <a:ext cx="8001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Взаимодействие с сем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С помощью портфолио родители видят своего ребенка со стороны, его желания, интере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Портфолио также может использоваться как дополнительный материал при изучении семьи — уклада ее жизни, интересов, традиций.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ажно научить родителей наблюдать, замечать все новое и интересное и, непременно, фиксировать, записы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00040" y="4429080"/>
            <a:ext cx="61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С помощью портфолио родители видят своего ребенка со стороны, его желания, инте­ре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928800" y="42984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Критерии 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1357200" y="100008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Творческий подход к оформл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4"/>
          <p:cNvSpPr/>
          <p:nvPr/>
        </p:nvSpPr>
        <p:spPr>
          <a:xfrm>
            <a:off x="6357960" y="24289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Интере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и желание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5"/>
          <p:cNvSpPr/>
          <p:nvPr/>
        </p:nvSpPr>
        <p:spPr>
          <a:xfrm>
            <a:off x="428760" y="2286000"/>
            <a:ext cx="257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Значимость для ребенка, его родителей,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Портфолио дошкольника - с чего начать. Введенное относительно недавно понятие &quot;портфолио ребенка&quot;"/>
          <p:cNvPicPr/>
          <p:nvPr/>
        </p:nvPicPr>
        <p:blipFill>
          <a:blip r:embed="rId1"/>
          <a:srcRect l="3923" t="4120" r="3923" b="8963"/>
          <a:stretch/>
        </p:blipFill>
        <p:spPr>
          <a:xfrm>
            <a:off x="2928960" y="1477800"/>
            <a:ext cx="36432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571680" y="375120"/>
            <a:ext cx="814356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Алгоритм работы по составлению 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Постановка цели: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автору должно быть понятно, для чего необходимо создавать портфоли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Определение вида портфолио: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вид портфолио может быть предложен педагогом, родителем или выбран по желанию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Определение временного отрезка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, во время которого будет собираться информ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Определение структуры портфолио: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общее количество рубрик, из них часть – обязательные, которые должны быть у каждого, часть - по выбору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500040" y="4429080"/>
            <a:ext cx="692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Определение критериев оценивания: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обсуждаются и определяются совместно с родителями, детьми и педагогом (наличие всех обязательных рубрик, аккуратность выполнения работы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Презент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0" y="433080"/>
            <a:ext cx="928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Структура создания портфолио  дошк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42960" y="144396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Четкой структуры создания портфолио не существ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Она подбирается исходя из индивидуальных возможностей и интересов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Главное условие– портфолио должно быть ярким и красочным, в идеальном случае, оно станет любимой книжкой с картинками для ребенка и предметом гордости для его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Портфолио детское дошкольное – Далматинцы. Новые приключения"/>
          <p:cNvPicPr/>
          <p:nvPr/>
        </p:nvPicPr>
        <p:blipFill>
          <a:blip r:embed="rId1"/>
          <a:stretch/>
        </p:blipFill>
        <p:spPr>
          <a:xfrm>
            <a:off x="2643120" y="1214280"/>
            <a:ext cx="3643560" cy="51609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"/>
          <p:cNvSpPr/>
          <p:nvPr/>
        </p:nvSpPr>
        <p:spPr>
          <a:xfrm>
            <a:off x="2000160" y="50004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Титульный лис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Заказать книгу почтой: Портфолио дошкольника для мальчика Е.…"/>
          <p:cNvPicPr/>
          <p:nvPr/>
        </p:nvPicPr>
        <p:blipFill>
          <a:blip r:embed="rId1"/>
          <a:stretch/>
        </p:blipFill>
        <p:spPr>
          <a:xfrm>
            <a:off x="2928960" y="1214280"/>
            <a:ext cx="3381480" cy="507240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2"/>
          <p:cNvSpPr/>
          <p:nvPr/>
        </p:nvSpPr>
        <p:spPr>
          <a:xfrm>
            <a:off x="2604240" y="428760"/>
            <a:ext cx="326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Я ра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1594080" y="357120"/>
            <a:ext cx="628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Я хожу в детский с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Создать портфолио для ребенка в детский сад"/>
          <p:cNvPicPr/>
          <p:nvPr/>
        </p:nvPicPr>
        <p:blipFill>
          <a:blip r:embed="rId1"/>
          <a:stretch/>
        </p:blipFill>
        <p:spPr>
          <a:xfrm>
            <a:off x="2786040" y="1143000"/>
            <a:ext cx="37450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577080" y="428760"/>
            <a:ext cx="81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не больше всего нрав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Онлайн фоторамка Материалы за 31.03.2012, фотоэффекты на тему Материалы за 31.03.2012"/>
          <p:cNvPicPr/>
          <p:nvPr/>
        </p:nvPicPr>
        <p:blipFill>
          <a:blip r:embed="rId1"/>
          <a:stretch/>
        </p:blipFill>
        <p:spPr>
          <a:xfrm>
            <a:off x="2857680" y="1143000"/>
            <a:ext cx="365904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2"/>
          <p:cNvSpPr/>
          <p:nvPr/>
        </p:nvSpPr>
        <p:spPr>
          <a:xfrm>
            <a:off x="2027520" y="428760"/>
            <a:ext cx="54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Я  учусь общ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Учимся общаться раздел портфолио Я учусь общаться Портфолио …"/>
          <p:cNvPicPr/>
          <p:nvPr/>
        </p:nvPicPr>
        <p:blipFill>
          <a:blip r:embed="rId1"/>
          <a:stretch/>
        </p:blipFill>
        <p:spPr>
          <a:xfrm>
            <a:off x="2928960" y="1106640"/>
            <a:ext cx="350028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ртфолио дошкольника</a:t>
            </a: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 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— это своеобразный маршрут его развития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это так называемое «досье успеха», в котором отражается всё интересное и достойное из того, что происходит в жизни ребё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3"/>
          <p:cNvSpPr/>
          <p:nvPr/>
        </p:nvSpPr>
        <p:spPr>
          <a:xfrm>
            <a:off x="916560" y="500040"/>
            <a:ext cx="75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Я учусь правильно 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Низкие цены на Учитель Портфолио дошкольника. Я расту. Купить за 41 р. / ShopTop.ru"/>
          <p:cNvPicPr/>
          <p:nvPr/>
        </p:nvPicPr>
        <p:blipFill>
          <a:blip r:embed="rId1"/>
          <a:stretch/>
        </p:blipFill>
        <p:spPr>
          <a:xfrm>
            <a:off x="2857680" y="1146240"/>
            <a:ext cx="378612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Портфолио дошкольника портфолио - Кредит для Вас"/>
          <p:cNvPicPr/>
          <p:nvPr/>
        </p:nvPicPr>
        <p:blipFill>
          <a:blip r:embed="rId1"/>
          <a:srcRect l="0" t="0" r="0" b="8568"/>
          <a:stretch/>
        </p:blipFill>
        <p:spPr>
          <a:xfrm>
            <a:off x="2786040" y="1143000"/>
            <a:ext cx="3929040" cy="508320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2618640" y="428760"/>
            <a:ext cx="419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ои нагр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714240" y="571680"/>
            <a:ext cx="77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Портфоли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http://s018.radikal.ru/i509/1202/ef/4b607e3c70bf.png"/>
          <p:cNvPicPr/>
          <p:nvPr/>
        </p:nvPicPr>
        <p:blipFill>
          <a:blip r:embed="rId1"/>
          <a:srcRect l="0" t="0" r="6124" b="4418"/>
          <a:stretch/>
        </p:blipFill>
        <p:spPr>
          <a:xfrm>
            <a:off x="2714760" y="1643040"/>
            <a:ext cx="335736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71680" y="666000"/>
            <a:ext cx="778644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Georgia"/>
                <a:ea typeface="Times New Roman"/>
              </a:rPr>
              <a:t>Цель  портфолио </a:t>
            </a: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увидеть «картину» значимых образовательных результатов в целом, обеспечить отслеживание индивидуального сопровождения воспитанника в образовательном контексте, показать его способность практически применять приобретённые зн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Times New Roman"/>
              </a:rPr>
              <a:t>и ум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4"/>
          <p:cNvSpPr/>
          <p:nvPr/>
        </p:nvSpPr>
        <p:spPr>
          <a:xfrm>
            <a:off x="2928960" y="4287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571680" y="100008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Создать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для каждого воспитанника ситуацию переживания успех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500040" y="171468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Поддерживать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интерес ребенка к определенному виду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571680" y="2357280"/>
            <a:ext cx="81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Поощрять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его активность и самостоятельность;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571680" y="271476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ть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навыки учеб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642960" y="3857760"/>
            <a:ext cx="328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Закладывать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ополнительные предпосылки и возможности для его успешной соци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2"/>
          <p:cNvSpPr/>
          <p:nvPr/>
        </p:nvSpPr>
        <p:spPr>
          <a:xfrm>
            <a:off x="5143680" y="3571920"/>
            <a:ext cx="4000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Укреплять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взаимодействие с семьей воспитанника, повышать заинтересованность родителей в результатах развития ребенка и совместной педагогической деятельности с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571680" y="314316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Содействовать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индивидуализации образования дошкольни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500040" y="428760"/>
            <a:ext cx="800100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ОСОБЕННОСТИ «ПОРТФОЛИО ДОШКОЛЬ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Портфолио – это способ фиксирования, накопления и оценки индивидуальных достижений школьника в определенный период его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Портфолио дополняет традиционные контрольно-оценочные сре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Портфолио позволяет учитывать результаты, достигнутые воспитанником в разнообразных видах деятельности – учебной, творческой, социальной, коммуникативной и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Портфолио дошкольника – перспективная форма представления индивидуальной направленности учебных достижений конкретного воспитан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Использование такой формы оценки учебных достижений, как портфолио дошкольника, позволяет воспитателю создать для каждого воспитанника ситуацию переживания успе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571680" y="50720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Использование такой формы оценки учебных достижений, как портфолио дошкольника, позволяет воспитателю создать для каждого воспитанника ситуацию переживания успе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3"/>
          <p:cNvSpPr/>
          <p:nvPr/>
        </p:nvSpPr>
        <p:spPr>
          <a:xfrm>
            <a:off x="571680" y="4214880"/>
            <a:ext cx="664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Портфолио дошкольника – перспективная форма представления индивидуальной направленности учебных достижений конкретного воспитан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3"/>
          <p:cNvSpPr/>
          <p:nvPr/>
        </p:nvSpPr>
        <p:spPr>
          <a:xfrm>
            <a:off x="3071880" y="428760"/>
            <a:ext cx="368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Условия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678960" y="1357200"/>
            <a:ext cx="30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Доброво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642960" y="1928880"/>
            <a:ext cx="307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Необходимость чётко понимать цель сбора информации, цель создания самого портфолио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5929200" y="1357200"/>
            <a:ext cx="2786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Количество разделов и рубрик, их тематика определяется индивидуально для каждого случ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2810880" y="450072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Удобство хранения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2889720" y="5072040"/>
            <a:ext cx="36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Индивид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714240" y="557208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Систематичность в сборе информации.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Для школы и детского сада - Каталог файлов - фотошоп и досуг"/>
          <p:cNvPicPr/>
          <p:nvPr/>
        </p:nvPicPr>
        <p:blipFill>
          <a:blip r:embed="rId1"/>
          <a:stretch/>
        </p:blipFill>
        <p:spPr>
          <a:xfrm>
            <a:off x="3714840" y="1357200"/>
            <a:ext cx="2286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2"/>
          <p:cNvSpPr/>
          <p:nvPr/>
        </p:nvSpPr>
        <p:spPr>
          <a:xfrm>
            <a:off x="785880" y="428760"/>
            <a:ext cx="7715160" cy="49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Функции 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Диагностическая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фиксирует динамику развития ребенка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Целеполагающая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поддерживает учебные ц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Мотивационная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поощряет достигнутые ребенком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Содержательная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раскрывает спектр выполняемы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Социообразующа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формирует и развивает детско-взрослый коллектив совместной деятельнос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-Развивающая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обеспечивает непрерывность процесса обучения от года к год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Рейтинговая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- показывает диапазон навыков и ум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571680" y="1036080"/>
            <a:ext cx="792936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14480" algn="just">
              <a:lnSpc>
                <a:spcPct val="100000"/>
              </a:lnSpc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Электронный портфолио.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Это довольно новый вид систематизации информации. Именно он больше всего привлекает старших дошкольников. Портфолио в электронном варианте – это всегда красочное, яркое зрелище, с множеством интересных эфф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206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Портфолио-раскраска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. Этот вид портфолио так же привлекателен для ребёнка. Ведь он сам может раскрашивать странички. Так же здесь допустимо и наклеивание готовых изображений. Но надо помнить, что содержание рубрик необходимо заполнять информа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206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Печатное портфолио одно из самых традиционных.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Создаётся в виде папок, карт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1571760" y="500040"/>
            <a:ext cx="53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Виды портфоли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500040" y="448920"/>
            <a:ext cx="800100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Принципы работы по составлению портфоли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Первый принцип –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единство всех сфер духовной жизнедеятельности ребенка: эмоциональной, волевой, познавательной, коммуникатив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Второй принцип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это совместная деятельность и общение взрослого и ребёнка как движущая сила развития. Основой такого общения становится взаимный поиск пути друг к другу и к контакту с внешним миром, который опирается не на нотации, замечания, нравоучения, а на совместное переживание минут радости, огорчений, открытий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53:09Z</dcterms:created>
  <dc:creator>Федотова Виктория Александровна</dc:creator>
  <dc:description/>
  <dc:language>en-US</dc:language>
  <cp:lastModifiedBy>Анастасия</cp:lastModifiedBy>
  <dcterms:modified xsi:type="dcterms:W3CDTF">2021-01-21T05:07:43Z</dcterms:modified>
  <cp:revision>55</cp:revision>
  <dc:subject/>
  <dc:title>Слайд 1</dc:title>
</cp:coreProperties>
</file>