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BE4-E104-4512-BF41-EFA1CD96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A19-BD40-4242-ADB6-5DDFA46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92C-C467-4DC2-9050-0C322A91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8D7-300B-4F94-803E-02268836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BDF-14AF-4846-8515-CFA0CBFA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004-823E-4AFB-B560-967B42CF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381F-A66B-4392-B34D-837723A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C996-4638-4139-A513-85FD537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8E8-B165-410C-9B31-E4E71B3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E05C-6843-4DB5-829F-3BC7B88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7DF8-030D-4265-A3E4-C3AE012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6B0-7FC3-4C63-AB6B-DFEFB6E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3433-9134-4387-B810-06270B0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4E1D-69B4-441A-8C8D-3DF9720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6422-9C91-47C2-AAE7-9ADC68A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23D8-8B56-4CDC-A4CB-810EDAF9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414D-2C8A-4814-84B8-65AA6ED9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E0E5-360C-4032-9B2C-B25222BD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0371-C5D6-4962-A00F-68DCAE5A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8FC4-3DC2-480B-87D5-A8B2BDE5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F04F-43A0-4136-87F5-2A4EF949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D28B-8C23-4231-9783-E4B77EA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68A-B310-4F17-A0C8-36BC9EB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06D4-48F9-4579-9AD6-36A41CE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F893-EFCA-4BA9-A71F-5B9C02A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1051-1045-4E74-9418-79B2E1BA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3083-3BE8-4EEE-AB77-865ACF66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D739-28EB-41DB-8D0E-10385FA4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80A5-E27C-4F88-8FFB-E2D40696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43FB-D8EC-45D9-B8C4-C6E36229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E3FB-5921-484B-AB78-78C541F1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5A69-17ED-49CF-94B3-DEAF20C9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53AD-CF69-4D6E-8FD4-A075481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12B-DF00-4B88-91CA-9948DE38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DD1F-EA7D-4D6F-ACCB-9CCD9E17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7D65-28F4-497C-AD79-B8D1B79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3588-2952-4279-8991-159CE17E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4F18-B25F-4D7A-9E53-4B548E8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FA2D-B1D3-4C95-B05F-6EB9CD2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43EB-462E-4D3E-9D18-48F2D6C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AA56-8902-468F-ABE8-D5FC80E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B86C-E4E6-449A-B2D3-17D47B9E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0024-F535-487A-810A-55D59E89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11EE-CF75-462F-98AA-967E7C87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D5E-EAF9-488E-AD57-F246EF8B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5BC6-459F-4421-84B6-DA951217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D176-DA17-42D5-9BD9-BFC5A89A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0ACB-479E-4614-ACEC-044D6048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6F4C-CCA7-41C8-8631-C1BFDAD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EA9EA-DEBF-4E67-AE6D-B5FF5AA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3D84-2F43-47CC-9BDD-674F3D9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5BBA6-D810-4564-A48E-0DB8B3B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8240-5E8F-4E05-A1B8-9F0010B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A879-B919-4E51-AF10-D2AEE96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0291-B15A-47FC-BF7D-894ACE93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650-176D-4B4D-BF79-A10DB10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8D30-37FB-415C-A1C1-1718F487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0C6-8EA4-4B6A-8076-5B155BD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958-929D-48EB-ADC0-B182D8E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B3E-BE30-4AB8-BCC7-D6AC16A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4FA4-54EF-4E01-B773-275C16C5F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40F0-1C0A-4CA5-96AA-C9E2F5C70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822-8E88-4DBC-98E5-46656668E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A3A6-6D44-4B71-8993-0D7407EFA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297-EF42-41E7-87DD-D310D7778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42720" y="2071800"/>
            <a:ext cx="57150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Портфолио дошколь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286240" y="5071680"/>
            <a:ext cx="34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Воспитатель: Стрельцова А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Шипулина Е.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Этапы работы по составлению портфоли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3143160" y="17146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1 этап: Постановочный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500280" y="2428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2 этап: Поиско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3214800" y="30718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3 этап: Заключительный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Портфолио для дошкольников - &quot;Герои мультфильмов&quot; &quot; &quot;Новая Береста"/>
          <p:cNvPicPr/>
          <p:nvPr/>
        </p:nvPicPr>
        <p:blipFill>
          <a:blip r:embed="rId1"/>
          <a:stretch/>
        </p:blipFill>
        <p:spPr>
          <a:xfrm>
            <a:off x="500040" y="1428840"/>
            <a:ext cx="2971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571680" y="448200"/>
            <a:ext cx="8001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Взаимодействие с сем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С помощью портфолио родители видят своего ребенка со стороны, его желания, инте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ртфолио также может использоваться как дополнительный материал при изучении семьи — уклада ее жизни, интересов, традиций.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ажно научить родителей наблюдать, замечать все новое и интересное и, непременно, фиксировать, запис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442908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 помощью портфолио родители видят своего ребенка со стороны, его желания, инте­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928800" y="4298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Критерии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1357200" y="10000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Творческий подход к оформ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6357960" y="2428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Интер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и жела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428760" y="2286000"/>
            <a:ext cx="257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Значимость для ребенка, его родителей,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Портфолио дошкольника - с чего начать. Введенное относительно недавно понятие &quot;портфолио ребенка&quot;"/>
          <p:cNvPicPr/>
          <p:nvPr/>
        </p:nvPicPr>
        <p:blipFill>
          <a:blip r:embed="rId1"/>
          <a:srcRect l="3923" t="4120" r="3923" b="8963"/>
          <a:stretch/>
        </p:blipFill>
        <p:spPr>
          <a:xfrm>
            <a:off x="2928960" y="1477800"/>
            <a:ext cx="36432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571680" y="375120"/>
            <a:ext cx="81435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Алгоритм работы по составлению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становка цели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автору должно быть понятно, для чего необходимо создавать портфоли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вида портфолио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вид портфолио может быть предложен педагогом, родителем или выбран по желан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временного отрезк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, во время которого будет собираться информ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структуры портфолио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общее количество рубрик, из них часть – обязательные, которые должны быть у каждого, часть - по выбору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500040" y="4429080"/>
            <a:ext cx="692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пределение критериев оценивания: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обсуждаются и определяются совместно с родителями, детьми и педагогом (наличие всех обязательных рубрик, аккуратность выполнения работы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0" y="433080"/>
            <a:ext cx="928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Структура создания портфолио  до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42960" y="144396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Четкой структуры создания портфолио не суще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Она подбирается исходя из индивидуальных возможностей и интересов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Главное условие– портфолио должно быть ярким и красочным, в идеальном случае, оно станет любимой книжкой с картинками для ребенка и предметом гордости для его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Портфолио детское дошкольное – Далматинцы. Новые приключения"/>
          <p:cNvPicPr/>
          <p:nvPr/>
        </p:nvPicPr>
        <p:blipFill>
          <a:blip r:embed="rId1"/>
          <a:stretch/>
        </p:blipFill>
        <p:spPr>
          <a:xfrm>
            <a:off x="2643120" y="1214280"/>
            <a:ext cx="3643560" cy="51609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2000160" y="50004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Титульный лис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Заказать книгу почтой: Портфолио дошкольника для мальчика Е.…"/>
          <p:cNvPicPr/>
          <p:nvPr/>
        </p:nvPicPr>
        <p:blipFill>
          <a:blip r:embed="rId1"/>
          <a:stretch/>
        </p:blipFill>
        <p:spPr>
          <a:xfrm>
            <a:off x="2928960" y="1214280"/>
            <a:ext cx="3381480" cy="50724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2"/>
          <p:cNvSpPr/>
          <p:nvPr/>
        </p:nvSpPr>
        <p:spPr>
          <a:xfrm>
            <a:off x="2604240" y="428760"/>
            <a:ext cx="326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Я ра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594080" y="357120"/>
            <a:ext cx="62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Я хожу в детский 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Создать портфолио для ребенка в детский сад"/>
          <p:cNvPicPr/>
          <p:nvPr/>
        </p:nvPicPr>
        <p:blipFill>
          <a:blip r:embed="rId1"/>
          <a:stretch/>
        </p:blipFill>
        <p:spPr>
          <a:xfrm>
            <a:off x="2786040" y="1143000"/>
            <a:ext cx="3745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577080" y="428760"/>
            <a:ext cx="81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не больше всего нрав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Онлайн фоторамка Материалы за 31.03.2012, фотоэффекты на тему Материалы за 31.03.2012"/>
          <p:cNvPicPr/>
          <p:nvPr/>
        </p:nvPicPr>
        <p:blipFill>
          <a:blip r:embed="rId1"/>
          <a:stretch/>
        </p:blipFill>
        <p:spPr>
          <a:xfrm>
            <a:off x="2857680" y="1143000"/>
            <a:ext cx="36590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2027520" y="428760"/>
            <a:ext cx="54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Я  учусь общ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Учимся общаться раздел портфолио Я учусь общаться Портфолио …"/>
          <p:cNvPicPr/>
          <p:nvPr/>
        </p:nvPicPr>
        <p:blipFill>
          <a:blip r:embed="rId1"/>
          <a:stretch/>
        </p:blipFill>
        <p:spPr>
          <a:xfrm>
            <a:off x="2928960" y="1106640"/>
            <a:ext cx="350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ртфолио дошкольника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 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— это своеобразный маршрут его развития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это так называемое «досье успеха», в котором отражается всё интересное и достойное из того, что происходит в жизни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3"/>
          <p:cNvSpPr/>
          <p:nvPr/>
        </p:nvSpPr>
        <p:spPr>
          <a:xfrm>
            <a:off x="916560" y="500040"/>
            <a:ext cx="75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 учусь правильно 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Низкие цены на Учитель Портфолио дошкольника. Я расту. Купить за 41 р. / ShopTop.ru"/>
          <p:cNvPicPr/>
          <p:nvPr/>
        </p:nvPicPr>
        <p:blipFill>
          <a:blip r:embed="rId1"/>
          <a:stretch/>
        </p:blipFill>
        <p:spPr>
          <a:xfrm>
            <a:off x="2857680" y="1146240"/>
            <a:ext cx="378612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Портфолио дошкольника портфолио - Кредит для Вас"/>
          <p:cNvPicPr/>
          <p:nvPr/>
        </p:nvPicPr>
        <p:blipFill>
          <a:blip r:embed="rId1"/>
          <a:srcRect l="0" t="0" r="0" b="8568"/>
          <a:stretch/>
        </p:blipFill>
        <p:spPr>
          <a:xfrm>
            <a:off x="2786040" y="1143000"/>
            <a:ext cx="3929040" cy="508320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2618640" y="428760"/>
            <a:ext cx="41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и наг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714240" y="571680"/>
            <a:ext cx="77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ортфол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s018.radikal.ru/i509/1202/ef/4b607e3c70bf.png"/>
          <p:cNvPicPr/>
          <p:nvPr/>
        </p:nvPicPr>
        <p:blipFill>
          <a:blip r:embed="rId1"/>
          <a:srcRect l="0" t="0" r="6124" b="4418"/>
          <a:stretch/>
        </p:blipFill>
        <p:spPr>
          <a:xfrm>
            <a:off x="2714760" y="1643040"/>
            <a:ext cx="33573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71680" y="666000"/>
            <a:ext cx="77864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  <a:ea typeface="Times New Roman"/>
              </a:rPr>
              <a:t>Цель  портфолио </a:t>
            </a: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увидеть «картину» значимых образовательных результатов в целом, обеспечить отслеживание индивидуального сопровождения воспитанника в образовательном контексте, показать его способность практически применять приобретённые зн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Times New Roman"/>
              </a:rPr>
              <a:t>и ум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2928960" y="4287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71680" y="10000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зд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для каждого воспитанника ситуацию переживания успе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00040" y="171468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оддержив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нтерес ребенка к определенному виду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571680" y="235728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оощря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его активность и самостоятельность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571680" y="27147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навыки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642960" y="3857760"/>
            <a:ext cx="32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Закладывать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ополнительные предпосылки и возможности для его успешной соци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5143680" y="3571920"/>
            <a:ext cx="400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Укреплять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заимодействие с семьей воспитанника, повышать заинтересованность родителей в результатах развития ребенка и совместной педагогической деятельности с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571680" y="31431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действовать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ндивидуализации образования дошколь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00040" y="428760"/>
            <a:ext cx="80010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ОСОБЕННОСТИ «ПОРТФОЛИО ДОШКОЛЬ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ртфолио – это способ фиксирования, накопления и оценки индивидуальных достижений школьника в определенный период его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Портфолио дополняет традиционные контрольно-оценочные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ртфолио позволяет учитывать результаты, достигнутые воспитанником в разнообразных видах деятельности – учебной, творческой, социальной, коммуникативной и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Портфолио дошкольника – перспективная форма представления индивидуальной направленности учебных достижений конкретного воспитан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Использование такой формы оценки учебных достижений, как портфолио дошкольника, позволяет воспитателю создать для каждого воспитанника ситуацию переживания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571680" y="50720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Использование такой формы оценки учебных достижений, как портфолио дошкольника, позволяет воспитателю создать для каждого воспитанника ситуацию переживания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571680" y="4214880"/>
            <a:ext cx="664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Портфолио дошкольника – перспективная форма представления индивидуальной направленности учебных достижений конкретного воспитан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3071880" y="42876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Условия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678960" y="1357200"/>
            <a:ext cx="30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Доброво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642960" y="192888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еобходимость чётко понимать цель сбора информации, цель создания самого портфолио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5929200" y="1357200"/>
            <a:ext cx="278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личество разделов и рубрик, их тематика определяется индивидуально для каждого сл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810880" y="450072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Удобство хранения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2889720" y="5072040"/>
            <a:ext cx="36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714240" y="5572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истематичность в сборе информации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Для школы и детского сада - Каталог файлов - фотошоп и досуг"/>
          <p:cNvPicPr/>
          <p:nvPr/>
        </p:nvPicPr>
        <p:blipFill>
          <a:blip r:embed="rId1"/>
          <a:stretch/>
        </p:blipFill>
        <p:spPr>
          <a:xfrm>
            <a:off x="3714840" y="1357200"/>
            <a:ext cx="2286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2"/>
          <p:cNvSpPr/>
          <p:nvPr/>
        </p:nvSpPr>
        <p:spPr>
          <a:xfrm>
            <a:off x="785880" y="428760"/>
            <a:ext cx="77151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Функции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Диагностическ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фиксирует динамику развития ребенка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Целеполагающ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поддерживает учебные ц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Мотивационн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поощряет достигнутые ребенком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Содержательн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раскрывает спектр выполняем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Социообразующ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формирует и развивает детско-взрослый коллектив совместной деятельнос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-Развивающ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обеспечивает непрерывность процесса обучения от года к го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Рейтинговая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- показывает диапазон навыков и ум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571680" y="1036080"/>
            <a:ext cx="79293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 algn="just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Электронный портфолио.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Это довольно новый вид систематизации информации. Именно он больше всего привлекает старших дошкольников. Портфолио в электронном варианте – это всегда красочное, яркое зрелище, с множеством интересных эфф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ртфолио-раскраск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. Этот вид портфолио так же привлекателен для ребёнка. Ведь он сам может раскрашивать странички. Так же здесь допустимо и наклеивание готовых изображений. Но надо помнить, что содержание рубрик необходимо заполнять информ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ечатное портфолио одно из самых традиционных.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Создаётся в виде папок, карт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571760" y="500040"/>
            <a:ext cx="53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Виды портфоли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500040" y="448920"/>
            <a:ext cx="8001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Принципы работы по составлению портфоли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Первый принцип –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единство всех сфер духовной жизнедеятельности ребенка: эмоциональной, волевой, познавательной, коммуникати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Второй принцип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– это совместная деятельность и общение взрослого и ребёнка как движущая сила развития. Основой такого общения становится взаимный поиск пути друг к другу и к контакту с внешним миром, который опирается не на нотации, замечания, нравоучения, а на совместное переживание минут радости, огорчений, открытий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Анастасия</cp:lastModifiedBy>
  <dcterms:modified xsi:type="dcterms:W3CDTF">2021-01-21T05:07:43Z</dcterms:modified>
  <cp:revision>55</cp:revision>
  <dc:subject/>
  <dc:title>Слайд 1</dc:title>
</cp:coreProperties>
</file>