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12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EEA1-6B7A-44ED-A63C-2D3B35FCB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6AE3-E608-4E82-918E-D6CEBD949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2853-C5F5-4D2B-A439-06144E006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F984-F337-4FAC-8CA8-BF3B209E7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A0F5-25A7-406F-98B7-335C7A1E2F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3C2B-E488-4C98-A30A-5709F19B58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09C7-5610-4C8E-B922-0BC5B4E526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FE0E-86D8-4F2B-9BE7-5156970C7C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B0CB-07A3-4E9F-B200-9795BBB95A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1DE5-6E25-43E3-85D7-AAB92772E2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8F0B-B946-43E3-AE83-DA211FE71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2B3F-0A20-4493-B470-6D994035D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22CB-E938-4084-83B9-5BF38E1CEC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A42D-EE4B-406D-8284-065A4AD31F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26F2-E585-43F4-892E-FC454D82B0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AE8E-07C4-4FFE-BD06-0B2C47529F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1EF0-156E-4128-9E1C-32D42F2F6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6326-D479-4B12-9DA8-E978799BC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6E63-D6B5-4BC3-85E5-F838D42F1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4AFD-594B-4BAA-8AC2-1B5EA3018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6CC4-6DB6-4B38-8A88-A776D232D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17ED-AE7B-446A-AFC8-9F8682CED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77B4-C264-4D97-B10D-E2E45B013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29CF-600B-4982-B4AD-6D76DF10D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Rectangle 2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8720" y="1440"/>
              <a:ext cx="1293840" cy="6307200"/>
              <a:chOff x="7848720" y="1440"/>
              <a:chExt cx="1293840" cy="630720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1880" y="1440"/>
                <a:ext cx="760680" cy="2268720"/>
                <a:chOff x="8381880" y="1440"/>
                <a:chExt cx="760680" cy="22687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4440" y="1440"/>
                  <a:ext cx="277560" cy="274680"/>
                  <a:chOff x="8704440" y="1440"/>
                  <a:chExt cx="277560" cy="27468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4440" y="1440"/>
                    <a:ext cx="277560" cy="274680"/>
                    <a:chOff x="8704440" y="1440"/>
                    <a:chExt cx="277560" cy="27468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42960" y="-37080"/>
                      <a:ext cx="2001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5040" y="130320"/>
                    <a:ext cx="252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5560" y="7344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7400" y="111600"/>
                    <a:ext cx="219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Text Box 58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57" name="Text Box 59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3EFF92-11D3-49EE-91A4-FE86D1BF3B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6" name="Rectangle 2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97" name="Rectangle 3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7848720" y="1440"/>
              <a:ext cx="1293840" cy="6307200"/>
              <a:chOff x="7848720" y="1440"/>
              <a:chExt cx="1293840" cy="6307200"/>
            </a:xfrm>
          </p:grpSpPr>
          <p:grpSp>
            <p:nvGrpSpPr>
              <p:cNvPr id="100" name="Group 6"/>
              <p:cNvGrpSpPr/>
              <p:nvPr/>
            </p:nvGrpSpPr>
            <p:grpSpPr>
              <a:xfrm>
                <a:off x="8381880" y="1440"/>
                <a:ext cx="760680" cy="2268720"/>
                <a:chOff x="8381880" y="1440"/>
                <a:chExt cx="760680" cy="2268720"/>
              </a:xfrm>
            </p:grpSpPr>
            <p:grpSp>
              <p:nvGrpSpPr>
                <p:cNvPr id="101" name="Group 7"/>
                <p:cNvGrpSpPr/>
                <p:nvPr/>
              </p:nvGrpSpPr>
              <p:grpSpPr>
                <a:xfrm>
                  <a:off x="8704440" y="1440"/>
                  <a:ext cx="277560" cy="274680"/>
                  <a:chOff x="8704440" y="1440"/>
                  <a:chExt cx="277560" cy="274680"/>
                </a:xfrm>
              </p:grpSpPr>
              <p:grpSp>
                <p:nvGrpSpPr>
                  <p:cNvPr id="102" name="Group 8"/>
                  <p:cNvGrpSpPr/>
                  <p:nvPr/>
                </p:nvGrpSpPr>
                <p:grpSpPr>
                  <a:xfrm>
                    <a:off x="8704440" y="1440"/>
                    <a:ext cx="277560" cy="274680"/>
                    <a:chOff x="8704440" y="1440"/>
                    <a:chExt cx="277560" cy="274680"/>
                  </a:xfrm>
                </p:grpSpPr>
                <p:sp>
                  <p:nvSpPr>
                    <p:cNvPr id="103" name="Freeform 9"/>
                    <p:cNvSpPr/>
                    <p:nvPr/>
                  </p:nvSpPr>
                  <p:spPr>
                    <a:xfrm rot="16200000">
                      <a:off x="8742960" y="-37080"/>
                      <a:ext cx="2001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</p:grpSp>
              <p:sp>
                <p:nvSpPr>
                  <p:cNvPr id="105" name="Oval 11"/>
                  <p:cNvSpPr/>
                  <p:nvPr/>
                </p:nvSpPr>
                <p:spPr>
                  <a:xfrm rot="16200000">
                    <a:off x="8825040" y="130320"/>
                    <a:ext cx="252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6" name="Freeform 12"/>
                  <p:cNvSpPr/>
                  <p:nvPr/>
                </p:nvSpPr>
                <p:spPr>
                  <a:xfrm rot="16200000">
                    <a:off x="8755560" y="7344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97400" y="111600"/>
                    <a:ext cx="219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</p:grpSp>
            <p:pic>
              <p:nvPicPr>
                <p:cNvPr id="111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9" name="Group 25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0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" name="Freeform 45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0" name="Freeform 46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8" name="Freeform 54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Text Box 58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290EAA-CDAA-4CEF-8373-0F4666ACD9C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684360" y="1484280"/>
            <a:ext cx="67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Что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за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прелесть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эти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сказки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63640" y="3321000"/>
            <a:ext cx="6264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утешествие по сказкам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Александра Сергеевича Пушкина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223344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89000"/>
            <a:ext cx="781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 учреждение детский сад № 19 Красногвардейского райо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1" lang="en-US" sz="12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165720"/>
            <a:ext cx="40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ю составила:</a:t>
            </a:r>
            <a:endParaRPr b="1" lang="en-US" sz="1400" spc="-1" strike="noStrike">
              <a:solidFill>
                <a:srgbClr val="ffffff"/>
              </a:solidFill>
              <a:latin typeface="Bodoni MT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 Николаева В.В.</a:t>
            </a:r>
            <a:endParaRPr b="1" lang="en-US" sz="1400" spc="-1" strike="noStrike">
              <a:solidFill>
                <a:srgbClr val="ffffff"/>
              </a:solidFill>
              <a:latin typeface="Bodoni MT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with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with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"/>
          <p:cNvSpPr/>
          <p:nvPr/>
        </p:nvSpPr>
        <p:spPr>
          <a:xfrm>
            <a:off x="219240" y="84240"/>
            <a:ext cx="74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42920" y="1190520"/>
            <a:ext cx="743292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к приятно по сказкам бродить,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о пора и домой возвращаться,  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казки будем мы вечно любить,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 не будем мы с ними прощаться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3608280" y="3956040"/>
            <a:ext cx="2303640" cy="17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1520" y="131760"/>
            <a:ext cx="9024840" cy="6594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900000" y="1700280"/>
            <a:ext cx="669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Подрастая, девчонки, мальчишки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ома, в школе и в детских садах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ткрывают красивые книжки –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еобычные сказки в стихах.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2627280" y="4784760"/>
            <a:ext cx="3510000" cy="108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187280" y="260280"/>
            <a:ext cx="646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казки А.С.Пушкина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1292400"/>
            <a:ext cx="416556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Михайловском, в своем стареньком доме, долгими зимними вечерами Пушкин слушал сказки, которые рассказывала ему няня Арина Родионовна: о рыбаке и рыбке, царе Салтане, золотом петушке, мертвой царевне, о попе и работнике Балде. Пушкин говорил о них: "Что за прелесть эти сказки! Каждая есть поэма!" А под быстрым, блестящим пером поэта эти милые, необыкновенно простые нянины сказки превращались в замечательные волшебные пушкинские сказки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юбить Россию, понимать поэзию, узнавать богатый русский язык с раннего детства научат детей сказки Пушкина. 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3132000" y="6021360"/>
            <a:ext cx="1584360" cy="43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4421160" y="1258920"/>
            <a:ext cx="335268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5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93600"/>
            <a:ext cx="8924760" cy="6669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"/>
          <p:cNvSpPr/>
          <p:nvPr/>
        </p:nvSpPr>
        <p:spPr>
          <a:xfrm>
            <a:off x="219240" y="141120"/>
            <a:ext cx="74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120680" y="1360440"/>
            <a:ext cx="66834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Я с детских лет язык России 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о сказкам Пушкина учил.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Он свет мечты неугасимой 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Навек мне в сердце поселил.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6"/>
          <a:stretch/>
        </p:blipFill>
        <p:spPr>
          <a:xfrm>
            <a:off x="2770200" y="4437000"/>
            <a:ext cx="338436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647640" y="-712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лшебное путешествие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1197000"/>
            <a:ext cx="4892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с волшебная флейта зовет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 мир, где сказок волшебных так много.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тправляемся в дальний поход,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Лукоморью отыщем дорогу.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5"/>
          <a:stretch/>
        </p:blipFill>
        <p:spPr>
          <a:xfrm>
            <a:off x="598320" y="5543640"/>
            <a:ext cx="3792600" cy="100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6"/>
          <a:stretch/>
        </p:blipFill>
        <p:spPr>
          <a:xfrm>
            <a:off x="4527720" y="981000"/>
            <a:ext cx="3597120" cy="5112000"/>
          </a:xfrm>
          <a:prstGeom prst="rect">
            <a:avLst/>
          </a:prstGeom>
          <a:ln w="76320">
            <a:solidFill>
              <a:srgbClr val="ffffff"/>
            </a:solidFill>
            <a:round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2381400" y="14400"/>
            <a:ext cx="3157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6ca56"/>
                </a:solidFill>
                <a:latin typeface="Arial"/>
              </a:rPr>
              <a:t>Лукоморье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7704000" cy="551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44360" y="3333600"/>
            <a:ext cx="4751640" cy="3478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"/>
          <p:cNvSpPr/>
          <p:nvPr/>
        </p:nvSpPr>
        <p:spPr>
          <a:xfrm>
            <a:off x="144360" y="14436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гадай –ка:</a:t>
            </a:r>
            <a:br>
              <a:rPr sz="36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название сказки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92360" y="260280"/>
            <a:ext cx="684036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Жил старик со своею старухой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У самого синего моря;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Они жили в ветхой землянке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Ровно тридцать лет и три года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Старик ловил неводом рыбу,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Старуха пряла свою пряжу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Раз он в море закинул невод, —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Пришел невод с одною тиной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Он в другой раз закинул невод,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Пришел невод с травой морскою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В третий раз закинул он невод, —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Пришел невод с одною рыбкой,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С непростою рыбкой, — золотою…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азка о рыбаке  и рыбке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287280" y="1582560"/>
            <a:ext cx="122400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6264360" y="56880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6480" y="19080"/>
            <a:ext cx="3101760" cy="391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2908440" y="1243080"/>
            <a:ext cx="3004920" cy="377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3"/>
          <a:stretch/>
        </p:blipFill>
        <p:spPr>
          <a:xfrm>
            <a:off x="5742000" y="2736720"/>
            <a:ext cx="3127320" cy="3945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4"/>
          <a:stretch/>
        </p:blipFill>
        <p:spPr>
          <a:xfrm>
            <a:off x="863640" y="5830920"/>
            <a:ext cx="2981160" cy="79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5"/>
          <a:stretch/>
        </p:blipFill>
        <p:spPr>
          <a:xfrm>
            <a:off x="3959280" y="360360"/>
            <a:ext cx="325116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50920" y="1890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гадай-ка:</a:t>
            </a:r>
            <a:br>
              <a:rPr sz="36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название сказки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-324000" y="1484280"/>
            <a:ext cx="41040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ри девицы под окном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яли поздно вечерком.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Кабы я была ца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оворит одна дев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 на весь крещеный мир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иготовила б я пир».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Кабы я была ца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оворит ее сест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 на весь бы мир одна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ткала я полотна».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Кабы я была ца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ретья молвила сест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Я б для батюшки-царя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а богатыря».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казка о царе Салтане…</a:t>
            </a:r>
            <a:endParaRPr b="1" lang="en-US" sz="20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"/>
          <p:cNvPicPr/>
          <p:nvPr/>
        </p:nvPicPr>
        <p:blipFill>
          <a:blip r:embed="rId4"/>
          <a:stretch/>
        </p:blipFill>
        <p:spPr>
          <a:xfrm>
            <a:off x="3492360" y="1324080"/>
            <a:ext cx="5542200" cy="40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4:26:15Z</dcterms:created>
  <dc:creator>Comp5</dc:creator>
  <dc:description/>
  <dc:language>en-US</dc:language>
  <cp:lastModifiedBy>Вика</cp:lastModifiedBy>
  <dcterms:modified xsi:type="dcterms:W3CDTF">2021-06-19T18:47:21Z</dcterms:modified>
  <cp:revision>126</cp:revision>
  <dc:subject/>
  <dc:title>Что за прелесть эти сказки</dc:title>
</cp:coreProperties>
</file>