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8C6B-72C4-4064-B76B-B92B489D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DF58-0750-431A-B9B1-6AEFB92C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A06DD-3342-49AE-AA4B-10573588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9FB20-BFB5-49C1-ACEB-06E5DDE1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8012E-EA59-4600-8BB6-01DFEA41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693DF-CFE0-4F90-B57B-AC9FCCBC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1D23A-BA6C-4BB3-98A5-8E7CBB11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43948-0976-413A-9988-1EC74A9B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5A95A-850E-4A75-81A1-D43B6AF2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70F7B-A03F-4634-9862-A0FE1F79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13A11-E6FC-49C7-B684-4A652893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7907A-6508-4357-8D83-0AEA5B93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B9EE-FBB1-42A7-B8EE-DA2C1266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49116-F4C2-48B8-A0A9-99B10387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A622E-0932-4EEA-B8AE-C69968F3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C0AC9-5361-4068-91E5-06E3FA00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8A6E3-3189-4ABA-B586-E4E6C12B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F87AC-5224-4746-8780-3BCA2D40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3A404-23CD-43D1-A3DA-5F1BB128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047D4-E169-433A-9586-F91469B5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B0076-D7A6-4C4F-B8A4-8AB176A9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E223A-2220-4F2C-93B5-00208CD5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EFE87-9B50-4CEB-B1B4-1F6D19F9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6072-1257-471C-A112-4A1BD7D6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A59D8-5A79-47D4-93BA-3827DD35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13C0C-E53C-446D-9D54-E145C21E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B1483-7122-4355-A496-3500C03E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C7C5A-BE2E-45A0-84BE-5905931B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96640-DE63-4958-9E48-6C5D0421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9818F-F778-4084-8241-85D84B0E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2F6B2-C413-4D28-8329-9B85835C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8F9C2-1562-4CDA-9A9A-0B524A8D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2C946-E116-40E6-9ABE-241A490E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77528-D669-464B-9D93-7EE39ECD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2CEE-5A92-453B-A6C6-8669000C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E9DF6-2C1C-4C5F-8834-085CA6C9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09805-1E77-426F-9FCD-4BB9B92A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BAEBB-3CA7-4CB1-BDB8-635E8EC0A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1F98B-A158-4373-B775-65AB0375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2D6A2-EE01-404B-BBEF-C3739E71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3F278-A200-4B04-8CCF-191F8F58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AD37C-A864-4AA3-8284-00F0B14C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A3017-F341-4B62-A430-9DC05818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0B7AB-ABCC-4FD3-AF34-D3F5507A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11704-3535-4631-80C2-724D9765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C646-3C92-4CDF-9AC1-A5DFB4EE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5C773-0225-44C4-896B-03D22D21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CB5D7-130D-4177-8634-84398415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2B93D-EFCA-4600-B418-4673A1A3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19D74-9E40-4B82-9626-54C94043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3101D-2339-4EC2-B795-573FD9A5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164ED4-B66D-4DE1-AB6E-A7B56161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697BD7-2D9C-4095-9DCC-CE7855B6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93A6EC-D6DD-4DA8-890D-DFD7DE40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F678B3-71B6-47C3-B4FD-FDB2D678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DE576-3EB3-447F-B234-77C46339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BA15-469D-481B-8D31-8E9F599F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5AA31B-FED7-48D7-A03E-79C7382B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62BD3B-4E8C-4A75-BE1E-4C40F523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0B8421-98E7-45D3-8E59-B76D715C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CB2D50-DA11-496F-982D-8659736E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F18CB8-C9B3-4B49-831A-F28EA681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1096D1-D7D0-4B88-A199-7231D869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0156A7-1052-4C4A-86CC-BAC57EC3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F87B30-1A11-4CC6-9637-CB274815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44C0DB-E844-48A3-B900-AA07C5C5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9A3B7E-3EE5-4C8D-A603-C38B14BF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B68D-9C23-4D35-909B-900B6E16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3D2E52-AA2D-4C34-A46A-322C4131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5DA640-73A1-4D5B-8241-4099868D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F8B3E4-1DD4-4291-94E1-9C122D1F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418929-C42E-41A2-B928-3F8AE5C8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036E2D-10BB-4A24-BACE-9E774312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0823A8-45F4-4F93-8B4D-8A76E1D6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0614C3-9828-4498-93CE-9DAD9CA7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F28EAC-2476-444E-82E0-645AAEDD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D226BF-A6A5-499E-BB01-1A07E67C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4ED0CD-0464-4699-9A51-7BFE323A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437E-0805-4BD3-8999-2EF7A551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F4DD00-C2E1-4A0D-A884-C20F0389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35D62F-69FE-4F2E-A0D4-08600320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6AAE41-126B-45A0-80B4-EE40397F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A2863F-2688-424A-B0B2-D4D1EC8C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FE048D-8075-4FE6-8299-CCAF8E3C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6CA308-AD53-4B50-9610-4D7440AB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ABD1DA-3AFA-41CA-90DC-4589D889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283D53-73FE-4334-BE9A-CE627DB0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82716C-3ABF-420E-9150-4670B75D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0D66DE-FD0E-4262-ABF7-F5CC9385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1811-4063-4BE9-86D1-93D4BECF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94E8E0-8CB4-4646-8537-54AC292A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6264A7-D89E-4286-A574-69B49EA9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6D8E02-75D4-4B5E-8290-7935F963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12B90D-8FAE-4536-A049-2BAACF2C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7CC408-103D-41C1-8A4B-15CF97E1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C0A8E2-1C90-4023-8365-E3BD5485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218CEF-8209-42B6-9D72-FFDFFE48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D7ACF9-A254-424C-9E7B-5959BB63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98D58D-3F70-446A-833A-78023682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A06E58-D182-4A36-9F70-47F999BC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704D-C487-40E6-BE5E-29D402CC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6AA977-9503-499C-A059-3FCDC4AC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4D5C22-2995-4874-9553-46D39693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939043-CE32-40FB-9EC4-6630122B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1F0D93-5402-4119-9088-06F0A016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F39529-C307-4268-ACDD-6C4D41EA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3CD234-1B50-4EC9-837E-9E511E2C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B90C36-89AE-4927-883A-CFD4F4AC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6671B1-369B-4F2F-BEE2-077D4DEC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4ACB2A-87BD-46BC-B920-6B47EF1B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98DA03-ECC9-4B1D-B97E-85D0440B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CA4A-BDB2-4C8F-9CBC-4176302C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CF9F-E3C7-431B-97A1-59A26F90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A59D65-8754-499B-AC4E-4796FBBC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A25DBE-1335-41CB-AA8F-F313C1A6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6DD426-F13F-4FD8-A31D-E4FD9578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351C83-1C7B-48F3-A757-3BFA621B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ED360E-7E9B-4361-ABB6-FCC04236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395D1A-2F9D-4020-8B30-0B7F8BCB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985C3A-E5D6-4760-B5A3-C03AD11F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584C89-D62D-44C6-A748-8E19184E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985CCC-DBBB-4BD7-AE03-E0E50863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FE5CA4-1B84-44DD-850D-D369EAEB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857F-5EF3-433A-B832-07D71A16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33EB80-847A-4AA4-84E8-2CC2BBBC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5571D9-9E28-4D9B-9C6C-2C64F8AE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48E790-199C-4D87-8437-2606435F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E11AAF-AAA1-4B21-A575-05470633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D2270B-40DB-404B-BEAB-44007FBC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3E737F-1FDE-41E0-B807-6DA80B67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AF8890-74AE-482A-BFCF-C607C269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607A-0E74-4E92-BFD1-376836D5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032E-2A14-4222-A0E2-66E6CED2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1E63-858D-4400-B46C-0FDF25A1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69923-25A9-4A4E-8E2E-2D15B8A5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5A0B2-B26B-4D7E-90D0-7B24B55A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620A1-7724-421B-9468-45BDEEAE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3F88E-54F9-4E90-A360-8107B7F6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743B2-1EAE-4426-A318-7319C994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8314-D69F-492D-9974-AB36DCB5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21CB1-FE93-41B9-A34F-4B83D470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95237-62CD-436E-B7DC-50B7B32E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89312-CCBC-46C3-977B-B02FB314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B4CF6-C1DC-4330-B623-7A42C3FA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65878-678D-4071-A205-8804A676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28901-B78A-4641-8B5B-29BC5673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D00BF-E2A2-472C-AE0A-D645FDF9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61605-F3A4-4B30-A4CE-AD1D695C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BB85E-FE08-4C91-85CC-8F5CABC4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7970A-9435-4862-AB42-BD81CCBB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159C-7ED0-4C38-8F62-FBA449BF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1F0B0-0C02-4108-B209-9BB8DBAB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B77B8-49F8-45E9-9729-AF592703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63BA4-F44A-456C-934F-4E781E72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2C066-5B27-4747-B316-B64F2CCD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968A9-D1BD-4783-B730-088264C5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7ED8E-33FD-4905-B343-5EBDD82D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8374E-CEF9-4034-B1A9-007CF53A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69828-F15F-4A22-8658-46375EE0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2424C-2EC8-43FC-991C-55A9B2D8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8B7AA-912F-4EE1-8C9F-54339447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20A4-5321-4608-9334-B6E1EADF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22B20-1206-4D1A-8BDB-E76614E8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0CEF6-41DC-4887-8F6D-1CB9D315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83DD8-619B-433B-94F9-F5338D2F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08B04-6050-47B1-A400-16D0C09D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AF61A-40B0-430A-BEE8-1DA49394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9BFC2-ADA3-4E14-97B3-5F9EA468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B5665-C885-46AB-8B75-ABB49C11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C840B-D499-4CC9-9378-2BEC3850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AA6AC-E1EA-4A2D-9BC1-D73B81EC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D47EE-AC75-4850-BCED-684A7278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560A-69F2-4A2F-8790-CEF333FA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5C4F5-86AB-4A0E-BBAB-07DCDEA1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4E2DE-7641-42EE-A330-DFB6803E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89CCB-1EEF-4CF2-935C-0E7F5A72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D57BC-643A-42BD-8967-0B91D908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842F6-DD80-40A2-97AC-CAFC50AD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B6E1D-10BA-4789-8B5E-47608D08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1DCC2-B75C-4010-B8DF-D20B65FC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99DA5-38B9-4484-814A-DB965E3D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A190E-9430-4476-83D8-4A0C4F53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7E925-FD07-4965-A7B9-8940CF18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0DC1-22DC-466F-86E0-C60F6B0E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71F70-1E23-4C85-8F9D-2A019768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57D55-A80F-4C8C-A7EE-C959AAE1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1933A-6021-45A8-9C57-8DA8D0B2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271AA-942A-42D3-8069-E0147AAE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7AA3A-0E29-43DB-9D46-C038A099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703CD-6F41-425E-AF18-B447185D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29FDD-7A06-4A80-86AE-310541D8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224F8-8612-4BB8-A22F-3FBAF44D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3A9A7-80F2-4EDA-8745-197BBA40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7329C-21FA-41E5-B7FD-2A17AE32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BF6A-9303-4C24-8B7A-0C787959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9CC81-E0B1-4330-BCEE-ECA433D0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6112B-948A-4142-8A27-D6EE6C0C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3C65D-E320-4926-B213-EA51C762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E089C-ECA0-4507-9915-F39AE611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FF713-C417-4540-8847-F2F4FE98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1EC34-400E-4A48-9EDB-794AAA1E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E7852-0E67-44FF-9C29-366B5F50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E63BD-42D7-46B0-AD77-1D6BB1C2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28F1B-5B01-4E97-AD4E-BF3D8854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5A182-DF2D-42F6-A980-2833D422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1885-9800-4168-859A-0D24A52D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76E28-BD7D-4AB8-B960-72CB9398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46868-C62F-42CF-AA59-30E6D2D7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8B199-76BE-4E9E-9E19-43C271AC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76911-597A-449B-8CE3-D84F639E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2CF58-4EEE-4009-86F1-97FFCC28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AE2E4-657B-403C-B8AA-8B639149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C3B73-B6D5-4641-995E-2E3FD7C6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082B1-4A1B-4034-BA37-EB8A2F51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C5DB2-0E73-4207-9007-FA7AA4EF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D530F-FDFF-418D-92D9-D92E6498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D3D3-5563-4E58-8090-FA81739F0B2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4608-F72D-459F-AAE0-9401DB18804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7FB6-B389-4D42-9208-A14B5AAD12B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492B-262B-4981-9435-33372E2F88B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0BD4-C7F1-424F-ADE2-E6E4C36976B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0777-65DB-4938-9139-9C612C8129D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BE8F-1B1D-4C73-A858-C740E115BC0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FC04-A685-4E3B-8B75-C823AEE35A0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51EA-6426-4D2E-BF79-3867F0EA5F0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9C9C-2255-4005-A169-83CA253063E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9C81-DD51-4AE7-B0B2-010BE562613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E5D5-0261-424F-906A-CB8BF26A924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2061-0D90-482E-A687-5C55F57EC48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ED75-50A8-4618-8275-E0532E99D89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E8B5-E3CB-40B4-8208-EBF07B1BBD9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E321-2DB8-4ED4-A3F8-470D28E2733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737B-9333-4928-8C56-54AB7112137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FCF2-375E-4681-AB68-D905C83CF4E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942920" y="2514600"/>
            <a:ext cx="659916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Проблемное обучение</a:t>
            </a: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78544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Проблемность как принцип обучения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610920" y="1700280"/>
            <a:ext cx="8001000" cy="1512720"/>
          </a:xfrm>
          <a:prstGeom prst="rect">
            <a:avLst/>
          </a:prstGeom>
          <a:solidFill>
            <a:srgbClr val="eaead6"/>
          </a:solidFill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          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Century Gothic"/>
              </a:rPr>
              <a:t>Проблемная ситуация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характеризует определенное психологическое состояние учащегося, возникающее в процессе выполнения задания, для которого нет готовых средств и которое требует усвоения новых знаний о предмете, способах или условиях его выполнения. Условием возникновения проблемной ситуации является необходимость в раскрытии нового отношения, свойства или способа действия 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395280" y="335772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оненты проблемн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5"/>
          <p:cNvSpPr/>
          <p:nvPr/>
        </p:nvSpPr>
        <p:spPr>
          <a:xfrm>
            <a:off x="468360" y="4005360"/>
            <a:ext cx="3025800" cy="2562840"/>
          </a:xfrm>
          <a:prstGeom prst="rect">
            <a:avLst/>
          </a:prstGeom>
          <a:solidFill>
            <a:srgbClr val="ffebb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необходимость выполнения такого действия, при котором возникает познавательная потребность в новом неизвестном отношении, способе или условии 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6"/>
          <p:cNvSpPr/>
          <p:nvPr/>
        </p:nvSpPr>
        <p:spPr>
          <a:xfrm>
            <a:off x="3708360" y="4005360"/>
            <a:ext cx="2106720" cy="1739880"/>
          </a:xfrm>
          <a:prstGeom prst="rect">
            <a:avLst/>
          </a:prstGeom>
          <a:solidFill>
            <a:srgbClr val="ffebb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неизвестное, которое должно быть раскрыто в возникшей проблемной ситу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7"/>
          <p:cNvSpPr/>
          <p:nvPr/>
        </p:nvSpPr>
        <p:spPr>
          <a:xfrm>
            <a:off x="6012000" y="4005360"/>
            <a:ext cx="2500200" cy="2014200"/>
          </a:xfrm>
          <a:prstGeom prst="rect">
            <a:avLst/>
          </a:prstGeom>
          <a:solidFill>
            <a:srgbClr val="ffebb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озможности учащихся в выполнении поставленного задания, в анализе условий и открытии неизвестн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713880" y="500040"/>
            <a:ext cx="796140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Правила создан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проблемных ситуаций  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610920" y="1483920"/>
            <a:ext cx="8001000" cy="942840"/>
          </a:xfrm>
          <a:prstGeom prst="rect">
            <a:avLst/>
          </a:prstGeom>
          <a:solidFill>
            <a:srgbClr val="eaead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Преподаватель дает обучаемым практическое или теоретическое задание, выполняя которое, они должны получить новые знания или способы действий, которые надлежит усвоить по данной теме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1" name="Rectangle 4"/>
          <p:cNvSpPr/>
          <p:nvPr/>
        </p:nvSpPr>
        <p:spPr>
          <a:xfrm>
            <a:off x="611280" y="2565360"/>
            <a:ext cx="8001000" cy="942840"/>
          </a:xfrm>
          <a:prstGeom prst="rect">
            <a:avLst/>
          </a:prstGeom>
          <a:solidFill>
            <a:srgbClr val="eaea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редлагаемое учащимся проблемное задание должно соответствовать их интеллектуальным возможностям, т.е. быть достаточно трудным, но разрешим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5"/>
          <p:cNvSpPr/>
          <p:nvPr/>
        </p:nvSpPr>
        <p:spPr>
          <a:xfrm>
            <a:off x="611280" y="3645000"/>
            <a:ext cx="8001000" cy="584280"/>
          </a:xfrm>
          <a:prstGeom prst="rect">
            <a:avLst/>
          </a:prstGeom>
          <a:solidFill>
            <a:srgbClr val="eaea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ри предъявлении проблемного задания преподаватель должен учитывать реальный уровень знаний обучае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6"/>
          <p:cNvSpPr/>
          <p:nvPr/>
        </p:nvSpPr>
        <p:spPr>
          <a:xfrm>
            <a:off x="611280" y="4365720"/>
            <a:ext cx="8001000" cy="849240"/>
          </a:xfrm>
          <a:prstGeom prst="rect">
            <a:avLst/>
          </a:prstGeom>
          <a:solidFill>
            <a:srgbClr val="eaea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17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 качестве проблемных заданий могут выступать учебные задачи, вопросы,  практические задания, которые должны ставить обучаемых в проблемные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17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7"/>
          <p:cNvSpPr/>
          <p:nvPr/>
        </p:nvSpPr>
        <p:spPr>
          <a:xfrm>
            <a:off x="611280" y="5373720"/>
            <a:ext cx="8001000" cy="1285920"/>
          </a:xfrm>
          <a:prstGeom prst="rect">
            <a:avLst/>
          </a:prstGeom>
          <a:solidFill>
            <a:srgbClr val="eaea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Если обучаемые не смогли разобраться с проблемной ситуацией, то преподаватель должен сформулировать возникшую проблемную ситуацию и тем самым как бы зафиксировать ее, указать причины невыполнения задания и приступить к объяснению материала, необходимого для его реш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Применение мотивирующих примеров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76" name="Содержимое 3" descr=""/>
          <p:cNvPicPr/>
          <p:nvPr/>
        </p:nvPicPr>
        <p:blipFill>
          <a:blip r:embed="rId1"/>
          <a:stretch/>
        </p:blipFill>
        <p:spPr>
          <a:xfrm>
            <a:off x="566640" y="1322280"/>
            <a:ext cx="8163000" cy="43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Действия ученика при создании учителем проблемной  ситуации :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78" name="Схема 4" descr=""/>
          <p:cNvPicPr/>
          <p:nvPr/>
        </p:nvPicPr>
        <p:blipFill>
          <a:blip r:embed="rId1"/>
          <a:stretch/>
        </p:blipFill>
        <p:spPr>
          <a:xfrm>
            <a:off x="115920" y="1865160"/>
            <a:ext cx="8852040" cy="40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931680" y="764640"/>
            <a:ext cx="7600680" cy="5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Достоинства и недостатки проблемного обучения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0" name="Rectangle 6"/>
          <p:cNvSpPr/>
          <p:nvPr/>
        </p:nvSpPr>
        <p:spPr>
          <a:xfrm>
            <a:off x="4849920" y="1782720"/>
            <a:ext cx="4079880" cy="4670640"/>
          </a:xfrm>
          <a:prstGeom prst="rect">
            <a:avLst/>
          </a:prstGeom>
          <a:solidFill>
            <a:srgbClr val="d4deb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99"/>
              </a:spcBef>
              <a:buClr>
                <a:srgbClr val="a5301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меньшей мере чем другие типы обучения применимо при формировании практических умений и нав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99"/>
              </a:spcBef>
              <a:buClr>
                <a:srgbClr val="a5301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бует больших затрат времени для усвоения одного и того же объема знаний по сравнению с другими типами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99"/>
              </a:spcBef>
              <a:buClr>
                <a:srgbClr val="a5301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обеспечивает эффективного развития мыслительных способностей обучающихся потому, что базируется на закономерностях репродуктивного мышления, а не творческ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a53010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Rectangle 8"/>
          <p:cNvSpPr/>
          <p:nvPr/>
        </p:nvSpPr>
        <p:spPr>
          <a:xfrm>
            <a:off x="428760" y="1785960"/>
            <a:ext cx="3929040" cy="4619520"/>
          </a:xfrm>
          <a:prstGeom prst="rect">
            <a:avLst/>
          </a:prstGeom>
          <a:solidFill>
            <a:srgbClr val="d4deb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стои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a5301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ивает особый тип мышления, глубину убеждений, прочность усвоения знаний и творческое их применение в практ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a5301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собствует формированию мотивации достижения успе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a5301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ет мыслительные способности обуч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2" name=""/>
          <p:cNvGraphicFramePr/>
          <p:nvPr/>
        </p:nvGraphicFramePr>
        <p:xfrm>
          <a:off x="179280" y="189000"/>
          <a:ext cx="8785440" cy="7407360"/>
        </p:xfrm>
        <a:graphic>
          <a:graphicData uri="http://schemas.openxmlformats.org/drawingml/2006/table">
            <a:tbl>
              <a:tblPr/>
              <a:tblGrid>
                <a:gridCol w="4105440"/>
                <a:gridCol w="2232000"/>
                <a:gridCol w="2448000"/>
              </a:tblGrid>
              <a:tr h="51840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тоды проблемного обу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сследовательский мет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облемного из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Эвристическая бес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264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сновные этапы исследовательс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процесса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выявление неизвестных факто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длежащих исследованию; уточнение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ормулировка проблемы; выдвижение гипотез; составление плана исследов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уществление исследовательского план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сследование неизвестных фактов и их связей с другими, проверка выдвинутых гипотез; формулировка результата; оценка значимости полученного нового знания, возможностей его примен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тличие исследовательского метод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чебная проблема не является нов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стиной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Стимулы учащихся к проведению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сследования отличны от стимулов, побуждающих ученого к исследованию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читель раскрывает перед учащимися путь исследования, поиска и открытия новых знаний, готовя их тем самым к самостоятельному поиску в дальнейше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облемное изложение подготавливает базу для применения эвристического метода, а эвристический метод - для применения исследовательского метода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епень проблемности проявляется по-разному: цепочка вопросов, обращенных к опыту, знаниям, размышлениям учеников; «называние» темы , постановка проблемы, которую дети решают под руководством преподавателя, выдвигая гипотезу, формулируя возможные пути ее решения, совместно обсуждая ход и результаты решения, экспериментируя, подтверждая или опровергая выдвинутую гипотезу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 txBox="1"/>
          <p:nvPr/>
        </p:nvSpPr>
        <p:spPr>
          <a:xfrm>
            <a:off x="826560" y="1267920"/>
            <a:ext cx="7674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«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Знать что-либо наизусть – все равно, что не знать ничего; это значит владеть тем, что дано лишь на хранение памяти.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                                      </a:t>
            </a: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М.Монтень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Проблемное обучение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642600" y="128592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</a:rPr>
              <a:t>постоянно ставит обучаемого в ситуацию задачи, решение которой непременно требует работы мышления. 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 txBox="1"/>
          <p:nvPr/>
        </p:nvSpPr>
        <p:spPr>
          <a:xfrm>
            <a:off x="571320" y="714240"/>
            <a:ext cx="8001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6f3f0c"/>
                </a:solidFill>
                <a:uFillTx/>
                <a:latin typeface="Century Gothic"/>
              </a:rPr>
              <a:t>Проблема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дание, задача, теоретический или практический вопрос, требующий разрешения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731901"/>
                </a:solidFill>
                <a:uFillTx/>
                <a:latin typeface="Century Gothic"/>
              </a:rPr>
              <a:t>проблемная ситуация в обучении</a:t>
            </a:r>
            <a:r>
              <a:rPr b="1" lang="ru-RU" sz="1800" spc="-1" strike="noStrike">
                <a:solidFill>
                  <a:srgbClr val="731901"/>
                </a:solidFill>
                <a:latin typeface="Century Gothic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планированное, специально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думанное средство,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аправленное на пробуждение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интереса у учащихся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к обсуждаемой тем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Причины эффективност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468000" y="114300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большая интеллектуальная активность учащегося, вызываемая познавательной потребностью – желанием найти искомое неизвестное, без которого он не сможет решить поставленную задачу. 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нания усваиваются как некие общие закономерности или способы действий, позволяющие использовать их и впредь при решении широкого класса других задач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Цели проблемного обучения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642600" y="21430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</a:rPr>
              <a:t>1</a:t>
            </a: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.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формировать у учащихся необходимую систему знаний, умений и навыко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2.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остигнуть высокого уровня развития школьников, развития способности к самообучению, самообразованию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3.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формировать особый стиль умственной деятельности, исследовательскую активность и самостоятельность учащихся</a:t>
            </a:r>
            <a:r>
              <a:rPr b="0" lang="ru-RU" sz="40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361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Сущность проблемного обучения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 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539280" y="14130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325949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325949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водится к тому, что в процессе обучения в корне изменяется характер и структура познавательной деятельности учащегося, приводящее к развитию творческого потенциала личности учащегося. Главным и характерным признаком проблемного обучения является проблемная ситуация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15328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Принципы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6" name=""/>
          <p:cNvSpPr txBox="1"/>
          <p:nvPr/>
        </p:nvSpPr>
        <p:spPr>
          <a:xfrm>
            <a:off x="428760" y="571320"/>
            <a:ext cx="8107200" cy="48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связь предмета изучения с жизнью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86920" indent="-28692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ринцип дифференциации при решении творческих задач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86920" indent="-28692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отбор художественного материала по различным видам искусства, обусловленный возрастными особенностями и возможностями учащихся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86920" indent="-28692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личностная значимость изучаемого и сделанного;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86920" indent="-28692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активное включение обучающихся в изучение различных сторон традиционной культуры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86920" indent="-28692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учет и рассмотрение региональных особенностей, привычного детям природного окружения, национальных и народных художественных традиций, изучение истории родного края;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86920" indent="-28692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ринцип единства восприятия и созидания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86920" indent="-28692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развитие художественно-образного мышления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86920" indent="-28692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Творческое освоение ИКТ  при решении художественных задач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86920" indent="-286920">
              <a:spcBef>
                <a:spcPts val="1001"/>
              </a:spcBef>
              <a:buClr>
                <a:srgbClr val="a53010"/>
              </a:buClr>
              <a:buFont typeface="Wingdings" charset="2"/>
              <a:buChar char="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7" name="Схема 3" descr=""/>
          <p:cNvPicPr/>
          <p:nvPr/>
        </p:nvPicPr>
        <p:blipFill>
          <a:blip r:embed="rId1"/>
          <a:stretch/>
        </p:blipFill>
        <p:spPr>
          <a:xfrm>
            <a:off x="781200" y="1176480"/>
            <a:ext cx="6948360" cy="4108320"/>
          </a:xfrm>
          <a:prstGeom prst="rect">
            <a:avLst/>
          </a:prstGeom>
          <a:ln w="0">
            <a:noFill/>
          </a:ln>
        </p:spPr>
      </p:pic>
      <p:sp>
        <p:nvSpPr>
          <p:cNvPr id="1258" name="Прямоугольник 5"/>
          <p:cNvSpPr/>
          <p:nvPr/>
        </p:nvSpPr>
        <p:spPr>
          <a:xfrm>
            <a:off x="785880" y="50004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Место проблемного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9" name="Группа 9" descr=""/>
          <p:cNvPicPr/>
          <p:nvPr/>
        </p:nvPicPr>
        <p:blipFill>
          <a:blip r:embed="rId2"/>
          <a:stretch/>
        </p:blipFill>
        <p:spPr>
          <a:xfrm>
            <a:off x="4638600" y="1341360"/>
            <a:ext cx="3000600" cy="3011400"/>
          </a:xfrm>
          <a:prstGeom prst="rect">
            <a:avLst/>
          </a:prstGeom>
          <a:ln w="0">
            <a:noFill/>
          </a:ln>
        </p:spPr>
      </p:pic>
      <p:pic>
        <p:nvPicPr>
          <p:cNvPr id="1260" name="Группа 12" descr=""/>
          <p:cNvPicPr/>
          <p:nvPr/>
        </p:nvPicPr>
        <p:blipFill>
          <a:blip r:embed="rId3"/>
          <a:stretch/>
        </p:blipFill>
        <p:spPr>
          <a:xfrm>
            <a:off x="4638600" y="3402000"/>
            <a:ext cx="3000600" cy="3011400"/>
          </a:xfrm>
          <a:prstGeom prst="rect">
            <a:avLst/>
          </a:prstGeom>
          <a:ln w="0">
            <a:noFill/>
          </a:ln>
        </p:spPr>
      </p:pic>
      <p:sp>
        <p:nvSpPr>
          <p:cNvPr id="1261" name="TextBox 16"/>
          <p:cNvSpPr/>
          <p:nvPr/>
        </p:nvSpPr>
        <p:spPr>
          <a:xfrm>
            <a:off x="5334120" y="2168640"/>
            <a:ext cx="222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а любом предметном содерж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Box 17"/>
          <p:cNvSpPr/>
          <p:nvPr/>
        </p:nvSpPr>
        <p:spPr>
          <a:xfrm>
            <a:off x="5334120" y="4232160"/>
            <a:ext cx="20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а любом возрастном эта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09:44:30Z</dcterms:created>
  <dc:creator>Татьяна</dc:creator>
  <dc:description/>
  <cp:keywords/>
  <dc:language>en-US</dc:language>
  <cp:lastModifiedBy>Lada</cp:lastModifiedBy>
  <dcterms:modified xsi:type="dcterms:W3CDTF">2021-06-19T11:51:07Z</dcterms:modified>
  <cp:revision>18</cp:revision>
  <dc:subject/>
  <dc:title>Проблемное обуч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49991</vt:lpwstr>
  </property>
</Properties>
</file>