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95F-90C2-4C17-9350-3ECF1A08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6D2-7942-4488-940C-593C966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E826-C56F-4592-A087-E4DF4E5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41C3-CF8F-47FE-A01A-715964F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912BB-3211-43F4-9A79-2DCEB1F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41854-5DED-4AC4-8C1B-052C64A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93810-0004-44E4-9EC9-EB03284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FAD5-B2F9-43EB-8981-A22E4BB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D5E3-7903-4AF7-B5E3-768635C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5DD0-4BB6-420F-9F50-B711147E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48E4B-DB80-4749-88B3-A5C7E7D0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2E8C6-CFED-48F2-85CD-E53A9D20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79F-6A4B-4CE7-AB20-D42B3D92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ECF7-E7B9-468F-9FAC-AB2CD148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07143-3DC9-4FDF-8BFB-EB8EA75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DA1D2-DDB7-48CE-9450-FA817F9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06D3-287C-40DF-A62D-E99416F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8811-87E9-48A5-907E-FD4E40D3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890FE-94F5-4F36-AE5D-C531182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6CF9-965B-4250-91A8-AABF476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7177-DD5B-4750-A07E-80509C9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1E74-75EA-459A-BBD5-899A957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11302-CB0B-48B0-83FB-AE11BCC8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ADF-7062-485B-B226-A1C8F628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D159E-6865-4686-8E3F-4F7E0DE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E969-3FCC-41CD-8793-8F835EFC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4947A-4FF5-4A02-8B52-718BEA7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F583C-07E1-4456-BFA8-20F9347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5E1FD-A7A9-4EE7-AC57-CBABBC0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EB1E-29AE-4114-B7BB-5F55BFF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994BF-8B5D-431A-A731-3DAB287D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BF02-A40A-48AA-B001-2019251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58F35-C154-4743-92B4-7183A71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909E-B80C-4D40-A1E7-92E3212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F62-0232-47BC-B6F5-732B3241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99364-6470-463D-9DB3-EDD1896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50AE0-B9E8-4F8C-8AB1-8DA978FF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04763-F815-43EF-9ACC-050BF1E6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7450C-AEAB-4337-BE8C-6F2C947D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0228D-9D83-4695-B5C3-B9D8F0E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34C40-1D95-436A-9688-10EC3350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DEB4A-E0D6-4F51-B7D7-0DA1888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FE060-5D87-4DB7-B6BE-068E343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B6B5A-C567-418A-80CD-47385C6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0DCE-3FA6-4AF7-AA82-0F240B1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F547-FF51-46BF-AA95-2D7F76A1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EE238-1574-44C2-8AA2-43A93B5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337DC-9FA3-44F5-8937-D87C3AD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954E6-866E-42D4-A124-7CCEE55F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1CB44-72CD-4A10-9AD0-6E51C2AB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3A3C9-5754-407D-83EF-4792F06D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B7431-6205-4A3F-A25E-B34AC761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CB340-6BE1-4A6A-AB4F-F451037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D599F-B842-4FFC-84FD-695BCEF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44E61-FF51-454D-8C88-9CDB239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F6C02-0C44-4047-9EDD-B623B1A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2B39-C82B-4269-AFC2-90A2EB1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F4EE2-C426-42E5-B51B-FBF40E1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DC8CF-C8B9-463B-A0EF-CC42C6C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90B9E-3214-4A6E-9C6D-140FD0A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5D75F-B80F-412A-870B-7A5FC22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6B2A0-33E5-4A27-8558-390A0103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BA341-6392-49F3-A776-C1D12593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D4E13-717E-42B6-8A6A-AEC1CB20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9018D-32EF-40E9-9B45-A5BA57EA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2AD89-7CED-46C3-A279-3A0FF9A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4CC62-5F62-4072-B466-F7EFD74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2C19-894D-4DE7-80F5-4B18F21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50741-C05D-4711-8A17-438AF6C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36F8D-0509-4908-8E44-60CCE19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C0D3D-95F7-4AA2-9688-96B8488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38B61-7832-46CB-8E63-39781FF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CB9D7-8569-47F3-A1E0-DD2EEF0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2CA81-548D-4E88-AAEE-8950B61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3A39E-A2C7-4903-B211-F8C598E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7D4A6-836A-437E-AA25-2CD60F9A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45AA5-BE3C-4E74-BB6F-1F91599E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1BB76-0035-4792-AC03-7135057C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898-106A-4EF1-BAB4-79D27FF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6C003-F136-476A-BEE1-9EE9D6A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37577-D5AF-46CE-B7D3-7854385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F0F1C-9A45-4069-BA46-A8C6904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F4CD5-4E13-431F-9AB4-295D377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DAC10-7FD8-4DC5-B711-2BF8E20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9E2BC-E9C8-40A3-8ADD-A3C8A5E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9797A-85FD-4248-8FD5-873FA37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C3EA1-632C-4A4D-B34E-E07D9A0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6C457-0ABF-47D7-8FBC-4387322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A4C66-DCE4-463F-9853-BE7F1C83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A9D7-16ED-45E9-B9B2-7AD7BCF5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395DB-1847-4FDA-9013-B5595F62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EAF08-68C6-4907-9A14-864E6BFE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E6A8B-6C74-48A7-86AE-72E3DBF1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EB016-EE96-4D39-A380-9881E69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CCE72-C66C-4721-AB20-A3E07D51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DA486-CAB8-474C-9E98-412A138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C9240-87F5-40DF-B0A4-7D07E24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CCB5E-5142-4B71-A703-9ECD583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103D1-8C27-4354-9380-DA28F93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E1744-D761-45A2-9076-8559F17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7C16-C533-4ABF-8EEE-59FB735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0040F-EC92-45E2-AFE7-9C224D2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686D2-8A39-469E-8D5C-B685084C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78078-F067-4392-9C04-46A7CC5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43DAE-7E87-4C0D-818B-2E0CE180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17A52-9B28-4182-B744-24DC65D3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FC91F-24ED-4224-BCC2-E5FA058E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5A5BA-AC35-49BA-AC62-E146344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BD1AB-DB9B-4ED8-BD98-D7A234D1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9DE77-436B-4A2B-8F84-8BB9DE50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5F2D3-F851-4B35-8E89-C03E12E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5FD-FF05-4CFC-BC42-E49062D9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8408-A341-427B-AFF9-C410BE4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4E04A-F437-473F-A9AD-FBF90A3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31CDA-93AB-476F-A409-56277F71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A4843-56D6-4C06-A364-72E106FF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08453-375C-428A-A7CF-302EB586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4CB28-9842-4268-BAB7-642F35B9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8CF7D-9F1B-483C-ABEA-E43B9854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728A2-EBCC-4428-A158-396B1F3C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82E8A-22D6-4351-8661-DFD226D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B0952-D9B0-495A-872F-42AB472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19005-EA4A-4558-8E23-06885799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8D7D-01A7-4AA2-87D9-F3901F6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A57BA-8C81-40C7-8125-BD568A2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8C301-4E23-4BCC-B3E2-85FCE3E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811AA-854E-4E63-9EA4-7E4533E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9E911-B0DA-431B-8FD9-455A9C5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8FC88-6642-47FF-8E23-6EA2CB0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27171-D269-4357-8DE4-67D6C390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661A4-A846-4C42-A848-8E1D1BB5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75C-E01C-494C-9E63-FB89170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8E69-C583-4504-85EF-0879D221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51B-8F40-46AE-9216-5B86D0AC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880-D469-4E95-9B26-CE85D587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813E-B9DE-48FC-947F-FEDEA55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2C82-E4C1-4D1C-B084-B67B59B4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05EA-6468-43CB-A63B-0E81E7D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BDC7-C613-4CF0-8175-456EFB07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8D9-58EA-49FA-ADAB-ACDA87F4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8DE3-9401-466D-98AD-DE9015E4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4BCA-02E4-4C06-BE28-7B440A6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179B-3C9C-44C3-86EC-4BB3F7A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BBB1-38C6-4BEA-94B0-ED05D70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D467-6CDE-490F-BEEA-47ACA32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DBB8-E18F-427E-A5AD-79A594B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CBC7-85C1-4A6E-BC8C-7BB6BB69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82B4-BBE2-43D9-A307-B5B6B209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3C3D-E09B-4AA9-8268-747BE67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18B0-9DBD-4B3E-981F-F3C6B45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78C-FCED-43D7-ABD0-98BB801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404E-729E-4F0C-9EC6-9D34CFC2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6F61-53CC-4136-BE53-D45DC070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C4EB-8A10-4197-97D7-A18D374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228D-D176-481E-B70D-AF5272E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B307-2864-4188-BE55-72852E5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9A3D-7190-415B-A21E-232009A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A265-D30A-44A7-9733-10E0899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D0DC-5BC7-419C-8B34-490492F8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9E95-9570-4FF1-A9C7-DD5120D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EAD0-A82B-49A4-BB53-EA57DBB9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9A2-3110-42BC-8AED-9A72E1D9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E5C1-CE39-4B6B-92E8-92BF5D7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A0A0-FEFA-4BD4-9F1F-E5CEBB9D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32B2-BCAE-4BCC-8DE3-BCCD672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CE76-5BBC-4E39-BA42-EDC287E2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7D6C-BB46-4144-8A68-AF6F8EE1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DE04-04A6-483B-9C43-C97C8A4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6BC7-B06A-40E0-B910-9BD195D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0A05D-4A27-4556-95E1-F4C1016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05EF-F5F2-48C1-901C-AB5BA51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5DB8-1D9E-43F2-B451-0CF80CAA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4ED-C4DF-4FCA-9127-CF5EE134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F7E5-90B4-4B44-AD5B-94EEDD60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9153-6804-4A80-9243-F4C0583A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C6FB-FB41-470B-AB91-C63F0ED5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72FF-F071-462D-A576-12AA57F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1EF1-50AC-4AE7-B30D-6D6E485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4A1A-5EC2-452B-97D6-6EA7A34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8A5AE-F31A-43EE-8398-3CAD6A1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403A-94AB-4642-A075-4BE113A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73EA-C1D3-400F-B26D-23F00C9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6DB2-309B-4DE3-BE6D-C0C1A91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E2E-0C95-4247-B581-CCD7BAC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F185-15AE-4D6B-A022-7B55935B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F310-ACC8-40AB-AC4C-D168574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346B0-2C5E-4C46-94CF-9209DC35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A91D8-0396-4CB7-B87A-08BB611B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15D0-25A6-4CB4-9C93-D7BCB72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26BD-DB36-4E46-851C-6833867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0D90-923D-4CE6-9A8D-C1008E54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DBDD-EC3C-4B59-A6A7-12FFA96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8C54-5D5A-473B-8161-14115CAE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D801-8944-4EAA-AAE4-2A01239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6A5-FEF7-4668-A106-63697BA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7E12A-5169-449B-92E9-2F73C40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88BB-6CC2-441D-AB79-FA38D79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689E-FE92-4ABC-974F-1FFC3D6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78FA-DB00-4237-B69B-17789E77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A77E-BB24-42F9-B4D4-FCAF1EC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C2A1-2D67-46AC-8ACB-24AF7A2B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71FE-046A-45A2-A603-B965097C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2BD5-ECAA-415A-98C3-4A7B28C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D096-56FE-4F1D-BB34-DDA01B0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683D-70B1-4E41-B1AD-7895F70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A6C-9359-4CC1-A501-4F84A9F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E58D6-3564-420C-B1B2-3392A623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2301-D62E-4A64-9B64-AB29289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2F9C-2AA5-44D3-8E28-8D7E229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1A78-CDDB-4E99-9B9D-827FC2A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72F09-A814-4264-8D9F-100C677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39EE4-5913-4658-B769-36700BE6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87FBA-0742-45F7-B2B5-29D10081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9A63-46AF-4B1D-9A9E-BF7B5A1E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9DF0-D778-4BEE-877F-DFE8A585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84836-44F6-4719-B040-A031B859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02F-9F71-49DA-950D-6ED3E5D1E4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F45-4315-4AEA-91BB-97765774511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256-8D1D-43D5-8ACB-15E2BB6748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F78A-B625-4A1E-9A82-DD1AF90960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02E1-D526-4FCD-BC41-6108333A018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E5B-56F8-4828-8F4B-1858DF2DE9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936A-1E2D-4F39-86DA-F9D8DB2C14F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A41-5723-4A2A-B0E6-5371387E52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E4D-EAD7-487A-AC97-26F007B2FF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1D0-2230-4922-91F3-B59654299D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3855-EB7C-4CD4-A4C2-C72D0E42DD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66B-09CC-46C8-BEA7-215C3C9EE6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DEC-EED7-4DC8-AB47-351AA7AA63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06C-58A2-40E7-8B2C-A6A41B87D2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4DB-0C57-45AD-966F-7AB2405471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3D8-A8FE-4AC1-8B36-5EB062DF9F7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6BB-284A-4E72-A5B4-95655C34EB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EEC-EDB7-4EED-8534-E87AE00B94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Проблемное обуче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облемность как принцип обуч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610920" y="1700280"/>
            <a:ext cx="8001000" cy="1512720"/>
          </a:xfrm>
          <a:prstGeom prst="rect">
            <a:avLst/>
          </a:prstGeom>
          <a:solidFill>
            <a:srgbClr val="eaead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Проблемная ситуа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5"/>
          <p:cNvSpPr/>
          <p:nvPr/>
        </p:nvSpPr>
        <p:spPr>
          <a:xfrm>
            <a:off x="468360" y="4005360"/>
            <a:ext cx="3025800" cy="256284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6012000" y="4005360"/>
            <a:ext cx="2500200" cy="201420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авила соз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облемных ситуаций 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10920" y="148392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7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именение мотивирующих пример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6" name="Содержимое 3" descr=""/>
          <p:cNvPicPr/>
          <p:nvPr/>
        </p:nvPicPr>
        <p:blipFill>
          <a:blip r:embed="rId1"/>
          <a:stretch/>
        </p:blipFill>
        <p:spPr>
          <a:xfrm>
            <a:off x="566640" y="1322280"/>
            <a:ext cx="816300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йствия ученика при создании учителем проблемной  ситуации 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Схема 4" descr=""/>
          <p:cNvPicPr/>
          <p:nvPr/>
        </p:nvPicPr>
        <p:blipFill>
          <a:blip r:embed="rId1"/>
          <a:stretch/>
        </p:blipFill>
        <p:spPr>
          <a:xfrm>
            <a:off x="115920" y="1865160"/>
            <a:ext cx="8852040" cy="40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31680" y="764640"/>
            <a:ext cx="76006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остоинства и недостатки проблемного обуч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Rectangle 6"/>
          <p:cNvSpPr/>
          <p:nvPr/>
        </p:nvSpPr>
        <p:spPr>
          <a:xfrm>
            <a:off x="4849920" y="1782720"/>
            <a:ext cx="4079880" cy="4670640"/>
          </a:xfrm>
          <a:prstGeom prst="rect">
            <a:avLst/>
          </a:prstGeom>
          <a:solidFill>
            <a:srgbClr val="d4deb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8"/>
          <p:cNvSpPr/>
          <p:nvPr/>
        </p:nvSpPr>
        <p:spPr>
          <a:xfrm>
            <a:off x="428760" y="1785960"/>
            <a:ext cx="3929040" cy="4619520"/>
          </a:xfrm>
          <a:prstGeom prst="rect">
            <a:avLst/>
          </a:prstGeom>
          <a:solidFill>
            <a:srgbClr val="d4deb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"/>
          <p:cNvGraphicFramePr/>
          <p:nvPr/>
        </p:nvGraphicFramePr>
        <p:xfrm>
          <a:off x="179280" y="189000"/>
          <a:ext cx="8785440" cy="7407360"/>
        </p:xfrm>
        <a:graphic>
          <a:graphicData uri="http://schemas.openxmlformats.org/drawingml/2006/table">
            <a:tbl>
              <a:tblPr/>
              <a:tblGrid>
                <a:gridCol w="4105440"/>
                <a:gridCol w="2232000"/>
                <a:gridCol w="244800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26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826560" y="1267920"/>
            <a:ext cx="7674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                                     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М.Монтен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облемное обучение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60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6f3f0c"/>
                </a:solidFill>
                <a:uFillTx/>
                <a:latin typeface="Century Gothic"/>
              </a:rPr>
              <a:t>Проблем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, задача, теоретический или практический вопрос, требующий разреш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731901"/>
                </a:solidFill>
                <a:uFillTx/>
                <a:latin typeface="Century Gothic"/>
              </a:rPr>
              <a:t>проблемная ситуация в обучении</a:t>
            </a:r>
            <a:r>
              <a:rPr b="1" lang="ru-RU" sz="1800" spc="-1" strike="noStrike">
                <a:solidFill>
                  <a:srgbClr val="731901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ланированное, специаль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уманное средство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авленное на пробуждение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нтереса у учащих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 обсуждаемой тем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чины эффектив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6800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Цели проблемного обуч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42600" y="2143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ть у учащихся необходимую систему знаний, умений и навы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2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Сущность проблемного обучени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53928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25949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32594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нципы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428760" y="571320"/>
            <a:ext cx="8107200" cy="48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вязь предмета изучения с жизнью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нцип дифференциации при решении творческих задач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личностная значимость изучаемого и сделанного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ктивное включение обучающихся в изучение различных сторон традиционной культуры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нцип единства восприятия и созидания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художественно-образного мышления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ворческое освоение ИКТ  при решении художественных задач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Схема 3" descr=""/>
          <p:cNvPicPr/>
          <p:nvPr/>
        </p:nvPicPr>
        <p:blipFill>
          <a:blip r:embed="rId1"/>
          <a:stretch/>
        </p:blipFill>
        <p:spPr>
          <a:xfrm>
            <a:off x="781200" y="1176480"/>
            <a:ext cx="6948360" cy="4108320"/>
          </a:xfrm>
          <a:prstGeom prst="rect">
            <a:avLst/>
          </a:prstGeom>
          <a:ln w="0">
            <a:noFill/>
          </a:ln>
        </p:spPr>
      </p:pic>
      <p:sp>
        <p:nvSpPr>
          <p:cNvPr id="1258" name="Прямоугольник 5"/>
          <p:cNvSpPr/>
          <p:nvPr/>
        </p:nvSpPr>
        <p:spPr>
          <a:xfrm>
            <a:off x="785880" y="50004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Группа 9" descr=""/>
          <p:cNvPicPr/>
          <p:nvPr/>
        </p:nvPicPr>
        <p:blipFill>
          <a:blip r:embed="rId2"/>
          <a:stretch/>
        </p:blipFill>
        <p:spPr>
          <a:xfrm>
            <a:off x="4638600" y="1341360"/>
            <a:ext cx="3000600" cy="3011400"/>
          </a:xfrm>
          <a:prstGeom prst="rect">
            <a:avLst/>
          </a:prstGeom>
          <a:ln w="0">
            <a:noFill/>
          </a:ln>
        </p:spPr>
      </p:pic>
      <p:pic>
        <p:nvPicPr>
          <p:cNvPr id="1260" name="Группа 12" descr=""/>
          <p:cNvPicPr/>
          <p:nvPr/>
        </p:nvPicPr>
        <p:blipFill>
          <a:blip r:embed="rId3"/>
          <a:stretch/>
        </p:blipFill>
        <p:spPr>
          <a:xfrm>
            <a:off x="4638600" y="3402000"/>
            <a:ext cx="3000600" cy="3011400"/>
          </a:xfrm>
          <a:prstGeom prst="rect">
            <a:avLst/>
          </a:prstGeom>
          <a:ln w="0">
            <a:noFill/>
          </a:ln>
        </p:spPr>
      </p:pic>
      <p:sp>
        <p:nvSpPr>
          <p:cNvPr id="1261" name="TextBox 16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7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cp:keywords/>
  <dc:language>en-US</dc:language>
  <cp:lastModifiedBy>Lada</cp:lastModifiedBy>
  <dcterms:modified xsi:type="dcterms:W3CDTF">2021-06-19T11:51:07Z</dcterms:modified>
  <cp:revision>18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