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080E-18E7-4E94-BEF6-2935DD80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95D-914F-4CE1-A8A7-C51DEE5D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C0632-F24D-4B3E-9201-60BB21C8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D5CEA-31C7-41F6-B2F4-4A1685E3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91E19-ED8F-4CD3-90BF-AD89BB2A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12F5F-32EF-47C4-826F-EF90EE5A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D9F20-1DFE-4A55-AC29-6EA753D5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BF159-FAAA-4D00-BF6A-AC121B99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B89A9-13EC-4557-AC39-ED6C2574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26883-E247-4898-8F4A-FCBB03B2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1DE9B-C201-45FB-85DE-D03F5E8A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8C35B-400D-4F66-A55D-886D58FF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3EC-3876-4952-9254-029D11E5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23F4C-A2D8-40A9-AACF-0F927EB1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C297E-37E4-4160-9535-DF3B84D0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E102C-1083-4C68-9A14-C37BF570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792CD-A8A3-457A-9091-C881FF98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B5741-12C6-44E7-88D7-521E9096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7A674-E968-467F-B7FA-C803AF19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EDE94-6E2C-4087-812E-1A105DF6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007C2-725F-4437-8492-081680AB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6325E-87B6-44AF-90E3-1866F376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937B9-B4DC-4B95-AC35-76AB0088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A66-7547-4884-AB97-DBEAF3F5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F58C1-5B1D-44AB-8FCA-1CD43612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363AA-93F5-424A-A717-E8638BC9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14FBE-A857-4D9D-A4A6-CB4801CB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4A290-5708-46B9-90B6-70A73CB8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3F90F-52B7-4C8B-89B7-1521C967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D67ED-2B8E-45A2-9D20-3E1A801E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F7976-58CA-4B2D-8DEC-73AD49A9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F0FCE-9CB0-40C7-91B4-4EDFB19D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DE186-2789-49F8-BCBE-61F3BD38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57AC8-A589-4FFE-BDBB-5F90CE0C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B8B9C-6214-4B79-A0E3-71DF3E02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2F5DB-C3FB-4815-9D58-27AF1987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7F42D-B8C4-43D0-9D7A-FCC5E4B9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01B-332B-4175-9572-D76B6317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770E-5D7C-4EF2-9E10-F99D544C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D1B-5568-45C1-9DE0-8885535D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862-A697-4D3D-A084-11FC59B4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961-6467-44B8-94BE-0104F0EE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E7E-6F8C-4EC4-BDD6-571025E5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905-0F4E-428D-B496-1215E95F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D82D-AFED-4B5B-825F-0958E5CF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4463-AF93-4D49-96B3-428F0248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9852-0011-4296-B008-6D7CEE69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6F88-F3B9-4520-96E0-E884C7A1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5A4D-0E94-4738-A449-D966A94C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7328-855A-4D10-BD83-3AA260CE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AB3E-9BEF-4A01-9DA1-7340A0EF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8C41-1E6C-42EF-A9D5-993DEEAE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5381-9C8A-473B-9E92-4A21F1BA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59A8-CEAD-4769-B52A-A7067929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21CB-F5FC-45EC-95B2-E4D780D6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8AC5-5DDA-423E-AE55-EB9B499C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CF60-8807-4F2E-9906-EA6BD93D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65691-82D1-4C57-8D8E-87C465D6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49D06-5650-4DDD-954F-015BDB75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93286-36F5-4B57-ACD3-5CD4514C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252C-F332-4349-BD30-FF96DB23D1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6E7C-03B0-4D21-829F-3D490D2477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37B2-5F5B-45E0-8D0B-5BB0B641D5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669680" y="333360"/>
            <a:ext cx="63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редняя общеобразовательная школа № 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1258920" y="1341360"/>
            <a:ext cx="66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Sitka Display"/>
                <a:ea typeface="Times New Roman"/>
              </a:rPr>
              <a:t>Исследовательская рабо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Sitka Display"/>
                <a:ea typeface="Times New Roman"/>
              </a:rPr>
              <a:t>на те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Sitka Display"/>
                <a:ea typeface="Times New Roman"/>
              </a:rPr>
              <a:t>«Говорящие» фамил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Sitka Display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32523"/>
                </a:solidFill>
                <a:latin typeface="Sitka Display"/>
                <a:ea typeface="Times New Roman"/>
              </a:rPr>
              <a:t>в рассказах А.П. Чехова как средство художественной выразительности» </a:t>
            </a:r>
            <a:r>
              <a:rPr b="1" lang="en-US" sz="2800" spc="-1" strike="noStrike">
                <a:solidFill>
                  <a:srgbClr val="632523"/>
                </a:solidFill>
                <a:latin typeface="Sitka Display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32523"/>
                </a:solidFill>
                <a:latin typeface="Sitka Display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5421960" y="4149720"/>
            <a:ext cx="2756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ыполн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ченица 7 б кла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Левша Екатер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научный руководи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ехлова Л.М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читель русского язы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 лит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1116000" y="549360"/>
            <a:ext cx="7201080" cy="62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Ономастика – как наука об именах………………………………....…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Появление фамилий в русском языке…………………………….…..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Говорящие имена, названия и фамилии в творчестве А.П. Чехова..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 Рассказ «Ванька»……………………………………………………..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 Рассказ «Хамелеон»………………………………………………….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 Рассказ «Толстый и тонкий»………………………………………… 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. Рассказ «Лошадиная фамилия»……………………………………... 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 Рассказ «Смерть чиновника»………………………………………. 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исследования ономастики литературных произведени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ых источников…………………………………... 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ик новых слов……………………………………………………. 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1403280" y="620640"/>
            <a:ext cx="612144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номаст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(греч. – «искусство давать имена»), занимающийся изучением собственных имён. Ономастикой называется совокупность всех собственных имён. К ним относятся имена личные, отчества, фамилии, прозвища людей, клички животных, названия городов, рек, морей, небесных тел         и т.п. К собственным именам относятся имена как реально существующие, так и имена, созданные фантазией человека, имена и фамилии персонажей фольклора и художественной литератур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7"/>
          <p:cNvSpPr/>
          <p:nvPr/>
        </p:nvSpPr>
        <p:spPr>
          <a:xfrm>
            <a:off x="1822320" y="1125360"/>
            <a:ext cx="5329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обственные имена, относящиеся к людям, называют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антропонимами</a:t>
            </a: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,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а наука, которая их изучает – </a:t>
            </a: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антропоними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(от греч. anthropos – «человек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 onyma – «имя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2015640" y="900000"/>
            <a:ext cx="47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КАЗ ПЕТРА  </a:t>
            </a:r>
            <a:r>
              <a:rPr b="1" lang="en-US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I </a:t>
            </a: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т 1719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4857840" y="2496960"/>
            <a:ext cx="289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ледует  записывать все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«ПО ИМ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 ОТЦЫ И С ПРОЗВИЩ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C:\Users\Никита\Desktop\3f4733919b0b3a8ad1d608fc4465a0ae.jpg"/>
          <p:cNvPicPr/>
          <p:nvPr/>
        </p:nvPicPr>
        <p:blipFill>
          <a:blip r:embed="rId3"/>
          <a:stretch/>
        </p:blipFill>
        <p:spPr>
          <a:xfrm>
            <a:off x="1476360" y="1773360"/>
            <a:ext cx="3614760" cy="39844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1187280" y="692280"/>
            <a:ext cx="65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 различных общественных групп официальные фамилии появились в разное время.</a:t>
            </a:r>
            <a:br>
              <a:rPr sz="2400"/>
            </a:br>
            <a:r>
              <a:rPr b="0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• В 14-15 веках первыми получили фамилии представители знати, князья, бояре.</a:t>
            </a:r>
            <a:br>
              <a:rPr sz="2400"/>
            </a:br>
            <a:r>
              <a:rPr b="0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• В 16-18 веках складываются фамилии дворян.</a:t>
            </a:r>
            <a:br>
              <a:rPr sz="2400"/>
            </a:br>
            <a:r>
              <a:rPr b="0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• В 17-19 веках появляются фамилии у торговых и служащих людей.</a:t>
            </a:r>
            <a:br>
              <a:rPr sz="2400"/>
            </a:br>
            <a:r>
              <a:rPr b="0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• В 19 веке складывались фамилии русского духовенства.</a:t>
            </a:r>
            <a:br>
              <a:rPr sz="2400"/>
            </a:br>
            <a:r>
              <a:rPr b="0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• В конце 19 века самая многочисленная часть русского населения – крестьянство – стала получать фамилии, продолжалось эт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о 1930-х год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1258920" y="981000"/>
            <a:ext cx="59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о способу образования все фамилии можно разделить на:</a:t>
            </a:r>
            <a:br>
              <a:rPr sz="2400"/>
            </a:b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• «географические» (например, Вяземский, Ростовцев);</a:t>
            </a:r>
            <a:br>
              <a:rPr sz="2400"/>
            </a:b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• «профессиональные» (например, Сапожников, Швецов);</a:t>
            </a:r>
            <a:br>
              <a:rPr sz="2400"/>
            </a:b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• отымённые (например, Гришин, Васильев);</a:t>
            </a:r>
            <a:br>
              <a:rPr sz="2400"/>
            </a:b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• по прозвищу (например, Аксаков, Бунин);</a:t>
            </a:r>
            <a:br>
              <a:rPr sz="2400"/>
            </a:b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• искусственно образованные (например, Равинский, Фивейский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A7FD-03D9-4BC4-BBC2-B91768CA71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5DC0-86FC-4B57-9035-1273E733F1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Box 2"/>
          <p:cNvSpPr/>
          <p:nvPr/>
        </p:nvSpPr>
        <p:spPr>
          <a:xfrm>
            <a:off x="1692360" y="907920"/>
            <a:ext cx="5449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2103"/>
                </a:solidFill>
                <a:latin typeface="Times New Roman"/>
              </a:rPr>
              <a:t>Другой рассказ - «Хамелеон». Хамелеон – это ящерица, которая приспосабливается к окружающей среде, меняя свой цвет, маскируясь в опасных ситуаци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2103"/>
                </a:solidFill>
                <a:latin typeface="Times New Roman"/>
              </a:rPr>
              <a:t>Идея хамелеонства выражена образом полицейского Очумелова. Здесь хамелеон – это беспринципный человек, который очень легко меняет свое отношение к жизни, свои позиции в зависимости от сложившейся ситуации. Рассказ содержит в себе сатирическое обобщение. В рассказе главный хамелеон – это Очумелов. Сразу же вспоминаются глаголы "очуметь", "чуметь", а далее — существительное "чума" — страшная заразная болезнь, косившая целые города и страны. Какой же заразной болезнью страдает полицейский надзиратель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4"/>
          <p:cNvSpPr/>
          <p:nvPr/>
        </p:nvSpPr>
        <p:spPr>
          <a:xfrm>
            <a:off x="1908000" y="549360"/>
            <a:ext cx="50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en-US" sz="2000" spc="-1" strike="noStrike">
                <a:solidFill>
                  <a:srgbClr val="452103"/>
                </a:solidFill>
                <a:latin typeface="Times New Roman"/>
              </a:rPr>
              <a:t>2. Рассказ «Хамелеон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2"/>
          <p:cNvSpPr/>
          <p:nvPr/>
        </p:nvSpPr>
        <p:spPr>
          <a:xfrm>
            <a:off x="3419640" y="981000"/>
            <a:ext cx="4235400" cy="48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52103"/>
                </a:solidFill>
                <a:latin typeface="Times New Roman"/>
              </a:rPr>
              <a:t>Выразителен рассказ «Толстый и тонкий». У героев есть имена. Тонкий – Порфирий. Толстый – Миша. Но называет их писатель по внешнему виду: худой – тонкий, полный – толсты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52103"/>
                </a:solidFill>
                <a:latin typeface="Times New Roman"/>
              </a:rPr>
              <a:t>В детстве у Толстого была кличка Герострат, за то, что прожег папироской казённую книжку, а у тонкого - Эфиальт, за то, что ябедничать любил. Эти клички свидетельствуют о том, что порочные наклонности появляются в раннем детстве</a:t>
            </a:r>
            <a:r>
              <a:rPr b="0" lang="ru-RU" sz="2400" spc="-1" strike="noStrike">
                <a:solidFill>
                  <a:srgbClr val="45210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3"/>
          <p:cNvSpPr/>
          <p:nvPr/>
        </p:nvSpPr>
        <p:spPr>
          <a:xfrm>
            <a:off x="3059280" y="476280"/>
            <a:ext cx="47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2000" spc="-1" strike="noStrike">
                <a:solidFill>
                  <a:srgbClr val="452103"/>
                </a:solidFill>
                <a:latin typeface="Times New Roman"/>
              </a:rPr>
              <a:t>3. Рассказ «Толстый и тонки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2" descr="C:\Users\Левша\Downloads\__.__.___________4f69e859de05f_150x200.jpg"/>
          <p:cNvPicPr/>
          <p:nvPr/>
        </p:nvPicPr>
        <p:blipFill>
          <a:blip r:embed="rId2"/>
          <a:stretch/>
        </p:blipFill>
        <p:spPr>
          <a:xfrm>
            <a:off x="684360" y="1341360"/>
            <a:ext cx="27144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1"/>
          <p:cNvSpPr/>
          <p:nvPr/>
        </p:nvSpPr>
        <p:spPr>
          <a:xfrm>
            <a:off x="3419640" y="836640"/>
            <a:ext cx="3960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2103"/>
                </a:solidFill>
                <a:latin typeface="Times New Roman"/>
              </a:rPr>
              <a:t>Рассказ назван «Лошадиная фамилия». В этом как раз и кроется юмористическое зерно рассказа. После того как страдающий от зубной боли Булдеев попробовал множество разных средств, его приказчик Иван Евсеич посоветовал обратиться к настоящему «волшебнику». Этот чародей, оказывается, мог избавить любого человека от зубной боли. И тут выяснилось, что приказчик не помнит фамилии того самого «чародея», помня, что фамилия была очень простая, «словно как бы лошадиная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2"/>
          <p:cNvSpPr/>
          <p:nvPr/>
        </p:nvSpPr>
        <p:spPr>
          <a:xfrm>
            <a:off x="2928960" y="28584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452103"/>
                </a:solidFill>
                <a:latin typeface="Times New Roman"/>
              </a:rPr>
              <a:t>4. Рассказ «Лошадиная фамил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Picture 2" descr="http://booksonline.com.ua/pic/1/3/1/7/4/4/Chitat-knigu-Chekhov-Anton-Loshadinaya-familiya-131744.jpg"/>
          <p:cNvPicPr/>
          <p:nvPr/>
        </p:nvPicPr>
        <p:blipFill>
          <a:blip r:embed="rId2"/>
          <a:stretch/>
        </p:blipFill>
        <p:spPr>
          <a:xfrm>
            <a:off x="684360" y="333360"/>
            <a:ext cx="25714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Прямоугольник 2"/>
          <p:cNvSpPr/>
          <p:nvPr/>
        </p:nvSpPr>
        <p:spPr>
          <a:xfrm>
            <a:off x="3564000" y="907920"/>
            <a:ext cx="387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52103"/>
                </a:solidFill>
                <a:latin typeface="Times New Roman"/>
              </a:rPr>
              <a:t>В рассказе «Смерть чиновника» необычна фамилия генерала Бризжалова. Она ассоциируется по звучанию с глаголом «брюзжать» и с глаголом – «брызгать», прилагательным «брезгливый». Эти слова связаны и с характером генерала: ворчать, испытывать отвращение и к событиям, происшедшим с ним: быть обрызган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52103"/>
                </a:solidFill>
                <a:latin typeface="Times New Roman"/>
              </a:rPr>
              <a:t>Червяков – постоянно просит прощения у генерала Бризжалова, которому он, чихнув, обрызгал лысину в театр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52103"/>
                </a:solidFill>
                <a:latin typeface="Times New Roman"/>
              </a:rPr>
              <a:t>Бризжалов – вызывает ассоциации с брюзгой, который постоянно брызжет слю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3"/>
          <p:cNvSpPr/>
          <p:nvPr/>
        </p:nvSpPr>
        <p:spPr>
          <a:xfrm>
            <a:off x="3429000" y="428760"/>
            <a:ext cx="45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452103"/>
                </a:solidFill>
                <a:latin typeface="Times New Roman"/>
              </a:rPr>
              <a:t>5. Рассказ «Смерть чиновни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2" descr="http://www.nikacom.ru/kak.php?gytse=cgbecje/12171.jpg"/>
          <p:cNvPicPr/>
          <p:nvPr/>
        </p:nvPicPr>
        <p:blipFill>
          <a:blip r:embed="rId2"/>
          <a:stretch/>
        </p:blipFill>
        <p:spPr>
          <a:xfrm>
            <a:off x="539640" y="333360"/>
            <a:ext cx="32148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2"/>
          <p:cNvSpPr/>
          <p:nvPr/>
        </p:nvSpPr>
        <p:spPr>
          <a:xfrm>
            <a:off x="1332000" y="476280"/>
            <a:ext cx="6408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2103"/>
                </a:solidFill>
                <a:latin typeface="Times New Roman"/>
              </a:rPr>
              <a:t>Итак, мы видим, что фамилии играют существенную роль при создании литературно-художественного текста. Они являются неотъемлемыми составляющими стиля и языка писателя, тесно связаны с темой произведения, взглядами автора, а так же характеров героев и сутью создаваемых образ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2103"/>
                </a:solidFill>
                <a:latin typeface="Times New Roman"/>
              </a:rPr>
              <a:t>Чехов как любой писатель тщательно продумывая, какие фамилии, и имена включить в текст своего сочинения, выражает своё отношение к создаваемому персонажу, изображенным характерам, типам личности. В творчестве писателя отразились черты русского национального характера — мягкость, задушевность и простота, п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2103"/>
                </a:solidFill>
                <a:latin typeface="Times New Roman"/>
              </a:rPr>
              <a:t>совершенном отсутствии лицемерия, позы и ханжества. Чеховские заветы любви к людям, отзывчивости на их горести и милосердия к их недостаткам, живы и сегодня как воспоминанья о чем-то очень дорогом и нужном, бесконечно близком, пусть даже невозвратном. И анализ «говорящих» фамилий, по-моему, должен быть обязательной частью анализа созданных писателем художественных образов и самого содержания произведения в це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1"/>
          <p:cNvSpPr/>
          <p:nvPr/>
        </p:nvSpPr>
        <p:spPr>
          <a:xfrm>
            <a:off x="2050920" y="119700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лово «фамилия», происходит от латинского – семья. Фамилия – наследуемое семейное наименование, прибавляемое к имени и отчеству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4"/>
          <p:cNvSpPr/>
          <p:nvPr/>
        </p:nvSpPr>
        <p:spPr>
          <a:xfrm flipV="1" rot="10800000">
            <a:off x="1833120" y="1125000"/>
            <a:ext cx="550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Фамилии в русской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 именной формуле появились поздно. Большинство из них произошло от отчеств (по крестильному или мирскому имени одного из предков),прозвищ (по роду деятельности, месту происхождения или какой-то другой особенности предка) или других родовых им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C:\Users\Левша\Downloads\a_96ce96c7.jpg"/>
          <p:cNvPicPr/>
          <p:nvPr/>
        </p:nvPicPr>
        <p:blipFill>
          <a:blip r:embed="rId2"/>
          <a:stretch/>
        </p:blipFill>
        <p:spPr>
          <a:xfrm>
            <a:off x="263520" y="1125360"/>
            <a:ext cx="3062160" cy="3598920"/>
          </a:xfrm>
          <a:prstGeom prst="rect">
            <a:avLst/>
          </a:prstGeom>
          <a:ln w="0">
            <a:noFill/>
          </a:ln>
        </p:spPr>
      </p:pic>
      <p:sp>
        <p:nvSpPr>
          <p:cNvPr id="447" name="TextBox 4"/>
          <p:cNvSpPr/>
          <p:nvPr/>
        </p:nvSpPr>
        <p:spPr>
          <a:xfrm flipV="1" rot="10800000">
            <a:off x="3276720" y="691920"/>
            <a:ext cx="4502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2103"/>
                </a:solidFill>
                <a:latin typeface="Times New Roman"/>
              </a:rPr>
              <a:t>Антон Павлович Чехов (1860-1904) – великий русский писатель, талантливый драматург, академик, врач по профессии. Самое главное в его творчестве – это то, что многие произведения стали классикой мировой литературы, а его пьесы ставятся в театрах по всему миру. Чехов – мастер художественных приёмов. Одним из удачнейших, писатель считал использование «говорящих» фамилий. Поэтому он очень широко использовал своё «чутьё на фамилии», мог умело и уместно обыграть значение той или иной фамил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Box 3"/>
          <p:cNvSpPr/>
          <p:nvPr/>
        </p:nvSpPr>
        <p:spPr>
          <a:xfrm>
            <a:off x="1835280" y="692280"/>
            <a:ext cx="5643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2103"/>
                </a:solidFill>
                <a:latin typeface="Times New Roman"/>
              </a:rPr>
              <a:t>Анализируя фамилии в рассказах А.П.Чехова, можно с уверенностью сказать, что писатель использовал «говорящие» фамилии с целью дать характеристику герою, его поступкам, совершённым действиям, зачастую отрицательным, негативным. Он включает фамилии, в которых скрыт общий колорит рассказа, образуя их от названия мелких и неприятных явлений (Перхоткин, Прорехин, Грязноруков, Гнилодушкин, Глоталов). Как правило, автор не комментирует значение фамилии, а предоставляет возможность сделать это самому читателю, иногда персонажу рассказа. В рассказах образ героя соответствует значению фамилии, «говорящая» фамилия олицетворяет своего персонаж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2"/>
          <p:cNvSpPr/>
          <p:nvPr/>
        </p:nvSpPr>
        <p:spPr>
          <a:xfrm>
            <a:off x="3643200" y="1143000"/>
            <a:ext cx="5032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2103"/>
                </a:solidFill>
                <a:latin typeface="Times New Roman"/>
              </a:rPr>
              <a:t>Один из самых печальных рассказов писателя короткий рассказ «Ванька». Его герой 9-летний мальчик Ванька, отданный в учение сапожнику, непрерывно понукаемый и обижаемый всеми, пишет горестное письмо «на деревню дедушке». О судьбе Ваньки говорится со скрытым сочувствием и, как это ни парадоксально, - с улыбкой – доброй и человечной. Эта улыбка ощущается и в описании Ванькиного деда, не по годам озорного старика, служащего у господ ночным сторожем. Это маленький, тощенький, но необыкновенно подвижный старикашка лет 65, с вечно смеющимся лицом и пьяными глаз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2367000" y="866880"/>
            <a:ext cx="435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5"/>
          <p:cNvSpPr/>
          <p:nvPr/>
        </p:nvSpPr>
        <p:spPr>
          <a:xfrm>
            <a:off x="3851280" y="62064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                   </a:t>
            </a:r>
            <a:r>
              <a:rPr b="1" lang="en-US" sz="2000" spc="-1" strike="noStrike">
                <a:solidFill>
                  <a:srgbClr val="452103"/>
                </a:solidFill>
                <a:latin typeface="Times New Roman"/>
              </a:rPr>
              <a:t>1. Рассказ «Вань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Picture 2" descr="C:\Users\Левша\Downloads\img1684059.jpg"/>
          <p:cNvPicPr/>
          <p:nvPr/>
        </p:nvPicPr>
        <p:blipFill>
          <a:blip r:embed="rId2"/>
          <a:stretch/>
        </p:blipFill>
        <p:spPr>
          <a:xfrm>
            <a:off x="428760" y="1428840"/>
            <a:ext cx="31431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5T18:18:16Z</dcterms:created>
  <dc:creator>Никита</dc:creator>
  <dc:description/>
  <dc:language>en-US</dc:language>
  <cp:lastModifiedBy>cab310</cp:lastModifiedBy>
  <dcterms:modified xsi:type="dcterms:W3CDTF">2017-05-04T14:41:53Z</dcterms:modified>
  <cp:revision>26</cp:revision>
  <dc:subject/>
  <dc:title>Презентация PowerPoint</dc:title>
</cp:coreProperties>
</file>