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836-55D9-42B0-89AF-F3C5ED56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582-2276-4A91-9A42-67781427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213C-BF4B-46E6-AA14-673D7CEE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98EC-EDAA-4D3F-B4EE-FAA1DDD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20BA-9697-4E33-88E4-EDEC3561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4B37-B9F9-4D8B-AC11-2826594B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50ED-4626-4706-9E91-69313F7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CC89-0620-4193-9523-B78069C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9A10-B2EA-4D06-9743-3855896E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A3A2-2CFA-4D8F-8A6F-B8CE6258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987A6-182B-4A62-BE62-0E140D2E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8681-0178-4C7E-910E-5128F421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C6B-A0BE-4A27-985E-F9C1F93E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27A8-5771-4689-A79A-51BB3841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5948-4ECC-4097-9E4F-D0E0F870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C507-0DFE-46A8-974F-FDEEFF33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3B78-8E35-4E69-B141-A010231A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9034E-E2F1-4CA4-AE5A-D6CEBC4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01B5-B714-4499-B9EB-4005923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AD2A-AAA3-4D65-9C36-8AB800C4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77A0-B745-4681-B75A-ECC33C0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214E-C018-490D-8E26-F6A7C927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877D-3AA5-44B1-99A5-AABC5386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6AE-439D-44CD-8E47-7232B0AA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584F-7496-464F-B829-F3E41AA6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76EB-2538-48A9-A8DC-A6772986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6AF4B-2D60-4D24-A168-16F594D0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85CC-E759-4F23-AAC4-B5A67D0F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0284-C7A3-47C1-A4E9-97E43938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E7640-7094-4F34-AC3E-423414E5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27CB6-F88E-4E83-8544-1CB89474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84F46-AA44-4272-A310-7B4F1F19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00B7-4FF6-4FBF-8A5E-23C223D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6918-2812-423C-B809-88F9857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6E834-73CE-4491-8A8D-183701C9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A8C2D-9ED3-4D1E-AA8C-44EFDADF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53EC-69D6-4AE0-A52F-B2447D3D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23D-C805-4D71-9C51-460C7790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F23-F158-47A1-AD6C-E2D48C8D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CC0-35CF-4070-9297-DFA567C5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DEA-0894-4596-90A6-F8B8FE98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4E0-DD98-4D85-AB9F-7B832F74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08F-0699-4CA0-B3C5-586C4C8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B5F-F028-4B69-BADD-616525ED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4AE3-1511-4264-AAB9-C5708995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C56B-55CA-4262-94AF-90AA1248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8559-7C93-4FE4-8C4F-AEDE737E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9DAB-303D-4630-BA6E-3F93C73A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FD17-AE25-414E-8B7F-10F3434B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36B-265F-4306-B5F8-E13F229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BDCB-12AA-4586-8923-13C03F3C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F068-379F-4BDE-8ECC-523FEF5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4AFB-B8D2-4DC6-83F0-673BD211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919-F68F-4C94-85C4-03215C2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8ADA-307C-4F77-8319-0EED31B9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CD0B-D435-45DA-BD2A-881D5D56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768D-FA1B-4F08-89D6-CCB7C516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91F2-AF9B-47B5-8EA7-B4F38408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5F23-B18F-46D5-88D9-8D99DFA8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049E-3F0B-4F69-84FC-086DEA3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464A-2BA4-49B6-9BAA-8E97AD79F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10EA-0DAA-427B-A463-8FF154DA8E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03FB-6B8A-4A24-A7D0-2BD022AD4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669680" y="333360"/>
            <a:ext cx="63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редняя общеобразовательная школа № 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1258920" y="1341360"/>
            <a:ext cx="66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Исследовательская ра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на т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«Говорящие» фамил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в рассказах А.П. Чехова как средство художественной выразительности» </a:t>
            </a:r>
            <a:r>
              <a:rPr b="1" lang="en-US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32523"/>
                </a:solidFill>
                <a:latin typeface="Sitka Display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421960" y="4149720"/>
            <a:ext cx="275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ченица 7 б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евша Екате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уч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хлова Л.М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116000" y="549360"/>
            <a:ext cx="7201080" cy="62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Ономастика – как наука об именах………………………………....…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Появление фамилий в русском языке…………………………….….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Говорящие имена, названия и фамилии в творчестве А.П. Чехова..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Рассказ «Ванька»……………………………………………………..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 Рассказ «Хамелеон»………………………………………………….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Рассказ «Толстый и тонкий»…………………………………………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 Рассказ «Лошадиная фамилия»……………………………………... 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 Рассказ «Смерть чиновника»……………………………………….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сследования ономастики литературных произвед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…………………………………...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ик новых слов……………………………………………………. 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403280" y="620640"/>
            <a:ext cx="61214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номаст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греч. – «искусство давать имена»), занимающийся изучением собственных имён. Ономастикой называется совокупность всех собственных имён. К ним относятся имена личные, отчества, фамилии, прозвища людей, клички животных, названия городов, рек, морей, небесных тел         и т.п. К собственным именам относятся имена как реально существующие, так и имена, созданные фантазией человека, имена и фамилии персонажей фольклора и художественной литератур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7"/>
          <p:cNvSpPr/>
          <p:nvPr/>
        </p:nvSpPr>
        <p:spPr>
          <a:xfrm>
            <a:off x="1822320" y="1125360"/>
            <a:ext cx="53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обственные имена, относящиеся к людям, назы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нтропонимами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,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наука, которая их изучает – </a:t>
            </a: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нтропоними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от греч. anthropos – «человек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 onyma – «имя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2015640" y="900000"/>
            <a:ext cx="47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КАЗ ПЕТРА  </a:t>
            </a:r>
            <a:r>
              <a:rPr b="1" lang="en-US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т 1719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4857840" y="249696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ледует  записывать все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ПО И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 ОТЦЫ И С ПРОЗВИЩ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C:\Users\Никита\Desktop\3f4733919b0b3a8ad1d608fc4465a0ae.jpg"/>
          <p:cNvPicPr/>
          <p:nvPr/>
        </p:nvPicPr>
        <p:blipFill>
          <a:blip r:embed="rId3"/>
          <a:stretch/>
        </p:blipFill>
        <p:spPr>
          <a:xfrm>
            <a:off x="1476360" y="1773360"/>
            <a:ext cx="3614760" cy="39844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187280" y="692280"/>
            <a:ext cx="65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 различных общественных групп официальные фамилии появились в разное время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14-15 веках первыми получили фамилии представители знати, князья, бояре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16-18 веках складываются фамилии дворян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17-19 веках появляются фамилии у торговых и служащих людей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19 веке складывались фамилии русского духовенства.</a:t>
            </a:r>
            <a:br>
              <a:rPr sz="2400"/>
            </a:b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В конце 19 века самая многочисленная часть русского населения – крестьянство – стала получать фамилии, продолжалось э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о 1930-х год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258920" y="981000"/>
            <a:ext cx="59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 способу образования все фамилии можно разделить на: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«географические» (например, Вяземский, Ростовцев);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«профессиональные» (например, Сапожников, Швецов);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отымённые (например, Гришин, Васильев);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по прозвищу (например, Аксаков, Бунин);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• искусственно образованные (например, Равинский, Фивейский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5B22-15EA-4398-88BD-2348A8697D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0793-20B1-4C73-A24F-6AFA348C9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2"/>
          <p:cNvSpPr/>
          <p:nvPr/>
        </p:nvSpPr>
        <p:spPr>
          <a:xfrm>
            <a:off x="1692360" y="907920"/>
            <a:ext cx="5449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2103"/>
                </a:solidFill>
                <a:latin typeface="Times New Roman"/>
              </a:rPr>
              <a:t>Другой рассказ - «Хамелеон». Хамелеон – это ящерица, которая приспосабливается к окружающей среде, меняя свой цвет, маскируясь в опасных ситуац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2103"/>
                </a:solidFill>
                <a:latin typeface="Times New Roman"/>
              </a:rPr>
              <a:t>Идея хамелеонства выражена образом полицейского Очумелова. Здесь хамелеон – это беспринципный человек, который очень легко меняет свое отношение к жизни, свои позиции в зависимости от сложившейся ситуации. Рассказ содержит в себе сатирическое обобщение. В рассказе главный хамелеон – это Очумелов. Сразу же вспоминаются глаголы "очуметь", "чуметь", а далее — существительное "чума" — страшная заразная болезнь, косившая целые города и страны. Какой же заразной болезнью страдает полицейский надзиратель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4"/>
          <p:cNvSpPr/>
          <p:nvPr/>
        </p:nvSpPr>
        <p:spPr>
          <a:xfrm>
            <a:off x="1908000" y="549360"/>
            <a:ext cx="50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2. Рассказ «Хамелеон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2"/>
          <p:cNvSpPr/>
          <p:nvPr/>
        </p:nvSpPr>
        <p:spPr>
          <a:xfrm>
            <a:off x="3419640" y="981000"/>
            <a:ext cx="423540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52103"/>
                </a:solidFill>
                <a:latin typeface="Times New Roman"/>
              </a:rPr>
              <a:t>Выразителен рассказ «Толстый и тонкий». У героев есть имена. Тонкий – Порфирий. Толстый – Миша. Но называет их писатель по внешнему виду: худой – тонкий, полный – толсты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52103"/>
                </a:solidFill>
                <a:latin typeface="Times New Roman"/>
              </a:rPr>
              <a:t>В детстве у Толстого была кличка Герострат, за то, что прожег папироской казённую книжку, а у тонкого - Эфиальт, за то, что ябедничать любил. Эти клички свидетельствуют о том, что порочные наклонности появляются в раннем детстве</a:t>
            </a:r>
            <a:r>
              <a:rPr b="0" lang="ru-RU" sz="2400" spc="-1" strike="noStrike">
                <a:solidFill>
                  <a:srgbClr val="45210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3059280" y="476280"/>
            <a:ext cx="47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3. Рассказ «Толстый и тонки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2" descr="C:\Users\Левша\Downloads\__.__.___________4f69e859de05f_150x200.jpg"/>
          <p:cNvPicPr/>
          <p:nvPr/>
        </p:nvPicPr>
        <p:blipFill>
          <a:blip r:embed="rId2"/>
          <a:stretch/>
        </p:blipFill>
        <p:spPr>
          <a:xfrm>
            <a:off x="684360" y="1341360"/>
            <a:ext cx="2714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3419640" y="836640"/>
            <a:ext cx="396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2103"/>
                </a:solidFill>
                <a:latin typeface="Times New Roman"/>
              </a:rPr>
              <a:t>Рассказ назван «Лошадиная фамилия». В этом как раз и кроется юмористическое зерно рассказа. После того как страдающий от зубной боли Булдеев попробовал множество разных средств, его приказчик Иван Евсеич посоветовал обратиться к настоящему «волшебнику». Этот чародей, оказывается, мог избавить любого человека от зубной боли. И тут выяснилось, что приказчик не помнит фамилии того самого «чародея», помня, что фамилия была очень простая, «словно как бы лошадиная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2928960" y="2858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4. Рассказ «Лошадиная фамил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2" descr="http://booksonline.com.ua/pic/1/3/1/7/4/4/Chitat-knigu-Chekhov-Anton-Loshadinaya-familiya-131744.jpg"/>
          <p:cNvPicPr/>
          <p:nvPr/>
        </p:nvPicPr>
        <p:blipFill>
          <a:blip r:embed="rId2"/>
          <a:stretch/>
        </p:blipFill>
        <p:spPr>
          <a:xfrm>
            <a:off x="684360" y="333360"/>
            <a:ext cx="25714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2"/>
          <p:cNvSpPr/>
          <p:nvPr/>
        </p:nvSpPr>
        <p:spPr>
          <a:xfrm>
            <a:off x="3564000" y="907920"/>
            <a:ext cx="387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2103"/>
                </a:solidFill>
                <a:latin typeface="Times New Roman"/>
              </a:rPr>
              <a:t>В рассказе «Смерть чиновника» необычна фамилия генерала Бризжалова. Она ассоциируется по звучанию с глаголом «брюзжать» и с глаголом – «брызгать», прилагательным «брезгливый». Эти слова связаны и с характером генерала: ворчать, испытывать отвращение и к событиям, происшедшим с ним: быть обрызган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2103"/>
                </a:solidFill>
                <a:latin typeface="Times New Roman"/>
              </a:rPr>
              <a:t>Червяков – постоянно просит прощения у генерала Бризжалова, которому он, чихнув, обрызгал лысину в театр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2103"/>
                </a:solidFill>
                <a:latin typeface="Times New Roman"/>
              </a:rPr>
              <a:t>Бризжалов – вызывает ассоциации с брюзгой, который постоянно брызжет слю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3"/>
          <p:cNvSpPr/>
          <p:nvPr/>
        </p:nvSpPr>
        <p:spPr>
          <a:xfrm>
            <a:off x="3429000" y="428760"/>
            <a:ext cx="45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5. Рассказ «Смерть чиновн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http://www.nikacom.ru/kak.php?gytse=cgbecje/12171.jpg"/>
          <p:cNvPicPr/>
          <p:nvPr/>
        </p:nvPicPr>
        <p:blipFill>
          <a:blip r:embed="rId2"/>
          <a:stretch/>
        </p:blipFill>
        <p:spPr>
          <a:xfrm>
            <a:off x="539640" y="333360"/>
            <a:ext cx="3214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2"/>
          <p:cNvSpPr/>
          <p:nvPr/>
        </p:nvSpPr>
        <p:spPr>
          <a:xfrm>
            <a:off x="1332000" y="476280"/>
            <a:ext cx="640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2103"/>
                </a:solidFill>
                <a:latin typeface="Times New Roman"/>
              </a:rPr>
              <a:t>Итак, мы видим, что фамилии играют существенную роль при создании литературно-художественного текста. Они являются неотъемлемыми составляющими стиля и языка писателя, тесно связаны с темой произведения, взглядами автора, а так же характеров героев и сутью создаваемых образ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2103"/>
                </a:solidFill>
                <a:latin typeface="Times New Roman"/>
              </a:rPr>
              <a:t>Чехов как любой писатель тщательно продумывая, какие фамилии, и имена включить в текст своего сочинения, выражает своё отношение к создаваемому персонажу, изображенным характерам, типам личности. В творчестве писателя отразились черты русского национального характера — мягкость, задушевность и простота, п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2103"/>
                </a:solidFill>
                <a:latin typeface="Times New Roman"/>
              </a:rPr>
              <a:t>совершенном отсутствии лицемерия, позы и ханжества. Чеховские заветы любви к людям, отзывчивости на их горести и милосердия к их недостаткам, живы и сегодня как воспоминанья о чем-то очень дорогом и нужном, бесконечно близком, пусть даже невозвратном. И анализ «говорящих» фамилий, по-моему, должен быть обязательной частью анализа созданных писателем художественных образов и самого содержания произведения в це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2050920" y="119700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лово «фамилия», происходит от латинского – семья. Фамилия – наследуемое семейное наименование, прибавляемое к имени и отчеству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4"/>
          <p:cNvSpPr/>
          <p:nvPr/>
        </p:nvSpPr>
        <p:spPr>
          <a:xfrm flipV="1" rot="10800000">
            <a:off x="1833120" y="1125000"/>
            <a:ext cx="550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Фамилии в русской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 именной формуле появились поздно. Большинство из них произошло от отчеств (по крестильному или мирскому имени одного из предков),прозвищ (по роду деятельности, месту происхождения или какой-то другой особенности предка) или других родовых и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C:\Users\Левша\Downloads\a_96ce96c7.jpg"/>
          <p:cNvPicPr/>
          <p:nvPr/>
        </p:nvPicPr>
        <p:blipFill>
          <a:blip r:embed="rId2"/>
          <a:stretch/>
        </p:blipFill>
        <p:spPr>
          <a:xfrm>
            <a:off x="263520" y="1125360"/>
            <a:ext cx="3062160" cy="359892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 flipV="1" rot="10800000">
            <a:off x="3276720" y="691920"/>
            <a:ext cx="450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2103"/>
                </a:solidFill>
                <a:latin typeface="Times New Roman"/>
              </a:rPr>
              <a:t>Антон Павлович Чехов (1860-1904) – великий русский писатель, талантливый драматург, академик, врач по профессии. Самое главное в его творчестве – это то, что многие произведения стали классикой мировой литературы, а его пьесы ставятся в театрах по всему миру. Чехов – мастер художественных приёмов. Одним из удачнейших, писатель считал использование «говорящих» фамилий. Поэтому он очень широко использовал своё «чутьё на фамилии», мог умело и уместно обыграть значение той или иной фамил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3"/>
          <p:cNvSpPr/>
          <p:nvPr/>
        </p:nvSpPr>
        <p:spPr>
          <a:xfrm>
            <a:off x="1835280" y="692280"/>
            <a:ext cx="5643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2103"/>
                </a:solidFill>
                <a:latin typeface="Times New Roman"/>
              </a:rPr>
              <a:t>Анализируя фамилии в рассказах А.П.Чехова, можно с уверенностью сказать, что писатель использовал «говорящие» фамилии с целью дать характеристику герою, его поступкам, совершённым действиям, зачастую отрицательным, негативным. Он включает фамилии, в которых скрыт общий колорит рассказа, образуя их от названия мелких и неприятных явлений (Перхоткин, Прорехин, Грязноруков, Гнилодушкин, Глоталов). Как правило, автор не комментирует значение фамилии, а предоставляет возможность сделать это самому читателю, иногда персонажу рассказа. В рассказах образ героя соответствует значению фамилии, «говорящая» фамилия олицетворяет своего персонаж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3643200" y="1143000"/>
            <a:ext cx="5032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2103"/>
                </a:solidFill>
                <a:latin typeface="Times New Roman"/>
              </a:rPr>
              <a:t>Один из самых печальных рассказов писателя короткий рассказ «Ванька». Его герой 9-летний мальчик Ванька, отданный в учение сапожнику, непрерывно понукаемый и обижаемый всеми, пишет горестное письмо «на деревню дедушке». О судьбе Ваньки говорится со скрытым сочувствием и, как это ни парадоксально, - с улыбкой – доброй и человечной. Эта улыбка ощущается и в описании Ванькиного деда, не по годам озорного старика, служащего у господ ночным сторожем. Это маленький, тощенький, но необыкновенно подвижный старикашка лет 65, с вечно смеющимся лицом и пьяными глаз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2367000" y="866880"/>
            <a:ext cx="435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3851280" y="62064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                   </a:t>
            </a:r>
            <a:r>
              <a:rPr b="1" lang="en-US" sz="2000" spc="-1" strike="noStrike">
                <a:solidFill>
                  <a:srgbClr val="452103"/>
                </a:solidFill>
                <a:latin typeface="Times New Roman"/>
              </a:rPr>
              <a:t>1. Рассказ «Вань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2" descr="C:\Users\Левша\Downloads\img1684059.jpg"/>
          <p:cNvPicPr/>
          <p:nvPr/>
        </p:nvPicPr>
        <p:blipFill>
          <a:blip r:embed="rId2"/>
          <a:stretch/>
        </p:blipFill>
        <p:spPr>
          <a:xfrm>
            <a:off x="428760" y="1428840"/>
            <a:ext cx="3143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18:18:16Z</dcterms:created>
  <dc:creator>Никита</dc:creator>
  <dc:description/>
  <dc:language>en-US</dc:language>
  <cp:lastModifiedBy>cab310</cp:lastModifiedBy>
  <dcterms:modified xsi:type="dcterms:W3CDTF">2017-05-04T14:41:53Z</dcterms:modified>
  <cp:revision>26</cp:revision>
  <dc:subject/>
  <dc:title>Презентация PowerPoint</dc:title>
</cp:coreProperties>
</file>