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CE4-AFE0-4179-920A-7E6B3B7B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88D-33EA-4BBE-A6BB-E0E2A18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1EC-2E8F-4BC2-BDF5-4892266C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024-70DB-4ED7-8F88-5ADE2484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F1F-3ABB-457D-A969-7D35728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961-1C8B-491D-BA65-A61DE9B4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98C-D55B-4F7C-B55B-28472E04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FA7-1E1D-430C-B0EE-37EB6D40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0C7-025B-48E4-9BEF-72F0F6A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421-B27A-4BEB-A1D6-AA7E49E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DA5-A1BC-416B-BEB8-833812C2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1D1-0B04-4FD5-9B80-5F0B2D7F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704-80F3-4AA3-89B0-2086B782CF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84360" y="191628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ецифика  коррекционной работы с детьми дошкольного возраста с ОНР по формированию лексической стороны реч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457880" y="4508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а Олеся Леонид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764640"/>
            <a:ext cx="8507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идов коррекционной направленности приема «живые» картинки является обогащение лексического словаря детей, формирование грамматического строя речи. Формирующая познавательная активность детей старшего дошкольного возраста направлена на обследование окружающего мира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лексические темы сложны для восприятия детей с речевыми нарушениями без соответствующего наглядн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ая работа по воспитанию и обучению дошкольников с недостатками речи включает ежедневное проведение фронтальных, подгрупповых и индивидуальных занятий, осуществление преемственности в работе логопеда, воспитателя и музыкального руководителя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ислу важнейших задач логопедической работы с дошкольниками, имеющими ОНР, относится формирование у них лексического словар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47592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заимодействия специалис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проведение занятий с детьми воспитателями по програм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логопеда и семинары — практику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  словарем по соответствующей лексической теме в речевом материале на занятиях узких специалис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самостоятельной деятельности детей вне занятий: игры, развивающие лексический словарь (настольно-печатные, компьютерные), логоконструкторы, перфока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тодической разработки:</a:t>
            </a:r>
            <a:br>
              <a:rPr sz="28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лексического словаря детей с ОНР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 направ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детей к усвоению курса родного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у детей определенного  лексического словар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умению производить отбор и группировку слов по признак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значения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емантики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в словообразовании и употреблении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использования данной учебно-методической разрабо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родители, стремящиеся дать детям максимум знаний и умений в доступ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анной методической разработки на занятиях с детьми не только стимулирует обучение, но и способствует его успешности, содействует профилактике нарушений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учения состояния  лексической стороны речи детей дошкольного возраста с ОНР используются следующие метод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ловарного запаса по специально составленному материа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детьми в процессе учебной, предметно-практической, игровой и обиходно-бытовой деятельности в условиях ДО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дико-педагогической документации (данные анамнеза, медицинских и психологических исследований, педагогические характеристики и заключения и т.п.) логопе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ое место в словарной работе принадлежит лексическим упражнения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ексики в речевой группе проводится по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ловарного запа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значения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емантик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ая к словарной работе, необходимо подбирать материал с учётом тематического единства, охватив при этом основные части речи: существительное, глагол и прилагательное, а также постепенно усложняя структуру слова. Работая над словарём, представленным существительными, глаголами и прилагательными, логопед подготавливает детей к работе над фраз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785520"/>
            <a:ext cx="842472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из них должно давать совершенно определённый результа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случае надо отрабатывать приём сравне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ом – дети будут группировать предме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ем – правильно подбирать родовое сло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вёртом – учиться выполнять двойное обобщени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бор педагогически целесообразных видов словарно – логических упраж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словарно-логических упражнений необходимо придерживаться определённой, обоснованной, дидактически целесообразной системы, обеспечивающей развитие речи и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17:26:35Z</dcterms:created>
  <dc:creator>julia</dc:creator>
  <dc:description/>
  <dc:language>en-US</dc:language>
  <cp:lastModifiedBy>User</cp:lastModifiedBy>
  <dcterms:modified xsi:type="dcterms:W3CDTF">2021-06-19T17:27:55Z</dcterms:modified>
  <cp:revision>10</cp:revision>
  <dc:subject/>
  <dc:title>«Ярославский государственный педагогический университет им. К.Д.Ушинского»</dc:title>
</cp:coreProperties>
</file>