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5268-A6D3-41C8-9286-18352FA5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34E5-60F3-4623-97B3-76D1E1E3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E56-AD78-4F39-B1C1-EBDF9B86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80E1-5794-4AE8-8280-B7A7C583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CC8-3640-428B-975A-1A50BA45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9698-B663-4EA2-B05D-EC50E812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64F-40FA-4966-921D-5401622C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08A-2B9D-41BB-9369-1B23CFA5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C6CA-2F08-4863-BC27-BF0FD4C9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940-3773-4BA8-B871-C8231C0A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D5EC-5B82-4CE0-A8E3-8B4B95E4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AD5-D246-4E60-9398-625CFE66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0208-2572-45A5-8DA9-EBE0A598A2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684360" y="1916280"/>
            <a:ext cx="74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разрабо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ецифика  коррекционной работы с детьми дошкольного возраста с ОНР по формированию лексической стороны реч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457880" y="4508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ьина Олеся Леонид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764640"/>
            <a:ext cx="85075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видов коррекционной направленности приема «живые» картинки является обогащение лексического словаря детей, формирование грамматического строя речи. Формирующая познавательная активность детей старшего дошкольного возраста направлена на обследование окружающего мира.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лексические темы сложны для восприятия детей с речевыми нарушениями без соответствующего наглядного материал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9528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ая работа по воспитанию и обучению дошкольников с недостатками речи включает ежедневное проведение фронтальных, подгрупповых и индивидуальных занятий, осуществление преемственности в работе логопеда, воспитателя и музыкального руководителя.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числу важнейших задач логопедической работы с дошкольниками, имеющими ОНР, относится формирование у них лексического словар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95280" y="47592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взаимодействия специалист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проведение занятий с детьми воспитателями по программ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 логопеда и семинары — практику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  словарем по соответствующей лексической теме в речевом материале на занятиях узких специалист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самостоятельной деятельности детей вне занятий: игры, развивающие лексический словарь (настольно-печатные, компьютерные), логоконструкторы, перфокар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методической разработки:</a:t>
            </a:r>
            <a:br>
              <a:rPr sz="28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 лексического словаря детей с ОНР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и направлен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детей к усвоению курса родного язы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е у детей определенного  лексического словар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умению производить отбор и группировку слов по признак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 значения с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семантики с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в словообразовании и употреблении с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 использования данной учебно-методической разрабо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, родители, стремящиеся дать детям максимум знаний и умений в доступной форм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данной методической разработки на занятиях с детьми не только стимулирует обучение, но и способствует его успешности, содействует профилактике нарушений чт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зучения состояния  лексической стороны речи детей дошкольного возраста с ОНР используются следующие методы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56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словарного запаса по специально составленному материал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 за детьми в процессе учебной, предметно-практической, игровой и обиходно-бытовой деятельности в условиях ДО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медико-педагогической документации (данные анамнеза, медицинских и психологических исследований, педагогические характеристики и заключения и т.п.) логопед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ое место в словарной работе принадлежит лексическим упражнениям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лексики в речевой группе проводится по направления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 словарного запас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 значения сло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семантики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упая к словарной работе, необходимо подбирать материал с учётом тематического единства, охватив при этом основные части речи: существительное, глагол и прилагательное, а также постепенно усложняя структуру слова. Работая над словарём, представленным существительными, глаголами и прилагательными, логопед подготавливает детей к работе над фразо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785520"/>
            <a:ext cx="842472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из них должно давать совершенно определённый результат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дном случае надо отрабатывать приём сравнени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угом – дети будут группировать предметы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тьем – правильно подбирать родовое слово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вёртом – учиться выполнять двойное обобщение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важным моментом является выбор педагогически целесообразных видов словарно – логических упражн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ведении словарно-логических упражнений необходимо придерживаться определённой, обоснованной, дидактически целесообразной системы, обеспечивающей развитие речи и мыш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9T17:26:35Z</dcterms:created>
  <dc:creator>julia</dc:creator>
  <dc:description/>
  <dc:language>en-US</dc:language>
  <cp:lastModifiedBy>User</cp:lastModifiedBy>
  <dcterms:modified xsi:type="dcterms:W3CDTF">2021-06-19T17:27:55Z</dcterms:modified>
  <cp:revision>10</cp:revision>
  <dc:subject/>
  <dc:title>«Ярославский государственный педагогический университет им. К.Д.Ушинского»</dc:title>
</cp:coreProperties>
</file>