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FCF1-6E02-4CF8-9CAD-C6A7981B9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0770-DC1F-4197-BA1C-21D3F8C9A3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E4F-6359-420A-8BE2-615DC72D5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CB6-0ED7-4174-8873-D3C8B8529A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6073-6AEE-414A-AF05-98F1420A0A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52B0-A652-4E0F-B0E3-6A019D58E1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A25-8AE9-4DC1-8489-AD10EE75D6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A126-7A46-4822-AC36-519E1A7349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7FD5-E765-4F0F-914C-6F7E35F92C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9EA-0619-44E2-AA63-E81CAFF4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4CE-3A23-4920-A476-A9219337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8A9-614D-48D9-A03A-ABEA49FB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152-ABEB-44F3-BA95-DB6C6EA5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EA5-5D83-4314-9581-1B639387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277-AD74-4597-B508-A6182DE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6E7-FA27-4A7B-B0DD-BEABE3C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4F5-49F9-4D35-AF03-1E88048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802-79F5-440D-8544-D40E0E7F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A21-2662-4DB2-8087-85177A16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233-6DA5-4A2D-BF64-9867DCD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F54-18AA-4EDE-9BDE-F68164C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542A-D35D-4BD6-8FD4-41566AF358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765000"/>
            <a:ext cx="92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1" i="1" lang="en-US" sz="7200" spc="-1" strike="noStrike">
                <a:solidFill>
                  <a:srgbClr val="ffffff"/>
                </a:solidFill>
                <a:latin typeface="Times New Roman"/>
              </a:rPr>
              <a:t>Altay</a:t>
            </a:r>
            <a:r>
              <a:rPr b="1" i="1" lang="ru-RU" sz="7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7200" spc="-1" strike="noStrike">
                <a:solidFill>
                  <a:srgbClr val="ffffff"/>
                </a:solidFill>
                <a:latin typeface="Times New Roman"/>
              </a:rPr>
              <a:t>our Motherla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ч"/>
          <p:cNvPicPr/>
          <p:nvPr/>
        </p:nvPicPr>
        <p:blipFill>
          <a:blip r:embed="rId1"/>
          <a:stretch/>
        </p:blipFill>
        <p:spPr>
          <a:xfrm>
            <a:off x="1116000" y="2205000"/>
            <a:ext cx="6769080" cy="4392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856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b7"/>
                </a:solidFill>
                <a:latin typeface="Times New Roman"/>
              </a:rPr>
              <a:t>Climate: continental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64000" y="1268280"/>
            <a:ext cx="5438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inter is frosty and continu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ummer is hot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hort and often 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Изображение 032"/>
          <p:cNvPicPr/>
          <p:nvPr/>
        </p:nvPicPr>
        <p:blipFill>
          <a:blip r:embed="rId1"/>
          <a:stretch/>
        </p:blipFill>
        <p:spPr>
          <a:xfrm>
            <a:off x="468360" y="1892160"/>
            <a:ext cx="3004920" cy="352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s://www.1disconttur.ru/images/jarovoe_ozero.jpg"/>
          <p:cNvPicPr/>
          <p:nvPr/>
        </p:nvPicPr>
        <p:blipFill>
          <a:blip r:embed="rId2"/>
          <a:stretch/>
        </p:blipFill>
        <p:spPr>
          <a:xfrm>
            <a:off x="4500720" y="4292640"/>
            <a:ext cx="4248000" cy="2313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’s interesting to know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ltai has 3 thousand species of plan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100 of herbs are used in medicin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there are 100 endemic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90 species of mamm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300 species of bi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8 species of repti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35 – fish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120 species need prote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b7"/>
                </a:solidFill>
                <a:latin typeface="Times New Roman"/>
              </a:rPr>
              <a:t>Administrative Unit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31520"/>
            <a:ext cx="7081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12 town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ed administrative and territorial settl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59 rural distric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2400" y="5486400"/>
            <a:ext cx="717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The administrative center is the city of Barnaul with the population of </a:t>
            </a:r>
            <a:r>
              <a:rPr b="1" i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632 000 </a:t>
            </a:r>
            <a:r>
              <a:rPr b="1" i="1" lang="en-US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eople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5" name="Picture 7" descr="https://img.geliophoto.com/brn/22_brn.jpg"/>
          <p:cNvPicPr/>
          <p:nvPr/>
        </p:nvPicPr>
        <p:blipFill>
          <a:blip r:embed="rId1"/>
          <a:stretch/>
        </p:blipFill>
        <p:spPr>
          <a:xfrm>
            <a:off x="684360" y="1341360"/>
            <a:ext cx="7780320" cy="5183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What do you know about our region?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Fill in the first two columns of the table: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2565360"/>
          <a:ext cx="7921440" cy="2803680"/>
        </p:xfrm>
        <a:graphic>
          <a:graphicData uri="http://schemas.openxmlformats.org/drawingml/2006/table">
            <a:tbl>
              <a:tblPr/>
              <a:tblGrid>
                <a:gridCol w="2192400"/>
                <a:gridCol w="2992320"/>
                <a:gridCol w="27367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I kn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I want to kn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I found out</a:t>
                      </a: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7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ic in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268280"/>
            <a:ext cx="5041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bject of the Russian Feder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part of the Siberian Federal District and a part of the West Siberian Economic Reg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as formed on September 28, 193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apital: Barn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https://corpmsp.ru/upload/iblock/106/0_mediagal_6440_1.png"/>
          <p:cNvPicPr/>
          <p:nvPr/>
        </p:nvPicPr>
        <p:blipFill>
          <a:blip r:embed="rId1"/>
          <a:stretch/>
        </p:blipFill>
        <p:spPr>
          <a:xfrm>
            <a:off x="6051600" y="476280"/>
            <a:ext cx="2744640" cy="274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xn--80aaeyqihb1akd1n.xn--p1ai/wp-content/uploads/2019/01/%D1%84%D0%BB%D0%B0%D0%B3-%D0%BA%D1%80%D0%B0%D1%8F.jpg"/>
          <p:cNvPicPr/>
          <p:nvPr/>
        </p:nvPicPr>
        <p:blipFill>
          <a:blip r:embed="rId2"/>
          <a:stretch/>
        </p:blipFill>
        <p:spPr>
          <a:xfrm>
            <a:off x="5580000" y="3645000"/>
            <a:ext cx="3360960" cy="2211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2680" y="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Altai</a:t>
            </a: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at the map of Russ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6" name="Picture 6" descr="https://interier-foto.ru/wp-content/uploads/gde-naxoditsya-altaj.jpg"/>
          <p:cNvPicPr/>
          <p:nvPr/>
        </p:nvPicPr>
        <p:blipFill>
          <a:blip r:embed="rId1"/>
          <a:stretch/>
        </p:blipFill>
        <p:spPr>
          <a:xfrm>
            <a:off x="270000" y="981000"/>
            <a:ext cx="8609040" cy="4556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627200" y="5661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rea: 167 996 km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opulation: 2 296 353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s://avatars.mds.yandex.net/get-zen_doc/29485/pub_5d70cf8f97b5d400ae4c536d_5d70d944027a1500ad7303e4/scale_1200"/>
          <p:cNvPicPr/>
          <p:nvPr/>
        </p:nvPicPr>
        <p:blipFill>
          <a:blip r:embed="rId1"/>
          <a:stretch/>
        </p:blipFill>
        <p:spPr>
          <a:xfrm>
            <a:off x="209520" y="1484280"/>
            <a:ext cx="8786880" cy="49435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39060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51 natural monuments, a nature park "Aya", Tigirek reserve and 35 p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34520" cy="35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Mineral resourc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1" name="Picture 3" descr="img04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62028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Mineral resources include: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642960" y="981000"/>
            <a:ext cx="73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metals,       table salt,       sod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coal,      nickel,           cobal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on ore,           precious met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Рисунок 6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221520" cy="2930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78000" y="404640"/>
            <a:ext cx="876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ai is also famous for unique deposit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per, porphyrys, marbles, granites, ohra,           mineral and drinking water, natural healing m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https://webznayka.ru/images/1-AVTOMATOM/torf_379cb.jpg"/>
          <p:cNvPicPr/>
          <p:nvPr/>
        </p:nvPicPr>
        <p:blipFill>
          <a:blip r:embed="rId1"/>
          <a:stretch/>
        </p:blipFill>
        <p:spPr>
          <a:xfrm>
            <a:off x="5292720" y="2205000"/>
            <a:ext cx="3324240" cy="235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www.syl.ru/misc/i/ai/374650/2284916.jpg"/>
          <p:cNvPicPr/>
          <p:nvPr/>
        </p:nvPicPr>
        <p:blipFill>
          <a:blip r:embed="rId2"/>
          <a:stretch/>
        </p:blipFill>
        <p:spPr>
          <a:xfrm>
            <a:off x="826920" y="2205000"/>
            <a:ext cx="3556080" cy="2351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479520" y="494172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per –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шма,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phyry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рфи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ble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мраморы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healing mud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иродные лечебные гряз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19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Flor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3059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Steppe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meadows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grassland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woods of birch</a:t>
            </a: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 aspen and pine trees   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23720" y="40179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pen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ина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ch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реза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ne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4" descr="https://opt-1385081.ssl.1c-bitrix-cdn.ru/upload/medialibrary/0a8/0a8d3aad9338db5204de19e459c225fa.jpg?1617091723206880"/>
          <p:cNvPicPr/>
          <p:nvPr/>
        </p:nvPicPr>
        <p:blipFill>
          <a:blip r:embed="rId1"/>
          <a:stretch/>
        </p:blipFill>
        <p:spPr>
          <a:xfrm>
            <a:off x="4788000" y="112680"/>
            <a:ext cx="3816360" cy="260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ttps://i.mycdn.me/i?r=AzEPZsRbOZEKgBhR0XGMT1RkdIsZNtcM2FW3a2d_nAFS1KaKTM5SRkZCeTgDn6uOyic"/>
          <p:cNvPicPr/>
          <p:nvPr/>
        </p:nvPicPr>
        <p:blipFill>
          <a:blip r:embed="rId2"/>
          <a:stretch/>
        </p:blipFill>
        <p:spPr>
          <a:xfrm>
            <a:off x="600120" y="4624560"/>
            <a:ext cx="3173400" cy="211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http://rasfokus.ru/images/photos/medium/c0b4a241b49daf4207726ea837c733bb.jpg"/>
          <p:cNvPicPr/>
          <p:nvPr/>
        </p:nvPicPr>
        <p:blipFill>
          <a:blip r:embed="rId3"/>
          <a:stretch/>
        </p:blipFill>
        <p:spPr>
          <a:xfrm>
            <a:off x="5148360" y="462456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6:12:28Z</dcterms:created>
  <dc:creator>User</dc:creator>
  <dc:description/>
  <dc:language>en-US</dc:language>
  <cp:lastModifiedBy>User</cp:lastModifiedBy>
  <dcterms:modified xsi:type="dcterms:W3CDTF">2021-06-20T02:31:30Z</dcterms:modified>
  <cp:revision>39</cp:revision>
  <dc:subject/>
  <dc:title>Слайд 1</dc:title>
</cp:coreProperties>
</file>