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5C65-994B-4B0B-8521-792B93D0B2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AE22-6F0D-48BB-9EF7-DF24DA8A86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E5B6-6FA3-41FF-961B-FCE71514F9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91E3-19FC-4FCA-B1AB-0D4D5FCBCA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9B55-67F0-4C65-A688-E392B79EB4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B032-CA6F-42C5-9F6D-EC5C653F37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622C-3DE8-4A7D-896B-51D97E768E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36B6-0EC1-4583-9486-852FA4D8C7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10FD-2680-4341-A6EC-34EA61E090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30C1-FA49-477B-8633-E0768019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6D98-802F-4960-B9B5-7B956D4D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8A6-8DD0-46AF-A541-F6D36A7C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AE62-F4FF-437B-A800-700449CA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372-22ED-434C-AB1C-C66EE402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85B5-AE5B-4110-9333-F16FEEB0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ED7-43A0-4BB1-B1AC-4642D6AE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34D9-2D23-41D4-A685-978374A0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0AE1-EDD2-49DA-9939-CC7956A3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ADEE-1ED9-4D53-9186-A97788AD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5FA4-CA3F-4BFC-A37A-B0870444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D70-43B6-4138-99A5-12F965BF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CF8A-DDF6-4813-AC36-016138835FC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0" y="765000"/>
            <a:ext cx="92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ff"/>
                </a:solidFill>
                <a:latin typeface="Arial"/>
              </a:rPr>
              <a:t> </a:t>
            </a:r>
            <a:r>
              <a:rPr b="1" i="1" lang="en-US" sz="7200" spc="-1" strike="noStrike">
                <a:solidFill>
                  <a:srgbClr val="ffffff"/>
                </a:solidFill>
                <a:latin typeface="Times New Roman"/>
              </a:rPr>
              <a:t>Altay</a:t>
            </a:r>
            <a:r>
              <a:rPr b="1" i="1" lang="ru-RU" sz="7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en-US" sz="7200" spc="-1" strike="noStrike">
                <a:solidFill>
                  <a:srgbClr val="ffffff"/>
                </a:solidFill>
                <a:latin typeface="Times New Roman"/>
              </a:rPr>
              <a:t>our Motherland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ч"/>
          <p:cNvPicPr/>
          <p:nvPr/>
        </p:nvPicPr>
        <p:blipFill>
          <a:blip r:embed="rId1"/>
          <a:stretch/>
        </p:blipFill>
        <p:spPr>
          <a:xfrm>
            <a:off x="1116000" y="2205000"/>
            <a:ext cx="6769080" cy="4392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85672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b7"/>
                </a:solidFill>
                <a:latin typeface="Times New Roman"/>
              </a:rPr>
              <a:t>Climate: continental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64000" y="1268280"/>
            <a:ext cx="54388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Winter is frosty and continu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ummer is hot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short and often 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5" descr="Изображение 032"/>
          <p:cNvPicPr/>
          <p:nvPr/>
        </p:nvPicPr>
        <p:blipFill>
          <a:blip r:embed="rId1"/>
          <a:stretch/>
        </p:blipFill>
        <p:spPr>
          <a:xfrm>
            <a:off x="468360" y="1892160"/>
            <a:ext cx="3004920" cy="3524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https://www.1disconttur.ru/images/jarovoe_ozero.jpg"/>
          <p:cNvPicPr/>
          <p:nvPr/>
        </p:nvPicPr>
        <p:blipFill>
          <a:blip r:embed="rId2"/>
          <a:stretch/>
        </p:blipFill>
        <p:spPr>
          <a:xfrm>
            <a:off x="4500720" y="4292640"/>
            <a:ext cx="4248000" cy="2313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t’s interesting to know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8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Altai has 3 thousand species of plant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8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100 of herbs are used in medicin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8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there are 100 endemic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8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90 species of mammal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8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300 species of bir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8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8 species of repti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8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35 – fish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8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120 species need protec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b7"/>
                </a:solidFill>
                <a:latin typeface="Times New Roman"/>
              </a:rPr>
              <a:t>Administrative Units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631520"/>
            <a:ext cx="708192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ffffff"/>
                </a:solidFill>
                <a:latin typeface="Times New Roman"/>
              </a:rPr>
              <a:t>12 towns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ed administrative and territorial settl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ffffff"/>
                </a:solidFill>
                <a:latin typeface="Times New Roman"/>
              </a:rPr>
              <a:t>59 rural districts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752400" y="5486400"/>
            <a:ext cx="7172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The administrative center is the city of Barnaul with the population of </a:t>
            </a:r>
            <a:r>
              <a:rPr b="1" i="1" lang="ru-RU" sz="28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632 000 </a:t>
            </a:r>
            <a:r>
              <a:rPr b="1" i="1" lang="en-US" sz="28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people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5" name="Picture 7" descr="https://img.geliophoto.com/brn/22_brn.jpg"/>
          <p:cNvPicPr/>
          <p:nvPr/>
        </p:nvPicPr>
        <p:blipFill>
          <a:blip r:embed="rId1"/>
          <a:stretch/>
        </p:blipFill>
        <p:spPr>
          <a:xfrm>
            <a:off x="684360" y="1341360"/>
            <a:ext cx="7780320" cy="51832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What do you know about our region?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Fill in the first two columns of the table:</a:t>
            </a: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11280" y="2565360"/>
          <a:ext cx="7921440" cy="2803680"/>
        </p:xfrm>
        <a:graphic>
          <a:graphicData uri="http://schemas.openxmlformats.org/drawingml/2006/table">
            <a:tbl>
              <a:tblPr/>
              <a:tblGrid>
                <a:gridCol w="2192400"/>
                <a:gridCol w="2992320"/>
                <a:gridCol w="273672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4000"/>
                          </a:solidFill>
                          <a:latin typeface="Times New Roman"/>
                          <a:ea typeface="Times New Roman"/>
                        </a:rPr>
                        <a:t>I kn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97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4000"/>
                          </a:solidFill>
                          <a:latin typeface="Times New Roman"/>
                          <a:ea typeface="Times New Roman"/>
                        </a:rPr>
                        <a:t>I want to kn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97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4000"/>
                          </a:solidFill>
                          <a:latin typeface="Times New Roman"/>
                          <a:ea typeface="Times New Roman"/>
                        </a:rPr>
                        <a:t>I found out</a:t>
                      </a:r>
                      <a:r>
                        <a:rPr b="1" i="1" lang="ru-RU" sz="3200" spc="-1" strike="noStrike">
                          <a:solidFill>
                            <a:srgbClr val="004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976"/>
                    </a:solidFill>
                  </a:tcPr>
                </a:tc>
              </a:tr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6997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6997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69976"/>
                    </a:solidFill>
                  </a:tcPr>
                </a:tc>
              </a:tr>
            </a:tbl>
          </a:graphicData>
        </a:graphic>
      </p:graphicFrame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7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sic inform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560" y="1268280"/>
            <a:ext cx="5041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ubject of the Russian Feder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a part of the Siberian Federal District and a part of the West Siberian Economic Reg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was formed on September 28, 193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apital: Barna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2" descr="https://corpmsp.ru/upload/iblock/106/0_mediagal_6440_1.png"/>
          <p:cNvPicPr/>
          <p:nvPr/>
        </p:nvPicPr>
        <p:blipFill>
          <a:blip r:embed="rId1"/>
          <a:stretch/>
        </p:blipFill>
        <p:spPr>
          <a:xfrm>
            <a:off x="6051600" y="476280"/>
            <a:ext cx="2744640" cy="2744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xn--80aaeyqihb1akd1n.xn--p1ai/wp-content/uploads/2019/01/%D1%84%D0%BB%D0%B0%D0%B3-%D0%BA%D1%80%D0%B0%D1%8F.jpg"/>
          <p:cNvPicPr/>
          <p:nvPr/>
        </p:nvPicPr>
        <p:blipFill>
          <a:blip r:embed="rId2"/>
          <a:stretch/>
        </p:blipFill>
        <p:spPr>
          <a:xfrm>
            <a:off x="5580000" y="3645000"/>
            <a:ext cx="3360960" cy="22111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2680" y="0"/>
            <a:ext cx="8385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b7"/>
                </a:solidFill>
                <a:latin typeface="Times New Roman"/>
              </a:rPr>
              <a:t>     </a:t>
            </a:r>
            <a:r>
              <a:rPr b="1" i="1" lang="en-US" sz="4000" spc="-1" strike="noStrike">
                <a:solidFill>
                  <a:srgbClr val="ffffb7"/>
                </a:solidFill>
                <a:latin typeface="Times New Roman"/>
              </a:rPr>
              <a:t>Altai</a:t>
            </a:r>
            <a:r>
              <a:rPr b="1" i="1" lang="ru-RU" sz="40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b7"/>
                </a:solidFill>
                <a:latin typeface="Times New Roman"/>
              </a:rPr>
              <a:t>at the map of Russi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66" name="Picture 6" descr="https://interier-foto.ru/wp-content/uploads/gde-naxoditsya-altaj.jpg"/>
          <p:cNvPicPr/>
          <p:nvPr/>
        </p:nvPicPr>
        <p:blipFill>
          <a:blip r:embed="rId1"/>
          <a:stretch/>
        </p:blipFill>
        <p:spPr>
          <a:xfrm>
            <a:off x="270000" y="981000"/>
            <a:ext cx="8609040" cy="45561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1627200" y="5661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rea: 167 996 km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opulation: 2 296 353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https://avatars.mds.yandex.net/get-zen_doc/29485/pub_5d70cf8f97b5d400ae4c536d_5d70d944027a1500ad7303e4/scale_1200"/>
          <p:cNvPicPr/>
          <p:nvPr/>
        </p:nvPicPr>
        <p:blipFill>
          <a:blip r:embed="rId1"/>
          <a:stretch/>
        </p:blipFill>
        <p:spPr>
          <a:xfrm>
            <a:off x="209520" y="1484280"/>
            <a:ext cx="8786880" cy="49435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3"/>
          <p:cNvSpPr/>
          <p:nvPr/>
        </p:nvSpPr>
        <p:spPr>
          <a:xfrm>
            <a:off x="390600" y="260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51 natural monuments, a nature park "Aya", Tigirek reserve and 35 preser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534520" cy="353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i="1" lang="en-US" sz="4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Mineral resource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71" name="Picture 3" descr="img041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3080" y="620280"/>
            <a:ext cx="83851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Mineral resources include: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642960" y="981000"/>
            <a:ext cx="73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metals,       table salt,       sod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n coal,      nickel,           cobal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on ore,           precious meta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Рисунок 6" descr=""/>
          <p:cNvPicPr/>
          <p:nvPr/>
        </p:nvPicPr>
        <p:blipFill>
          <a:blip r:embed="rId1"/>
          <a:stretch/>
        </p:blipFill>
        <p:spPr>
          <a:xfrm>
            <a:off x="1187280" y="2924280"/>
            <a:ext cx="6221520" cy="29304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378000" y="404640"/>
            <a:ext cx="876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ai is also famous for unique deposits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sper, porphyrys, marbles, granites, ohra,           mineral and drinking water, natural healing mu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2" descr="https://webznayka.ru/images/1-AVTOMATOM/torf_379cb.jpg"/>
          <p:cNvPicPr/>
          <p:nvPr/>
        </p:nvPicPr>
        <p:blipFill>
          <a:blip r:embed="rId1"/>
          <a:stretch/>
        </p:blipFill>
        <p:spPr>
          <a:xfrm>
            <a:off x="5292720" y="2205000"/>
            <a:ext cx="3324240" cy="2351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s://www.syl.ru/misc/i/ai/374650/2284916.jpg"/>
          <p:cNvPicPr/>
          <p:nvPr/>
        </p:nvPicPr>
        <p:blipFill>
          <a:blip r:embed="rId2"/>
          <a:stretch/>
        </p:blipFill>
        <p:spPr>
          <a:xfrm>
            <a:off x="826920" y="2205000"/>
            <a:ext cx="3556080" cy="23511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479520" y="4941720"/>
            <a:ext cx="846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sper –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шма,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phyrys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порфир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bles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мраморы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al healing muds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природные лечебные грязи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-19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b7"/>
                </a:solidFill>
                <a:latin typeface="Arial Black"/>
              </a:rPr>
              <a:t>Flor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30592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3700" spc="-1" strike="noStrike">
                <a:solidFill>
                  <a:srgbClr val="ffffff"/>
                </a:solidFill>
                <a:latin typeface="Times New Roman"/>
              </a:rPr>
              <a:t>Steppe           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3700" spc="-1" strike="noStrike">
                <a:solidFill>
                  <a:srgbClr val="ffffff"/>
                </a:solidFill>
                <a:latin typeface="Times New Roman"/>
              </a:rPr>
              <a:t>meadows            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3700" spc="-1" strike="noStrike">
                <a:solidFill>
                  <a:srgbClr val="ffffff"/>
                </a:solidFill>
                <a:latin typeface="Times New Roman"/>
              </a:rPr>
              <a:t>grassland      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700" spc="-1" strike="noStrike">
                <a:solidFill>
                  <a:srgbClr val="ffffff"/>
                </a:solidFill>
                <a:latin typeface="Times New Roman"/>
              </a:rPr>
              <a:t>woods of birch</a:t>
            </a:r>
            <a:r>
              <a:rPr b="1" i="1" lang="ru-RU" sz="37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3700" spc="-1" strike="noStrike">
                <a:solidFill>
                  <a:srgbClr val="ffffff"/>
                </a:solidFill>
                <a:latin typeface="Times New Roman"/>
              </a:rPr>
              <a:t> aspen and pine trees                   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423720" y="401796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pen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ина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rch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реза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ne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14" descr="https://opt-1385081.ssl.1c-bitrix-cdn.ru/upload/medialibrary/0a8/0a8d3aad9338db5204de19e459c225fa.jpg?1617091723206880"/>
          <p:cNvPicPr/>
          <p:nvPr/>
        </p:nvPicPr>
        <p:blipFill>
          <a:blip r:embed="rId1"/>
          <a:stretch/>
        </p:blipFill>
        <p:spPr>
          <a:xfrm>
            <a:off x="4788000" y="112680"/>
            <a:ext cx="3816360" cy="260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https://i.mycdn.me/i?r=AzEPZsRbOZEKgBhR0XGMT1RkdIsZNtcM2FW3a2d_nAFS1KaKTM5SRkZCeTgDn6uOyic"/>
          <p:cNvPicPr/>
          <p:nvPr/>
        </p:nvPicPr>
        <p:blipFill>
          <a:blip r:embed="rId2"/>
          <a:stretch/>
        </p:blipFill>
        <p:spPr>
          <a:xfrm>
            <a:off x="600120" y="4624560"/>
            <a:ext cx="3173400" cy="2116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http://rasfokus.ru/images/photos/medium/c0b4a241b49daf4207726ea837c733bb.jpg"/>
          <p:cNvPicPr/>
          <p:nvPr/>
        </p:nvPicPr>
        <p:blipFill>
          <a:blip r:embed="rId3"/>
          <a:stretch/>
        </p:blipFill>
        <p:spPr>
          <a:xfrm>
            <a:off x="5148360" y="4624560"/>
            <a:ext cx="2808360" cy="21063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6:12:28Z</dcterms:created>
  <dc:creator>User</dc:creator>
  <dc:description/>
  <dc:language>en-US</dc:language>
  <cp:lastModifiedBy>User</cp:lastModifiedBy>
  <dcterms:modified xsi:type="dcterms:W3CDTF">2021-06-20T02:31:30Z</dcterms:modified>
  <cp:revision>39</cp:revision>
  <dc:subject/>
  <dc:title>Слайд 1</dc:title>
</cp:coreProperties>
</file>