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jpeg" ContentType="image/jpeg"/>
  <Override PartName="/ppt/media/image10.gif" ContentType="image/gif"/>
  <Override PartName="/ppt/media/image12.jpeg" ContentType="image/jpeg"/>
  <Override PartName="/ppt/media/image9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14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media/image6.png" ContentType="image/png"/>
  <Override PartName="/ppt/media/image7.png" ContentType="image/png"/>
  <Override PartName="/ppt/media/image1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EF1A-FF6E-4DF8-B4DB-7DFFE52F10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7D71-D09A-4882-91F5-C22AB4DE08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F9A5-C1A1-4D71-8DCB-06EA4D94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5A97-8911-4CAE-AFA1-FE44B80E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C5F5-921D-40C6-9D4B-092D33E6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E84C-FD29-4BA4-94FE-445C6EEE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8F79-3A8F-4574-83F3-EC56EFF7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5407-DBCC-4068-A123-9197C62F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4032-83CA-46A4-9434-AC9C6BEB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5B4D-4FC9-4BBC-92DF-3DBFB56E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6E46-B37C-4C18-A550-4D05EC7A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E825-33F4-4614-86B2-DB86449D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D5B6-F70F-4409-933A-E7BE77E3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0D8A-B393-4C6D-886C-12C8B837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F22C-E3E1-4519-9C50-3DBC1306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9A32-E4B1-47C5-975D-663B7D9F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BAC6-28E6-4DC0-AABE-EF1F7D54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1148-2300-4EA4-A9BE-16CFFEF0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CC67-0AD9-4050-B344-42D57F02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1A4BA-C3E5-454F-A94D-A2EC2FEF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91191-A371-4E20-BF04-F2A1ED1D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997CF-4BCA-4609-9D64-31D55788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90169-ABCE-4804-989A-81B794AA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2B967-8074-4A9F-B577-0D034BB9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AB12-A3CF-45FA-8CD3-B3BE9101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8E8C5-E772-476A-BCD2-9308B48E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02565-0CB6-497B-8C86-6FE42195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03C73-D03E-4D29-B4F8-5DFD77FE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831AC-60FB-4085-AA34-C4CC90EC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C7BF6-CA97-4EE7-90C6-C6479F2C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6EA4F-E2A1-46CC-8B0D-E92BDEEA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1FB7D-EF01-4142-B9FD-8DF4AA11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FA114-FFC4-41F9-A712-AAB12F24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97E7D-1A7A-430F-9B6D-93286C45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8183D-CDBB-447C-879A-10CB7300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B5A8-9A00-4A9F-882B-5FD44A23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059B2-99B1-40E4-A8B7-ECFFFE16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00F65-0236-4182-B79C-C61C43E6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E00CC-E8FB-4FB6-8BA8-BE5E1E0C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8D69D-C2A1-4540-B19F-EEB5D33B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9A9EE-C302-4E38-8AAD-D80812A4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7088B-6592-4D0F-9AE0-DBC0F87C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29553-F249-458C-9490-779D0AE2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12FA0-A4DF-4E31-A887-56879781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C4220-606D-4C7D-96B0-00BE2F4B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8EDC6-7692-4590-97D9-1B554CF6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08A6-169C-4278-BE70-4F4425AF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1A6D2-E32F-439B-A71E-63235861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B5CEB-68F7-4DC6-B934-E240570F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5D19C-C439-4FD7-BE00-AF7EC333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AE7B8-3C87-45DE-BDB3-4BB0F735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881BC-4DDD-4670-B9D6-81EDE7F8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65D2E-98B7-4567-9561-706974B6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FB53D-6FDF-4C50-BF67-08C52A13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B7038-8C3A-406F-A0ED-171574AA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05606-6961-42C1-B702-46A54A1A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3C230-6AE4-470A-BBAC-69364FEF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F39E-3ABD-4F20-92F4-39544247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31BB4-E5D9-45D6-B8A1-C1007DDA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A9CD-498B-46F0-B24D-6C0A96E2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9E6D-0EF4-4244-8C44-BDC8FA19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2786-FFB5-40C1-9233-706D9E17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14AB-2D8A-42F6-B366-51E402AE8FB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F2A6-BB41-4E8C-B073-D0DEABBDFFB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E5DF-9346-415D-A5C1-952B36B6385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8DB0-35E2-4562-964C-2EFFEE2CA3A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FE35-E2BD-4B83-BA61-882A4655B7B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3"/>
          <p:cNvSpPr/>
          <p:nvPr/>
        </p:nvSpPr>
        <p:spPr>
          <a:xfrm flipV="1" rot="10800000">
            <a:off x="826560" y="253080"/>
            <a:ext cx="739476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МОСКОВСКИЙ ОБЛАСТНОЙ МЕДИЦИНСКИЙ КОЛЛЕДЖ №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Palatino Linotype"/>
              </a:rPr>
              <a:t>Урок – конкурс по биологии на тем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Palatino Linotype"/>
              </a:rPr>
              <a:t>«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Основы</a:t>
            </a:r>
            <a:r>
              <a:rPr b="1" lang="ru-RU" sz="3600" spc="-1" strike="noStrike">
                <a:solidFill>
                  <a:srgbClr val="ff0066"/>
                </a:solidFill>
                <a:latin typeface="Palatino Linotype"/>
              </a:rPr>
              <a:t>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генетики</a:t>
            </a:r>
            <a:r>
              <a:rPr b="1" lang="ru-RU" sz="3600" spc="-1" strike="noStrike">
                <a:solidFill>
                  <a:srgbClr val="ff0066"/>
                </a:solidFill>
                <a:latin typeface="Palatino Linotype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embl-hzd"/>
          <p:cNvPicPr/>
          <p:nvPr/>
        </p:nvPicPr>
        <p:blipFill>
          <a:blip r:embed="rId1"/>
          <a:stretch/>
        </p:blipFill>
        <p:spPr>
          <a:xfrm>
            <a:off x="900000" y="3573360"/>
            <a:ext cx="7561440" cy="30704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395280" y="2924280"/>
            <a:ext cx="2519280" cy="1295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3"/>
          <a:stretch/>
        </p:blipFill>
        <p:spPr>
          <a:xfrm>
            <a:off x="395280" y="4365720"/>
            <a:ext cx="2808360" cy="2232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4"/>
          <a:stretch/>
        </p:blipFill>
        <p:spPr>
          <a:xfrm>
            <a:off x="3348000" y="2997360"/>
            <a:ext cx="3240000" cy="3644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5"/>
          <a:srcRect l="4429" t="22515" r="5610" b="22884"/>
          <a:stretch/>
        </p:blipFill>
        <p:spPr>
          <a:xfrm>
            <a:off x="3203640" y="2924280"/>
            <a:ext cx="576108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Команда «Наследственность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11280" y="2133720"/>
          <a:ext cx="8204040" cy="3382920"/>
        </p:xfrm>
        <a:graphic>
          <a:graphicData uri="http://schemas.openxmlformats.org/drawingml/2006/table">
            <a:tbl>
              <a:tblPr/>
              <a:tblGrid>
                <a:gridCol w="4101840"/>
                <a:gridCol w="4102200"/>
              </a:tblGrid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слов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ледств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ано: гетерозиготный темноволосый отец и мать – блондинк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ледовательно, доминирует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ген ____________________, 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рецессивен ген _______________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Команда «Изменчивость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611280" y="2133720"/>
          <a:ext cx="8204040" cy="3382920"/>
        </p:xfrm>
        <a:graphic>
          <a:graphicData uri="http://schemas.openxmlformats.org/drawingml/2006/table">
            <a:tbl>
              <a:tblPr/>
              <a:tblGrid>
                <a:gridCol w="4101840"/>
                <a:gridCol w="4102200"/>
              </a:tblGrid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слов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ледств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ано: В F-1 от скрещивания длинноносых и коротконосых муравьедов получили только коротконосых особей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ледовательно, доминирует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ген ____________________, 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рецессивен ген _______________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1"/>
          <p:cNvSpPr/>
          <p:nvPr/>
        </p:nvSpPr>
        <p:spPr>
          <a:xfrm>
            <a:off x="1285920" y="1000080"/>
            <a:ext cx="6500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Cambria"/>
              </a:rPr>
              <a:t>4 конкурс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Установите правильность суждений»</a:t>
            </a:r>
            <a:br>
              <a:rPr sz="2800"/>
            </a:br>
            <a:r>
              <a:rPr b="0" lang="ru-RU" sz="2800" spc="-1" strike="noStrike">
                <a:solidFill>
                  <a:srgbClr val="ff3300"/>
                </a:solidFill>
                <a:latin typeface="Cambria"/>
              </a:rPr>
              <a:t>Максимальная оценка 10 балла</a:t>
            </a:r>
            <a:br>
              <a:rPr sz="2800"/>
            </a:br>
            <a:r>
              <a:rPr b="0" lang="ru-RU" sz="2800" spc="-1" strike="noStrike">
                <a:solidFill>
                  <a:srgbClr val="ff3300"/>
                </a:solidFill>
                <a:latin typeface="Cambria"/>
              </a:rPr>
              <a:t>Правильный ответ – 1 бал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j0336396"/>
          <p:cNvPicPr/>
          <p:nvPr/>
        </p:nvPicPr>
        <p:blipFill>
          <a:blip r:embed="rId1"/>
          <a:stretch/>
        </p:blipFill>
        <p:spPr>
          <a:xfrm>
            <a:off x="7429680" y="214200"/>
            <a:ext cx="1512720" cy="1513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j0336396"/>
          <p:cNvPicPr/>
          <p:nvPr/>
        </p:nvPicPr>
        <p:blipFill>
          <a:blip r:embed="rId2"/>
          <a:stretch/>
        </p:blipFill>
        <p:spPr>
          <a:xfrm>
            <a:off x="285840" y="214200"/>
            <a:ext cx="1512720" cy="1513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6" descr=""/>
          <p:cNvPicPr/>
          <p:nvPr/>
        </p:nvPicPr>
        <p:blipFill>
          <a:blip r:embed="rId3"/>
          <a:stretch/>
        </p:blipFill>
        <p:spPr>
          <a:xfrm>
            <a:off x="3714840" y="3357720"/>
            <a:ext cx="1859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34817"/>
                </a:solidFill>
                <a:latin typeface="Calibri"/>
              </a:rPr>
              <a:t>         </a:t>
            </a:r>
            <a:r>
              <a:rPr b="1" i="1" lang="ru-RU" sz="3600" spc="-1" strike="noStrike">
                <a:solidFill>
                  <a:srgbClr val="d34817"/>
                </a:solidFill>
                <a:latin typeface="Calibri"/>
              </a:rPr>
              <a:t>Команда «Наследственность»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592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Единицей наследственности является ген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2.Третий закон Менделя называется законом расщеплени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3.Дигетерозигота образует два типа гамет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4.У человека 23 группы сцеплени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5.Первичная перетяжка хромосомы называется локусом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6.Аутосомы – это хромосомы, которые у мужского и женского пола имеют одинаковое строение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7.Закономерности сцепленного наследования установил Морган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8.Кроссинговер наблюдается у организмов при полном сцеплени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9.Вероятность больного гемофилией сына у фенотипически здоровых родителей равна 25 %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0.Расщепление 9:3:3:1 в дигибридном скрещивании соответствует генотипу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34817"/>
                </a:solidFill>
                <a:latin typeface="Calibri"/>
              </a:rPr>
              <a:t>         </a:t>
            </a:r>
            <a:r>
              <a:rPr b="1" i="1" lang="ru-RU" sz="3600" spc="-1" strike="noStrike">
                <a:solidFill>
                  <a:srgbClr val="d34817"/>
                </a:solidFill>
                <a:latin typeface="Calibri"/>
              </a:rPr>
              <a:t>Команда «Изменчивость»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4358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1.Гены, расположенные в одинаковых локусах гомологичных хромосом, называются аллельными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563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2.Дигомозигота образует один тип гамет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563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3.Если в потомстве наблюдается расщепление 1:1, то генотипы родителей Аа и Аа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563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4.В сперматозоидах мужчины содержится 1 половая хромосома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563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5.Аллельные гены при мейозе оказываются в разных клетках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563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6.Второй закон Менделя называется законом независимого наследования признаков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563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7.Особь с генотипом ААВВСС образует один тип гамет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563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8.Гетерогаметный пол у человека женский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563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9.Кроссинговер наблюдается у организмов при неполном сцеплении генов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563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10.Вероятность рождения детей-гемофиликов в семье здорового мужчины и фенотипически здоровой женщины равна 50%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1071720" y="714240"/>
            <a:ext cx="7000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ambria"/>
              </a:rPr>
              <a:t>5 конкурс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Ситуации»</a:t>
            </a:r>
            <a:br>
              <a:rPr sz="2800"/>
            </a:br>
            <a:r>
              <a:rPr b="0" lang="ru-RU" sz="2800" spc="-1" strike="noStrike">
                <a:solidFill>
                  <a:srgbClr val="ff3300"/>
                </a:solidFill>
                <a:latin typeface="Cambria"/>
              </a:rPr>
              <a:t>Правильный ответ – 1 бал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1255575284"/>
          <p:cNvPicPr/>
          <p:nvPr/>
        </p:nvPicPr>
        <p:blipFill>
          <a:blip r:embed="rId1"/>
          <a:stretch/>
        </p:blipFill>
        <p:spPr>
          <a:xfrm>
            <a:off x="1908000" y="3213000"/>
            <a:ext cx="5472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34817"/>
                </a:solidFill>
                <a:latin typeface="Calibri"/>
              </a:rPr>
              <a:t>Ситуация для команды «Наследственность»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362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ремя от времени в газету приходят письма от женщин с жалобами на упреки, которые им приходится терпеть от своих мужей и родственников за то, что вместо сыновей у них рождаются дочери. Справедливы ли такие упреки? Докажите!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914400" y="691920"/>
            <a:ext cx="7905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е поет Лутоня песен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а соседей не гляди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н неласков. Он невесе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ризадумавшись, сиди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а жену свою не взгляне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очернел от маят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й, как ждал Лутоня сына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Да, видать, опять судьбин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одшутила в эту ночь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е дала на счастье сын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А дала на горе дочь..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4572000" y="57600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гей Остров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1930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34817"/>
                </a:solidFill>
                <a:latin typeface="Calibri"/>
              </a:rPr>
              <a:t>Ситуация для команды «Изменчивость».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9" name="Picture 9" descr="a01"/>
          <p:cNvPicPr/>
          <p:nvPr/>
        </p:nvPicPr>
        <p:blipFill>
          <a:blip r:embed="rId1"/>
          <a:stretch/>
        </p:blipFill>
        <p:spPr>
          <a:xfrm>
            <a:off x="4211640" y="2492280"/>
            <a:ext cx="3809880" cy="3683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a12"/>
          <p:cNvPicPr/>
          <p:nvPr/>
        </p:nvPicPr>
        <p:blipFill>
          <a:blip r:embed="rId2"/>
          <a:stretch/>
        </p:blipFill>
        <p:spPr>
          <a:xfrm>
            <a:off x="468360" y="1628640"/>
            <a:ext cx="288936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1"/>
          <p:cNvSpPr/>
          <p:nvPr/>
        </p:nvSpPr>
        <p:spPr>
          <a:xfrm>
            <a:off x="1428840" y="928800"/>
            <a:ext cx="61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ambria"/>
              </a:rPr>
              <a:t>6 конкурс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Биологическая задач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ambria"/>
              </a:rPr>
              <a:t>Правильный ответ – 1 ба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ambria"/>
              </a:rPr>
              <a:t>Время  3 мин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" descr="smail21"/>
          <p:cNvPicPr/>
          <p:nvPr/>
        </p:nvPicPr>
        <p:blipFill>
          <a:blip r:embed="rId1"/>
          <a:stretch/>
        </p:blipFill>
        <p:spPr>
          <a:xfrm>
            <a:off x="3286080" y="3857760"/>
            <a:ext cx="264960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214200" y="2133720"/>
            <a:ext cx="8715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тизировать и обобщить знания студентов о материальных основах наследственности и изменчивос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ть убежденность в том, что знание основных понятий генетики необходимо для понимания важных биологических закономернос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1928880" y="785880"/>
            <a:ext cx="46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" descr="http://kozlenkoa.narod.ru/img/fig3.jpg"/>
          <p:cNvPicPr/>
          <p:nvPr/>
        </p:nvPicPr>
        <p:blipFill>
          <a:blip r:embed="rId1"/>
          <a:stretch/>
        </p:blipFill>
        <p:spPr>
          <a:xfrm>
            <a:off x="5508720" y="476280"/>
            <a:ext cx="33130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34817"/>
                </a:solidFill>
                <a:latin typeface="Calibri"/>
              </a:rPr>
              <a:t>Команда «Наследственность»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Задача 1.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Большинство живых организмов размножаются половым путем. Однако для некоторых организмов характерно и бесполое размножение. Почему в ходе эволюции организмы не утратили способности к бесполому размножению?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34817"/>
                </a:solidFill>
                <a:latin typeface="Calibri"/>
              </a:rPr>
              <a:t>Команда «Изменчивость»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988640"/>
            <a:ext cx="77724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Задача 1.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ва идентичных близнеца – мужчины вступили в брак с двумя идентичными близнецами – женщинами. Будут ли дети от каждого брака похожи между собой также, как идентичные близнецы?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"/>
          <p:cNvSpPr/>
          <p:nvPr/>
        </p:nvSpPr>
        <p:spPr>
          <a:xfrm>
            <a:off x="214200" y="66204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  <a:ea typeface="Calibri"/>
              </a:rPr>
              <a:t>Рефлек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Calibri"/>
              </a:rPr>
              <a:t>Какие вопросы вызвали затруднение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Какие вопросы показались очень легк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Было ли интересно соревновать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Какие чувства испытывали по отношению 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тем, кто затруднялся ответи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А не хотелось ли вам им помоч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914400" y="549360"/>
            <a:ext cx="77724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mbria"/>
              </a:rPr>
              <a:t>           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ambria"/>
              </a:rPr>
              <a:t>Конкурсы: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«Разминка для ума»,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Блиц-турнир  «Определите вид мутации»,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«Следствие»,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«Установите правильность суждений»,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«Ситуации»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«Биологическая задача»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5364000" y="3716280"/>
            <a:ext cx="347508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b2d1f"/>
                </a:solidFill>
                <a:latin typeface="Calibri"/>
              </a:rPr>
              <a:t>             </a:t>
            </a:r>
            <a:r>
              <a:rPr b="0" lang="ru-RU" sz="4000" spc="-1" strike="noStrike">
                <a:solidFill>
                  <a:srgbClr val="9b2d1f"/>
                </a:solidFill>
                <a:latin typeface="Calibri"/>
              </a:rPr>
              <a:t>Вопросы команда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1 вопрос: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едположим, что в природе существует только наследственность, а изменчивость отсутствует. К каким бы последствиям это привело и почему?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2 вопрос: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едположим, что в природе существует только изменчивость, а наследственность отсутствует. К каким бы последствиям это привело и почему?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smail21"/>
          <p:cNvPicPr/>
          <p:nvPr/>
        </p:nvPicPr>
        <p:blipFill>
          <a:blip r:embed="rId1"/>
          <a:stretch/>
        </p:blipFill>
        <p:spPr>
          <a:xfrm>
            <a:off x="3143160" y="4286160"/>
            <a:ext cx="2649600" cy="194328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2"/>
          <p:cNvSpPr/>
          <p:nvPr/>
        </p:nvSpPr>
        <p:spPr>
          <a:xfrm>
            <a:off x="785880" y="500040"/>
            <a:ext cx="7286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ambria"/>
              </a:rPr>
              <a:t>1 конкур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Разминка для у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ambria"/>
              </a:rPr>
              <a:t>Максимальная оценка 10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ambria"/>
              </a:rPr>
              <a:t>Правильный ответ – 1 ба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ambria"/>
              </a:rPr>
              <a:t>Отвечать быстро и 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"/>
          <p:cNvSpPr/>
          <p:nvPr/>
        </p:nvSpPr>
        <p:spPr>
          <a:xfrm>
            <a:off x="324000" y="1701360"/>
            <a:ext cx="8501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Аллельные ген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Гетерозигот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Наследственность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Альтернативные признак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Правило единообрази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Гамет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Гибрид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Диплоидный набор хромосом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Локу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Закон расщеплени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"/>
          <p:cNvSpPr/>
          <p:nvPr/>
        </p:nvSpPr>
        <p:spPr>
          <a:xfrm>
            <a:off x="857160" y="189000"/>
            <a:ext cx="49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Команда «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аследственность</a:t>
            </a: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37"/>
          <p:cNvPicPr/>
          <p:nvPr/>
        </p:nvPicPr>
        <p:blipFill>
          <a:blip r:embed="rId1"/>
          <a:stretch/>
        </p:blipFill>
        <p:spPr>
          <a:xfrm>
            <a:off x="6012000" y="765000"/>
            <a:ext cx="2808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"/>
          <p:cNvSpPr/>
          <p:nvPr/>
        </p:nvSpPr>
        <p:spPr>
          <a:xfrm>
            <a:off x="214200" y="1557360"/>
            <a:ext cx="8929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Ген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Гомозигот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Кариотип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Мутаци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Закон независимого наследовани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Генотип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Доминантный признак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Полигибридное скрещивани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Половые хромосом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Закон сцепленного наследовани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"/>
          <p:cNvSpPr/>
          <p:nvPr/>
        </p:nvSpPr>
        <p:spPr>
          <a:xfrm>
            <a:off x="1000080" y="189000"/>
            <a:ext cx="52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Команда «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зменчивость</a:t>
            </a: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091-150x150"/>
          <p:cNvPicPr/>
          <p:nvPr/>
        </p:nvPicPr>
        <p:blipFill>
          <a:blip r:embed="rId1"/>
          <a:stretch/>
        </p:blipFill>
        <p:spPr>
          <a:xfrm>
            <a:off x="6372360" y="836640"/>
            <a:ext cx="2303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3"/>
          <p:cNvSpPr/>
          <p:nvPr/>
        </p:nvSpPr>
        <p:spPr>
          <a:xfrm>
            <a:off x="857160" y="214200"/>
            <a:ext cx="7572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конкур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Блиц-турн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«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пределите вид мутации</a:t>
            </a: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аксимальная оценка -2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ледственность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«Изменчив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" descr="091-150x150"/>
          <p:cNvPicPr/>
          <p:nvPr/>
        </p:nvPicPr>
        <p:blipFill>
          <a:blip r:embed="rId1"/>
          <a:stretch/>
        </p:blipFill>
        <p:spPr>
          <a:xfrm>
            <a:off x="2484360" y="3573360"/>
            <a:ext cx="4103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3225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alibri"/>
              </a:rPr>
              <a:t>3 конкурс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ледствие»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Calibri"/>
              </a:rPr>
              <a:t>Правильный ответ – 1 балл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Calibri"/>
              </a:rPr>
              <a:t>Отвечать быстро и точно.</a:t>
            </a:r>
            <a:br>
              <a:rPr sz="4400"/>
            </a:b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9" name="Picture 3" descr="j0288870"/>
          <p:cNvPicPr/>
          <p:nvPr/>
        </p:nvPicPr>
        <p:blipFill>
          <a:blip r:embed="rId1"/>
          <a:stretch/>
        </p:blipFill>
        <p:spPr>
          <a:xfrm>
            <a:off x="3857760" y="3429000"/>
            <a:ext cx="1660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06:34:55Z</dcterms:created>
  <dc:creator>Щербакова</dc:creator>
  <dc:description/>
  <dc:language>en-US</dc:language>
  <cp:lastModifiedBy>Admin</cp:lastModifiedBy>
  <dcterms:modified xsi:type="dcterms:W3CDTF">2021-06-20T13:56:13Z</dcterms:modified>
  <cp:revision>151</cp:revision>
  <dc:subject/>
  <dc:title>Слайд 1</dc:title>
</cp:coreProperties>
</file>