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A0B-913D-4000-A639-4C276C307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F4DA-900C-4AA1-B632-7920409495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7D7-1198-4487-8D71-50E079A6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D36-AD6F-4CAD-A8E8-9E31F06B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9A2-9DFA-48E1-8E5E-B64630CE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9D8-2A57-4145-B6A7-3CE874A2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9C9C-85F8-4561-BC1F-69A3E23D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013A-1079-4849-941B-C4B2A952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A74-AF4E-4959-9132-ED55036B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BF24-4CD7-4652-85D3-DBD60458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9C1C-C3A5-41B4-BD7B-2D5FA9C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D98-8918-4333-AF8C-7A8C97DC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70CC-3215-4E34-81F1-A400FFA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4EE-4CD8-4CE8-B1C4-45268CC8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C5D-CD1A-48A8-A16F-BBD6E7E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B881-742B-4A30-94F4-C8439A47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9A76-A3F2-4D4E-B860-F02A31F5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95B6-D97D-4B02-BDE4-57D7CA8D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F029-3170-42BA-AE8A-6D5A99F2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1958-0F8A-4B15-9BD6-23C2F2D0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5BEF-934E-4CCD-8484-CA393AD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BD97-2E77-41E0-BF7B-C70F4B04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D26F-C698-4CF1-859F-CE101EFB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5BF2-3963-4996-ACB5-45C8424B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78B-8626-4ECF-98F7-1E0FC462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4990-1DAC-42AF-8136-90B77239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E80D-F963-4331-9D09-92C7CF0F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C9C0-C93A-466C-A715-568E67F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912D-274B-4C23-8C6B-595265C3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D47D-7361-44F4-B1E1-0C8C77DD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51ED-538D-487B-AF47-A5188E52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9432-164A-4EC3-B2B3-BB4D3B34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83B1-4EDD-42F8-BD54-1D0111D8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53F8-BFE9-489F-9D0E-4B9F851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B628-3A7F-4D1D-A2A8-B339657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626-D384-403B-B95E-CF57B52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C963-941E-4DF2-826B-9C8DDA38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AA78-7307-4739-8EB2-332E6580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4F11-CC96-4EB8-9E3A-309052A6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D7E6-3DAA-4F28-816F-DEAD906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A53DF-8C96-4071-8B21-5D9479A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8493-351A-4060-AB87-5B2F43D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0FB45-5D4F-47E3-9402-154EFE1C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67BF-9ED2-47F4-92CA-7EDB2D24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6380-56AA-4AD5-A3D8-F82CD14A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FB6E-C027-4567-8DA1-84C34905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816-5B70-4AB7-8AE5-50C4CA08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1B22-78CE-40A2-A3E0-D2E58A4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62E0-20F9-4E84-BAD6-4484E3A4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C3F6-A39D-417E-A8F3-BF40277B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518A-D0B9-425A-9F23-3775576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132F-4761-4B89-87C2-04B75DB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79379-3C19-483F-B749-028209A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520F-7B66-4DC7-B695-BB92CCD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A3FED-1C65-4DAB-982B-1F5563E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0F53-E362-46D6-A245-3C7DC844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2C79-D3D1-47DD-9C31-B4D49D44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EE3-6EE9-4DC1-B823-132C6BD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9836A-B6FD-40DD-A0F0-0FA55774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2E6-FA11-42DE-A0DF-BA27CE80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D95-3901-4040-ADE2-F565FC8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4C8-3B5D-4BFF-AF59-FDD99F0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11B-BE12-4915-81C2-52E1CE6AE7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DEB3-CF94-43A9-870C-71E6C09A588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E814-33EC-4DEF-8A41-3C8A5951DB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D039-EA62-4B6C-BB8C-81C490C61E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A2B1-FB51-4AFF-88D1-C6BE245BC16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3"/>
          <p:cNvSpPr/>
          <p:nvPr/>
        </p:nvSpPr>
        <p:spPr>
          <a:xfrm flipV="1" rot="10800000">
            <a:off x="826560" y="253080"/>
            <a:ext cx="73947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МОСКОВСКИЙ ОБЛАСТНОЙ МЕДИЦИНСКИЙ КОЛЛЕДЖ №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Урок – конкурс по биологии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«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Основы</a:t>
            </a: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генетики</a:t>
            </a: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embl-hzd"/>
          <p:cNvPicPr/>
          <p:nvPr/>
        </p:nvPicPr>
        <p:blipFill>
          <a:blip r:embed="rId1"/>
          <a:stretch/>
        </p:blipFill>
        <p:spPr>
          <a:xfrm>
            <a:off x="900000" y="3573360"/>
            <a:ext cx="7561440" cy="3070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2519280" cy="1295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4"/>
          <a:stretch/>
        </p:blipFill>
        <p:spPr>
          <a:xfrm>
            <a:off x="3348000" y="2997360"/>
            <a:ext cx="3240000" cy="3644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5"/>
          <a:srcRect l="4429" t="22515" r="5610" b="22884"/>
          <a:stretch/>
        </p:blipFill>
        <p:spPr>
          <a:xfrm>
            <a:off x="3203640" y="2924280"/>
            <a:ext cx="576108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манда «Наследственност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11280" y="2133720"/>
          <a:ext cx="8204040" cy="3382920"/>
        </p:xfrm>
        <a:graphic>
          <a:graphicData uri="http://schemas.openxmlformats.org/drawingml/2006/table">
            <a:tbl>
              <a:tblPr/>
              <a:tblGrid>
                <a:gridCol w="4101840"/>
                <a:gridCol w="410220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ло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ст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о: гетерозиготный темноволосый отец и мать – блондин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овательно, доминиру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ен ____________________, 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цессивен ген _______________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манда «Изменчивость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11280" y="2133720"/>
          <a:ext cx="8204040" cy="3382920"/>
        </p:xfrm>
        <a:graphic>
          <a:graphicData uri="http://schemas.openxmlformats.org/drawingml/2006/table">
            <a:tbl>
              <a:tblPr/>
              <a:tblGrid>
                <a:gridCol w="4101840"/>
                <a:gridCol w="410220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ло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ст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о: В F-1 от скрещивания длинноносых и коротконосых муравьедов получили только коротконосых особей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овательно, доминиру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ен ____________________, 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цессивен ген _______________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1285920" y="1000080"/>
            <a:ext cx="650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4 конкур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Установите правильность суждений»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Максимальная оценка 10 балла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j0336396"/>
          <p:cNvPicPr/>
          <p:nvPr/>
        </p:nvPicPr>
        <p:blipFill>
          <a:blip r:embed="rId1"/>
          <a:stretch/>
        </p:blipFill>
        <p:spPr>
          <a:xfrm>
            <a:off x="7429680" y="21420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j0336396"/>
          <p:cNvPicPr/>
          <p:nvPr/>
        </p:nvPicPr>
        <p:blipFill>
          <a:blip r:embed="rId2"/>
          <a:stretch/>
        </p:blipFill>
        <p:spPr>
          <a:xfrm>
            <a:off x="285840" y="21420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"/>
          <p:cNvPicPr/>
          <p:nvPr/>
        </p:nvPicPr>
        <p:blipFill>
          <a:blip r:embed="rId3"/>
          <a:stretch/>
        </p:blipFill>
        <p:spPr>
          <a:xfrm>
            <a:off x="3714840" y="3357720"/>
            <a:ext cx="1859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Команда «Наследственность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Единицей наследственности является ге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Третий закон Менделя называется законом расщепл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Дигетерозигота образует два типа гам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У человека 23 группы сцепл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Первичная перетяжка хромосомы называется локус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Аутосомы – это хромосомы, которые у мужского и женского пола имеют одинаковое стро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7.Закономерности сцепленного наследования установил Морга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.Кроссинговер наблюдается у организмов при полном сцеплен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.Вероятность больного гемофилией сына у фенотипически здоровых родителей равна 25 %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.Расщепление 9:3:3:1 в дигибридном скрещивании соответствует генотип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Команда «Изменчивость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.Гены, расположенные в одинаковых локусах гомологичных хромосом, называются аллельным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.Дигомозигота образует один тип гамет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3.Если в потомстве наблюдается расщепление 1:1, то генотипы родителей Аа и А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4.В сперматозоидах мужчины содержится 1 половая хромосом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5.Аллельные гены при мейозе оказываются в разных клетках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6.Второй закон Менделя называется законом независимого наследования призна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7.Особь с генотипом ААВВСС образует один тип гамет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8.Гетерогаметный пол у человека женск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9.Кроссинговер наблюдается у организмов при неполном сцеплении ген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0.Вероятность рождения детей-гемофиликов в семье здорового мужчины и фенотипически здоровой женщины равна 50%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1071720" y="714240"/>
            <a:ext cx="700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5 конкур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итуации»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1255575284"/>
          <p:cNvPicPr/>
          <p:nvPr/>
        </p:nvPicPr>
        <p:blipFill>
          <a:blip r:embed="rId1"/>
          <a:stretch/>
        </p:blipFill>
        <p:spPr>
          <a:xfrm>
            <a:off x="1908000" y="3213000"/>
            <a:ext cx="547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34817"/>
                </a:solidFill>
                <a:latin typeface="Calibri"/>
              </a:rPr>
              <a:t>Ситуация для команды «Наследственность»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ремя от времени в газету приходят письма от женщин с жалобами на упреки, которые им приходится терпеть от своих мужей и родственников за то, что вместо сыновей у них рождаются дочери. Справедливы ли такие упреки? Докажите!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90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поет Лутоня песе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 соседей не гляд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н неласков. Он невесе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задумавшись, сид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 жену свою не взглян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чернел от мая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й, как ждал Лутоня сына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а, видать, опять судьб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дшутила в эту ноч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дала на счастье сы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 дала на горе дочь..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72000" y="5760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й Остр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93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34817"/>
                </a:solidFill>
                <a:latin typeface="Calibri"/>
              </a:rPr>
              <a:t>Ситуация для команды «Изменчивость».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Picture 9" descr="a01"/>
          <p:cNvPicPr/>
          <p:nvPr/>
        </p:nvPicPr>
        <p:blipFill>
          <a:blip r:embed="rId1"/>
          <a:stretch/>
        </p:blipFill>
        <p:spPr>
          <a:xfrm>
            <a:off x="4211640" y="2492280"/>
            <a:ext cx="3809880" cy="3683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a12"/>
          <p:cNvPicPr/>
          <p:nvPr/>
        </p:nvPicPr>
        <p:blipFill>
          <a:blip r:embed="rId2"/>
          <a:stretch/>
        </p:blipFill>
        <p:spPr>
          <a:xfrm>
            <a:off x="468360" y="1628640"/>
            <a:ext cx="28893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1428840" y="928800"/>
            <a:ext cx="61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6 конкур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Биологическая задач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Время  3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smail21"/>
          <p:cNvPicPr/>
          <p:nvPr/>
        </p:nvPicPr>
        <p:blipFill>
          <a:blip r:embed="rId1"/>
          <a:stretch/>
        </p:blipFill>
        <p:spPr>
          <a:xfrm>
            <a:off x="3286080" y="3857760"/>
            <a:ext cx="26496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214200" y="213372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ировать и обобщить знания студентов о материальных основах наследственности и изменчив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бежденность в том, что знание основных понятий генетики необходимо для понимания важных биологических закономер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1928880" y="78588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http://kozlenkoa.narod.ru/img/fig3.jpg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Команда «Наследственность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Задача 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ольшинство живых организмов размножаются половым путем. Однако для некоторых организмов характерно и бесполое размножение. Почему в ходе эволюции организмы не утратили способности к бесполому размножению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34817"/>
                </a:solidFill>
                <a:latin typeface="Calibri"/>
              </a:rPr>
              <a:t>Команда «Изменчивость»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Задача 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ва идентичных близнеца – мужчины вступили в брак с двумя идентичными близнецами – женщинами. Будут ли дети от каждого брака похожи между собой также, как идентичные близнецы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214200" y="6620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libri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libri"/>
              </a:rPr>
              <a:t>Какие вопросы вызвали затруднени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е вопросы показались очень лег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ыло ли интересно соревнов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е чувства испытывали по отношению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м, кто затруднялся ответ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 не хотелось ли вам им помоч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14400" y="549360"/>
            <a:ext cx="77724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mbria"/>
              </a:rPr>
              <a:t>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mbria"/>
              </a:rPr>
              <a:t>Конкурсы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Разминка для ума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Блиц-турнир  «Определите вид мутации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Следствие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Установите правильность суждений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Ситуации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Биологическая задача»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4750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Calibri"/>
              </a:rPr>
              <a:t>             </a:t>
            </a:r>
            <a:r>
              <a:rPr b="0" lang="ru-RU" sz="4000" spc="-1" strike="noStrike">
                <a:solidFill>
                  <a:srgbClr val="9b2d1f"/>
                </a:solidFill>
                <a:latin typeface="Calibri"/>
              </a:rPr>
              <a:t>Вопросы команда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1 вопрос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положим, что в природе существует только наследственность, а изменчивость отсутствует. К каким бы последствиям это привело и почему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2 вопрос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положим, что в природе существует только изменчивость, а наследственность отсутствует. К каким бы последствиям это привело и почему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smail21"/>
          <p:cNvPicPr/>
          <p:nvPr/>
        </p:nvPicPr>
        <p:blipFill>
          <a:blip r:embed="rId1"/>
          <a:stretch/>
        </p:blipFill>
        <p:spPr>
          <a:xfrm>
            <a:off x="3143160" y="4286160"/>
            <a:ext cx="2649600" cy="1943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2"/>
          <p:cNvSpPr/>
          <p:nvPr/>
        </p:nvSpPr>
        <p:spPr>
          <a:xfrm>
            <a:off x="785880" y="500040"/>
            <a:ext cx="7286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1 кон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Разминка для у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Максимальная оценка 10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Отвечать быстро и 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24000" y="170136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ллельные ген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Гетерозиго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аследственност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Альтернативные призна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Правило единообраз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Гаме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Гибри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Диплоидный набор хромосо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Локу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Закон расщепле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857160" y="189000"/>
            <a:ext cx="49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Команда 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следственность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37"/>
          <p:cNvPicPr/>
          <p:nvPr/>
        </p:nvPicPr>
        <p:blipFill>
          <a:blip r:embed="rId1"/>
          <a:stretch/>
        </p:blipFill>
        <p:spPr>
          <a:xfrm>
            <a:off x="6012000" y="765000"/>
            <a:ext cx="2808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14200" y="1557360"/>
            <a:ext cx="8929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Г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Гомозиго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ариотип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Мутац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Закон независимого наследова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Генотип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Доминантный призна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Полигибридное скрещивани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Половые хромосом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Закон сцепленного наследова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000080" y="189000"/>
            <a:ext cx="52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Команда 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чивость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091-150x150"/>
          <p:cNvPicPr/>
          <p:nvPr/>
        </p:nvPicPr>
        <p:blipFill>
          <a:blip r:embed="rId1"/>
          <a:stretch/>
        </p:blipFill>
        <p:spPr>
          <a:xfrm>
            <a:off x="6372360" y="836640"/>
            <a:ext cx="230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857160" y="214200"/>
            <a:ext cx="7572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кон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лиц-турн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ите вид мутации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аксимальная оценка -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«Изменчив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091-150x150"/>
          <p:cNvPicPr/>
          <p:nvPr/>
        </p:nvPicPr>
        <p:blipFill>
          <a:blip r:embed="rId1"/>
          <a:stretch/>
        </p:blipFill>
        <p:spPr>
          <a:xfrm>
            <a:off x="2484360" y="3573360"/>
            <a:ext cx="41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225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3 конкур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едствие»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Правильный ответ – 1 балл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Отвечать быстро и точно.</a:t>
            </a:r>
            <a:br>
              <a:rPr sz="44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Picture 3" descr="j0288870"/>
          <p:cNvPicPr/>
          <p:nvPr/>
        </p:nvPicPr>
        <p:blipFill>
          <a:blip r:embed="rId1"/>
          <a:stretch/>
        </p:blipFill>
        <p:spPr>
          <a:xfrm>
            <a:off x="3857760" y="3429000"/>
            <a:ext cx="166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6:34:55Z</dcterms:created>
  <dc:creator>Щербакова</dc:creator>
  <dc:description/>
  <dc:language>en-US</dc:language>
  <cp:lastModifiedBy>Admin</cp:lastModifiedBy>
  <dcterms:modified xsi:type="dcterms:W3CDTF">2021-06-20T13:56:13Z</dcterms:modified>
  <cp:revision>151</cp:revision>
  <dc:subject/>
  <dc:title>Слайд 1</dc:title>
</cp:coreProperties>
</file>