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9.wmf" ContentType="image/x-wmf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E86-4DAE-452A-920F-7E507085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29818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FE5-D584-4A8E-9514-BD944029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666-47D8-42BB-AC58-32CBB63D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0E5-2D16-4D84-A0BC-F20E9C75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7DC1-F3FE-4692-BB0B-C611044E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8D5E-DF30-4C9C-8581-BA2EB39F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E281-CF0D-4ACB-A461-AA204AED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41AC-9EC2-49B2-9265-5F02EF3B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C467-7933-417D-9EBF-5335FE02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226800"/>
            <a:ext cx="7313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050E-FDAA-4E93-B530-8EF78773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BDD8-1C7D-451D-A0F3-7D5B601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499-4871-48D9-847D-E32D5422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C1A2-BB3A-49E0-9430-21D36AE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2D91-D6AC-482C-8D66-C67AAABD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29818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A60F-9C19-49CA-82C9-C561516C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CAB1-DE05-4879-B214-CF65A059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37016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2981880"/>
            <a:ext cx="23547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8B59-04EE-41CC-9BD9-353A6F4B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6E0-4108-44D1-B36B-EDB532C2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D00-F0CB-401C-A14D-DA960901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FC6-E839-4CDA-9D34-BA05A361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226800"/>
            <a:ext cx="7313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86E-671B-47C7-AD90-DD30C0E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D70-7193-47A3-BFDF-F1211FA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298188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7EF-034F-4845-A2C8-FF2A96D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370160"/>
            <a:ext cx="35686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29818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E08-2A5B-4377-B7FD-CF64D527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2857320"/>
            <a:chOff x="-3238560" y="0"/>
            <a:chExt cx="11925360" cy="2857320"/>
          </a:xfrm>
        </p:grpSpPr>
        <p:sp>
          <p:nvSpPr>
            <p:cNvPr id="1" name=""/>
            <p:cNvSpPr/>
            <p:nvPr/>
          </p:nvSpPr>
          <p:spPr>
            <a:xfrm>
              <a:off x="-3238560" y="514080"/>
              <a:ext cx="4114800" cy="2343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23659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14300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731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370160"/>
            <a:ext cx="7313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11840" indent="-1872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686960" indent="-1872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686960" indent="-1872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686960" indent="-1872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3125-B541-4299-9164-5EF3043C31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228600"/>
            <a:ext cx="11909520" cy="3543120"/>
            <a:chOff x="-3222720" y="228600"/>
            <a:chExt cx="11909520" cy="3543120"/>
          </a:xfrm>
        </p:grpSpPr>
        <p:sp>
          <p:nvSpPr>
            <p:cNvPr id="46" name=""/>
            <p:cNvSpPr/>
            <p:nvPr/>
          </p:nvSpPr>
          <p:spPr>
            <a:xfrm>
              <a:off x="1447920" y="188568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028520"/>
              <a:ext cx="3657600" cy="27432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228600"/>
              <a:ext cx="4038840" cy="3029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739440"/>
            <a:ext cx="723924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B29E-5698-49E6-8678-E0313EF102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640" y="1598760"/>
            <a:ext cx="647856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Дети одного солнц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3651120"/>
            <a:ext cx="60800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БОУ «Шелаболихинская СОШ № 1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р проекта: Дорофеева Анастасия, ученица 4 клас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: Акатьева Наталья Викторо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39640" y="226800"/>
            <a:ext cx="63435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Это сладкое слово - побед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16360" y="920880"/>
            <a:ext cx="3960720" cy="3611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499800">
            <a:off x="6588000" y="987480"/>
            <a:ext cx="2176560" cy="387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138000">
            <a:off x="394920" y="1058760"/>
            <a:ext cx="2809800" cy="3745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843280" y="4603680"/>
            <a:ext cx="51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тографии из семейных архи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771640" y="1058760"/>
            <a:ext cx="3818160" cy="3818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19480" y="35388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Спасиб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19240" y="226800"/>
            <a:ext cx="6664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Актуальность выбранной тем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00000" y="1504800"/>
            <a:ext cx="37432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ть каждый шаг дается нелегко н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ть каждый час – паденье и подъ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 этим старым синим небоскло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 любим жизнь, и жить не уста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. Ольгин «С нами вера, надежда, любовь»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59280" y="1176480"/>
            <a:ext cx="3529080" cy="3528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59280" y="11509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ргей Ольгин – человек с инвалид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267840"/>
            <a:ext cx="8137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Гипотеза: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предположим, что детям с инвалидностью  нужна, в первую очередь, не материальная или медицинская помощь, а возможность стать полноценными членами общества, возможность поверить в себя.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924200"/>
            <a:ext cx="38592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яснить отношение моих сверстников  к «особым» детя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знать, какие условия для обучения этих детей созданы у нас в школе, сел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влечь внимание  к проблемам детей с ограниченными возможностями здоров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502800">
            <a:off x="6478200" y="1418760"/>
            <a:ext cx="2665440" cy="2000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21081000">
            <a:off x="3995280" y="1347480"/>
            <a:ext cx="265608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3105000"/>
            <a:ext cx="2716200" cy="203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292720" y="480384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Фото из личного арх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916000">
            <a:off x="3940200" y="1456920"/>
            <a:ext cx="25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Фото из личного арх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226800"/>
            <a:ext cx="424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Моя школа – территория любв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2" descr="C:\Users\Светлана\Desktop\risunok1[1].png"/>
          <p:cNvPicPr/>
          <p:nvPr/>
        </p:nvPicPr>
        <p:blipFill>
          <a:blip r:embed="rId1"/>
          <a:stretch/>
        </p:blipFill>
        <p:spPr>
          <a:xfrm>
            <a:off x="0" y="0"/>
            <a:ext cx="2556000" cy="176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j0101858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181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1143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 rot="21176400">
            <a:off x="179280" y="235548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555000">
            <a:off x="5727600" y="2435400"/>
            <a:ext cx="3235320" cy="2425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84360" y="458784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 нас работает программа «Доступная сре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226800"/>
            <a:ext cx="57672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Солнечные дет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20985000">
            <a:off x="468360" y="195120"/>
            <a:ext cx="2647800" cy="352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87280" y="2557440"/>
            <a:ext cx="3448080" cy="2586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441600">
            <a:off x="5651640" y="1951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88000" y="2571840"/>
            <a:ext cx="3882960" cy="2571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59280" y="141912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тографии из семейных архи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226800"/>
            <a:ext cx="5550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Образование для всех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3640" y="843120"/>
            <a:ext cx="3313080" cy="2219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195120"/>
            <a:ext cx="2328840" cy="2787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48000" y="2932200"/>
            <a:ext cx="295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усть солнце светит ярче, —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асивый огонёк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помни, в этой жизни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ы — не одинок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2473200"/>
            <a:ext cx="3276720" cy="2454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551640" y="195120"/>
            <a:ext cx="2162160" cy="28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480000" y="247968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635120"/>
          <a:ext cx="4464000" cy="30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35120"/>
                    <a:ext cx="446400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643280" y="1635120"/>
          <a:ext cx="4500720" cy="3073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635120"/>
                    <a:ext cx="450072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84360" y="339840"/>
            <a:ext cx="826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Times New Roman"/>
              </a:rPr>
              <a:t>Результаты анкетирования учеников 4 клас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200" y="1131840"/>
            <a:ext cx="369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ходилось ли вам общаться с детьми с инвалидност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1146240"/>
            <a:ext cx="87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кие чувства вы испытывае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отношению к детям с инвалидност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640" y="226800"/>
            <a:ext cx="6487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Мы – разные, но мы – вмест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627120"/>
            <a:ext cx="3809880" cy="214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940360" y="700200"/>
            <a:ext cx="3203640" cy="2009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84720" y="2847960"/>
            <a:ext cx="3059280" cy="229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50920" y="2944800"/>
            <a:ext cx="3306600" cy="2198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635280" y="2139840"/>
            <a:ext cx="2305080" cy="300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132000" y="843120"/>
            <a:ext cx="3024360" cy="2144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71640" y="46753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Фотографии из школьного арх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23840"/>
            <a:ext cx="2219400" cy="3943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24000" y="195120"/>
            <a:ext cx="4175280" cy="3133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940360" y="19512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148360" y="2579760"/>
            <a:ext cx="3419280" cy="2563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11280" y="2678040"/>
            <a:ext cx="4249800" cy="2465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32000" y="4746600"/>
            <a:ext cx="75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Фотографии из школьного и семейных архи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37:53Z</dcterms:created>
  <dc:creator>Lenovo</dc:creator>
  <dc:description/>
  <dc:language>en-US</dc:language>
  <cp:lastModifiedBy>User</cp:lastModifiedBy>
  <dcterms:modified xsi:type="dcterms:W3CDTF">2021-06-06T10:57:38Z</dcterms:modified>
  <cp:revision>43</cp:revision>
  <dc:subject/>
  <dc:title>Слайд 1</dc:title>
</cp:coreProperties>
</file>