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19.wmf" ContentType="image/x-wmf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81B-62D7-457D-A749-FBB49EB3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298188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FA0-B518-409B-ABF1-CD87DA7D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136-671A-417F-96AF-ACAE07DE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304-CE55-4C45-A027-27B14CEA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37E8-296F-49F0-A9E6-3791251B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370160"/>
            <a:ext cx="7313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48CC-1711-4137-87CD-6A0368F8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7313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E7E9-AC28-4265-8083-9449650F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7D59-C90D-4CBC-BD3A-4E61FC83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80E4-1194-48F4-867F-A8E818FA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226800"/>
            <a:ext cx="7313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50F7-BC27-422D-8E13-C2FD663A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A128-FD52-498C-AA4C-523A906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370160"/>
            <a:ext cx="7313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144-45F1-4631-BB90-7016B96C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7E4D-34FC-48F8-BB08-877E2396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DF3A-68AC-4289-BA11-D886D3C9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298188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CA78-AC79-42C4-A184-86F974E0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DDF7-406F-4E23-91B6-FEC534A6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2463-805A-4D40-BFC6-921B11AB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7313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9A8-69B2-489D-9827-64549997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F72-254A-4788-9798-9697E108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C57-23A0-45E6-9356-0BF241FC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226800"/>
            <a:ext cx="7313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548-A68B-4F22-874E-674F2AFB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00D-3F28-4381-AEBC-33D23D8A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7AE-FD0D-4C1E-A5AA-45F8080F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6CF-B428-4FF0-8A73-D0B528BA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2857320"/>
            <a:chOff x="-3238560" y="0"/>
            <a:chExt cx="11925360" cy="2857320"/>
          </a:xfrm>
        </p:grpSpPr>
        <p:sp>
          <p:nvSpPr>
            <p:cNvPr id="1" name=""/>
            <p:cNvSpPr/>
            <p:nvPr/>
          </p:nvSpPr>
          <p:spPr>
            <a:xfrm>
              <a:off x="-3238560" y="514080"/>
              <a:ext cx="4114800" cy="23432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23659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14300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370160"/>
            <a:ext cx="7313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11840" indent="-1872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686960" indent="-1872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686960" indent="-1872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686960" indent="-1872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6E74-69CC-4663-9FCD-70EDF252F7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228600"/>
            <a:ext cx="11909520" cy="3543120"/>
            <a:chOff x="-3222720" y="228600"/>
            <a:chExt cx="11909520" cy="3543120"/>
          </a:xfrm>
        </p:grpSpPr>
        <p:sp>
          <p:nvSpPr>
            <p:cNvPr id="46" name=""/>
            <p:cNvSpPr/>
            <p:nvPr/>
          </p:nvSpPr>
          <p:spPr>
            <a:xfrm>
              <a:off x="1447920" y="188568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028520"/>
              <a:ext cx="3657600" cy="27432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228600"/>
              <a:ext cx="4038840" cy="3029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739440"/>
            <a:ext cx="723924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7FC7-B6A5-40DA-93E5-2E494504CB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640" y="1598760"/>
            <a:ext cx="647856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Дети одного солнц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3651120"/>
            <a:ext cx="60800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БОУ «Шелаболихинская СОШ № 1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р проекта: Дорофеева Анастасия, ученица 4 клас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: Акатьева Наталья Викторо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9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39640" y="226800"/>
            <a:ext cx="63435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Это сладкое слово - побед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16360" y="920880"/>
            <a:ext cx="3960720" cy="3611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499800">
            <a:off x="6588000" y="987480"/>
            <a:ext cx="2176560" cy="387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138000">
            <a:off x="394920" y="1058760"/>
            <a:ext cx="2809800" cy="3745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843280" y="4603680"/>
            <a:ext cx="51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отографии из семейных архив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771640" y="1058760"/>
            <a:ext cx="3818160" cy="3818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19480" y="353880"/>
            <a:ext cx="52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Спасиб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19240" y="226800"/>
            <a:ext cx="6664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Актуальность выбранной тем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00000" y="1504800"/>
            <a:ext cx="37432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ть каждый шаг дается нелегко н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ть каждый час – паденье и подъ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 этим старым синим небоскло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 любим жизнь, и жить не уста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. Ольгин «С нами вера, надежда, любовь»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59280" y="1176480"/>
            <a:ext cx="3529080" cy="3528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59280" y="11509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ргей Ольгин – человек с инвалид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267840"/>
            <a:ext cx="8137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Гипотеза: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предположим, что детям с инвалидностью  нужна, в первую очередь, не материальная или медицинская помощь, а возможность стать полноценными членами общества, возможность поверить в себя.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924200"/>
            <a:ext cx="38592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яснить отношение моих сверстников  к «особым» детя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знать, какие условия для обучения этих детей созданы у нас в школе, сел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влечь внимание  к проблемам детей с ограниченными возможностями здоров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502800">
            <a:off x="6478200" y="1418760"/>
            <a:ext cx="2665440" cy="2000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21081000">
            <a:off x="3995280" y="1347480"/>
            <a:ext cx="2656080" cy="1933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3105000"/>
            <a:ext cx="2716200" cy="2038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292720" y="480384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Фото из личного арх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916000">
            <a:off x="3940200" y="1456920"/>
            <a:ext cx="25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Фото из личного арх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0000" y="226800"/>
            <a:ext cx="424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Моя школа – территория любв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2" descr="C:\Users\Светлана\Desktop\risunok1[1].png"/>
          <p:cNvPicPr/>
          <p:nvPr/>
        </p:nvPicPr>
        <p:blipFill>
          <a:blip r:embed="rId1"/>
          <a:stretch/>
        </p:blipFill>
        <p:spPr>
          <a:xfrm>
            <a:off x="0" y="0"/>
            <a:ext cx="2556000" cy="176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j0101858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181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1143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 rot="21176400">
            <a:off x="179280" y="235548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rot="555000">
            <a:off x="5727600" y="2435400"/>
            <a:ext cx="3235320" cy="2425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84360" y="4587840"/>
            <a:ext cx="46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 нас работает программа «Доступная сре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226800"/>
            <a:ext cx="57672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Солнечные дет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20985000">
            <a:off x="468360" y="195120"/>
            <a:ext cx="2647800" cy="352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87280" y="2557440"/>
            <a:ext cx="3448080" cy="2586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441600">
            <a:off x="5651640" y="1951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88000" y="2571840"/>
            <a:ext cx="3882960" cy="2571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59280" y="141912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отографии из семейных архив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226800"/>
            <a:ext cx="5550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Образование для всех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3640" y="843120"/>
            <a:ext cx="3313080" cy="2219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195120"/>
            <a:ext cx="2328840" cy="2787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48000" y="2932200"/>
            <a:ext cx="295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усть солнце светит ярче, —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асивый огонёк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помни, в этой жизни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ы — не одинок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2473200"/>
            <a:ext cx="3276720" cy="2454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551640" y="195120"/>
            <a:ext cx="2162160" cy="28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480000" y="247968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1635120"/>
          <a:ext cx="4464000" cy="30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35120"/>
                    <a:ext cx="446400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643280" y="1635120"/>
          <a:ext cx="4500720" cy="3073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635120"/>
                    <a:ext cx="450072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84360" y="339840"/>
            <a:ext cx="826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Times New Roman"/>
              </a:rPr>
              <a:t>Результаты анкетирования учеников 4 клас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200" y="1131840"/>
            <a:ext cx="369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ходилось ли вам общаться с детьми с инвалидност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1146240"/>
            <a:ext cx="87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акие чувства вы испытывае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 отношению к детям с инвалидност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95640" y="226800"/>
            <a:ext cx="6487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Мы – разные, но мы – вмест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627120"/>
            <a:ext cx="3809880" cy="214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940360" y="700200"/>
            <a:ext cx="3203640" cy="2009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84720" y="2847960"/>
            <a:ext cx="3059280" cy="229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50920" y="2944800"/>
            <a:ext cx="3306600" cy="2198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635280" y="2139840"/>
            <a:ext cx="2305080" cy="300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132000" y="843120"/>
            <a:ext cx="3024360" cy="2144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71640" y="46753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Фотографии из школьного арх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23840"/>
            <a:ext cx="2219400" cy="3943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24000" y="195120"/>
            <a:ext cx="4175280" cy="3133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940360" y="195120"/>
            <a:ext cx="3203640" cy="2403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148360" y="2579760"/>
            <a:ext cx="3419280" cy="2563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11280" y="2678040"/>
            <a:ext cx="4249800" cy="2465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332000" y="4746600"/>
            <a:ext cx="75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Фотографии из школьного и семейных архив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11:37:53Z</dcterms:created>
  <dc:creator>Lenovo</dc:creator>
  <dc:description/>
  <dc:language>en-US</dc:language>
  <cp:lastModifiedBy>User</cp:lastModifiedBy>
  <dcterms:modified xsi:type="dcterms:W3CDTF">2021-06-06T10:57:38Z</dcterms:modified>
  <cp:revision>43</cp:revision>
  <dc:subject/>
  <dc:title>Слайд 1</dc:title>
</cp:coreProperties>
</file>