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892-CB11-4330-B10B-1A33FA25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ABE-594B-4D09-AFA9-A8D5192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E8B-0AB7-49DF-BAFF-67A42E3B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F2E-5F51-47FE-8A5A-3A1C6142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DD75-A231-4C27-81BA-8E5001FD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42D-EC88-4079-8FF1-70FFDB9A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EB4-AD65-49DA-B07F-06D50BC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36DC-98E7-40B5-8E5A-71F665D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E5F-6BB7-4D16-B602-BD3E753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304-0804-4098-A17D-1B26A6E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5F10-0EA9-40CE-85AB-E0EAD66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5B5-8EFB-4D1A-9A94-5FF2008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4B9F-0946-44D7-8548-7480D99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0BD9-C44E-4832-8C86-561BDFC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26ED-A3C4-4260-93FD-BA51A55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87F-8324-4372-92AE-FAA3B453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368-4FCB-42A0-B052-9D55CBB9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4F91-2755-4FEA-B84F-3FDB342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F86E6-032C-4713-A88F-C5E64E2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D5AF-CB3A-4ECC-8CEC-96B60213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ABB3-D95A-424B-8794-6AE72FAF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C48F-0C4A-4CE2-8312-44C461BB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081-BF93-4B4D-B1F2-B8EE1D0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9E59-2BD5-4C54-BB6B-F44D00B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F3D5-2F90-4969-8272-2FA7C80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3521-C4C8-4DED-8364-E5781B8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8954-C81A-4A86-B1D6-2751BCC9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347F-EEC8-415A-8F1C-DECD9E7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E427-6922-4486-BC0C-1794318F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15C3-50E6-4242-81BB-9C4E6D3B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7778-6CBA-4451-B919-A62DD1A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F1F0-082C-4DF4-993D-6124AC3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0467-0DB9-4990-81FD-AD24FC58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403-B933-4F99-B2BB-52E9E92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ED16-6DB5-48A2-83E3-1B77892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1915-4112-49A0-AFC3-DA401F28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3D62-EF85-4D5A-8B84-B023E35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046A-8EDD-49A3-9837-F14CB2D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E068-EE4B-4B39-95D2-E2B55CA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85E7-7AD8-4A89-ABC3-14CC94D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1675-1A4C-49ED-B727-0149F7F5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2043-3707-45F6-AB02-6DE8D499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2EA2-F30E-47A9-AD67-CA9C98D6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6D6E5-59FB-4E2E-A215-E169DA19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FC1-434D-4F0F-A2C4-1D02F1C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6277-FE65-4A53-9B63-61B8ED0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A1D5-CE8A-4F6C-A32C-516C9E90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C28E-D5CA-4CD8-982D-F39ED8C6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4E423-7302-4B8D-802F-DA3F9BBF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F770-4608-40B6-A5FF-B8FA78E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2468-4DDE-4371-BC8C-204A0D5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CD70-6157-4E10-9337-A426F02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EB71-D7E0-441A-A022-4A981A1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FCED-FDA7-407F-A1CE-EE0109F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4B75-568D-4E71-B99A-F7F5DF4A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4B4-89BC-4221-8D02-FEA5DD6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AEDB-614C-408F-BE9D-EC021CFB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6A2E-0927-4C9A-B980-9F0D1DE8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7111-920A-4BDE-9B91-2DDA59F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62E9-FA7B-4E9C-99DF-FA3F3E6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F9D1-9648-4A91-A728-D4039EA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9F50-6744-4171-B942-BD9F083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96FA-9C87-45AE-8991-2B6E21B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EDCA-D01C-4F0D-A4D8-54DFEF7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9E63-713C-4C7E-8273-F3742D9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93B7-7CEE-4CD7-B48B-B4C66F3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2AF-0D72-41BC-858C-F08AFFB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01DC2-7A21-4CE9-995A-DC86FCBD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9742-2F05-40EB-A454-3DBEEF1F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1719C-15F9-46C7-9857-BDF0107E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B3A-416F-450C-A645-E313FC9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479-256A-4CD7-A6BD-5E984AC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D672-A7E2-4ABB-A15F-16BF27616D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402-1780-4EFD-B459-9CA16F506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7BFA-1314-4FD3-A1E3-410906DD73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81D-5D5B-4D57-BAE6-13B2D1A981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D25-06FB-49DE-BE85-668B86A39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2A8-750A-4883-8520-FE4EE8E3AA5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ЁГКАЯ АТЛЕТИКА</a:t>
            </a:r>
            <a:br>
              <a:rPr sz="4000"/>
            </a:b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МЕТА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687" name="Organization Chart 7"/>
          <p:cNvGrpSpPr/>
          <p:nvPr/>
        </p:nvGrpSpPr>
        <p:grpSpPr>
          <a:xfrm>
            <a:off x="106200" y="0"/>
            <a:ext cx="9037080" cy="6856200"/>
            <a:chOff x="106200" y="0"/>
            <a:chExt cx="9037080" cy="6856200"/>
          </a:xfrm>
        </p:grpSpPr>
        <p:cxnSp>
          <p:nvCxnSpPr>
            <p:cNvPr id="688" name="_s1028"/>
            <p:cNvCxnSpPr>
              <a:stCxn id="689" idx="0"/>
              <a:endCxn id="690" idx="2"/>
            </p:cNvCxnSpPr>
            <p:nvPr/>
          </p:nvCxnSpPr>
          <p:spPr>
            <a:xfrm flipV="1" rot="16200000">
              <a:off x="5520240" y="1845720"/>
              <a:ext cx="1371960" cy="3163680"/>
            </a:xfrm>
            <a:prstGeom prst="bentConnector3">
              <a:avLst>
                <a:gd name="adj1" fmla="val 1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1" name="_s1029"/>
            <p:cNvCxnSpPr>
              <a:stCxn id="692" idx="0"/>
              <a:endCxn id="690" idx="1"/>
            </p:cNvCxnSpPr>
            <p:nvPr/>
          </p:nvCxnSpPr>
          <p:spPr>
            <a:xfrm flipV="1">
              <a:off x="4624560" y="2741760"/>
              <a:ext cx="3960" cy="13719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693" name="_s1030"/>
            <p:cNvCxnSpPr>
              <a:stCxn id="694" idx="0"/>
              <a:endCxn id="690" idx="0"/>
            </p:cNvCxnSpPr>
            <p:nvPr/>
          </p:nvCxnSpPr>
          <p:spPr>
            <a:xfrm flipH="1" flipV="1" rot="5400000">
              <a:off x="2357280" y="1846080"/>
              <a:ext cx="1371960" cy="3163680"/>
            </a:xfrm>
            <a:prstGeom prst="bentConnector3">
              <a:avLst>
                <a:gd name="adj1" fmla="val 1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690" name="_s1031"/>
            <p:cNvSpPr/>
            <p:nvPr/>
          </p:nvSpPr>
          <p:spPr>
            <a:xfrm>
              <a:off x="3269160" y="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ФАЗЫ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МЕТАНИ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_s1032"/>
            <p:cNvSpPr/>
            <p:nvPr/>
          </p:nvSpPr>
          <p:spPr>
            <a:xfrm>
              <a:off x="10620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2" action="ppaction://hlinksldjump"/>
                </a:rPr>
                <a:t>ПРЕДВАРИ-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3" action="ppaction://hlinksldjump"/>
                </a:rPr>
                <a:t>ТЕЛЬНА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4" action="ppaction://hlinksldjump"/>
                </a:rPr>
                <a:t>ЧАСТЬ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ffe701"/>
                  </a:solidFill>
                  <a:uFillTx/>
                  <a:latin typeface="Times New Roman"/>
                  <a:hlinkClick r:id="rId5" action="ppaction://hlinksldjump"/>
                </a:rPr>
                <a:t>РАЗБЕГА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_s1033"/>
            <p:cNvSpPr/>
            <p:nvPr/>
          </p:nvSpPr>
          <p:spPr>
            <a:xfrm>
              <a:off x="326916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6" action="ppaction://hlinksldjump"/>
                </a:rPr>
                <a:t>ЗАКЛЮЧИ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7" action="ppaction://hlinksldjump"/>
                </a:rPr>
                <a:t>ТЕЛЬНА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8" action="ppaction://hlinksldjump"/>
                </a:rPr>
                <a:t>ЧАС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9" action="ppaction://hlinksldjump"/>
                </a:rPr>
                <a:t>РАЗБЕГ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_s1034"/>
            <p:cNvSpPr/>
            <p:nvPr/>
          </p:nvSpPr>
          <p:spPr>
            <a:xfrm>
              <a:off x="6432120" y="4113720"/>
              <a:ext cx="2711160" cy="274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0" action="ppaction://hlinksldjump"/>
                </a:rPr>
                <a:t>ПОДГОТОВ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1" action="ppaction://hlinksldjump"/>
                </a:rPr>
                <a:t>К БРОСК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e701"/>
                  </a:solidFill>
                  <a:uFillTx/>
                  <a:latin typeface="Times New Roman"/>
                  <a:hlinkClick r:id="rId12" action="ppaction://hlinksldjump"/>
                </a:rPr>
                <a:t>(ЗАМАХ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РЕДВАРИТЕЛЬНАЯ ЧАСТЬ РАЗБЕ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атель готовится к началу разбега стоя у первой контрольной линии лицом к направлению метания. Рука с мячом находится над плечом. Мяч держится в согнутой расслабленной руке, локоть направлен вперёд и несколько вправо, кисть находится на уровне головы. Разбег выполняется свободно, с ускорением. Туловище наклонено вперёд. Во время разбега оно постепенно выпрямляется. Левая рука работает как при беге, а рука, держащая мяч в переднезаднем направлении. Длина разбега колеблется от 20 до 30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ЗАКЛЮЧИТЕЛЬНАЯ ЧАСТЬ РАЗБЕ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варительная часть разбега до контрольной отметки выполняется обычно за 10-12 шагов. Контрольная отметка находится от бруска, ограничивающего зону разбега, на 9 метров для женщин и на 12 метров для мужчин. В заключительной части разбега спортсмен готовится к броску, совершая так называемые бросковые шаги. Обычно их четы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7" descr="копьё1"/>
          <p:cNvPicPr/>
          <p:nvPr/>
        </p:nvPicPr>
        <p:blipFill>
          <a:blip r:embed="rId2"/>
          <a:stretch/>
        </p:blipFill>
        <p:spPr>
          <a:xfrm>
            <a:off x="5651640" y="1557360"/>
            <a:ext cx="30589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179280" y="189000"/>
            <a:ext cx="4105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о время спортсмен, стараясь не снизить скорости, полученной в разбеге, отводит копье назад, выполняет обгон снаряда и занимает исходное положение перед финальным усилием. Метатель, попав на контрольную отметку левой ногой, начинает отводить руку вместе с шагом правой. Отведение заканчивается на втором шаге. Плечи спортсмена повёрнуты вправо, правая рука с копьём почти полностью выпрямлена, туловище вертикаль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Picture 6" descr="metanie_kopya"/>
          <p:cNvPicPr/>
          <p:nvPr/>
        </p:nvPicPr>
        <p:blipFill>
          <a:blip r:embed="rId2"/>
          <a:srcRect l="0" t="0" r="0" b="8416"/>
          <a:stretch/>
        </p:blipFill>
        <p:spPr>
          <a:xfrm>
            <a:off x="4356000" y="692280"/>
            <a:ext cx="4578480" cy="51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ОДГОТОВКА К БРОСКУ (ЗАМАХ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тий шаг называется скрестным. Именно при его выполнении происходит обгон снаряда. Это шаг – как бы переходный от разбега к броску. Согнутая правая нога скрестно проносится около левой и становится на внешнюю сторону стопы. Ноги и таз опережают плечевой пояс. Туловище отклоняется в сторону разбега (до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, плечи поворачиваются направо. Заключительное усилие начинается ещё до постановки левой ноги на грун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9" descr="154"/>
          <p:cNvPicPr/>
          <p:nvPr/>
        </p:nvPicPr>
        <p:blipFill>
          <a:blip r:embed="rId2"/>
          <a:stretch/>
        </p:blipFill>
        <p:spPr>
          <a:xfrm>
            <a:off x="5148360" y="1628640"/>
            <a:ext cx="370980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4"/>
          <p:cNvSpPr/>
          <p:nvPr/>
        </p:nvSpPr>
        <p:spPr>
          <a:xfrm>
            <a:off x="179280" y="692280"/>
            <a:ext cx="435636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дро согнутой правой ноги поворачивается внутрь, таз выдвигается вперёд, правая слегка согнутая рука поворачивается наружу. Вслед за этим левая нога становится с пятки на грунт несколько левее линии разбега. Метатель поворачивается грудью в направлении метания и занимает положение «натянутого лука». Все эти движения заканчиваются молниеносным рывком, хлестообразным движением руки и перескоком метателя через левую на правую н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6" descr="копьё"/>
          <p:cNvPicPr/>
          <p:nvPr/>
        </p:nvPicPr>
        <p:blipFill>
          <a:blip r:embed="rId2"/>
          <a:stretch/>
        </p:blipFill>
        <p:spPr>
          <a:xfrm>
            <a:off x="4716360" y="836640"/>
            <a:ext cx="41976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14" name="Organization Chart 7"/>
          <p:cNvGrpSpPr/>
          <p:nvPr/>
        </p:nvGrpSpPr>
        <p:grpSpPr>
          <a:xfrm>
            <a:off x="250920" y="115920"/>
            <a:ext cx="8640360" cy="6514560"/>
            <a:chOff x="250920" y="115920"/>
            <a:chExt cx="8640360" cy="6514560"/>
          </a:xfrm>
        </p:grpSpPr>
        <p:cxnSp>
          <p:nvCxnSpPr>
            <p:cNvPr id="715" name="_s2052"/>
            <p:cNvCxnSpPr>
              <a:stCxn id="716" idx="0"/>
              <a:endCxn id="717" idx="4"/>
            </p:cNvCxnSpPr>
            <p:nvPr/>
          </p:nvCxnSpPr>
          <p:spPr>
            <a:xfrm flipV="1" rot="16200000">
              <a:off x="5697720" y="1593360"/>
              <a:ext cx="1303560" cy="355860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18" name="_s2053"/>
            <p:cNvCxnSpPr>
              <a:stCxn id="719" idx="0"/>
              <a:endCxn id="717" idx="3"/>
            </p:cNvCxnSpPr>
            <p:nvPr/>
          </p:nvCxnSpPr>
          <p:spPr>
            <a:xfrm flipV="1" rot="16200000">
              <a:off x="4808160" y="2482920"/>
              <a:ext cx="1303560" cy="177948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0" name="_s2054"/>
            <p:cNvCxnSpPr>
              <a:stCxn id="721" idx="0"/>
              <a:endCxn id="717" idx="2"/>
            </p:cNvCxnSpPr>
            <p:nvPr/>
          </p:nvCxnSpPr>
          <p:spPr>
            <a:xfrm flipV="1">
              <a:off x="4570560" y="2720880"/>
              <a:ext cx="2520" cy="13035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2" name="_s2055"/>
            <p:cNvCxnSpPr>
              <a:stCxn id="723" idx="0"/>
              <a:endCxn id="717" idx="1"/>
            </p:cNvCxnSpPr>
            <p:nvPr/>
          </p:nvCxnSpPr>
          <p:spPr>
            <a:xfrm flipH="1" flipV="1" rot="5400000">
              <a:off x="3029760" y="2482920"/>
              <a:ext cx="1303560" cy="177948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24" name="_s2056"/>
            <p:cNvCxnSpPr>
              <a:stCxn id="725" idx="0"/>
              <a:endCxn id="717" idx="0"/>
            </p:cNvCxnSpPr>
            <p:nvPr/>
          </p:nvCxnSpPr>
          <p:spPr>
            <a:xfrm flipH="1" flipV="1" rot="5400000">
              <a:off x="2141280" y="1594440"/>
              <a:ext cx="1303560" cy="3556440"/>
            </a:xfrm>
            <a:prstGeom prst="bentConnector3">
              <a:avLst>
                <a:gd name="adj1" fmla="val 997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17" name="_s2057"/>
            <p:cNvSpPr/>
            <p:nvPr/>
          </p:nvSpPr>
          <p:spPr>
            <a:xfrm>
              <a:off x="3808800" y="11592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ВИДЫ 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МЕТАНИЯ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_s2058"/>
            <p:cNvSpPr/>
            <p:nvPr/>
          </p:nvSpPr>
          <p:spPr>
            <a:xfrm>
              <a:off x="25092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КОПЬ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_s2059"/>
            <p:cNvSpPr/>
            <p:nvPr/>
          </p:nvSpPr>
          <p:spPr>
            <a:xfrm>
              <a:off x="202968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ИС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_s2060"/>
            <p:cNvSpPr/>
            <p:nvPr/>
          </p:nvSpPr>
          <p:spPr>
            <a:xfrm>
              <a:off x="380880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ОЛО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_s2061"/>
            <p:cNvSpPr/>
            <p:nvPr/>
          </p:nvSpPr>
          <p:spPr>
            <a:xfrm>
              <a:off x="558756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ОЛКА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ЯДР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_s2062"/>
            <p:cNvSpPr/>
            <p:nvPr/>
          </p:nvSpPr>
          <p:spPr>
            <a:xfrm>
              <a:off x="7366680" y="4024800"/>
              <a:ext cx="1524600" cy="260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НАТА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АЛЫЙ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Я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28" name="Organization Chart 7"/>
          <p:cNvGrpSpPr/>
          <p:nvPr/>
        </p:nvGrpSpPr>
        <p:grpSpPr>
          <a:xfrm>
            <a:off x="431640" y="404640"/>
            <a:ext cx="8208360" cy="5629320"/>
            <a:chOff x="431640" y="404640"/>
            <a:chExt cx="8208360" cy="5629320"/>
          </a:xfrm>
        </p:grpSpPr>
        <p:cxnSp>
          <p:nvCxnSpPr>
            <p:cNvPr id="729" name="_s3076"/>
            <p:cNvCxnSpPr>
              <a:stCxn id="730" idx="0"/>
              <a:endCxn id="731" idx="2"/>
            </p:cNvCxnSpPr>
            <p:nvPr/>
          </p:nvCxnSpPr>
          <p:spPr>
            <a:xfrm flipV="1" rot="16200000">
              <a:off x="5409000" y="1782000"/>
              <a:ext cx="1126440" cy="2873520"/>
            </a:xfrm>
            <a:prstGeom prst="bentConnector3">
              <a:avLst>
                <a:gd name="adj1" fmla="val 10134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2" name="_s3077"/>
            <p:cNvCxnSpPr>
              <a:stCxn id="733" idx="0"/>
              <a:endCxn id="731" idx="1"/>
            </p:cNvCxnSpPr>
            <p:nvPr/>
          </p:nvCxnSpPr>
          <p:spPr>
            <a:xfrm flipV="1">
              <a:off x="4536000" y="2655720"/>
              <a:ext cx="3600" cy="1126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4" name="_s3078"/>
            <p:cNvCxnSpPr>
              <a:stCxn id="735" idx="0"/>
              <a:endCxn id="731" idx="0"/>
            </p:cNvCxnSpPr>
            <p:nvPr/>
          </p:nvCxnSpPr>
          <p:spPr>
            <a:xfrm flipH="1" flipV="1" rot="5400000">
              <a:off x="2536200" y="1782360"/>
              <a:ext cx="1126440" cy="2873520"/>
            </a:xfrm>
            <a:prstGeom prst="bentConnector3">
              <a:avLst>
                <a:gd name="adj1" fmla="val 10134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31" name="_s3079"/>
            <p:cNvSpPr/>
            <p:nvPr/>
          </p:nvSpPr>
          <p:spPr>
            <a:xfrm>
              <a:off x="3304440" y="40464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0086"/>
                </a:gs>
                <a:gs pos="100000">
                  <a:srgbClr val="0099ff"/>
                </a:gs>
              </a:gsLst>
              <a:lin ang="8100000"/>
            </a:gradFill>
            <a:ln w="3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РЕД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ИСТАН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_s3080"/>
            <p:cNvSpPr/>
            <p:nvPr/>
          </p:nvSpPr>
          <p:spPr>
            <a:xfrm>
              <a:off x="43164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800 М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_s3081"/>
            <p:cNvSpPr/>
            <p:nvPr/>
          </p:nvSpPr>
          <p:spPr>
            <a:xfrm>
              <a:off x="330444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500 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_s3082"/>
            <p:cNvSpPr/>
            <p:nvPr/>
          </p:nvSpPr>
          <p:spPr>
            <a:xfrm>
              <a:off x="6177600" y="3782160"/>
              <a:ext cx="2462400" cy="2251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b000"/>
                </a:gs>
                <a:gs pos="50000">
                  <a:srgbClr val="000086"/>
                </a:gs>
                <a:gs pos="100000">
                  <a:srgbClr val="00b000"/>
                </a:gs>
              </a:gsLst>
              <a:lin ang="8100000"/>
            </a:gradFill>
            <a:ln w="324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КРОССЫ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ДО 2000 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31:47Z</dcterms:created>
  <dc:creator>лара</dc:creator>
  <dc:description/>
  <dc:language>en-US</dc:language>
  <cp:lastModifiedBy>User</cp:lastModifiedBy>
  <dcterms:modified xsi:type="dcterms:W3CDTF">2021-06-07T18:16:05Z</dcterms:modified>
  <cp:revision>34</cp:revision>
  <dc:subject/>
  <dc:title>ЛЁГКАЯ АТЛЕТИКА   2-6 УРОКИ</dc:title>
</cp:coreProperties>
</file>