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769D-EDEE-4F2C-B60A-F6226E0D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43F2-5457-4F1D-9958-ABECF909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5A87-EADF-4643-87C3-5F6D11346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E3C9-DDC5-41C6-88E6-73242ED3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6AB6-139E-42F4-8904-9C9160A3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9E37-7166-4D09-A4F8-7F3582A8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E8C4-2711-4E00-B842-16D7EC53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6FF0-C274-4407-B3C2-2EE22CAA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A683-C0C3-4A56-8DB9-F06F4629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8946-794E-476C-9707-DCD73DAF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2A43-0FBD-46B3-95CC-5D1559B1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9C3A-485B-45E3-A55B-F459F1F7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243A-4510-4604-A1CC-55297768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F703-1360-4795-BF8C-BAE8B8AB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9435-D61F-48AA-BCDF-A9ED65DF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FE86-57BC-4000-9C6C-69FAE21A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CEF4-4E98-4EEB-A367-140C7B84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29AA2-86C8-4C2D-A137-C6E677CF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93335-0B80-474B-B630-616AAA43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0A4AD-9F87-4DD3-B26B-9D61A8D8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1DFFA-F089-4D0E-80B3-AC7181F0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C45F9-37E6-4680-8F36-1958B3DD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5DB9-EBD1-45E9-AC32-CDC9C853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38710-14D1-438D-AD43-B59E246B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CF951-2007-4C24-9658-539AD897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72078-C0A2-4A00-BFC5-B222BB6C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7F550-23F8-4914-8E60-2638E9C2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E74DA-2414-4A4C-A111-29AE0B15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45429-5E58-4AFB-A3C3-E796B1E2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C045B-1F71-49AA-870D-7BCFEC203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E4BFA-275E-4927-A3CC-7E28AF840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698E8-5380-48B5-80DF-6B001F27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26B77-0B8F-4C60-A25C-0CAD04D8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0394-5683-4BCD-9DE9-9222373D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1DB70-19AA-4854-B28A-D1F419D2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794A3-DC35-4136-AACF-86A920E5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01A90-BF1A-4F20-A643-036A0D3E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B11A2-102F-4F23-865D-D5CD5456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AFC42-1905-4A5F-A53A-16A4EE3F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47852-7B1B-43EB-AF6D-538AE95A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B26DD-28D3-4BBE-9645-9B9114A9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B08C9-F8E9-4E43-8BF1-736ABF0A4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F7DBD-D7D0-4A43-B31E-19A7FCE88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1B865-E1F6-4D77-ADB4-267655294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5713-C2F7-42D0-AF3E-BF7D30DC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17CC3-0705-4000-96C3-AED08604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EE901-CF6C-4A6B-A097-A32DD2EE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4121B-C221-4E08-A68F-D1C5A3B3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9BA00-BFFA-4CD3-A967-CC8CA381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A5191-93F5-4F08-9A35-2500543D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6F764-73CD-436B-AD7F-549DD8E5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E6ED9-540A-41A3-82F9-EECF367F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68A6F-C84B-4148-A0CA-4DC93515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96CDE-1D26-47E8-87DD-BA695077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D886C-5ABA-4828-9753-9E2208521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65A7-977D-406E-882B-189556E9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276D2-2CD5-43B3-9D75-4E6548D2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1332B-F5DA-4791-95E2-0CD55852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71D6A-8A84-4F45-87FA-ED71E3FE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A42E1-8574-41CC-9300-CBAF341E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20A97-45D6-44B0-85C3-8A9CFECD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62501-6E86-41E2-8425-6865713B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9DC37-CE91-40C0-BB62-91141903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7686F-8AAB-4780-8887-FF035296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FB834-2C4B-4258-B93B-642CD328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5449D-D75C-4042-BA75-BC6504EB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E55F-4354-4FFA-9226-9F020AA1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ECFD3-AE6D-484A-B5BA-5ECDB5C4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157F3-6B70-4E90-B86D-BC0333EE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9F5FF-A0B6-42A0-B20C-FD3F350EC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4B9F-AA5E-4EA4-B3A3-5AE7A13E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399D-970A-463C-BC3A-57EF8416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681E-8677-4968-AF97-7C08A8264BE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6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8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0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9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7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4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5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D80F-88F3-453C-A292-10C8C8AD07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5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5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31FF-B646-400A-B913-CD631C50404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43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72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A590-32D0-4783-97A9-37DC7CCDB84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8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8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0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2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3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4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18F6-2EC0-412D-A54D-3AD0260EB5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92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93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07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16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1E5E-40C8-410C-B8C2-2B9F47D3D73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6.xml"/><Relationship Id="rId11" Type="http://schemas.openxmlformats.org/officeDocument/2006/relationships/slide" Target="slide6.xml"/><Relationship Id="rId12" Type="http://schemas.openxmlformats.org/officeDocument/2006/relationships/slide" Target="slide6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ЁГКАЯ АТЛЕТИКА</a:t>
            </a:r>
            <a:br>
              <a:rPr sz="4000"/>
            </a:br>
            <a:r>
              <a:rPr b="1" lang="ru-RU" sz="4000" spc="-1" strike="noStrike">
                <a:solidFill>
                  <a:srgbClr val="161616"/>
                </a:solidFill>
                <a:latin typeface="Times New Roman"/>
              </a:rPr>
              <a:t>МЕТАНИ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med" advTm="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687" name="Organization Chart 7"/>
          <p:cNvGrpSpPr/>
          <p:nvPr/>
        </p:nvGrpSpPr>
        <p:grpSpPr>
          <a:xfrm>
            <a:off x="106200" y="0"/>
            <a:ext cx="9037080" cy="6856200"/>
            <a:chOff x="106200" y="0"/>
            <a:chExt cx="9037080" cy="6856200"/>
          </a:xfrm>
        </p:grpSpPr>
        <p:cxnSp>
          <p:nvCxnSpPr>
            <p:cNvPr id="688" name="_s1028"/>
            <p:cNvCxnSpPr>
              <a:stCxn id="689" idx="0"/>
              <a:endCxn id="690" idx="2"/>
            </p:cNvCxnSpPr>
            <p:nvPr/>
          </p:nvCxnSpPr>
          <p:spPr>
            <a:xfrm flipV="1" rot="16200000">
              <a:off x="5520240" y="1845720"/>
              <a:ext cx="1371960" cy="3163680"/>
            </a:xfrm>
            <a:prstGeom prst="bentConnector3">
              <a:avLst>
                <a:gd name="adj1" fmla="val 1000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691" name="_s1029"/>
            <p:cNvCxnSpPr>
              <a:stCxn id="692" idx="0"/>
              <a:endCxn id="690" idx="1"/>
            </p:cNvCxnSpPr>
            <p:nvPr/>
          </p:nvCxnSpPr>
          <p:spPr>
            <a:xfrm flipV="1">
              <a:off x="4624560" y="2741760"/>
              <a:ext cx="3960" cy="137196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693" name="_s1030"/>
            <p:cNvCxnSpPr>
              <a:stCxn id="694" idx="0"/>
              <a:endCxn id="690" idx="0"/>
            </p:cNvCxnSpPr>
            <p:nvPr/>
          </p:nvCxnSpPr>
          <p:spPr>
            <a:xfrm flipH="1" flipV="1" rot="5400000">
              <a:off x="2357280" y="1846080"/>
              <a:ext cx="1371960" cy="3163680"/>
            </a:xfrm>
            <a:prstGeom prst="bentConnector3">
              <a:avLst>
                <a:gd name="adj1" fmla="val 1000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690" name="_s1031"/>
            <p:cNvSpPr/>
            <p:nvPr/>
          </p:nvSpPr>
          <p:spPr>
            <a:xfrm>
              <a:off x="3269160" y="0"/>
              <a:ext cx="2711160" cy="2742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ff"/>
                </a:gs>
                <a:gs pos="50000">
                  <a:srgbClr val="000086"/>
                </a:gs>
                <a:gs pos="100000">
                  <a:srgbClr val="0099ff"/>
                </a:gs>
              </a:gsLst>
              <a:lin ang="8100000"/>
            </a:gradFill>
            <a:ln w="32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ФАЗЫ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МЕТАНИЯ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_s1032"/>
            <p:cNvSpPr/>
            <p:nvPr/>
          </p:nvSpPr>
          <p:spPr>
            <a:xfrm>
              <a:off x="106200" y="4113720"/>
              <a:ext cx="2711160" cy="2742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b000"/>
                </a:gs>
                <a:gs pos="50000">
                  <a:srgbClr val="000086"/>
                </a:gs>
                <a:gs pos="100000">
                  <a:srgbClr val="00b000"/>
                </a:gs>
              </a:gsLst>
              <a:lin ang="8100000"/>
            </a:gradFill>
            <a:ln w="3240">
              <a:solidFill>
                <a:srgbClr val="00b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 u="sng">
                  <a:solidFill>
                    <a:srgbClr val="ffe701"/>
                  </a:solidFill>
                  <a:uFillTx/>
                  <a:latin typeface="Times New Roman"/>
                  <a:hlinkClick r:id="rId2" action="ppaction://hlinksldjump"/>
                </a:rPr>
                <a:t>ПРЕДВАРИ-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 u="sng">
                  <a:solidFill>
                    <a:srgbClr val="ffe701"/>
                  </a:solidFill>
                  <a:uFillTx/>
                  <a:latin typeface="Times New Roman"/>
                  <a:hlinkClick r:id="rId3" action="ppaction://hlinksldjump"/>
                </a:rPr>
                <a:t>ТЕЛЬНАЯ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 u="sng">
                  <a:solidFill>
                    <a:srgbClr val="ffe701"/>
                  </a:solidFill>
                  <a:uFillTx/>
                  <a:latin typeface="Times New Roman"/>
                  <a:hlinkClick r:id="rId4" action="ppaction://hlinksldjump"/>
                </a:rPr>
                <a:t>ЧАСТЬ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 u="sng">
                  <a:solidFill>
                    <a:srgbClr val="ffe701"/>
                  </a:solidFill>
                  <a:uFillTx/>
                  <a:latin typeface="Times New Roman"/>
                  <a:hlinkClick r:id="rId5" action="ppaction://hlinksldjump"/>
                </a:rPr>
                <a:t>РАЗБЕГА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_s1033"/>
            <p:cNvSpPr/>
            <p:nvPr/>
          </p:nvSpPr>
          <p:spPr>
            <a:xfrm>
              <a:off x="3269160" y="4113720"/>
              <a:ext cx="2711160" cy="2742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b000"/>
                </a:gs>
                <a:gs pos="50000">
                  <a:srgbClr val="000086"/>
                </a:gs>
                <a:gs pos="100000">
                  <a:srgbClr val="00b000"/>
                </a:gs>
              </a:gsLst>
              <a:lin ang="8100000"/>
            </a:gradFill>
            <a:ln w="3240">
              <a:solidFill>
                <a:srgbClr val="00b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e701"/>
                  </a:solidFill>
                  <a:uFillTx/>
                  <a:latin typeface="Times New Roman"/>
                  <a:hlinkClick r:id="rId6" action="ppaction://hlinksldjump"/>
                </a:rPr>
                <a:t>ЗАКЛЮЧИ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e701"/>
                  </a:solidFill>
                  <a:uFillTx/>
                  <a:latin typeface="Times New Roman"/>
                  <a:hlinkClick r:id="rId7" action="ppaction://hlinksldjump"/>
                </a:rPr>
                <a:t>ТЕЛЬНАЯ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e701"/>
                  </a:solidFill>
                  <a:uFillTx/>
                  <a:latin typeface="Times New Roman"/>
                  <a:hlinkClick r:id="rId8" action="ppaction://hlinksldjump"/>
                </a:rPr>
                <a:t>ЧАСТ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e701"/>
                  </a:solidFill>
                  <a:uFillTx/>
                  <a:latin typeface="Times New Roman"/>
                  <a:hlinkClick r:id="rId9" action="ppaction://hlinksldjump"/>
                </a:rPr>
                <a:t>РАЗБЕГА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_s1034"/>
            <p:cNvSpPr/>
            <p:nvPr/>
          </p:nvSpPr>
          <p:spPr>
            <a:xfrm>
              <a:off x="6432120" y="4113720"/>
              <a:ext cx="2711160" cy="2742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b000"/>
                </a:gs>
                <a:gs pos="50000">
                  <a:srgbClr val="000086"/>
                </a:gs>
                <a:gs pos="100000">
                  <a:srgbClr val="00b000"/>
                </a:gs>
              </a:gsLst>
              <a:lin ang="8100000"/>
            </a:gradFill>
            <a:ln w="3240">
              <a:solidFill>
                <a:srgbClr val="00b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e701"/>
                  </a:solidFill>
                  <a:uFillTx/>
                  <a:latin typeface="Times New Roman"/>
                  <a:hlinkClick r:id="rId10" action="ppaction://hlinksldjump"/>
                </a:rPr>
                <a:t>ПОДГОТОВК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e701"/>
                  </a:solidFill>
                  <a:uFillTx/>
                  <a:latin typeface="Times New Roman"/>
                  <a:hlinkClick r:id="rId11" action="ppaction://hlinksldjump"/>
                </a:rPr>
                <a:t>К БРОСК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e701"/>
                  </a:solidFill>
                  <a:uFillTx/>
                  <a:latin typeface="Times New Roman"/>
                  <a:hlinkClick r:id="rId12" action="ppaction://hlinksldjump"/>
                </a:rPr>
                <a:t>(ЗАМАХ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ПРЕДВАРИТЕЛЬНАЯ ЧАСТЬ РАЗБЕГ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татель готовится к началу разбега стоя у первой контрольной линии лицом к направлению метания. Рука с мячом находится над плечом. Мяч держится в согнутой расслабленной руке, локоть направлен вперёд и несколько вправо, кисть находится на уровне головы. Разбег выполняется свободно, с ускорением. Туловище наклонено вперёд. Во время разбега оно постепенно выпрямляется. Левая рука работает как при беге, а рука, держащая мяч в переднезаднем направлении. Длина разбега колеблется от 20 до 30 мет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ЗАКЛЮЧИТЕЛЬНАЯ ЧАСТЬ РАЗБЕГ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5651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варительная часть разбега до контрольной отметки выполняется обычно за 10-12 шагов. Контрольная отметка находится от бруска, ограничивающего зону разбега, на 9 метров для женщин и на 12 метров для мужчин. В заключительной части разбега спортсмен готовится к броску, совершая так называемые бросковые шаги. Обычно их четыр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1" name="Picture 7" descr="копьё1"/>
          <p:cNvPicPr/>
          <p:nvPr/>
        </p:nvPicPr>
        <p:blipFill>
          <a:blip r:embed="rId2"/>
          <a:stretch/>
        </p:blipFill>
        <p:spPr>
          <a:xfrm>
            <a:off x="5651640" y="1557360"/>
            <a:ext cx="3058920" cy="309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3" name="Rectangle 4"/>
          <p:cNvSpPr/>
          <p:nvPr/>
        </p:nvSpPr>
        <p:spPr>
          <a:xfrm>
            <a:off x="179280" y="189000"/>
            <a:ext cx="410544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это время спортсмен, стараясь не снизить скорости, полученной в разбеге, отводит копье назад, выполняет обгон снаряда и занимает исходное положение перед финальным усилием. Метатель, попав на контрольную отметку левой ногой, начинает отводить руку вместе с шагом правой. Отведение заканчивается на втором шаге. Плечи спортсмена повёрнуты вправо, правая рука с копьём почти полностью выпрямлена, туловище вертикальн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4" name="Picture 6" descr="metanie_kopya"/>
          <p:cNvPicPr/>
          <p:nvPr/>
        </p:nvPicPr>
        <p:blipFill>
          <a:blip r:embed="rId2"/>
          <a:srcRect l="0" t="0" r="0" b="8416"/>
          <a:stretch/>
        </p:blipFill>
        <p:spPr>
          <a:xfrm>
            <a:off x="4356000" y="692280"/>
            <a:ext cx="4578480" cy="5162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ПОДГОТОВКА К БРОСКУ (ЗАМАХ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етий шаг называется скрестным. Именно при его выполнении происходит обгон снаряда. Это шаг – как бы переходный от разбега к броску. Согнутая правая нога скрестно проносится около левой и становится на внешнюю сторону стопы. Ноги и таз опережают плечевой пояс. Туловище отклоняется в сторону разбега (до 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), плечи поворачиваются направо. Заключительное усилие начинается ещё до постановки левой ноги на грун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8" name="Picture 9" descr="154"/>
          <p:cNvPicPr/>
          <p:nvPr/>
        </p:nvPicPr>
        <p:blipFill>
          <a:blip r:embed="rId2"/>
          <a:stretch/>
        </p:blipFill>
        <p:spPr>
          <a:xfrm>
            <a:off x="5148360" y="1628640"/>
            <a:ext cx="3709800" cy="494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0" name="Rectangle 4"/>
          <p:cNvSpPr/>
          <p:nvPr/>
        </p:nvSpPr>
        <p:spPr>
          <a:xfrm>
            <a:off x="179280" y="692280"/>
            <a:ext cx="4356360" cy="50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дро согнутой правой ноги поворачивается внутрь, таз выдвигается вперёд, правая слегка согнутая рука поворачивается наружу. Вслед за этим левая нога становится с пятки на грунт несколько левее линии разбега. Метатель поворачивается грудью в направлении метания и занимает положение «натянутого лука». Все эти движения заканчиваются молниеносным рывком, хлестообразным движением руки и перескоком метателя через левую на правую ног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1" name="Picture 6" descr="копьё"/>
          <p:cNvPicPr/>
          <p:nvPr/>
        </p:nvPicPr>
        <p:blipFill>
          <a:blip r:embed="rId2"/>
          <a:stretch/>
        </p:blipFill>
        <p:spPr>
          <a:xfrm>
            <a:off x="4716360" y="836640"/>
            <a:ext cx="41976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714" name="Organization Chart 7"/>
          <p:cNvGrpSpPr/>
          <p:nvPr/>
        </p:nvGrpSpPr>
        <p:grpSpPr>
          <a:xfrm>
            <a:off x="250920" y="115920"/>
            <a:ext cx="8640360" cy="6514560"/>
            <a:chOff x="250920" y="115920"/>
            <a:chExt cx="8640360" cy="6514560"/>
          </a:xfrm>
        </p:grpSpPr>
        <p:cxnSp>
          <p:nvCxnSpPr>
            <p:cNvPr id="715" name="_s2052"/>
            <p:cNvCxnSpPr>
              <a:stCxn id="716" idx="0"/>
              <a:endCxn id="717" idx="4"/>
            </p:cNvCxnSpPr>
            <p:nvPr/>
          </p:nvCxnSpPr>
          <p:spPr>
            <a:xfrm flipV="1" rot="16200000">
              <a:off x="5697720" y="1593360"/>
              <a:ext cx="1303560" cy="3558600"/>
            </a:xfrm>
            <a:prstGeom prst="bentConnector3">
              <a:avLst>
                <a:gd name="adj1" fmla="val 9972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718" name="_s2053"/>
            <p:cNvCxnSpPr>
              <a:stCxn id="719" idx="0"/>
              <a:endCxn id="717" idx="3"/>
            </p:cNvCxnSpPr>
            <p:nvPr/>
          </p:nvCxnSpPr>
          <p:spPr>
            <a:xfrm flipV="1" rot="16200000">
              <a:off x="4808160" y="2482920"/>
              <a:ext cx="1303560" cy="1779480"/>
            </a:xfrm>
            <a:prstGeom prst="bentConnector3">
              <a:avLst>
                <a:gd name="adj1" fmla="val 9972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720" name="_s2054"/>
            <p:cNvCxnSpPr>
              <a:stCxn id="721" idx="0"/>
              <a:endCxn id="717" idx="2"/>
            </p:cNvCxnSpPr>
            <p:nvPr/>
          </p:nvCxnSpPr>
          <p:spPr>
            <a:xfrm flipV="1">
              <a:off x="4570560" y="2720880"/>
              <a:ext cx="2520" cy="130356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722" name="_s2055"/>
            <p:cNvCxnSpPr>
              <a:stCxn id="723" idx="0"/>
              <a:endCxn id="717" idx="1"/>
            </p:cNvCxnSpPr>
            <p:nvPr/>
          </p:nvCxnSpPr>
          <p:spPr>
            <a:xfrm flipH="1" flipV="1" rot="5400000">
              <a:off x="3029760" y="2482920"/>
              <a:ext cx="1303560" cy="1779480"/>
            </a:xfrm>
            <a:prstGeom prst="bentConnector3">
              <a:avLst>
                <a:gd name="adj1" fmla="val 9972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724" name="_s2056"/>
            <p:cNvCxnSpPr>
              <a:stCxn id="725" idx="0"/>
              <a:endCxn id="717" idx="0"/>
            </p:cNvCxnSpPr>
            <p:nvPr/>
          </p:nvCxnSpPr>
          <p:spPr>
            <a:xfrm flipH="1" flipV="1" rot="5400000">
              <a:off x="2141280" y="1594440"/>
              <a:ext cx="1303560" cy="3556440"/>
            </a:xfrm>
            <a:prstGeom prst="bentConnector3">
              <a:avLst>
                <a:gd name="adj1" fmla="val 9972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717" name="_s2057"/>
            <p:cNvSpPr/>
            <p:nvPr/>
          </p:nvSpPr>
          <p:spPr>
            <a:xfrm>
              <a:off x="3808800" y="115920"/>
              <a:ext cx="1524600" cy="2605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ff"/>
                </a:gs>
                <a:gs pos="50000">
                  <a:srgbClr val="000086"/>
                </a:gs>
                <a:gs pos="100000">
                  <a:srgbClr val="0099ff"/>
                </a:gs>
              </a:gsLst>
              <a:lin ang="8100000"/>
            </a:gradFill>
            <a:ln w="32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ВИДЫ 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МЕТАНИЯ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_s2058"/>
            <p:cNvSpPr/>
            <p:nvPr/>
          </p:nvSpPr>
          <p:spPr>
            <a:xfrm>
              <a:off x="250920" y="4024800"/>
              <a:ext cx="1524600" cy="2605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b000"/>
                </a:gs>
                <a:gs pos="50000">
                  <a:srgbClr val="000086"/>
                </a:gs>
                <a:gs pos="100000">
                  <a:srgbClr val="00b000"/>
                </a:gs>
              </a:gsLst>
              <a:lin ang="8100000"/>
            </a:gradFill>
            <a:ln w="3240">
              <a:solidFill>
                <a:srgbClr val="00b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КОПЬЁ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_s2059"/>
            <p:cNvSpPr/>
            <p:nvPr/>
          </p:nvSpPr>
          <p:spPr>
            <a:xfrm>
              <a:off x="2029680" y="4024800"/>
              <a:ext cx="1524600" cy="2605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b000"/>
                </a:gs>
                <a:gs pos="50000">
                  <a:srgbClr val="000086"/>
                </a:gs>
                <a:gs pos="100000">
                  <a:srgbClr val="00b000"/>
                </a:gs>
              </a:gsLst>
              <a:lin ang="8100000"/>
            </a:gradFill>
            <a:ln w="3240">
              <a:solidFill>
                <a:srgbClr val="00b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ДИС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_s2060"/>
            <p:cNvSpPr/>
            <p:nvPr/>
          </p:nvSpPr>
          <p:spPr>
            <a:xfrm>
              <a:off x="3808800" y="4024800"/>
              <a:ext cx="1524600" cy="2605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b000"/>
                </a:gs>
                <a:gs pos="50000">
                  <a:srgbClr val="000086"/>
                </a:gs>
                <a:gs pos="100000">
                  <a:srgbClr val="00b000"/>
                </a:gs>
              </a:gsLst>
              <a:lin ang="8100000"/>
            </a:gradFill>
            <a:ln w="3240">
              <a:solidFill>
                <a:srgbClr val="00b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МОЛО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_s2061"/>
            <p:cNvSpPr/>
            <p:nvPr/>
          </p:nvSpPr>
          <p:spPr>
            <a:xfrm>
              <a:off x="5587560" y="4024800"/>
              <a:ext cx="1524600" cy="2605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b000"/>
                </a:gs>
                <a:gs pos="50000">
                  <a:srgbClr val="000086"/>
                </a:gs>
                <a:gs pos="100000">
                  <a:srgbClr val="00b000"/>
                </a:gs>
              </a:gsLst>
              <a:lin ang="8100000"/>
            </a:gradFill>
            <a:ln w="3240">
              <a:solidFill>
                <a:srgbClr val="00b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ТОЛКАНИ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ЯДР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_s2062"/>
            <p:cNvSpPr/>
            <p:nvPr/>
          </p:nvSpPr>
          <p:spPr>
            <a:xfrm>
              <a:off x="7366680" y="4024800"/>
              <a:ext cx="1524600" cy="2605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b000"/>
                </a:gs>
                <a:gs pos="50000">
                  <a:srgbClr val="000086"/>
                </a:gs>
                <a:gs pos="100000">
                  <a:srgbClr val="00b000"/>
                </a:gs>
              </a:gsLst>
              <a:lin ang="8100000"/>
            </a:gradFill>
            <a:ln w="3240">
              <a:solidFill>
                <a:srgbClr val="00b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ГРАНАТА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МАЛЫЙ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МЯЧ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728" name="Organization Chart 7"/>
          <p:cNvGrpSpPr/>
          <p:nvPr/>
        </p:nvGrpSpPr>
        <p:grpSpPr>
          <a:xfrm>
            <a:off x="431640" y="404640"/>
            <a:ext cx="8208360" cy="5629320"/>
            <a:chOff x="431640" y="404640"/>
            <a:chExt cx="8208360" cy="5629320"/>
          </a:xfrm>
        </p:grpSpPr>
        <p:cxnSp>
          <p:nvCxnSpPr>
            <p:cNvPr id="729" name="_s3076"/>
            <p:cNvCxnSpPr>
              <a:stCxn id="730" idx="0"/>
              <a:endCxn id="731" idx="2"/>
            </p:cNvCxnSpPr>
            <p:nvPr/>
          </p:nvCxnSpPr>
          <p:spPr>
            <a:xfrm flipV="1" rot="16200000">
              <a:off x="5409000" y="1782000"/>
              <a:ext cx="1126440" cy="2873520"/>
            </a:xfrm>
            <a:prstGeom prst="bentConnector3">
              <a:avLst>
                <a:gd name="adj1" fmla="val 10134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732" name="_s3077"/>
            <p:cNvCxnSpPr>
              <a:stCxn id="733" idx="0"/>
              <a:endCxn id="731" idx="1"/>
            </p:cNvCxnSpPr>
            <p:nvPr/>
          </p:nvCxnSpPr>
          <p:spPr>
            <a:xfrm flipV="1">
              <a:off x="4536000" y="2655720"/>
              <a:ext cx="3600" cy="11264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734" name="_s3078"/>
            <p:cNvCxnSpPr>
              <a:stCxn id="735" idx="0"/>
              <a:endCxn id="731" idx="0"/>
            </p:cNvCxnSpPr>
            <p:nvPr/>
          </p:nvCxnSpPr>
          <p:spPr>
            <a:xfrm flipH="1" flipV="1" rot="5400000">
              <a:off x="2536200" y="1782360"/>
              <a:ext cx="1126440" cy="2873520"/>
            </a:xfrm>
            <a:prstGeom prst="bentConnector3">
              <a:avLst>
                <a:gd name="adj1" fmla="val 10134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731" name="_s3079"/>
            <p:cNvSpPr/>
            <p:nvPr/>
          </p:nvSpPr>
          <p:spPr>
            <a:xfrm>
              <a:off x="3304440" y="404640"/>
              <a:ext cx="2462400" cy="22518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ff"/>
                </a:gs>
                <a:gs pos="50000">
                  <a:srgbClr val="000086"/>
                </a:gs>
                <a:gs pos="100000">
                  <a:srgbClr val="0099ff"/>
                </a:gs>
              </a:gsLst>
              <a:lin ang="8100000"/>
            </a:gradFill>
            <a:ln w="32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СРЕДНИ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ДИСТАНЦИ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_s3080"/>
            <p:cNvSpPr/>
            <p:nvPr/>
          </p:nvSpPr>
          <p:spPr>
            <a:xfrm>
              <a:off x="431640" y="3782160"/>
              <a:ext cx="2462400" cy="22518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b000"/>
                </a:gs>
                <a:gs pos="50000">
                  <a:srgbClr val="000086"/>
                </a:gs>
                <a:gs pos="100000">
                  <a:srgbClr val="00b000"/>
                </a:gs>
              </a:gsLst>
              <a:lin ang="8100000"/>
            </a:gradFill>
            <a:ln w="3240">
              <a:solidFill>
                <a:srgbClr val="00b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800 М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_s3081"/>
            <p:cNvSpPr/>
            <p:nvPr/>
          </p:nvSpPr>
          <p:spPr>
            <a:xfrm>
              <a:off x="3304440" y="3782160"/>
              <a:ext cx="2462400" cy="22518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b000"/>
                </a:gs>
                <a:gs pos="50000">
                  <a:srgbClr val="000086"/>
                </a:gs>
                <a:gs pos="100000">
                  <a:srgbClr val="00b000"/>
                </a:gs>
              </a:gsLst>
              <a:lin ang="8100000"/>
            </a:gradFill>
            <a:ln w="3240">
              <a:solidFill>
                <a:srgbClr val="00b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1500 М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_s3082"/>
            <p:cNvSpPr/>
            <p:nvPr/>
          </p:nvSpPr>
          <p:spPr>
            <a:xfrm>
              <a:off x="6177600" y="3782160"/>
              <a:ext cx="2462400" cy="22518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b000"/>
                </a:gs>
                <a:gs pos="50000">
                  <a:srgbClr val="000086"/>
                </a:gs>
                <a:gs pos="100000">
                  <a:srgbClr val="00b000"/>
                </a:gs>
              </a:gsLst>
              <a:lin ang="8100000"/>
            </a:gradFill>
            <a:ln w="3240">
              <a:solidFill>
                <a:srgbClr val="00b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КРОССЫ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ДО 2000 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3:31:47Z</dcterms:created>
  <dc:creator>лара</dc:creator>
  <dc:description/>
  <dc:language>en-US</dc:language>
  <cp:lastModifiedBy>User</cp:lastModifiedBy>
  <dcterms:modified xsi:type="dcterms:W3CDTF">2021-06-07T18:16:05Z</dcterms:modified>
  <cp:revision>34</cp:revision>
  <dc:subject/>
  <dc:title>ЛЁГКАЯ АТЛЕТИКА   2-6 УРОКИ</dc:title>
</cp:coreProperties>
</file>