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321F-B37E-4BA9-B5B1-B13524E9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4D8C-CEC3-4804-9D28-CA34C674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D703-8714-4E2C-9240-C83FFFB4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575-7748-4FC0-BA7F-ABC76091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29D7-8D55-4102-AEC8-7597B8AD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37C2-BF39-4488-B1D9-7291E714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F3C-430F-4423-841B-BC5E627B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6663-51B1-4026-9619-BD01CF72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44CA-07AE-4581-A4D4-261EDFFE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EF26-9493-40C0-AF48-561E6AD9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B798-D455-430F-9487-D43CDA58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E1A9-6F77-45D7-B8C3-7D622FF5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FEEB-07DD-4833-9D54-8846D2D75F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ниципальное бюджетное образовательное учреждени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Первомайская средняя общеобразовательная школа»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лиал №2 в с. Иловай - Дмитриевско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вомайского района Тамб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ческий 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Деревья нашего двор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ршая и подготовительная груп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спитатель: Морковина Л.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43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ятельность детей в рамках проекта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овая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осень 2017 005 (2)"/>
          <p:cNvPicPr/>
          <p:nvPr/>
        </p:nvPicPr>
        <p:blipFill>
          <a:blip r:embed="rId2"/>
          <a:stretch/>
        </p:blipFill>
        <p:spPr>
          <a:xfrm>
            <a:off x="250920" y="1916280"/>
            <a:ext cx="4176720" cy="3249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пасха 095"/>
          <p:cNvPicPr/>
          <p:nvPr/>
        </p:nvPicPr>
        <p:blipFill>
          <a:blip r:embed="rId3"/>
          <a:stretch/>
        </p:blipFill>
        <p:spPr>
          <a:xfrm>
            <a:off x="4500720" y="1916280"/>
            <a:ext cx="433224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920" y="404640"/>
            <a:ext cx="743904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посредственно-образовательная деятельность.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Тема: «Прогулка в сад и парк»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Задачи: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- формировать у детей умение различать и называть деревья;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- воспитывать бережное отношение к природе, поведение в лесу;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- развивать чуткость и восприятие красоты окружающего мира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выпуск 2018 024"/>
          <p:cNvPicPr/>
          <p:nvPr/>
        </p:nvPicPr>
        <p:blipFill>
          <a:blip r:embed="rId2"/>
          <a:stretch/>
        </p:blipFill>
        <p:spPr>
          <a:xfrm>
            <a:off x="395280" y="2349360"/>
            <a:ext cx="4176720" cy="3527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IMG_20180514_123222"/>
          <p:cNvPicPr/>
          <p:nvPr/>
        </p:nvPicPr>
        <p:blipFill>
          <a:blip r:embed="rId3"/>
          <a:stretch/>
        </p:blipFill>
        <p:spPr>
          <a:xfrm>
            <a:off x="4788000" y="2349360"/>
            <a:ext cx="41097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2920" y="475920"/>
            <a:ext cx="7365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посредственно- образовательная деятельность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Тема «Дар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роды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Задачи: 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- Дать детям знания о значении деревьев для человека и живых существ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- Воспитывать интерес  к деревь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4390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Изображение 429"/>
          <p:cNvPicPr/>
          <p:nvPr/>
        </p:nvPicPr>
        <p:blipFill>
          <a:blip r:embed="rId2"/>
          <a:stretch/>
        </p:blipFill>
        <p:spPr>
          <a:xfrm>
            <a:off x="250920" y="2060640"/>
            <a:ext cx="4176720" cy="3260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Изображение 431"/>
          <p:cNvPicPr/>
          <p:nvPr/>
        </p:nvPicPr>
        <p:blipFill>
          <a:blip r:embed="rId3"/>
          <a:stretch/>
        </p:blipFill>
        <p:spPr>
          <a:xfrm>
            <a:off x="4643280" y="2060640"/>
            <a:ext cx="427680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47640" y="40428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посредственно- образовательная деятельность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Рисование. Тема «Дерево, которое я спасу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Задачи: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- учить детей  изображать деревья, используя разные техники рисования ( зубной щеткой, листом пекинской капусты)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20200312_114659"/>
          <p:cNvPicPr/>
          <p:nvPr/>
        </p:nvPicPr>
        <p:blipFill>
          <a:blip r:embed="rId2"/>
          <a:stretch/>
        </p:blipFill>
        <p:spPr>
          <a:xfrm>
            <a:off x="395280" y="1844640"/>
            <a:ext cx="4332240" cy="3249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20200312_120740"/>
          <p:cNvPicPr/>
          <p:nvPr/>
        </p:nvPicPr>
        <p:blipFill>
          <a:blip r:embed="rId3"/>
          <a:stretch/>
        </p:blipFill>
        <p:spPr>
          <a:xfrm>
            <a:off x="4932360" y="1844640"/>
            <a:ext cx="3816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7640" y="620640"/>
            <a:ext cx="71503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ши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20200312_121307"/>
          <p:cNvPicPr/>
          <p:nvPr/>
        </p:nvPicPr>
        <p:blipFill>
          <a:blip r:embed="rId2"/>
          <a:stretch/>
        </p:blipFill>
        <p:spPr>
          <a:xfrm>
            <a:off x="179280" y="1844640"/>
            <a:ext cx="4681800" cy="3457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20200312_121350"/>
          <p:cNvPicPr/>
          <p:nvPr/>
        </p:nvPicPr>
        <p:blipFill>
          <a:blip r:embed="rId3"/>
          <a:stretch/>
        </p:blipFill>
        <p:spPr>
          <a:xfrm>
            <a:off x="4932360" y="1844640"/>
            <a:ext cx="403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7640" y="54900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посредственно- образовательная деятельность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Лепка (техника пластилинография)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Тема «Чудо дерево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Задачи: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- развивать у детей умение лепить деревья, способом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ручивания жгутиков в спиральки.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20200312_155947"/>
          <p:cNvPicPr/>
          <p:nvPr/>
        </p:nvPicPr>
        <p:blipFill>
          <a:blip r:embed="rId2"/>
          <a:stretch/>
        </p:blipFill>
        <p:spPr>
          <a:xfrm>
            <a:off x="395280" y="1989000"/>
            <a:ext cx="4032360" cy="3176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20200313_105613"/>
          <p:cNvPicPr/>
          <p:nvPr/>
        </p:nvPicPr>
        <p:blipFill>
          <a:blip r:embed="rId3"/>
          <a:stretch/>
        </p:blipFill>
        <p:spPr>
          <a:xfrm>
            <a:off x="4643280" y="1989000"/>
            <a:ext cx="424980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3280" y="691920"/>
            <a:ext cx="715032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блюдаем  на прогулке  за деревьям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- знакомимся с деревьями, которые растут на территории детского сада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выпуск 2018 024"/>
          <p:cNvPicPr/>
          <p:nvPr/>
        </p:nvPicPr>
        <p:blipFill>
          <a:blip r:embed="rId2"/>
          <a:stretch/>
        </p:blipFill>
        <p:spPr>
          <a:xfrm>
            <a:off x="395280" y="1916280"/>
            <a:ext cx="4032360" cy="3214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выпуск 2018 017"/>
          <p:cNvPicPr/>
          <p:nvPr/>
        </p:nvPicPr>
        <p:blipFill>
          <a:blip r:embed="rId3"/>
          <a:stretch/>
        </p:blipFill>
        <p:spPr>
          <a:xfrm>
            <a:off x="4716360" y="1916280"/>
            <a:ext cx="4176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15032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ребятами подсыпаем снег к корням деревьев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они не промерз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C:\Users\Таисия Александровна\Desktop\Новая папка\SAM_2076.JPG"/>
          <p:cNvPicPr/>
          <p:nvPr/>
        </p:nvPicPr>
        <p:blipFill>
          <a:blip r:embed="rId2"/>
          <a:stretch/>
        </p:blipFill>
        <p:spPr>
          <a:xfrm>
            <a:off x="5003640" y="1700280"/>
            <a:ext cx="3745080" cy="3457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Таисия Александровна\Desktop\Новая папка\SAM_2071.JPG"/>
          <p:cNvPicPr/>
          <p:nvPr/>
        </p:nvPicPr>
        <p:blipFill>
          <a:blip r:embed="rId3"/>
          <a:stretch/>
        </p:blipFill>
        <p:spPr>
          <a:xfrm>
            <a:off x="611280" y="1700280"/>
            <a:ext cx="4105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1503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ребятами проводим акцию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окорми птиц зимой»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20171208_104525"/>
          <p:cNvPicPr/>
          <p:nvPr/>
        </p:nvPicPr>
        <p:blipFill>
          <a:blip r:embed="rId2"/>
          <a:stretch/>
        </p:blipFill>
        <p:spPr>
          <a:xfrm>
            <a:off x="324000" y="1557360"/>
            <a:ext cx="4176720" cy="3249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DSC02269"/>
          <p:cNvPicPr/>
          <p:nvPr/>
        </p:nvPicPr>
        <p:blipFill>
          <a:blip r:embed="rId3"/>
          <a:stretch/>
        </p:blipFill>
        <p:spPr>
          <a:xfrm>
            <a:off x="4786200" y="1557360"/>
            <a:ext cx="410688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1503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одим акцию «Помоги природе»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уборке участка от мусора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20200313_104348"/>
          <p:cNvPicPr/>
          <p:nvPr/>
        </p:nvPicPr>
        <p:blipFill>
          <a:blip r:embed="rId2"/>
          <a:stretch/>
        </p:blipFill>
        <p:spPr>
          <a:xfrm>
            <a:off x="395280" y="1484280"/>
            <a:ext cx="3960720" cy="4332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20200313_104248"/>
          <p:cNvPicPr/>
          <p:nvPr/>
        </p:nvPicPr>
        <p:blipFill>
          <a:blip r:embed="rId3"/>
          <a:stretch/>
        </p:blipFill>
        <p:spPr>
          <a:xfrm>
            <a:off x="4716360" y="1484280"/>
            <a:ext cx="38880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 проек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31640" y="1341000"/>
            <a:ext cx="736596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д проекта: познавательно-исследовательск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астники проекта: педагог, дети подготови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группы, родит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оки реализации проекта: рассчитан на 10 месяце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ды деятельности: познавательно-исследовательска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муникативная, игровая, изобразитель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404640"/>
            <a:ext cx="71503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тавка поделок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риродная фантаз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20191018_125727"/>
          <p:cNvPicPr/>
          <p:nvPr/>
        </p:nvPicPr>
        <p:blipFill>
          <a:blip r:embed="rId2"/>
          <a:stretch/>
        </p:blipFill>
        <p:spPr>
          <a:xfrm>
            <a:off x="826920" y="1268280"/>
            <a:ext cx="2710080" cy="2808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20191018_125927"/>
          <p:cNvPicPr/>
          <p:nvPr/>
        </p:nvPicPr>
        <p:blipFill>
          <a:blip r:embed="rId3"/>
          <a:stretch/>
        </p:blipFill>
        <p:spPr>
          <a:xfrm>
            <a:off x="4572000" y="1268280"/>
            <a:ext cx="3613320" cy="2710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20191018_131010"/>
          <p:cNvPicPr/>
          <p:nvPr/>
        </p:nvPicPr>
        <p:blipFill>
          <a:blip r:embed="rId4"/>
          <a:stretch/>
        </p:blipFill>
        <p:spPr>
          <a:xfrm>
            <a:off x="826920" y="4149720"/>
            <a:ext cx="3397320" cy="2548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20191018_130014"/>
          <p:cNvPicPr/>
          <p:nvPr/>
        </p:nvPicPr>
        <p:blipFill>
          <a:blip r:embed="rId5"/>
          <a:stretch/>
        </p:blipFill>
        <p:spPr>
          <a:xfrm>
            <a:off x="4572000" y="4149720"/>
            <a:ext cx="36133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3280" y="404640"/>
            <a:ext cx="71503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тавка поделок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Вторая жизнь дере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20200313_114016"/>
          <p:cNvPicPr/>
          <p:nvPr/>
        </p:nvPicPr>
        <p:blipFill>
          <a:blip r:embed="rId2"/>
          <a:stretch/>
        </p:blipFill>
        <p:spPr>
          <a:xfrm>
            <a:off x="324000" y="1484280"/>
            <a:ext cx="4176720" cy="3249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20200313_114106"/>
          <p:cNvPicPr/>
          <p:nvPr/>
        </p:nvPicPr>
        <p:blipFill>
          <a:blip r:embed="rId3"/>
          <a:stretch/>
        </p:blipFill>
        <p:spPr>
          <a:xfrm>
            <a:off x="4716360" y="1484280"/>
            <a:ext cx="41878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3280" y="549000"/>
            <a:ext cx="715032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здни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Хоровод вокруг берёзы»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20200313_093249"/>
          <p:cNvPicPr/>
          <p:nvPr/>
        </p:nvPicPr>
        <p:blipFill>
          <a:blip r:embed="rId2"/>
          <a:stretch/>
        </p:blipFill>
        <p:spPr>
          <a:xfrm>
            <a:off x="539640" y="1484280"/>
            <a:ext cx="4116600" cy="3457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20200313_093503"/>
          <p:cNvPicPr/>
          <p:nvPr/>
        </p:nvPicPr>
        <p:blipFill>
          <a:blip r:embed="rId3"/>
          <a:stretch/>
        </p:blipFill>
        <p:spPr>
          <a:xfrm>
            <a:off x="4788000" y="1484280"/>
            <a:ext cx="38876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зультаты проек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77263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ходе реализации проекта расширились знания детей, родителей и педагогов о деревьях,  их значении в жизни человека и природы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детей сформировались навыки правильного обращения с деревьями и способами ухода за ними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и приобрели исследовательские навыки, умения работать в коллективе, увидели пользу общественно-полезного тру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и приобрели навыки наблюдений, умения выявлять сезонные изменения в жизни деревьев, устанавливать взаимосвязи этих измен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глубились знания родителей об экологическом воспитании детей, повысилась экологическая грамотность;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лотился коллектив педагогов, родителей, детей посредством совместной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полнилась методическая и дидактическая база по экологическому воспитанию (конспекты занятий, дидактические игры, сценарии экологических праздников, художественная и методическая литература, аудио и видеозаписи о природе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640" y="476280"/>
            <a:ext cx="715032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6000" y="1197000"/>
            <a:ext cx="77263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ализ  достигнутых результатов по итогам рабо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д проектом показал, что цель, которую мы ставили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але проекта, на мой взгляд, достигнута, 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следовательская деятельность с детьми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ю объектов природы на этом не заканчиваетс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7640" y="476280"/>
            <a:ext cx="715032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7994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уальность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сегодняшний день, проблема взаимодействия человека с природой – чрезвычайно важная проблема современности. Об этом свидетельствуют вышедшие в свет законы РФ «Об охране окружающей природной среды», закон «Об образовании» и Постановление Правительства РФ  «Об экологическом образовании обучающихся в образовательных учреждениях Российской Федерации ( 30.03.1997 №4/16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им бы ребенок не стал в будущем, он должен хорошо понимать свою роль в окружающем мире, осознавать последствия своих действий, иметь  представления о законах природы и в конечном счете усвоить одну убедительную мысль: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Люди- это часть природы, поэтому мы должны научиться любить наши деревья, реки, цветы, леса, луга так, как мы любим свою жизнь. Забота о природе, есть забота о человеке, о его будущем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8920" y="1341000"/>
            <a:ext cx="74390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блюдая за детьми на прогулке или в процессе повседневной жизни,  часто приходилось видеть случаи жестокого отношения детей к животному и растительному миру (уничтожают лягушек, убивают полезных насекомых, рвут и топчут цветы, ломают ветки деревьев и др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ываясь на наблюдениях выявили проблему: у детей на низком уровне сформированы экологические знания и представления об окружающем нас мире, слабо развиты навыки бережного отношения к при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 и задач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979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 сформировать у детей в процессе организации познавательной деятельности ценностного отношения к деревьям как  уникальным  представителям родной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Развить у детей потребность в приобретении новых знаний о природных объектах.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формировать осознанно- действенное отношение к природе родного края, желание ее беречь и охранять.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Развить познавательные умения: наблюдать, экспериментировать, сравнивать и анализировать, отражать результаты наблюдений в разных видах творческой деятельности (игровой, музыкальной, художественно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Углубить   знания о деревьях: особенностях их строения, произрастания и возможностях использования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Повысить экологическую культуру детей и родителей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Сплотить коллектив  участников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ируемые результ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31640" y="1125000"/>
            <a:ext cx="7365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овышение уровня экологической культуры педагогов, детей и родителей;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гармоничное формирование разных видов отношения детей к природе ( природоохранного, гуманного, эстетического, познавательного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развитие у детей устойчивого интереса к представителям растительного мира –деревьям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развитие исследовательской деятельности дошкольников в ходе совместной практической деятельности с педагогом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освоение детьми трудовых навыков и умений по уходу за живыми объектами, посадка деревье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укрепление заинтересованности родителей в сотрудничест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пы проекта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65504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этап.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дготовительный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считан на два месяца: август-сентябрь 2018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готовительный этап включает в себя: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  проведение с детьми беседы о деревья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  выступление с докладом на тему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Экология и семья»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пы проекта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92360" y="1052640"/>
            <a:ext cx="7005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 этап.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сновной этап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считан на период  октябрь 2018 – апрель 201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ой этап включает в себ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оведение экскурс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разучивание иг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оведение конкурса рисунков, подело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оведение экологических акций («Чистый участок», «Покорми птиц зимой», «Домик для птиц», «Посади дерево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одсыпка снега к корням деревье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оведение викторины «Лучший знаток природы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оведение исследования «Как распускаются почки», «Сбор берёзового сока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пы проекта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58920" y="1125000"/>
            <a:ext cx="74390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 этап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ключительный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считан на один месяц: май 201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ключительным этап включает в себ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выставка рисунков и поделок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оведение праздника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Хоровод вокруг берез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совместное чаепит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04T12:46:36Z</dcterms:created>
  <dc:creator>Лиля</dc:creator>
  <dc:description/>
  <dc:language>en-US</dc:language>
  <cp:lastModifiedBy>Лиля</cp:lastModifiedBy>
  <dcterms:modified xsi:type="dcterms:W3CDTF">2021-06-21T13:01:37Z</dcterms:modified>
  <cp:revision>47</cp:revision>
  <dc:subject/>
  <dc:title>Проект  «Деревья нашего двора»</dc:title>
</cp:coreProperties>
</file>