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media/image10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9679-52D0-4E30-9745-4E6C70CA1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CC91-9D9F-4991-AD63-D0335F57A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D143CB-14B0-489D-9D8C-5D87AE1B1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ADC8CB-8186-45B0-9581-C79DCE82B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E73912-83D2-4939-8640-D83811110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66B671-2DBE-42F2-9F81-A9376495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578824-1434-43D8-8AB4-7673692E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45B25C-8389-4B9A-A4DE-99D1BED97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32C776-2D3A-42B1-9545-0EADE6AF0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C9C8EF-4A1D-4707-A8B7-8885E0CD3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D175EB-524D-4E17-ADF7-A2B0C503E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F022AD-9C1B-4DA9-9708-F77271ED2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7BF8-AF3E-4415-97D6-5D164534A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E316D7-B981-4E16-9F48-24B15894B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481CA7-FD7E-4A1C-8C3B-3480F7CF2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51D96C-CDCB-48B5-8486-DF9319E2F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72E142-10E6-47CC-B3AA-D81092BF9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0AC431-2A4D-4F1E-AC81-69C6FE565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E01752-FED4-4298-A2F6-F8025893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E73447-C22B-4B21-B494-BD8A6DF2D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2AAF58-D224-42BC-9892-A8C0658E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A722E3-0541-4DF4-A51A-07B0EED3B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6506FB-8A61-432A-A9A2-8359718DF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A0A2-0464-47CC-B9D4-2B25E9E2D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A01D3C-7E6E-4E24-8B52-DB67C977E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F7E94F-9466-4EB9-A174-992FAFD2F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DF3195-2ABB-460E-BD0F-018EC4D57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9FB241-E8DD-4295-BF34-8847B499B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FCD2E3-0DE4-4718-8F7F-0D7E9F703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269F1E-A71D-4CC6-A551-34FC1D1B1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67698A-7EA3-4B6A-967B-A1158B377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048A60-F8C5-49EB-A19D-FC88BB169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60F56E-BA0C-4FEE-8D88-8A58981CD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89A87A-70A3-4914-868B-07ADD10C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ACB8D-B2BF-4662-A47D-D0775B829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B9FA8B-5644-4F9F-87FF-A35692A67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E17708-C094-425E-9F51-822CF32B5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E56A6A-DC29-4F99-A1F4-4804B1A7F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C61DEA-EAC9-4A03-A08D-7BC7CE730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A7AE48-BF3A-4562-AB92-3A4DCE912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F8729A-B247-4997-B89E-E7FD5D7F9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0F255A-BD72-4A57-A7E6-638E1E31C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DBFFFD-4A19-4BD0-BEA4-52B92FD0A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AEB15B-6935-4081-8B89-567E0AB4C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F66C9D-EE87-452C-BC3F-50E7586BA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A181D-1C2B-4078-A938-6F47A5C3B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F64A7B-E126-46E6-B8FA-7D506F49C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A7F63A-214A-4C0B-8399-4653F81C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630D44-B976-4190-B858-51ED5EA1E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337F11-33FA-4C25-B8A7-A4176390B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EDA35D-D2EA-4E07-8AD1-DF88D1085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A668AF-9F88-4130-8252-3B29554B8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18E154-F3B0-40FE-8A63-DB3A61B1C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4B16AF-B8DF-40BB-8B38-DF0986DD7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2F323C-610C-44F4-8B9A-05D7D8E98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72A2F2-3BDC-4AC9-A73B-1E99E64D7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AA92B-BF19-4D8E-A830-2BB400CF3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03CF02-FCD4-42C8-9EAE-E40852657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1AF8B8-BB81-4712-9BAA-0F897FB90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2B470F-A604-48DA-A1E8-8802B07B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D2697A-685F-41A7-BB4F-2D2B9170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885BDD-7A27-4CA8-9EAD-82263E553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5A1E43-8483-4769-A69B-507BAA23F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EFE82F-E65E-47A7-A571-D41797F2A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60EE41-6144-4F60-8210-EF6565D0C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296BF6-FAA6-48F1-B0E4-5C9BFA509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615880-EB1C-4F4C-883C-6BF109A4B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D2E68-79DD-41F9-8638-5E56A6E72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7E9844-52F1-4AAE-B756-C190D68C7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CAACC5-7FCF-4F6C-B96F-DBCAA9B13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B6BF53-E8F4-4D17-A252-A242FECF6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A2ECAD-888B-45F1-9086-9D19A9D6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CC6D73-34BE-4EA8-A7D5-3C595E3F9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D36531-39E3-4FC2-B9FB-ED957B4E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3C44A9-5D04-4A96-AF39-964DC802A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A5C43B-A2DF-4BA0-A58C-58D877E4D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A9D2F9-9210-4783-AD2C-848369E89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AC9043-86E7-418D-8850-295600DB0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7D5E9-4226-4C87-9468-067EAC34A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78CA2A-EBA6-417A-A782-95CB6CFD8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A660FE-F69D-4CBD-ACD3-C05323F30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34BE92-2F64-4275-8FE8-3659E6581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F1BBCB-D40E-46CF-86BA-A66EF0EB0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1EBF05-D137-4B5F-A10C-A0E141504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883B49-2745-4029-BEB5-454792E2A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E42F39-0996-43DA-BC60-C9720D6E2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DE6134-6F7F-498F-9689-FE71DF3E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25F688-8504-42E4-AF95-7E2E9D016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867A7A-59A5-4BA3-92F3-791AE5003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6F271-26B2-4176-B4E0-EE52B2A4E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6E3E4C-4C8F-48A8-9D82-742C69704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697B3-A437-41C6-AEEA-EC843ABA1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8E8A-AE35-4235-BF85-E0B0D46EE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35E46-7884-48DF-9E44-4FF7498D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B1F0D-E233-4697-98D1-2DFAA8F1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A875B-B074-497F-8654-B9BC969F4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949D0-9CEF-4675-99FE-5FE0C098A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E22B9-B144-45AD-940E-F7367FD03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29295-146C-4961-9A26-4A1AD34EF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F96EB-142D-4AF2-A7C0-37F70A156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5C095-2AE0-42E2-8EC9-AD4CF6287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296EB-FF80-41D6-B7D7-5762BB085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25F06-4095-43FD-B8F1-90E561241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B0C5-DC41-4F27-B5D6-F194ABC24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9DFF8-8E31-4BB6-9108-579361561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2819C-34B8-4F5C-BCD2-5F9BA22BE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05CFB-AEA0-4B49-A39D-BE197DC3A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364EC-FAEE-4608-BD53-F3CE3BFB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B1C61-568B-4FF2-A91D-E6AA82723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17D93-8365-4E36-80BB-42C4E11E8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9A4D2-8431-4563-89C0-F8C1A9F68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98885-4EC3-4D03-B83E-26A63A2B0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A4089-B45E-46DD-9E12-39DCAD53E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A84BA-610F-4B50-A7C5-25FD6ADF7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2A8D-1E30-4FFB-902D-6AEBF5E1B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41C1F-7C41-4716-8D23-CE21CE58A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974D2-6229-4B53-9F9A-62977D9EF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52865-87C5-487F-84B8-C5A7B36A5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3B82A-4331-4787-B926-1E7D9725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291E7-06AF-41A5-8737-3B2BF3058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98DF7-44C1-4E93-942A-7F5D624B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AC8C5-0675-4CD0-AA6B-C5CA85577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D6052-56FA-4545-ADF5-3F27C89F8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72CCB-016C-449D-BFC7-119995774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6C893E-A103-448E-9171-7D823AF1B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3574-5E17-4149-9031-6DEFC7812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0D4EA-BDE2-458B-BAC2-8D7CC72CE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15EF0F-62F2-414E-BF1E-179BCC8E2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80EA7-B2E0-4FBB-85D8-01D4B4F62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F2B9F3-1DC8-4353-93D8-7DE84139D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8D34C-BA97-47BB-8CB5-4DB018D35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5A4A8-4820-4CC3-BA1E-3808DED8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A1FC8F-E626-4C8B-A93B-E7E68B16D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3D3867-6B78-476C-BD3A-1CF97DA63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E368F7-DF40-48E6-9F33-731706A67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E53E20-353E-4A35-8A3B-83D399E8C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30E2-7153-4B24-82D9-061BEC1B7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1498F6-70F1-4DE1-8D43-4A164D1DB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7C10AB-63A1-43E5-9726-F942DF18F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6EAB5B-AC98-4426-A311-ED94A98C5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F8EB96-DC18-42B6-BEB6-272CFB1AF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7EEE00-06A7-4EC0-8680-3B84BAF4C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2770CA-B566-4F10-94DE-45ACC07D7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29BC7D-5D10-4BC2-B7A7-98139D55B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C58F11-8717-4091-AB61-2E65EA330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E1825A-DEDB-4C54-BA7C-9B918C7F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7E8544-A22A-4F31-8962-35C594B11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37C6-1552-4D6E-9D5B-7DFD95F7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D7E5A6-CB84-4177-9FCF-1C771CD8E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9EA87-3A1F-425C-8D5C-7BAA880EF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AEA647-4B35-4F78-9AA1-9D75369A3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A3A01D-3FA0-4408-B2F3-AA804347C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6938F2-E7BD-46D6-ADEC-47478456F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86D855-C897-498A-AA9B-86C0F6B04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A96D12-8088-4D2B-96BB-6C1E1B592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95B0ED-EC0E-472A-9332-1FACEACEF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4F2D23-CEAB-4869-AAA5-6F33265C4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0A43FC-BF2F-4E6A-9C78-0B3D13D0E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7E02-75F1-4B25-864E-DFBCED1C5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14AA44-AFBF-43F4-ADB8-E38679E0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A7CBA0-8BB9-4AE1-AECC-5F03E8A28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58ACC0-274B-4C60-B008-3292519EE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243A3E-8F58-4FE6-A86E-D109525E1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4D0994-8F03-4C49-9D5F-8D4AA6B5A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65F6B2-F1CC-4140-AFC6-152B48C92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8DC630-2A5A-400D-A07B-D68D56120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0195B0-E331-474C-AE7D-453EA4768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4D25B8-4EC9-45C1-8A5C-E2642A79D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AD5CBE-A3EE-4964-A9B5-A02245098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DD2E-8888-4619-B735-6CDBCD04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10860E-5EB0-4B08-B5F3-BBEC571F5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49852A-C106-4D97-AC35-B3499A942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87C456-49B7-4F9B-80C5-9C3C28E4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D3F9BC-7A0A-4093-A6D0-F89BB18F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16EE73-2211-4B5A-A0F5-EA85A9AD8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328474-F526-4622-B902-373EFC739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C48A2A-A0ED-440A-A4D1-C5198AE50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BBF13C-8BD2-40E4-96C6-37239D6EA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0672F9-87F1-4FC1-9052-7DCE67123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5F1EB5-8E95-4E35-AA55-A18E3F2FD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600"/>
              <a:chOff x="-1080" y="2601000"/>
              <a:chExt cx="2687040" cy="311760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840" y="4053960"/>
                <a:ext cx="1833120" cy="1664640"/>
                <a:chOff x="852840" y="4053960"/>
                <a:chExt cx="1833120" cy="16646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7200" y="3941280"/>
                  <a:ext cx="476280" cy="122688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42880" y="4977000"/>
                  <a:ext cx="110160" cy="50364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1280" y="5568480"/>
                  <a:ext cx="19980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B4444-C721-488C-9360-D3B54BEA6B9E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4fcff">
              <a:alpha val="33000"/>
            </a:srgbClr>
          </a:solidFill>
          <a:ln cap="rnd" w="3240">
            <a:solidFill>
              <a:srgbClr val="a5cbe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43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daf7ff"/>
            </a:solidFill>
            <a:miter/>
          </a:ln>
          <a:effectLst>
            <a:outerShdw dist="12600" dir="5400000" blurRad="0" rotWithShape="0">
              <a:srgbClr val="95aec3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544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45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547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48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727d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549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50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552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6fb83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aecb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81593-5333-44E3-81FC-9135B0D24C3A}" type="slidenum">
              <a:rPr b="0" lang="ru-RU" sz="1200" spc="-1" strike="noStrike">
                <a:solidFill>
                  <a:srgbClr val="8dae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5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727d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596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597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8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599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6fb83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aecb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2EE00-84DB-4155-AB1F-9F02DABF0FD9}" type="slidenum">
              <a:rPr b="0" lang="ru-RU" sz="1200" spc="-1" strike="noStrike">
                <a:solidFill>
                  <a:srgbClr val="8dae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 type="dt" idx="3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 type="ftr" idx="3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aecb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5995D-65C8-459D-8A66-AA41C4F60C88}" type="slidenum">
              <a:rPr b="0" lang="ru-RU" sz="1200" spc="-1" strike="noStrike">
                <a:solidFill>
                  <a:srgbClr val="8dae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3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727d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 type="dt" idx="3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 type="ftr" idx="3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 type="sldNum" idx="3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aecb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CBA43-ED3B-4F5F-BE14-532A272EA2E7}" type="slidenum">
              <a:rPr b="0" lang="ru-RU" sz="1200" spc="-1" strike="noStrike">
                <a:solidFill>
                  <a:srgbClr val="8dae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 type="dt" idx="4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 type="ftr" idx="4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 type="sldNum" idx="4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aecb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4F1E1-1F5C-4085-B4D2-3FCDABA29D17}" type="slidenum">
              <a:rPr b="0" lang="ru-RU" sz="1200" spc="-1" strike="noStrike">
                <a:solidFill>
                  <a:srgbClr val="8dae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6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767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8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769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b9e3f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70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d6ecff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 type="dt" idx="4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 type="ftr" idx="4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 type="sldNum" idx="4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aecb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9A39C-D7B3-4E1E-B571-3BB49E988923}" type="slidenum">
              <a:rPr b="0" lang="ru-RU" sz="1200" spc="-1" strike="noStrike">
                <a:solidFill>
                  <a:srgbClr val="8dae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85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86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87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2BF88-7343-41F0-8980-1BA6957B714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6FCCA-4511-4A67-9F89-AE2DBF5620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135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6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4D143-181D-4B88-BD16-8B74FD2787E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8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6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7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8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9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0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1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5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9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4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5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6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7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8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0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4fcff">
              <a:alpha val="33000"/>
            </a:srgbClr>
          </a:solidFill>
          <a:ln cap="rnd" w="3240">
            <a:solidFill>
              <a:srgbClr val="a5cbe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8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daf7ff"/>
            </a:solidFill>
            <a:miter/>
          </a:ln>
          <a:effectLst>
            <a:outerShdw dist="12600" dir="5400000" blurRad="0" rotWithShape="0">
              <a:srgbClr val="95aec3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249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250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252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aecb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7EA31-64D3-4745-8A2A-CA84C5D5CF1E}" type="slidenum">
              <a:rPr b="0" lang="ru-RU" sz="1200" spc="-1" strike="noStrike">
                <a:solidFill>
                  <a:srgbClr val="8dae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727d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296" name="Group 3"/>
            <p:cNvGrpSpPr/>
            <p:nvPr/>
          </p:nvGrpSpPr>
          <p:grpSpPr>
            <a:xfrm>
              <a:off x="5407920" y="58320"/>
              <a:ext cx="3622320" cy="6134040"/>
              <a:chOff x="5407920" y="58320"/>
              <a:chExt cx="3622320" cy="6134040"/>
            </a:xfrm>
          </p:grpSpPr>
          <p:sp>
            <p:nvSpPr>
              <p:cNvPr id="297" name="Freeform 4"/>
              <p:cNvSpPr/>
              <p:nvPr/>
            </p:nvSpPr>
            <p:spPr>
              <a:xfrm flipV="1" rot="11970000">
                <a:off x="6583320" y="343080"/>
                <a:ext cx="2113920" cy="235656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98" name="Freeform 5"/>
              <p:cNvSpPr/>
              <p:nvPr/>
            </p:nvSpPr>
            <p:spPr>
              <a:xfrm flipV="1" rot="11970000">
                <a:off x="7422120" y="1955160"/>
                <a:ext cx="905400" cy="84204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99" name="Freeform 6"/>
              <p:cNvSpPr/>
              <p:nvPr/>
            </p:nvSpPr>
            <p:spPr>
              <a:xfrm flipV="1" rot="11970000">
                <a:off x="6824160" y="2586960"/>
                <a:ext cx="438840" cy="3949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00" name="Freeform 7"/>
              <p:cNvSpPr/>
              <p:nvPr/>
            </p:nvSpPr>
            <p:spPr>
              <a:xfrm flipV="1" rot="11970000">
                <a:off x="7250760" y="669600"/>
                <a:ext cx="38880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01" name="Freeform 8"/>
              <p:cNvSpPr/>
              <p:nvPr/>
            </p:nvSpPr>
            <p:spPr>
              <a:xfrm flipV="1" rot="11970000">
                <a:off x="7151400" y="2646000"/>
                <a:ext cx="16308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02" name="Freeform 9"/>
              <p:cNvSpPr/>
              <p:nvPr/>
            </p:nvSpPr>
            <p:spPr>
              <a:xfrm flipV="1" rot="11970000">
                <a:off x="7137720" y="1242000"/>
                <a:ext cx="19008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03" name="Freeform 10"/>
              <p:cNvSpPr/>
              <p:nvPr/>
            </p:nvSpPr>
            <p:spPr>
              <a:xfrm flipV="1" rot="11970000">
                <a:off x="5938200" y="2930760"/>
                <a:ext cx="523440" cy="326772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304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5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6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7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8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9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310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311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12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13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21"/>
            <p:cNvGrpSpPr/>
            <p:nvPr/>
          </p:nvGrpSpPr>
          <p:grpSpPr>
            <a:xfrm>
              <a:off x="5649120" y="291960"/>
              <a:ext cx="892800" cy="825840"/>
              <a:chOff x="5649120" y="291960"/>
              <a:chExt cx="892800" cy="825840"/>
            </a:xfrm>
          </p:grpSpPr>
          <p:sp>
            <p:nvSpPr>
              <p:cNvPr id="315" name="Freeform 22"/>
              <p:cNvSpPr/>
              <p:nvPr/>
            </p:nvSpPr>
            <p:spPr>
              <a:xfrm rot="14908200">
                <a:off x="5760720" y="786960"/>
                <a:ext cx="179280" cy="361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16" name="Freeform 23"/>
              <p:cNvSpPr/>
              <p:nvPr/>
            </p:nvSpPr>
            <p:spPr>
              <a:xfrm rot="14908200">
                <a:off x="5709600" y="467280"/>
                <a:ext cx="306360" cy="300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17" name="Freeform 24"/>
              <p:cNvSpPr/>
              <p:nvPr/>
            </p:nvSpPr>
            <p:spPr>
              <a:xfrm rot="14908200">
                <a:off x="6252480" y="391680"/>
                <a:ext cx="319320" cy="153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25"/>
            <p:cNvGrpSpPr/>
            <p:nvPr/>
          </p:nvGrpSpPr>
          <p:grpSpPr>
            <a:xfrm>
              <a:off x="968760" y="5258880"/>
              <a:ext cx="1059120" cy="829800"/>
              <a:chOff x="968760" y="5258880"/>
              <a:chExt cx="1059120" cy="829800"/>
            </a:xfrm>
          </p:grpSpPr>
          <p:sp>
            <p:nvSpPr>
              <p:cNvPr id="319" name="Freeform 26"/>
              <p:cNvSpPr/>
              <p:nvPr/>
            </p:nvSpPr>
            <p:spPr>
              <a:xfrm rot="8524800">
                <a:off x="1710720" y="5522400"/>
                <a:ext cx="250920" cy="3006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20" name="Freeform 27"/>
              <p:cNvSpPr/>
              <p:nvPr/>
            </p:nvSpPr>
            <p:spPr>
              <a:xfrm rot="8524800">
                <a:off x="1193400" y="5734080"/>
                <a:ext cx="429480" cy="2487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21" name="Freeform 28"/>
              <p:cNvSpPr/>
              <p:nvPr/>
            </p:nvSpPr>
            <p:spPr>
              <a:xfrm rot="8524800">
                <a:off x="960120" y="5383440"/>
                <a:ext cx="448920" cy="1267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29"/>
            <p:cNvGrpSpPr/>
            <p:nvPr/>
          </p:nvGrpSpPr>
          <p:grpSpPr>
            <a:xfrm>
              <a:off x="375840" y="441720"/>
              <a:ext cx="1690200" cy="1146600"/>
              <a:chOff x="375840" y="441720"/>
              <a:chExt cx="1690200" cy="1146600"/>
            </a:xfrm>
          </p:grpSpPr>
          <p:sp>
            <p:nvSpPr>
              <p:cNvPr id="323" name="Freeform 30"/>
              <p:cNvSpPr/>
              <p:nvPr/>
            </p:nvSpPr>
            <p:spPr>
              <a:xfrm flipH="1" rot="4107000">
                <a:off x="1576080" y="106020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24" name="Freeform 31"/>
              <p:cNvSpPr/>
              <p:nvPr/>
            </p:nvSpPr>
            <p:spPr>
              <a:xfrm flipH="1" rot="4107000">
                <a:off x="1022760" y="58536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25" name="Freeform 32"/>
              <p:cNvSpPr/>
              <p:nvPr/>
            </p:nvSpPr>
            <p:spPr>
              <a:xfrm flipH="1" rot="4107000">
                <a:off x="278640" y="109908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33"/>
            <p:cNvGrpSpPr/>
            <p:nvPr/>
          </p:nvGrpSpPr>
          <p:grpSpPr>
            <a:xfrm>
              <a:off x="7387200" y="3712320"/>
              <a:ext cx="1155600" cy="1607760"/>
              <a:chOff x="7387200" y="3712320"/>
              <a:chExt cx="1155600" cy="1607760"/>
            </a:xfrm>
          </p:grpSpPr>
          <p:sp>
            <p:nvSpPr>
              <p:cNvPr id="327" name="Freeform 34"/>
              <p:cNvSpPr/>
              <p:nvPr/>
            </p:nvSpPr>
            <p:spPr>
              <a:xfrm flipH="1" rot="10015800">
                <a:off x="7441920" y="47559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28" name="Freeform 35"/>
              <p:cNvSpPr/>
              <p:nvPr/>
            </p:nvSpPr>
            <p:spPr>
              <a:xfrm flipH="1" rot="10015800">
                <a:off x="7892640" y="4455360"/>
                <a:ext cx="60804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29" name="Freeform 36"/>
              <p:cNvSpPr/>
              <p:nvPr/>
            </p:nvSpPr>
            <p:spPr>
              <a:xfrm flipH="1" rot="10015800">
                <a:off x="7585200" y="3781080"/>
                <a:ext cx="635760" cy="224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330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1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2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3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4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5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6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C1915-EF51-41F2-89AE-39A32C3BAA05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379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0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1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9B6E7-5064-4AB9-9962-A80F2D48C94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24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25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dt" idx="22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ftr" idx="23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sldNum" idx="24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0FEA4-44A9-4456-80E8-A9F0207881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468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469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70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71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72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73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74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75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76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77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78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79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80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81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82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83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84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85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86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87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88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89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90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91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92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93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94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95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96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97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98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99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500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9B9DB-308B-46B7-9317-278CE90D514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"/>
          <p:cNvSpPr txBox="1"/>
          <p:nvPr/>
        </p:nvSpPr>
        <p:spPr>
          <a:xfrm>
            <a:off x="428400" y="1356840"/>
            <a:ext cx="807228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288000" indent="-28800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Comic Sans MS"/>
              </a:rPr>
              <a:t>Lesson </a:t>
            </a:r>
            <a:r>
              <a:rPr b="0" lang="ru-RU" sz="5400" spc="-1" strike="noStrike">
                <a:solidFill>
                  <a:srgbClr val="0000ff"/>
                </a:solidFill>
                <a:latin typeface="Comic Sans MS"/>
              </a:rPr>
              <a:t>2</a:t>
            </a:r>
            <a:r>
              <a:rPr b="0" lang="en-US" sz="5400" spc="-1" strike="noStrike">
                <a:solidFill>
                  <a:srgbClr val="0000ff"/>
                </a:solidFill>
                <a:latin typeface="Comic Sans MS"/>
              </a:rPr>
              <a:t>:</a:t>
            </a:r>
            <a:r>
              <a:rPr b="0" lang="ru-RU" sz="5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0000ff"/>
                </a:solidFill>
                <a:latin typeface="Comic Sans MS"/>
              </a:rPr>
              <a:t> School accessories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288000" indent="-28800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Comic Sans MS"/>
              </a:rPr>
              <a:t>(</a:t>
            </a:r>
            <a:r>
              <a:rPr b="0" lang="ru-RU" sz="5400" spc="-1" strike="noStrike">
                <a:solidFill>
                  <a:srgbClr val="0000ff"/>
                </a:solidFill>
                <a:latin typeface="Comic Sans MS"/>
              </a:rPr>
              <a:t>школьные принадлежности)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288000" indent="-28800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785880" y="13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d0d0d"/>
                </a:solidFill>
                <a:latin typeface="Arial Black"/>
              </a:rPr>
              <a:t>What is this? </a:t>
            </a:r>
            <a:br>
              <a:rPr sz="5400"/>
            </a:br>
            <a:r>
              <a:rPr b="0" lang="en-US" sz="5400" spc="-1" strike="noStrike">
                <a:solidFill>
                  <a:srgbClr val="0d0d0d"/>
                </a:solidFill>
                <a:latin typeface="Arial Black"/>
              </a:rPr>
              <a:t>(</a:t>
            </a:r>
            <a:r>
              <a:rPr b="0" lang="ru-RU" sz="5400" spc="-1" strike="noStrike">
                <a:solidFill>
                  <a:srgbClr val="0d0d0d"/>
                </a:solidFill>
                <a:latin typeface="Arial Black"/>
              </a:rPr>
              <a:t>Что это?)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38" name="TextBox 3"/>
          <p:cNvSpPr/>
          <p:nvPr/>
        </p:nvSpPr>
        <p:spPr>
          <a:xfrm>
            <a:off x="500040" y="3429000"/>
            <a:ext cx="6143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It is a pencil box</a:t>
            </a:r>
            <a:endParaRPr b="0" lang="en-US" sz="6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(</a:t>
            </a:r>
            <a:r>
              <a:rPr b="0" lang="ru-RU" sz="6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это пенал)</a:t>
            </a:r>
            <a:endParaRPr b="0" lang="en-US" sz="60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839" name="Содержимое 5" descr="penal2.jpg"/>
          <p:cNvPicPr/>
          <p:nvPr/>
        </p:nvPicPr>
        <p:blipFill>
          <a:blip r:embed="rId1"/>
          <a:stretch/>
        </p:blipFill>
        <p:spPr>
          <a:xfrm>
            <a:off x="6072120" y="2571840"/>
            <a:ext cx="2786040" cy="28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0066"/>
                </a:solidFill>
                <a:latin typeface="Comic Sans MS"/>
              </a:rPr>
              <a:t>Цели урока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472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Comic Sans MS"/>
              </a:rPr>
              <a:t>Ознакомить с названиями школьных принадлежностей;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Comic Sans MS"/>
              </a:rPr>
              <a:t>Развивать память, навыки устной речи;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0" y="2857320"/>
            <a:ext cx="4643280" cy="214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r>
              <a:rPr b="1" lang="en-US" sz="5400" spc="-1" strike="noStrike" u="sng">
                <a:solidFill>
                  <a:srgbClr val="ff66cc"/>
                </a:solidFill>
                <a:uFillTx/>
                <a:latin typeface="Comic Sans MS"/>
              </a:rPr>
              <a:t>It is  a book</a:t>
            </a:r>
            <a:br>
              <a:rPr sz="5400"/>
            </a:br>
            <a:r>
              <a:rPr b="0" lang="ru-RU" sz="5400" spc="-1" strike="noStrike">
                <a:solidFill>
                  <a:srgbClr val="ff66cc"/>
                </a:solidFill>
                <a:latin typeface="Comic Sans MS"/>
              </a:rPr>
              <a:t>(это книга)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817" name="Содержимое 4" descr="067a83cf4667f4685c38fa5719707050_full.jpg"/>
          <p:cNvPicPr/>
          <p:nvPr/>
        </p:nvPicPr>
        <p:blipFill>
          <a:blip r:embed="rId1"/>
          <a:stretch/>
        </p:blipFill>
        <p:spPr>
          <a:xfrm>
            <a:off x="4929120" y="2643120"/>
            <a:ext cx="3459240" cy="3714840"/>
          </a:xfrm>
          <a:prstGeom prst="rect">
            <a:avLst/>
          </a:prstGeom>
          <a:ln w="0">
            <a:noFill/>
          </a:ln>
        </p:spPr>
      </p:pic>
      <p:sp>
        <p:nvSpPr>
          <p:cNvPr id="818" name="TextBox 5"/>
          <p:cNvSpPr/>
          <p:nvPr/>
        </p:nvSpPr>
        <p:spPr>
          <a:xfrm>
            <a:off x="1428840" y="571680"/>
            <a:ext cx="6429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 </a:t>
            </a:r>
            <a:r>
              <a:rPr b="1" lang="en-US" sz="6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What is this? </a:t>
            </a:r>
            <a:r>
              <a:rPr b="1" lang="ru-RU" sz="6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  </a:t>
            </a:r>
            <a:r>
              <a:rPr b="0" lang="en-US" sz="6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(</a:t>
            </a:r>
            <a:r>
              <a:rPr b="0" lang="ru-RU" sz="6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Что это?)  </a:t>
            </a:r>
            <a:endParaRPr b="0" lang="en-US" sz="6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213840" y="2714760"/>
            <a:ext cx="5715000" cy="26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It is an exercise-book</a:t>
            </a:r>
            <a:br>
              <a:rPr sz="5000"/>
            </a:br>
            <a:r>
              <a:rPr b="0" lang="ru-RU" sz="5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это тетрадь</a:t>
            </a:r>
            <a:r>
              <a:rPr b="0" lang="en-US" sz="5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)</a:t>
            </a:r>
            <a:endParaRPr b="0" lang="en-US" sz="5000" spc="-1" strike="noStrike">
              <a:solidFill>
                <a:srgbClr val="495a74"/>
              </a:solidFill>
              <a:latin typeface="Corbel"/>
            </a:endParaRPr>
          </a:p>
        </p:txBody>
      </p:sp>
      <p:pic>
        <p:nvPicPr>
          <p:cNvPr id="820" name="Содержимое 4" descr="53420.jpg"/>
          <p:cNvPicPr/>
          <p:nvPr/>
        </p:nvPicPr>
        <p:blipFill>
          <a:blip r:embed="rId1"/>
          <a:stretch/>
        </p:blipFill>
        <p:spPr>
          <a:xfrm>
            <a:off x="5214960" y="257184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821" name="TextBox 6"/>
          <p:cNvSpPr/>
          <p:nvPr/>
        </p:nvSpPr>
        <p:spPr>
          <a:xfrm>
            <a:off x="1571760" y="428760"/>
            <a:ext cx="671508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d5a50"/>
                </a:solidFill>
                <a:latin typeface="Times New Roman"/>
                <a:ea typeface="Times New Roman"/>
              </a:rPr>
              <a:t>     </a:t>
            </a:r>
            <a:r>
              <a:rPr b="1" lang="en-US" sz="6000" spc="-1" strike="noStrike">
                <a:solidFill>
                  <a:srgbClr val="0d5a50"/>
                </a:solidFill>
                <a:latin typeface="Times New Roman"/>
                <a:ea typeface="Times New Roman"/>
              </a:rPr>
              <a:t>What is this? </a:t>
            </a:r>
            <a:endParaRPr b="0" lang="en-US" sz="6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d5a50"/>
                </a:solidFill>
                <a:latin typeface="Times New Roman"/>
                <a:ea typeface="Times New Roman"/>
              </a:rPr>
              <a:t>        </a:t>
            </a:r>
            <a:r>
              <a:rPr b="0" lang="en-US" sz="5400" spc="-1" strike="noStrike">
                <a:solidFill>
                  <a:srgbClr val="0d5a50"/>
                </a:solidFill>
                <a:latin typeface="Times New Roman"/>
                <a:ea typeface="Times New Roman"/>
              </a:rPr>
              <a:t>(</a:t>
            </a:r>
            <a:r>
              <a:rPr b="0" lang="ru-RU" sz="5400" spc="-1" strike="noStrike">
                <a:solidFill>
                  <a:srgbClr val="0d5a50"/>
                </a:solidFill>
                <a:latin typeface="Times New Roman"/>
                <a:ea typeface="Times New Roman"/>
              </a:rPr>
              <a:t>Что это?)</a:t>
            </a:r>
            <a:endParaRPr b="0" lang="en-US" sz="5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357120" y="3142800"/>
            <a:ext cx="5486400" cy="17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Comic Sans MS"/>
              </a:rPr>
              <a:t>It is a pen</a:t>
            </a:r>
            <a:br>
              <a:rPr sz="5400"/>
            </a:br>
            <a:r>
              <a:rPr b="1" lang="ru-RU" sz="5400" spc="-1" strike="noStrike">
                <a:solidFill>
                  <a:srgbClr val="006666"/>
                </a:solidFill>
                <a:latin typeface="Comic Sans MS"/>
              </a:rPr>
              <a:t>(это ручка</a:t>
            </a:r>
            <a:r>
              <a:rPr b="1" lang="en-US" sz="5400" spc="-1" strike="noStrike">
                <a:solidFill>
                  <a:srgbClr val="006666"/>
                </a:solidFill>
                <a:latin typeface="Comic Sans MS"/>
              </a:rPr>
              <a:t>)</a:t>
            </a:r>
            <a:endParaRPr b="0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823" name="Содержимое 4" descr="iden_a468cc02ab340e2701_2.jpg"/>
          <p:cNvPicPr/>
          <p:nvPr/>
        </p:nvPicPr>
        <p:blipFill>
          <a:blip r:embed="rId1"/>
          <a:srcRect l="0" t="12507" r="0" b="12507"/>
          <a:stretch/>
        </p:blipFill>
        <p:spPr>
          <a:xfrm>
            <a:off x="5357880" y="2714760"/>
            <a:ext cx="3286080" cy="3143160"/>
          </a:xfrm>
          <a:prstGeom prst="rect">
            <a:avLst/>
          </a:prstGeom>
          <a:ln w="0">
            <a:noFill/>
          </a:ln>
        </p:spPr>
      </p:pic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1357200" y="64296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c6565"/>
                </a:solidFill>
                <a:latin typeface="Verdana"/>
              </a:rPr>
              <a:t>What is this? </a:t>
            </a:r>
            <a:r>
              <a:rPr b="0" lang="en-US" sz="5400" spc="-1" strike="noStrike">
                <a:solidFill>
                  <a:srgbClr val="3c6565"/>
                </a:solidFill>
                <a:latin typeface="Verdana"/>
              </a:rPr>
              <a:t>(</a:t>
            </a:r>
            <a:r>
              <a:rPr b="0" lang="ru-RU" sz="5400" spc="-1" strike="noStrike">
                <a:solidFill>
                  <a:srgbClr val="3c6565"/>
                </a:solidFill>
                <a:latin typeface="Verdana"/>
              </a:rPr>
              <a:t>Что это?)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7eea"/>
                </a:solidFill>
                <a:latin typeface="Times New Roman"/>
                <a:ea typeface="Times New Roman"/>
              </a:rPr>
              <a:t>What is this?</a:t>
            </a:r>
            <a:br>
              <a:rPr sz="6000"/>
            </a:br>
            <a:r>
              <a:rPr b="1" lang="en-US" sz="6000" spc="-1" strike="noStrike">
                <a:solidFill>
                  <a:srgbClr val="007eea"/>
                </a:solidFill>
                <a:latin typeface="Times New Roman"/>
                <a:ea typeface="Times New Roman"/>
              </a:rPr>
              <a:t> </a:t>
            </a:r>
            <a:r>
              <a:rPr b="0" lang="en-US" sz="6000" spc="-1" strike="noStrike">
                <a:solidFill>
                  <a:srgbClr val="007eea"/>
                </a:solidFill>
                <a:latin typeface="Times New Roman"/>
                <a:ea typeface="Times New Roman"/>
              </a:rPr>
              <a:t>(</a:t>
            </a:r>
            <a:r>
              <a:rPr b="0" lang="ru-RU" sz="6000" spc="-1" strike="noStrike">
                <a:solidFill>
                  <a:srgbClr val="007eea"/>
                </a:solidFill>
                <a:latin typeface="Times New Roman"/>
                <a:ea typeface="Times New Roman"/>
              </a:rPr>
              <a:t>Что это?)</a:t>
            </a:r>
            <a:endParaRPr b="0" lang="en-US" sz="60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826" name="TextBox 3"/>
          <p:cNvSpPr/>
          <p:nvPr/>
        </p:nvSpPr>
        <p:spPr>
          <a:xfrm>
            <a:off x="214200" y="3429000"/>
            <a:ext cx="5572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7eea"/>
                </a:solidFill>
                <a:latin typeface="Times New Roman"/>
                <a:ea typeface="Times New Roman"/>
              </a:rPr>
              <a:t>It is a pencil</a:t>
            </a:r>
            <a:endParaRPr b="0" lang="en-US" sz="6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7eea"/>
                </a:solidFill>
                <a:latin typeface="Times New Roman"/>
                <a:ea typeface="Times New Roman"/>
              </a:rPr>
              <a:t>(</a:t>
            </a:r>
            <a:r>
              <a:rPr b="0" lang="ru-RU" sz="6000" spc="-1" strike="noStrike">
                <a:solidFill>
                  <a:srgbClr val="007eea"/>
                </a:solidFill>
                <a:latin typeface="Times New Roman"/>
                <a:ea typeface="Times New Roman"/>
              </a:rPr>
              <a:t>это карандаш)</a:t>
            </a:r>
            <a:endParaRPr b="0" lang="en-US" sz="60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827" name="Содержимое 5" descr="untitled.bmp"/>
          <p:cNvPicPr/>
          <p:nvPr/>
        </p:nvPicPr>
        <p:blipFill>
          <a:blip r:embed="rId1"/>
          <a:stretch/>
        </p:blipFill>
        <p:spPr>
          <a:xfrm>
            <a:off x="5143680" y="2357280"/>
            <a:ext cx="364320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026720" y="188640"/>
            <a:ext cx="8116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hat is this?</a:t>
            </a:r>
            <a:br>
              <a:rPr sz="6000"/>
            </a:br>
            <a:r>
              <a:rPr b="1" lang="en-US" sz="49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4900" spc="-1" strike="noStrike">
                <a:solidFill>
                  <a:srgbClr val="ff0000"/>
                </a:solidFill>
                <a:latin typeface="Gill Sans MT"/>
              </a:rPr>
              <a:t>(</a:t>
            </a:r>
            <a:r>
              <a:rPr b="0" lang="ru-RU" sz="4900" spc="-1" strike="noStrike">
                <a:solidFill>
                  <a:srgbClr val="ff0000"/>
                </a:solidFill>
                <a:latin typeface="Corbel"/>
              </a:rPr>
              <a:t>Что это?)</a:t>
            </a:r>
            <a:endParaRPr b="0" lang="en-US" sz="49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829" name="TextBox 3"/>
          <p:cNvSpPr/>
          <p:nvPr/>
        </p:nvSpPr>
        <p:spPr>
          <a:xfrm>
            <a:off x="285840" y="3071880"/>
            <a:ext cx="5286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t is an eraser</a:t>
            </a:r>
            <a:endParaRPr b="0" lang="en-US" sz="6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то ластик)</a:t>
            </a:r>
            <a:endParaRPr b="0" lang="en-US" sz="60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830" name="Содержимое 5" descr="B_221034.jpg"/>
          <p:cNvPicPr/>
          <p:nvPr/>
        </p:nvPicPr>
        <p:blipFill>
          <a:blip r:embed="rId1"/>
          <a:stretch/>
        </p:blipFill>
        <p:spPr>
          <a:xfrm>
            <a:off x="5357880" y="2714760"/>
            <a:ext cx="28573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428480" y="64260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35faa"/>
                </a:solidFill>
                <a:latin typeface="Times New Roman"/>
                <a:ea typeface="Times New Roman"/>
              </a:rPr>
              <a:t>What is this? </a:t>
            </a:r>
            <a:br>
              <a:rPr sz="6000"/>
            </a:br>
            <a:r>
              <a:rPr b="0" lang="en-US" sz="6000" spc="-1" strike="noStrike">
                <a:solidFill>
                  <a:srgbClr val="435faa"/>
                </a:solidFill>
                <a:latin typeface="Times New Roman"/>
                <a:ea typeface="Times New Roman"/>
              </a:rPr>
              <a:t>(</a:t>
            </a:r>
            <a:r>
              <a:rPr b="0" lang="ru-RU" sz="6000" spc="-1" strike="noStrike">
                <a:solidFill>
                  <a:srgbClr val="435faa"/>
                </a:solidFill>
                <a:latin typeface="Times New Roman"/>
                <a:ea typeface="Times New Roman"/>
              </a:rPr>
              <a:t>Что это?)</a:t>
            </a:r>
            <a:endParaRPr b="0" lang="en-US" sz="60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832" name="TextBox 4"/>
          <p:cNvSpPr/>
          <p:nvPr/>
        </p:nvSpPr>
        <p:spPr>
          <a:xfrm>
            <a:off x="500040" y="3143160"/>
            <a:ext cx="5072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35faa"/>
                </a:solidFill>
                <a:latin typeface="Times New Roman"/>
                <a:ea typeface="Times New Roman"/>
              </a:rPr>
              <a:t>It is a rule</a:t>
            </a:r>
            <a:endParaRPr b="0" lang="en-US" sz="6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35faa"/>
                </a:solidFill>
                <a:latin typeface="Times New Roman"/>
                <a:ea typeface="Times New Roman"/>
              </a:rPr>
              <a:t>(</a:t>
            </a:r>
            <a:r>
              <a:rPr b="0" lang="ru-RU" sz="6000" spc="-1" strike="noStrike">
                <a:solidFill>
                  <a:srgbClr val="435faa"/>
                </a:solidFill>
                <a:latin typeface="Times New Roman"/>
                <a:ea typeface="Times New Roman"/>
              </a:rPr>
              <a:t>это линейка)</a:t>
            </a:r>
            <a:endParaRPr b="0" lang="en-US" sz="60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833" name="Содержимое 6" descr="332132.jpg"/>
          <p:cNvPicPr/>
          <p:nvPr/>
        </p:nvPicPr>
        <p:blipFill>
          <a:blip r:embed="rId1"/>
          <a:stretch/>
        </p:blipFill>
        <p:spPr>
          <a:xfrm>
            <a:off x="5357880" y="2571840"/>
            <a:ext cx="316692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357120" y="828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030a0"/>
                </a:solidFill>
                <a:latin typeface="Verdana"/>
              </a:rPr>
              <a:t>What is this? </a:t>
            </a:r>
            <a:br>
              <a:rPr sz="5400"/>
            </a:br>
            <a:r>
              <a:rPr b="0" lang="en-US" sz="5400" spc="-1" strike="noStrike">
                <a:solidFill>
                  <a:srgbClr val="7030a0"/>
                </a:solidFill>
                <a:latin typeface="Verdana"/>
              </a:rPr>
              <a:t>(</a:t>
            </a:r>
            <a:r>
              <a:rPr b="0" lang="ru-RU" sz="5400" spc="-1" strike="noStrike">
                <a:solidFill>
                  <a:srgbClr val="7030a0"/>
                </a:solidFill>
                <a:latin typeface="Verdana"/>
              </a:rPr>
              <a:t>Что это?)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35" name="TextBox 3"/>
          <p:cNvSpPr/>
          <p:nvPr/>
        </p:nvSpPr>
        <p:spPr>
          <a:xfrm>
            <a:off x="357120" y="3214800"/>
            <a:ext cx="435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It is a table</a:t>
            </a:r>
            <a:endParaRPr b="0" lang="en-US" sz="6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</a:t>
            </a:r>
            <a:r>
              <a:rPr b="0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это стол)</a:t>
            </a:r>
            <a:endParaRPr b="0" lang="en-US" sz="60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836" name="Рисунок 4" descr="pic_16293_m.jpg"/>
          <p:cNvPicPr/>
          <p:nvPr/>
        </p:nvPicPr>
        <p:blipFill>
          <a:blip r:embed="rId1"/>
          <a:stretch/>
        </p:blipFill>
        <p:spPr>
          <a:xfrm>
            <a:off x="4786200" y="2571840"/>
            <a:ext cx="407196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5T03:18:12Z</dcterms:created>
  <dc:creator>SC</dc:creator>
  <dc:description/>
  <dc:language>en-US</dc:language>
  <cp:lastModifiedBy>Home</cp:lastModifiedBy>
  <dcterms:modified xsi:type="dcterms:W3CDTF">2021-06-21T11:34:39Z</dcterms:modified>
  <cp:revision>33</cp:revision>
  <dc:subject/>
  <dc:title>Урок английского языка 2 класс</dc:title>
</cp:coreProperties>
</file>