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5.png" ContentType="image/pn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9.png" ContentType="image/png"/>
  <Override PartName="/ppt/media/image10.jpeg" ContentType="image/jpe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C7629-A74E-40C8-A1C7-D3FD9DA9B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3F638-97DD-474F-A1CD-0217B3FD5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7504FC-0488-4DA3-9FFC-3E1FD3A38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5D0B5C-059A-4FD1-8959-E8454A956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5EB76F-91EA-42A5-989C-00BD15A8E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83A7C2-F775-4B39-AD1F-7BACB71C6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147B1F-CFDF-4250-BDE7-4C73E2A02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B01029-61EF-4CE8-96E6-F427D0429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FBC1E2-9F6F-4935-B499-4E2CA6861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6BBEA0-D548-4521-A2A6-6ABC52407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2FD965-9BFC-45FD-98DC-1CAA528CB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CE1C92-A814-41CA-A1F4-206264842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314E2-BB2E-4891-AF9C-B7BA54EA5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B33D84-D2AD-4A54-918F-4A0AD2DE4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C11BC0-2532-4B56-BBED-FE2A17FB8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852275-A860-400C-B7B6-BEEC93438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F333E4-E1AB-464B-95A5-859552971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1D586D-D193-47B1-A12C-A61E3A3FA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12267E-A0AE-4C3D-A58D-70B619C2A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FA511E-E95F-4C23-AD8B-AE750A144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48C61A-2D39-4F34-9A84-75196C88A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8DA0C1-899B-4146-A030-9EF403454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50F438-BE03-4E28-92A1-A81284EB7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366DC-AFAE-4D01-82CB-8CA8C9FDA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5BF64F-2308-4D60-A70F-29BB68C1E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4F2630-34CD-45CF-ADA5-2CC7E15FF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3C6FD9-5CDB-4020-B47A-D565244EF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9A4EDB-5747-4CB9-923F-BB8A28D62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43B4E8-9A59-4BE5-9F27-858D6E794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4C3479-D053-4C6D-BA0F-E003F4494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91678E-0542-484A-A7EA-BC098E91A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C466FA-325F-4D5E-9BC4-F687F0E95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33FF88-AC98-43C0-9C47-FD567BA67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67608D-CA20-4B20-956D-F2133E513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1B8EA-FC1D-4544-8592-CD38CB0F6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18621C-FB22-4229-BDB7-302DCDB30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8170A7-5431-413E-AE23-DC718E460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D25FDB-C5E3-453E-99FD-606CB6C15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1EC80B-00B1-4171-848F-2109D1C96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27B946-D323-4AF8-830B-59DF4AA94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945CDA-CAAB-4C48-B947-0B3233C0D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E8B36C-B8FB-46E3-81E3-F4D993552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31ECCC-9CC6-4A92-A04F-16EFA9B93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4A5455-CB5A-44F0-9F99-CB0C60B4B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F9F6EA-B206-46FA-BE97-64EC65A31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27EB2-F727-4618-BF32-857547EA7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31518A-B8CB-4EC9-B520-43E5489D1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D943FB-3AED-42FB-B1CF-E24B629C4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7896BE-400B-4892-8594-49E1282CF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D6498B-A67A-430E-85E3-C50217528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0B3198-0784-4A77-9348-DDE6D709D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DCE8F11-C458-4528-8868-719F8E7EE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D430B0A-C73C-4127-83BE-273502920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52B9EB7-3B3F-47DF-A2F7-3A75BA2FC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59CADAE-956F-47A4-808C-3ED4E6C3A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B63AC5D-211D-44BD-A617-4E927A736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FC0EF-297E-4B93-A1C9-CC566743E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89B390A-4F1E-4141-94AC-4641222D5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BEEA58D-55E4-41F5-BA03-D316EAEB2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12D3E17-066A-4822-98D3-DB091FDAA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83838A7-948A-4DEB-A1B9-5230D6874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7EBA7EB-52ED-4A37-939A-5EF1A1ADB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993D1CB-D2D0-4CFA-9DB6-E920142DE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717435E-8E2B-42D2-B724-6872B324C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EADD9C0-EE98-43DF-94B3-4BDBF68D6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A430E4D-E079-4AB5-96E1-0497A63A6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189E39A-3238-4F7F-9B8D-BBC546C30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58F7B-6745-464F-8D82-FD39F838F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09C0A3E-4EB3-401E-905D-F1A07385E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D6E5AEC-719D-4BE0-A0D5-E7DCE7944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7137A75-C1A9-4DEB-9A65-88B590E68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372A17B-BA47-4E83-A8A0-9B314D932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7E93BF1-16D1-45DD-814E-32E4E384B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BD76A66-CFDB-43A9-A92C-FB09D7E58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695A9FE-829F-4175-92DE-CE6AF8C49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2409E3A-37B8-4B5B-B2A0-7A5271A95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00B0BB7-BC9D-4844-9AFA-F5E60CFF8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00B6581-64FA-46F4-9D3D-F7A010323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A8100-7FB1-47EC-96C0-9F50AF247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4F971E4-6F9A-41C0-AEC0-EE8E009DD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EF88FB7-0ED7-44F7-85C3-006D88A44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CFEBBE9-E13B-4FFC-A547-40DCD90AD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80BA795-CD4F-4D12-BCF4-876252F30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E3CAC62-4873-498B-BCAB-C763BCDB6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E4EFF7A-E23B-475D-B509-03BFBA6FA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5624A5F-D240-4A2C-AD49-15714FA1E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502F042-CD53-41FF-B37E-A009B376F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902C2D4-DBAE-4130-8D29-DA362B1E5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18DAE8B-137D-4172-817F-CD31CD3FF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D1D00-96E9-4576-8812-F033C25C8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2F499E7-7C95-4214-9FD2-3297CAD0F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6CCBF-B0FF-4A74-BA57-13C95ABB6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7B36B-ECB2-432A-A3E6-1418671BF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856B3-8B09-46FC-B991-57647A2B6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64890-C1E9-4543-9B57-C51826926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83DD6-ECE7-4F4B-9FFA-8D98B1687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A2994-4858-4EE0-A926-37B314A58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182F9-9307-475D-B4B0-6D906B2F8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2C065A-1B8F-4A5E-A904-EDBAE2194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49823D-72E8-4659-81F4-68BAD5C68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3827F5-80C2-4A17-96B9-F788310BF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C1F03C-9451-45E6-8255-F8BC48876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F43EE2-6BA2-41CD-BFCB-E76561DC9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3104B-0AEB-4AE0-9136-628F7367E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2AC7E2-A8DA-4207-ABEB-76DD7DABD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E409EA-CC02-428E-8D63-C0B8C556E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25310C-2E7C-4A47-B677-F479221D0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EDC1A1-A52A-49B5-84E8-2716AB036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7BF8B6-FD27-43F0-A8EB-C022DC74F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953DE3-F68F-4DDA-9173-5BC4BD0CA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7CFB81-64F9-4858-BCE1-E54EB589C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1340EB-35F2-4874-B097-8E40B9D23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250AD7-DA1D-4E97-9744-5F75FD0D0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336D3A-598F-415E-94F5-2051F8685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173AF-45FD-4928-85A4-621BE15CC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8DE991-2865-44F7-B274-4979BE66D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477F2A-4698-455D-A18A-822285929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DE3395-194F-4CCD-B0AE-1F2638446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D7BA29-A80F-4D40-AB91-4B7BE7D30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93FC70-3114-4687-854F-8D660602C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6A8218-64A3-4CF7-94F1-70AB4F947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B7B09C-390D-4874-8300-96714722D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770201-1D5F-444C-8449-7D96E6E65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4C868E-9E16-4A58-8202-96A90D29C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B1B044-19D7-4684-ACC0-703F77114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5781D-6FC5-4F03-98C8-9C8B5538C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6578C0-B39F-4302-98DE-71316ACD1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D9F024-212B-4BBF-A207-FE8B9C2FA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7C2039-AB85-4FB9-8546-ABC0E4E15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93A03D-B56B-4601-8D07-286C9EA94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67893C-011C-4712-94EE-A7C02D4A3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A05019-7CAB-412B-8890-67E5C82F0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B07F4F-D252-469A-89D0-A9DFFB2CC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68F913-35F7-4F90-8ECE-9EA862FCC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64A6E4-A07B-4FAE-9536-2EA57A4F8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D57BEB-3800-434B-8624-A78F14036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44D7D-D85D-4C26-AB2E-891851E23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A52522-B323-4381-838C-F17D277D9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829949-65C4-4690-BC15-C26C71918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41B635-7FCC-4093-9ACA-639B145FA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2453C6-26CC-482D-B588-4178D48FF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77E4F6-A44D-4D1C-921F-6F0460BE0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45DDE8-2016-4B46-B449-09566D11C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0A91AE-0489-45B5-A88C-33FCE9564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235ED0-9C36-4BA4-9F77-ED2FCB6DE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73E39E-BFE9-40C3-8BD8-D82A9B5FC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DC1A29-38C0-47A3-971D-027C51221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47977-C07B-4A14-823E-5114E0879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AB7EFB-EA34-46B6-9EF1-598DD26F2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E93B80-264D-4455-85DC-7DC6EB49E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19ED6A-419A-4F58-993A-701E4F31F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48CF0C-E73F-4668-AF9A-A8EBE2B8F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5B33EC-9108-47CB-9708-5E952CC45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B26FB5-ADB8-4FEF-BE5F-B53659A48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44C293-D296-4D0F-80AA-7A5BFDB54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E34BF9-C7C5-4E04-A247-62A84A20E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07B6AC-7F10-48CC-BA9A-CA0AC08DF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7ACE2F-0B32-4139-A0EA-65D6C40EE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21460-1F4F-4EA8-9D04-6E93EA1FE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A4E4CC-DCA6-44D8-BD84-F71D0C361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E928A6-BF30-4D92-B57F-AB3FA91E7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9D1427-0881-4E4C-8F55-DA9050AA7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B9E08C-0B53-4324-BCD4-85209ECFB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496CE5-297F-4ED7-A9D3-A769AF4F4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B4934D-1B24-479B-ADBB-A10922326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CA4D15-2C35-4968-A3E1-1577F2DA3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722674-6C82-4C8C-B7CC-652DE040A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FA295C-44AC-40A7-85BC-6B878F59A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EB1687-A771-49EE-9EB1-C6B60B30A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C38CC-9954-4C99-B891-731724893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98CCB7-E3E7-464B-B43C-F56D7D5DC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C72347-7084-421E-932F-FBAFF53EB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CB78A9-8BD7-4894-8E70-8350CA331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385AEE-F1C9-4B9A-9790-1D21A39F3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F0E974-7FF3-4C13-9A48-A605BDFE1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884AF2-F684-408C-B55B-6C6B8A4B9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BD86E9-B976-4656-88F5-3A44AFC32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E7D882-01BC-4B4D-8F5E-235EC729D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2EDF0B-6A2E-4A19-A148-1377033E8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6DB608-35C1-4D90-A613-7D36A9F6A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040" cy="3117600"/>
              <a:chOff x="-1080" y="2601000"/>
              <a:chExt cx="2687040" cy="311760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8200" y="3847680"/>
                <a:ext cx="65520" cy="18180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840" y="4053960"/>
                <a:ext cx="1833120" cy="1664640"/>
                <a:chOff x="852840" y="4053960"/>
                <a:chExt cx="1833120" cy="166464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7200" y="3941280"/>
                  <a:ext cx="476280" cy="122688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42880" y="4977000"/>
                  <a:ext cx="110160" cy="50364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1280" y="5568480"/>
                  <a:ext cx="199800" cy="8424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280" y="6172920"/>
              <a:ext cx="790920" cy="635400"/>
              <a:chOff x="467280" y="6172920"/>
              <a:chExt cx="790920" cy="63540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1600" y="6171480"/>
                <a:ext cx="196560" cy="2559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58880" y="6512760"/>
                <a:ext cx="336600" cy="212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640" y="6410880"/>
                <a:ext cx="352080" cy="108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16C63-F6D5-4258-B957-D895FE16DB1D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4fcff">
              <a:alpha val="33000"/>
            </a:srgbClr>
          </a:solidFill>
          <a:ln cap="rnd" w="3240">
            <a:solidFill>
              <a:srgbClr val="a5cbe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43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daf7ff"/>
            </a:solidFill>
            <a:miter/>
          </a:ln>
          <a:effectLst>
            <a:outerShdw dist="12600" dir="5400000" blurRad="0" rotWithShape="0">
              <a:srgbClr val="95aec3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grpSp>
        <p:nvGrpSpPr>
          <p:cNvPr id="544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45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6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547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48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6727d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grpSp>
        <p:nvGrpSpPr>
          <p:cNvPr id="549" name="Овал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50" name="Овал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1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552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6fb83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95a7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7fd13b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00add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dt" idx="28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ftr" idx="29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sldNum" idx="30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daecb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65F9C-F1F4-4113-9645-43293CDB969B}" type="slidenum">
              <a:rPr b="0" lang="ru-RU" sz="1200" spc="-1" strike="noStrike">
                <a:solidFill>
                  <a:srgbClr val="8daec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95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6727d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grpSp>
        <p:nvGrpSpPr>
          <p:cNvPr id="596" name="Овал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597" name="Овал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8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599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6fb83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95a7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7fd13b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00add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 type="dt" idx="3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 type="ftr" idx="3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 type="sldNum" idx="3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daecb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7F49C-8DA6-41FE-BBA4-8716B4C208BC}" type="slidenum">
              <a:rPr b="0" lang="ru-RU" sz="1200" spc="-1" strike="noStrike">
                <a:solidFill>
                  <a:srgbClr val="8daec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95a7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7fd13b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00add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 type="dt" idx="3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 type="ftr" idx="3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 type="sldNum" idx="3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daecb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1689B-A01D-42F8-BA5B-4EBF06978830}" type="slidenum">
              <a:rPr b="0" lang="ru-RU" sz="1200" spc="-1" strike="noStrike">
                <a:solidFill>
                  <a:srgbClr val="8daec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83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6727d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95a7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7fd13b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00add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 type="dt" idx="3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 type="ftr" idx="3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88" name="PlaceHolder 5"/>
          <p:cNvSpPr>
            <a:spLocks noGrp="1"/>
          </p:cNvSpPr>
          <p:nvPr>
            <p:ph type="sldNum" idx="3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daecb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07CFD-37CA-4A23-B33B-0024A83A2A49}" type="slidenum">
              <a:rPr b="0" lang="ru-RU" sz="1200" spc="-1" strike="noStrike">
                <a:solidFill>
                  <a:srgbClr val="8daec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95a7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7fd13b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00add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 type="dt" idx="4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 type="ftr" idx="4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 type="sldNum" idx="4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daecb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88537-BB9B-4CF7-8889-2A1F82BBEBE1}" type="slidenum">
              <a:rPr b="0" lang="ru-RU" sz="1200" spc="-1" strike="noStrike">
                <a:solidFill>
                  <a:srgbClr val="8daec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6" name="Прямоугольник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767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8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769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b9e3ff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70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d6ecff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95a7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7fd13b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00add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 type="dt" idx="4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 type="ftr" idx="4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75" name="PlaceHolder 5"/>
          <p:cNvSpPr>
            <a:spLocks noGrp="1"/>
          </p:cNvSpPr>
          <p:nvPr>
            <p:ph type="sldNum" idx="4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daecb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F6CB9-99DE-4D49-A419-4E560FF0D5EC}" type="slidenum">
              <a:rPr b="0" lang="ru-RU" sz="1200" spc="-1" strike="noStrike">
                <a:solidFill>
                  <a:srgbClr val="8daec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85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86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87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6E83C-EBD8-4304-B585-81F063F53114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5AA81-F2E4-43D2-8A24-254BD830692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oup 7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135" name="AutoShape 8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36" name="Line 9"/>
            <p:cNvSpPr/>
            <p:nvPr/>
          </p:nvSpPr>
          <p:spPr>
            <a:xfrm>
              <a:off x="762120" y="1709640"/>
              <a:ext cx="7696080" cy="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E22A4-3FD0-45DB-882C-A034F9BB655B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8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8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8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8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8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8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86" name="Oval 15"/>
            <p:cNvSpPr/>
            <p:nvPr/>
          </p:nvSpPr>
          <p:spPr>
            <a:xfrm>
              <a:off x="8657280" y="320040"/>
              <a:ext cx="11232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87" name="Oval 16"/>
            <p:cNvSpPr/>
            <p:nvPr/>
          </p:nvSpPr>
          <p:spPr>
            <a:xfrm>
              <a:off x="8153280" y="488160"/>
              <a:ext cx="119880" cy="1123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88" name="Oval 17"/>
            <p:cNvSpPr/>
            <p:nvPr/>
          </p:nvSpPr>
          <p:spPr>
            <a:xfrm>
              <a:off x="8321040" y="488160"/>
              <a:ext cx="118440" cy="1123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89" name="Oval 18"/>
            <p:cNvSpPr/>
            <p:nvPr/>
          </p:nvSpPr>
          <p:spPr>
            <a:xfrm>
              <a:off x="8489160" y="488160"/>
              <a:ext cx="113760" cy="1123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90" name="Oval 19"/>
            <p:cNvSpPr/>
            <p:nvPr/>
          </p:nvSpPr>
          <p:spPr>
            <a:xfrm>
              <a:off x="8657280" y="488160"/>
              <a:ext cx="112320" cy="1123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91" name="Oval 20"/>
            <p:cNvSpPr/>
            <p:nvPr/>
          </p:nvSpPr>
          <p:spPr>
            <a:xfrm>
              <a:off x="8825400" y="488160"/>
              <a:ext cx="119880" cy="1123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9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9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9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95" name="Oval 24"/>
            <p:cNvSpPr/>
            <p:nvPr/>
          </p:nvSpPr>
          <p:spPr>
            <a:xfrm>
              <a:off x="8657280" y="655920"/>
              <a:ext cx="11232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9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9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9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99" name="Oval 28"/>
            <p:cNvSpPr/>
            <p:nvPr/>
          </p:nvSpPr>
          <p:spPr>
            <a:xfrm>
              <a:off x="8657280" y="824040"/>
              <a:ext cx="11232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0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0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0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0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04" name="Oval 33"/>
            <p:cNvSpPr/>
            <p:nvPr/>
          </p:nvSpPr>
          <p:spPr>
            <a:xfrm>
              <a:off x="8657280" y="992160"/>
              <a:ext cx="11232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05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06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07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08" name="Oval 37"/>
            <p:cNvSpPr/>
            <p:nvPr/>
          </p:nvSpPr>
          <p:spPr>
            <a:xfrm>
              <a:off x="8657280" y="1159920"/>
              <a:ext cx="11232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0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10" name="Oval 39"/>
            <p:cNvSpPr/>
            <p:nvPr/>
          </p:nvSpPr>
          <p:spPr>
            <a:xfrm>
              <a:off x="8657280" y="1328040"/>
              <a:ext cx="11232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4fcff">
              <a:alpha val="33000"/>
            </a:srgbClr>
          </a:solidFill>
          <a:ln cap="rnd" w="3240">
            <a:solidFill>
              <a:srgbClr val="a5cbe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8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daf7ff"/>
            </a:solidFill>
            <a:miter/>
          </a:ln>
          <a:effectLst>
            <a:outerShdw dist="12600" dir="5400000" blurRad="0" rotWithShape="0">
              <a:srgbClr val="95aec3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grpSp>
        <p:nvGrpSpPr>
          <p:cNvPr id="249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250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1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252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95a7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7fd13b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00add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daecb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73902-1A3C-4394-8D73-7ABECA245F18}" type="slidenum">
              <a:rPr b="0" lang="ru-RU" sz="1200" spc="-1" strike="noStrike">
                <a:solidFill>
                  <a:srgbClr val="8daec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6727d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5" name="Group 2"/>
          <p:cNvGrpSpPr/>
          <p:nvPr/>
        </p:nvGrpSpPr>
        <p:grpSpPr>
          <a:xfrm>
            <a:off x="-20160" y="0"/>
            <a:ext cx="9050400" cy="6858000"/>
            <a:chOff x="-20160" y="0"/>
            <a:chExt cx="9050400" cy="6858000"/>
          </a:xfrm>
        </p:grpSpPr>
        <p:grpSp>
          <p:nvGrpSpPr>
            <p:cNvPr id="296" name="Group 3"/>
            <p:cNvGrpSpPr/>
            <p:nvPr/>
          </p:nvGrpSpPr>
          <p:grpSpPr>
            <a:xfrm>
              <a:off x="5407920" y="58320"/>
              <a:ext cx="3622320" cy="6134040"/>
              <a:chOff x="5407920" y="58320"/>
              <a:chExt cx="3622320" cy="6134040"/>
            </a:xfrm>
          </p:grpSpPr>
          <p:sp>
            <p:nvSpPr>
              <p:cNvPr id="297" name="Freeform 4"/>
              <p:cNvSpPr/>
              <p:nvPr/>
            </p:nvSpPr>
            <p:spPr>
              <a:xfrm flipV="1" rot="11970000">
                <a:off x="6583320" y="343080"/>
                <a:ext cx="2113920" cy="235656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98" name="Freeform 5"/>
              <p:cNvSpPr/>
              <p:nvPr/>
            </p:nvSpPr>
            <p:spPr>
              <a:xfrm flipV="1" rot="11970000">
                <a:off x="7422120" y="1955160"/>
                <a:ext cx="905400" cy="84204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99" name="Freeform 6"/>
              <p:cNvSpPr/>
              <p:nvPr/>
            </p:nvSpPr>
            <p:spPr>
              <a:xfrm flipV="1" rot="11970000">
                <a:off x="6824160" y="2586960"/>
                <a:ext cx="438840" cy="39492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300" name="Freeform 7"/>
              <p:cNvSpPr/>
              <p:nvPr/>
            </p:nvSpPr>
            <p:spPr>
              <a:xfrm flipV="1" rot="11970000">
                <a:off x="7250760" y="669600"/>
                <a:ext cx="38880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301" name="Freeform 8"/>
              <p:cNvSpPr/>
              <p:nvPr/>
            </p:nvSpPr>
            <p:spPr>
              <a:xfrm flipV="1" rot="11970000">
                <a:off x="7151400" y="2646000"/>
                <a:ext cx="16308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302" name="Freeform 9"/>
              <p:cNvSpPr/>
              <p:nvPr/>
            </p:nvSpPr>
            <p:spPr>
              <a:xfrm flipV="1" rot="11970000">
                <a:off x="7137720" y="1242000"/>
                <a:ext cx="190080" cy="14256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303" name="Freeform 10"/>
              <p:cNvSpPr/>
              <p:nvPr/>
            </p:nvSpPr>
            <p:spPr>
              <a:xfrm flipV="1" rot="11970000">
                <a:off x="5938200" y="2930760"/>
                <a:ext cx="523440" cy="326772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304" name="Freeform 11"/>
            <p:cNvSpPr/>
            <p:nvPr/>
          </p:nvSpPr>
          <p:spPr>
            <a:xfrm flipH="1" rot="373800">
              <a:off x="33480" y="3106800"/>
              <a:ext cx="512280" cy="103032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5" name="Freeform 12"/>
            <p:cNvSpPr/>
            <p:nvPr/>
          </p:nvSpPr>
          <p:spPr>
            <a:xfrm>
              <a:off x="266400" y="2000160"/>
              <a:ext cx="199836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6" name="Freeform 13"/>
            <p:cNvSpPr/>
            <p:nvPr/>
          </p:nvSpPr>
          <p:spPr>
            <a:xfrm>
              <a:off x="0" y="4143240"/>
              <a:ext cx="127116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7" name="Freeform 14"/>
            <p:cNvSpPr/>
            <p:nvPr/>
          </p:nvSpPr>
          <p:spPr>
            <a:xfrm flipH="1" rot="373800">
              <a:off x="1424520" y="4532400"/>
              <a:ext cx="56160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8" name="Freeform 15"/>
            <p:cNvSpPr/>
            <p:nvPr/>
          </p:nvSpPr>
          <p:spPr>
            <a:xfrm flipH="1" rot="373800">
              <a:off x="1267560" y="4728960"/>
              <a:ext cx="13788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9" name="Freeform 16"/>
            <p:cNvSpPr/>
            <p:nvPr/>
          </p:nvSpPr>
          <p:spPr>
            <a:xfrm>
              <a:off x="1888920" y="5195880"/>
              <a:ext cx="175860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310" name="Group 17"/>
            <p:cNvGrpSpPr/>
            <p:nvPr/>
          </p:nvGrpSpPr>
          <p:grpSpPr>
            <a:xfrm>
              <a:off x="4149720" y="1033560"/>
              <a:ext cx="1015200" cy="1262160"/>
              <a:chOff x="4149720" y="1033560"/>
              <a:chExt cx="1015200" cy="1262160"/>
            </a:xfrm>
          </p:grpSpPr>
          <p:sp>
            <p:nvSpPr>
              <p:cNvPr id="311" name="Freeform 18"/>
              <p:cNvSpPr/>
              <p:nvPr/>
            </p:nvSpPr>
            <p:spPr>
              <a:xfrm rot="3220200">
                <a:off x="4563720" y="1071360"/>
                <a:ext cx="285840" cy="378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312" name="Freeform 19"/>
              <p:cNvSpPr/>
              <p:nvPr/>
            </p:nvSpPr>
            <p:spPr>
              <a:xfrm rot="3220200">
                <a:off x="4648680" y="1604520"/>
                <a:ext cx="488880" cy="3142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313" name="Freeform 20"/>
              <p:cNvSpPr/>
              <p:nvPr/>
            </p:nvSpPr>
            <p:spPr>
              <a:xfrm rot="3220200">
                <a:off x="4109760" y="1962000"/>
                <a:ext cx="511200" cy="1602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21"/>
            <p:cNvGrpSpPr/>
            <p:nvPr/>
          </p:nvGrpSpPr>
          <p:grpSpPr>
            <a:xfrm>
              <a:off x="5649120" y="291960"/>
              <a:ext cx="892800" cy="825840"/>
              <a:chOff x="5649120" y="291960"/>
              <a:chExt cx="892800" cy="825840"/>
            </a:xfrm>
          </p:grpSpPr>
          <p:sp>
            <p:nvSpPr>
              <p:cNvPr id="315" name="Freeform 22"/>
              <p:cNvSpPr/>
              <p:nvPr/>
            </p:nvSpPr>
            <p:spPr>
              <a:xfrm rot="14908200">
                <a:off x="5760720" y="786960"/>
                <a:ext cx="179280" cy="361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316" name="Freeform 23"/>
              <p:cNvSpPr/>
              <p:nvPr/>
            </p:nvSpPr>
            <p:spPr>
              <a:xfrm rot="14908200">
                <a:off x="5709600" y="467280"/>
                <a:ext cx="306360" cy="300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317" name="Freeform 24"/>
              <p:cNvSpPr/>
              <p:nvPr/>
            </p:nvSpPr>
            <p:spPr>
              <a:xfrm rot="14908200">
                <a:off x="6252480" y="391680"/>
                <a:ext cx="319320" cy="153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25"/>
            <p:cNvGrpSpPr/>
            <p:nvPr/>
          </p:nvGrpSpPr>
          <p:grpSpPr>
            <a:xfrm>
              <a:off x="968760" y="5258880"/>
              <a:ext cx="1059120" cy="829800"/>
              <a:chOff x="968760" y="5258880"/>
              <a:chExt cx="1059120" cy="829800"/>
            </a:xfrm>
          </p:grpSpPr>
          <p:sp>
            <p:nvSpPr>
              <p:cNvPr id="319" name="Freeform 26"/>
              <p:cNvSpPr/>
              <p:nvPr/>
            </p:nvSpPr>
            <p:spPr>
              <a:xfrm rot="8524800">
                <a:off x="1710720" y="5522400"/>
                <a:ext cx="250920" cy="3006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320" name="Freeform 27"/>
              <p:cNvSpPr/>
              <p:nvPr/>
            </p:nvSpPr>
            <p:spPr>
              <a:xfrm rot="8524800">
                <a:off x="1193400" y="5734080"/>
                <a:ext cx="429480" cy="2487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321" name="Freeform 28"/>
              <p:cNvSpPr/>
              <p:nvPr/>
            </p:nvSpPr>
            <p:spPr>
              <a:xfrm rot="8524800">
                <a:off x="960120" y="5383440"/>
                <a:ext cx="448920" cy="12672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29"/>
            <p:cNvGrpSpPr/>
            <p:nvPr/>
          </p:nvGrpSpPr>
          <p:grpSpPr>
            <a:xfrm>
              <a:off x="375840" y="441720"/>
              <a:ext cx="1690200" cy="1146600"/>
              <a:chOff x="375840" y="441720"/>
              <a:chExt cx="1690200" cy="1146600"/>
            </a:xfrm>
          </p:grpSpPr>
          <p:sp>
            <p:nvSpPr>
              <p:cNvPr id="323" name="Freeform 30"/>
              <p:cNvSpPr/>
              <p:nvPr/>
            </p:nvSpPr>
            <p:spPr>
              <a:xfrm flipH="1" rot="4107000">
                <a:off x="1576080" y="1060200"/>
                <a:ext cx="35532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324" name="Freeform 31"/>
              <p:cNvSpPr/>
              <p:nvPr/>
            </p:nvSpPr>
            <p:spPr>
              <a:xfrm flipH="1" rot="4107000">
                <a:off x="1022760" y="585360"/>
                <a:ext cx="608400" cy="4406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325" name="Freeform 32"/>
              <p:cNvSpPr/>
              <p:nvPr/>
            </p:nvSpPr>
            <p:spPr>
              <a:xfrm flipH="1" rot="4107000">
                <a:off x="278640" y="1099080"/>
                <a:ext cx="636120" cy="22392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33"/>
            <p:cNvGrpSpPr/>
            <p:nvPr/>
          </p:nvGrpSpPr>
          <p:grpSpPr>
            <a:xfrm>
              <a:off x="7387200" y="3712320"/>
              <a:ext cx="1155600" cy="1607760"/>
              <a:chOff x="7387200" y="3712320"/>
              <a:chExt cx="1155600" cy="1607760"/>
            </a:xfrm>
          </p:grpSpPr>
          <p:sp>
            <p:nvSpPr>
              <p:cNvPr id="327" name="Freeform 34"/>
              <p:cNvSpPr/>
              <p:nvPr/>
            </p:nvSpPr>
            <p:spPr>
              <a:xfrm flipH="1" rot="10015800">
                <a:off x="7441920" y="4755960"/>
                <a:ext cx="35532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328" name="Freeform 35"/>
              <p:cNvSpPr/>
              <p:nvPr/>
            </p:nvSpPr>
            <p:spPr>
              <a:xfrm flipH="1" rot="10015800">
                <a:off x="7892640" y="4455360"/>
                <a:ext cx="608040" cy="4406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329" name="Freeform 36"/>
              <p:cNvSpPr/>
              <p:nvPr/>
            </p:nvSpPr>
            <p:spPr>
              <a:xfrm flipH="1" rot="10015800">
                <a:off x="7585200" y="3781080"/>
                <a:ext cx="635760" cy="22428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330" name="Freeform 37"/>
            <p:cNvSpPr/>
            <p:nvPr/>
          </p:nvSpPr>
          <p:spPr>
            <a:xfrm>
              <a:off x="1931760" y="3240"/>
              <a:ext cx="136800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1" name="Freeform 38"/>
            <p:cNvSpPr/>
            <p:nvPr/>
          </p:nvSpPr>
          <p:spPr>
            <a:xfrm flipV="1" rot="9832800">
              <a:off x="3425040" y="161280"/>
              <a:ext cx="108072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2" name="Freeform 39"/>
            <p:cNvSpPr/>
            <p:nvPr/>
          </p:nvSpPr>
          <p:spPr>
            <a:xfrm flipV="1" rot="9832800">
              <a:off x="3169080" y="1361160"/>
              <a:ext cx="52344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3" name="Freeform 40"/>
            <p:cNvSpPr/>
            <p:nvPr/>
          </p:nvSpPr>
          <p:spPr>
            <a:xfrm flipV="1" rot="9832800">
              <a:off x="3529440" y="1282320"/>
              <a:ext cx="195120" cy="37044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4" name="Freeform 41"/>
            <p:cNvSpPr/>
            <p:nvPr/>
          </p:nvSpPr>
          <p:spPr>
            <a:xfrm>
              <a:off x="2544120" y="0"/>
              <a:ext cx="19656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5" name="Freeform 42"/>
            <p:cNvSpPr/>
            <p:nvPr/>
          </p:nvSpPr>
          <p:spPr>
            <a:xfrm flipV="1" rot="9832800">
              <a:off x="3448800" y="1963800"/>
              <a:ext cx="62352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6" name="Freeform 43"/>
            <p:cNvSpPr/>
            <p:nvPr/>
          </p:nvSpPr>
          <p:spPr>
            <a:xfrm>
              <a:off x="0" y="2933640"/>
              <a:ext cx="5688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EFA6B-FFBF-4506-BB58-3D592A51A3CC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8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379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0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1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D8AFA-1AEB-44C6-9CD2-25FBE96FC4D0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AutoShape 2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24" name="AutoShape 3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25" name="AutoShape 4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 type="dt" idx="22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 type="ftr" idx="23"/>
          </p:nvPr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 type="sldNum" idx="24"/>
          </p:nvPr>
        </p:nvSpPr>
        <p:spPr>
          <a:xfrm>
            <a:off x="6857640" y="639144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03235-A87A-4524-B013-7CA09C25334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grpSp>
        <p:nvGrpSpPr>
          <p:cNvPr id="468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469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70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71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72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73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74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75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76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77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78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79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80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81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82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83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84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85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86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87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88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89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90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91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92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93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94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95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96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97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98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99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500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46BF8-6FC3-44ED-961A-E30E2AE46437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"/>
          <p:cNvSpPr txBox="1"/>
          <p:nvPr/>
        </p:nvSpPr>
        <p:spPr>
          <a:xfrm>
            <a:off x="428400" y="1356840"/>
            <a:ext cx="8072280" cy="30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288000" indent="-28800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ff"/>
                </a:solidFill>
                <a:latin typeface="Comic Sans MS"/>
              </a:rPr>
              <a:t>Lesson </a:t>
            </a:r>
            <a:r>
              <a:rPr b="0" lang="ru-RU" sz="5400" spc="-1" strike="noStrike">
                <a:solidFill>
                  <a:srgbClr val="0000ff"/>
                </a:solidFill>
                <a:latin typeface="Comic Sans MS"/>
              </a:rPr>
              <a:t>2</a:t>
            </a:r>
            <a:r>
              <a:rPr b="0" lang="en-US" sz="5400" spc="-1" strike="noStrike">
                <a:solidFill>
                  <a:srgbClr val="0000ff"/>
                </a:solidFill>
                <a:latin typeface="Comic Sans MS"/>
              </a:rPr>
              <a:t>:</a:t>
            </a:r>
            <a:r>
              <a:rPr b="0" lang="ru-RU" sz="54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en-US" sz="5400" spc="-1" strike="noStrike">
                <a:solidFill>
                  <a:srgbClr val="0000ff"/>
                </a:solidFill>
                <a:latin typeface="Comic Sans MS"/>
              </a:rPr>
              <a:t> School accessories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288000" indent="-28800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ff"/>
                </a:solidFill>
                <a:latin typeface="Comic Sans MS"/>
              </a:rPr>
              <a:t>(</a:t>
            </a:r>
            <a:r>
              <a:rPr b="0" lang="ru-RU" sz="5400" spc="-1" strike="noStrike">
                <a:solidFill>
                  <a:srgbClr val="0000ff"/>
                </a:solidFill>
                <a:latin typeface="Comic Sans MS"/>
              </a:rPr>
              <a:t>школьные принадлежности)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288000" indent="-28800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785880" y="13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d0d0d"/>
                </a:solidFill>
                <a:latin typeface="Arial Black"/>
              </a:rPr>
              <a:t>What is this? </a:t>
            </a:r>
            <a:br>
              <a:rPr sz="5400"/>
            </a:br>
            <a:r>
              <a:rPr b="0" lang="en-US" sz="5400" spc="-1" strike="noStrike">
                <a:solidFill>
                  <a:srgbClr val="0d0d0d"/>
                </a:solidFill>
                <a:latin typeface="Arial Black"/>
              </a:rPr>
              <a:t>(</a:t>
            </a:r>
            <a:r>
              <a:rPr b="0" lang="ru-RU" sz="5400" spc="-1" strike="noStrike">
                <a:solidFill>
                  <a:srgbClr val="0d0d0d"/>
                </a:solidFill>
                <a:latin typeface="Arial Black"/>
              </a:rPr>
              <a:t>Что это?)</a:t>
            </a:r>
            <a:endParaRPr b="0" lang="en-US" sz="5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38" name="TextBox 3"/>
          <p:cNvSpPr/>
          <p:nvPr/>
        </p:nvSpPr>
        <p:spPr>
          <a:xfrm>
            <a:off x="500040" y="3429000"/>
            <a:ext cx="6143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It is a pencil box</a:t>
            </a:r>
            <a:endParaRPr b="0" lang="en-US" sz="60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(</a:t>
            </a:r>
            <a:r>
              <a:rPr b="0" lang="ru-RU" sz="60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это пенал)</a:t>
            </a:r>
            <a:endParaRPr b="0" lang="en-US" sz="60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839" name="Содержимое 5" descr="penal2.jpg"/>
          <p:cNvPicPr/>
          <p:nvPr/>
        </p:nvPicPr>
        <p:blipFill>
          <a:blip r:embed="rId1"/>
          <a:stretch/>
        </p:blipFill>
        <p:spPr>
          <a:xfrm>
            <a:off x="6072120" y="2571840"/>
            <a:ext cx="2786040" cy="286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30066"/>
                </a:solidFill>
                <a:latin typeface="Comic Sans MS"/>
              </a:rPr>
              <a:t>Цели урока</a:t>
            </a:r>
            <a:endParaRPr b="1" lang="en-US" sz="5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456840" y="1719360"/>
            <a:ext cx="8472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000000"/>
                </a:solidFill>
                <a:latin typeface="Comic Sans MS"/>
              </a:rPr>
              <a:t>Ознакомить с названиями школьных принадлежностей;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000000"/>
                </a:solidFill>
                <a:latin typeface="Comic Sans MS"/>
              </a:rPr>
              <a:t>Развивать память, навыки устной речи;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0" y="2857320"/>
            <a:ext cx="4643280" cy="214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br>
              <a:rPr sz="5400"/>
            </a:br>
            <a:r>
              <a:rPr b="1" lang="en-US" sz="5400" spc="-1" strike="noStrike" u="sng">
                <a:solidFill>
                  <a:srgbClr val="ff66cc"/>
                </a:solidFill>
                <a:uFillTx/>
                <a:latin typeface="Comic Sans MS"/>
              </a:rPr>
              <a:t>It is  a book</a:t>
            </a:r>
            <a:br>
              <a:rPr sz="5400"/>
            </a:br>
            <a:r>
              <a:rPr b="0" lang="ru-RU" sz="5400" spc="-1" strike="noStrike">
                <a:solidFill>
                  <a:srgbClr val="ff66cc"/>
                </a:solidFill>
                <a:latin typeface="Comic Sans MS"/>
              </a:rPr>
              <a:t>(это книга)</a:t>
            </a:r>
            <a:endParaRPr b="0" lang="en-US" sz="5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817" name="Содержимое 4" descr="067a83cf4667f4685c38fa5719707050_full.jpg"/>
          <p:cNvPicPr/>
          <p:nvPr/>
        </p:nvPicPr>
        <p:blipFill>
          <a:blip r:embed="rId1"/>
          <a:stretch/>
        </p:blipFill>
        <p:spPr>
          <a:xfrm>
            <a:off x="4929120" y="2643120"/>
            <a:ext cx="3459240" cy="3714840"/>
          </a:xfrm>
          <a:prstGeom prst="rect">
            <a:avLst/>
          </a:prstGeom>
          <a:ln w="0">
            <a:noFill/>
          </a:ln>
        </p:spPr>
      </p:pic>
      <p:sp>
        <p:nvSpPr>
          <p:cNvPr id="818" name="TextBox 5"/>
          <p:cNvSpPr/>
          <p:nvPr/>
        </p:nvSpPr>
        <p:spPr>
          <a:xfrm>
            <a:off x="1428840" y="571680"/>
            <a:ext cx="64292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 </a:t>
            </a:r>
            <a:r>
              <a:rPr b="1" lang="en-US" sz="60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What is this? </a:t>
            </a:r>
            <a:r>
              <a:rPr b="1" lang="ru-RU" sz="60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                                                                                                                                                           </a:t>
            </a:r>
            <a:r>
              <a:rPr b="0" lang="en-US" sz="60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(</a:t>
            </a:r>
            <a:r>
              <a:rPr b="0" lang="ru-RU" sz="60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Что это?)  </a:t>
            </a:r>
            <a:endParaRPr b="0" lang="en-US" sz="60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213840" y="2714760"/>
            <a:ext cx="5715000" cy="264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It is an exercise-book</a:t>
            </a:r>
            <a:br>
              <a:rPr sz="5000"/>
            </a:br>
            <a:r>
              <a:rPr b="0" lang="ru-RU" sz="5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(это тетрадь</a:t>
            </a:r>
            <a:r>
              <a:rPr b="0" lang="en-US" sz="5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)</a:t>
            </a:r>
            <a:endParaRPr b="0" lang="en-US" sz="5000" spc="-1" strike="noStrike">
              <a:solidFill>
                <a:srgbClr val="495a74"/>
              </a:solidFill>
              <a:latin typeface="Corbel"/>
            </a:endParaRPr>
          </a:p>
        </p:txBody>
      </p:sp>
      <p:pic>
        <p:nvPicPr>
          <p:cNvPr id="820" name="Содержимое 4" descr="53420.jpg"/>
          <p:cNvPicPr/>
          <p:nvPr/>
        </p:nvPicPr>
        <p:blipFill>
          <a:blip r:embed="rId1"/>
          <a:stretch/>
        </p:blipFill>
        <p:spPr>
          <a:xfrm>
            <a:off x="5214960" y="2571840"/>
            <a:ext cx="3657600" cy="2743200"/>
          </a:xfrm>
          <a:prstGeom prst="rect">
            <a:avLst/>
          </a:prstGeom>
          <a:ln w="0">
            <a:noFill/>
          </a:ln>
        </p:spPr>
      </p:pic>
      <p:sp>
        <p:nvSpPr>
          <p:cNvPr id="821" name="TextBox 6"/>
          <p:cNvSpPr/>
          <p:nvPr/>
        </p:nvSpPr>
        <p:spPr>
          <a:xfrm>
            <a:off x="1571760" y="428760"/>
            <a:ext cx="671508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d5a50"/>
                </a:solidFill>
                <a:latin typeface="Times New Roman"/>
                <a:ea typeface="Times New Roman"/>
              </a:rPr>
              <a:t>     </a:t>
            </a:r>
            <a:r>
              <a:rPr b="1" lang="en-US" sz="6000" spc="-1" strike="noStrike">
                <a:solidFill>
                  <a:srgbClr val="0d5a50"/>
                </a:solidFill>
                <a:latin typeface="Times New Roman"/>
                <a:ea typeface="Times New Roman"/>
              </a:rPr>
              <a:t>What is this? </a:t>
            </a:r>
            <a:endParaRPr b="0" lang="en-US" sz="60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d5a50"/>
                </a:solidFill>
                <a:latin typeface="Times New Roman"/>
                <a:ea typeface="Times New Roman"/>
              </a:rPr>
              <a:t>        </a:t>
            </a:r>
            <a:r>
              <a:rPr b="0" lang="en-US" sz="5400" spc="-1" strike="noStrike">
                <a:solidFill>
                  <a:srgbClr val="0d5a50"/>
                </a:solidFill>
                <a:latin typeface="Times New Roman"/>
                <a:ea typeface="Times New Roman"/>
              </a:rPr>
              <a:t>(</a:t>
            </a:r>
            <a:r>
              <a:rPr b="0" lang="ru-RU" sz="5400" spc="-1" strike="noStrike">
                <a:solidFill>
                  <a:srgbClr val="0d5a50"/>
                </a:solidFill>
                <a:latin typeface="Times New Roman"/>
                <a:ea typeface="Times New Roman"/>
              </a:rPr>
              <a:t>Что это?)</a:t>
            </a:r>
            <a:endParaRPr b="0" lang="en-US" sz="54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0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357120" y="3142800"/>
            <a:ext cx="5486400" cy="1724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6666"/>
                </a:solidFill>
                <a:latin typeface="Comic Sans MS"/>
              </a:rPr>
              <a:t>It is a pen</a:t>
            </a:r>
            <a:br>
              <a:rPr sz="5400"/>
            </a:br>
            <a:r>
              <a:rPr b="1" lang="ru-RU" sz="5400" spc="-1" strike="noStrike">
                <a:solidFill>
                  <a:srgbClr val="006666"/>
                </a:solidFill>
                <a:latin typeface="Comic Sans MS"/>
              </a:rPr>
              <a:t>(это ручка</a:t>
            </a:r>
            <a:r>
              <a:rPr b="1" lang="en-US" sz="5400" spc="-1" strike="noStrike">
                <a:solidFill>
                  <a:srgbClr val="006666"/>
                </a:solidFill>
                <a:latin typeface="Comic Sans MS"/>
              </a:rPr>
              <a:t>)</a:t>
            </a:r>
            <a:endParaRPr b="0" lang="en-US" sz="54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823" name="Содержимое 4" descr="iden_a468cc02ab340e2701_2.jpg"/>
          <p:cNvPicPr/>
          <p:nvPr/>
        </p:nvPicPr>
        <p:blipFill>
          <a:blip r:embed="rId1"/>
          <a:srcRect l="0" t="12507" r="0" b="12507"/>
          <a:stretch/>
        </p:blipFill>
        <p:spPr>
          <a:xfrm>
            <a:off x="5357880" y="2714760"/>
            <a:ext cx="3286080" cy="3143160"/>
          </a:xfrm>
          <a:prstGeom prst="rect">
            <a:avLst/>
          </a:prstGeom>
          <a:ln w="0">
            <a:noFill/>
          </a:ln>
        </p:spPr>
      </p:pic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1357200" y="64296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c6565"/>
                </a:solidFill>
                <a:latin typeface="Verdana"/>
              </a:rPr>
              <a:t>What is this? </a:t>
            </a:r>
            <a:r>
              <a:rPr b="0" lang="en-US" sz="5400" spc="-1" strike="noStrike">
                <a:solidFill>
                  <a:srgbClr val="3c6565"/>
                </a:solidFill>
                <a:latin typeface="Verdana"/>
              </a:rPr>
              <a:t>(</a:t>
            </a:r>
            <a:r>
              <a:rPr b="0" lang="ru-RU" sz="5400" spc="-1" strike="noStrike">
                <a:solidFill>
                  <a:srgbClr val="3c6565"/>
                </a:solidFill>
                <a:latin typeface="Verdana"/>
              </a:rPr>
              <a:t>Что это?)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52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7eea"/>
                </a:solidFill>
                <a:latin typeface="Times New Roman"/>
                <a:ea typeface="Times New Roman"/>
              </a:rPr>
              <a:t>What is this?</a:t>
            </a:r>
            <a:br>
              <a:rPr sz="6000"/>
            </a:br>
            <a:r>
              <a:rPr b="1" lang="en-US" sz="6000" spc="-1" strike="noStrike">
                <a:solidFill>
                  <a:srgbClr val="007eea"/>
                </a:solidFill>
                <a:latin typeface="Times New Roman"/>
                <a:ea typeface="Times New Roman"/>
              </a:rPr>
              <a:t> </a:t>
            </a:r>
            <a:r>
              <a:rPr b="0" lang="en-US" sz="6000" spc="-1" strike="noStrike">
                <a:solidFill>
                  <a:srgbClr val="007eea"/>
                </a:solidFill>
                <a:latin typeface="Times New Roman"/>
                <a:ea typeface="Times New Roman"/>
              </a:rPr>
              <a:t>(</a:t>
            </a:r>
            <a:r>
              <a:rPr b="0" lang="ru-RU" sz="6000" spc="-1" strike="noStrike">
                <a:solidFill>
                  <a:srgbClr val="007eea"/>
                </a:solidFill>
                <a:latin typeface="Times New Roman"/>
                <a:ea typeface="Times New Roman"/>
              </a:rPr>
              <a:t>Что это?)</a:t>
            </a:r>
            <a:endParaRPr b="0" lang="en-US" sz="60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826" name="TextBox 3"/>
          <p:cNvSpPr/>
          <p:nvPr/>
        </p:nvSpPr>
        <p:spPr>
          <a:xfrm>
            <a:off x="214200" y="3429000"/>
            <a:ext cx="5572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7eea"/>
                </a:solidFill>
                <a:latin typeface="Times New Roman"/>
                <a:ea typeface="Times New Roman"/>
              </a:rPr>
              <a:t>It is a pencil</a:t>
            </a:r>
            <a:endParaRPr b="0" lang="en-US" sz="60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7eea"/>
                </a:solidFill>
                <a:latin typeface="Times New Roman"/>
                <a:ea typeface="Times New Roman"/>
              </a:rPr>
              <a:t>(</a:t>
            </a:r>
            <a:r>
              <a:rPr b="0" lang="ru-RU" sz="6000" spc="-1" strike="noStrike">
                <a:solidFill>
                  <a:srgbClr val="007eea"/>
                </a:solidFill>
                <a:latin typeface="Times New Roman"/>
                <a:ea typeface="Times New Roman"/>
              </a:rPr>
              <a:t>это карандаш)</a:t>
            </a:r>
            <a:endParaRPr b="0" lang="en-US" sz="60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827" name="Содержимое 5" descr="untitled.bmp"/>
          <p:cNvPicPr/>
          <p:nvPr/>
        </p:nvPicPr>
        <p:blipFill>
          <a:blip r:embed="rId1"/>
          <a:stretch/>
        </p:blipFill>
        <p:spPr>
          <a:xfrm>
            <a:off x="5143680" y="2357280"/>
            <a:ext cx="3643200" cy="35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1026720" y="188640"/>
            <a:ext cx="8116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What is this?</a:t>
            </a:r>
            <a:br>
              <a:rPr sz="6000"/>
            </a:br>
            <a:r>
              <a:rPr b="1" lang="en-US" sz="4900" spc="-1" strike="noStrike">
                <a:solidFill>
                  <a:srgbClr val="ff0000"/>
                </a:solidFill>
                <a:latin typeface="Gill Sans MT"/>
              </a:rPr>
              <a:t> </a:t>
            </a:r>
            <a:r>
              <a:rPr b="0" lang="en-US" sz="4900" spc="-1" strike="noStrike">
                <a:solidFill>
                  <a:srgbClr val="ff0000"/>
                </a:solidFill>
                <a:latin typeface="Gill Sans MT"/>
              </a:rPr>
              <a:t>(</a:t>
            </a:r>
            <a:r>
              <a:rPr b="0" lang="ru-RU" sz="4900" spc="-1" strike="noStrike">
                <a:solidFill>
                  <a:srgbClr val="ff0000"/>
                </a:solidFill>
                <a:latin typeface="Corbel"/>
              </a:rPr>
              <a:t>Что это?)</a:t>
            </a:r>
            <a:endParaRPr b="0" lang="en-US" sz="49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829" name="TextBox 3"/>
          <p:cNvSpPr/>
          <p:nvPr/>
        </p:nvSpPr>
        <p:spPr>
          <a:xfrm>
            <a:off x="285840" y="3071880"/>
            <a:ext cx="52862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t is an eraser</a:t>
            </a:r>
            <a:endParaRPr b="0" lang="en-US" sz="60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0" lang="ru-RU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это ластик)</a:t>
            </a:r>
            <a:endParaRPr b="0" lang="en-US" sz="60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830" name="Содержимое 5" descr="B_221034.jpg"/>
          <p:cNvPicPr/>
          <p:nvPr/>
        </p:nvPicPr>
        <p:blipFill>
          <a:blip r:embed="rId1"/>
          <a:stretch/>
        </p:blipFill>
        <p:spPr>
          <a:xfrm>
            <a:off x="5357880" y="2714760"/>
            <a:ext cx="285732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0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8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1428480" y="64260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435faa"/>
                </a:solidFill>
                <a:latin typeface="Times New Roman"/>
                <a:ea typeface="Times New Roman"/>
              </a:rPr>
              <a:t>What is this? </a:t>
            </a:r>
            <a:br>
              <a:rPr sz="6000"/>
            </a:br>
            <a:r>
              <a:rPr b="0" lang="en-US" sz="6000" spc="-1" strike="noStrike">
                <a:solidFill>
                  <a:srgbClr val="435faa"/>
                </a:solidFill>
                <a:latin typeface="Times New Roman"/>
                <a:ea typeface="Times New Roman"/>
              </a:rPr>
              <a:t>(</a:t>
            </a:r>
            <a:r>
              <a:rPr b="0" lang="ru-RU" sz="6000" spc="-1" strike="noStrike">
                <a:solidFill>
                  <a:srgbClr val="435faa"/>
                </a:solidFill>
                <a:latin typeface="Times New Roman"/>
                <a:ea typeface="Times New Roman"/>
              </a:rPr>
              <a:t>Что это?)</a:t>
            </a:r>
            <a:endParaRPr b="0" lang="en-US" sz="60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832" name="TextBox 4"/>
          <p:cNvSpPr/>
          <p:nvPr/>
        </p:nvSpPr>
        <p:spPr>
          <a:xfrm>
            <a:off x="500040" y="3143160"/>
            <a:ext cx="50720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435faa"/>
                </a:solidFill>
                <a:latin typeface="Times New Roman"/>
                <a:ea typeface="Times New Roman"/>
              </a:rPr>
              <a:t>It is a rule</a:t>
            </a:r>
            <a:endParaRPr b="0" lang="en-US" sz="60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435faa"/>
                </a:solidFill>
                <a:latin typeface="Times New Roman"/>
                <a:ea typeface="Times New Roman"/>
              </a:rPr>
              <a:t>(</a:t>
            </a:r>
            <a:r>
              <a:rPr b="0" lang="ru-RU" sz="6000" spc="-1" strike="noStrike">
                <a:solidFill>
                  <a:srgbClr val="435faa"/>
                </a:solidFill>
                <a:latin typeface="Times New Roman"/>
                <a:ea typeface="Times New Roman"/>
              </a:rPr>
              <a:t>это линейка)</a:t>
            </a:r>
            <a:endParaRPr b="0" lang="en-US" sz="60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833" name="Содержимое 6" descr="332132.jpg"/>
          <p:cNvPicPr/>
          <p:nvPr/>
        </p:nvPicPr>
        <p:blipFill>
          <a:blip r:embed="rId1"/>
          <a:stretch/>
        </p:blipFill>
        <p:spPr>
          <a:xfrm>
            <a:off x="5357880" y="2571840"/>
            <a:ext cx="3166920" cy="31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357120" y="828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7030a0"/>
                </a:solidFill>
                <a:latin typeface="Verdana"/>
              </a:rPr>
              <a:t>What is this? </a:t>
            </a:r>
            <a:br>
              <a:rPr sz="5400"/>
            </a:br>
            <a:r>
              <a:rPr b="0" lang="en-US" sz="5400" spc="-1" strike="noStrike">
                <a:solidFill>
                  <a:srgbClr val="7030a0"/>
                </a:solidFill>
                <a:latin typeface="Verdana"/>
              </a:rPr>
              <a:t>(</a:t>
            </a:r>
            <a:r>
              <a:rPr b="0" lang="ru-RU" sz="5400" spc="-1" strike="noStrike">
                <a:solidFill>
                  <a:srgbClr val="7030a0"/>
                </a:solidFill>
                <a:latin typeface="Verdana"/>
              </a:rPr>
              <a:t>Что это?)</a:t>
            </a:r>
            <a:endParaRPr b="0" lang="en-US" sz="5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35" name="TextBox 3"/>
          <p:cNvSpPr/>
          <p:nvPr/>
        </p:nvSpPr>
        <p:spPr>
          <a:xfrm>
            <a:off x="357120" y="3214800"/>
            <a:ext cx="4357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It is a table</a:t>
            </a:r>
            <a:endParaRPr b="0" lang="en-US" sz="60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(</a:t>
            </a:r>
            <a:r>
              <a:rPr b="0" lang="ru-RU" sz="6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это стол)</a:t>
            </a:r>
            <a:endParaRPr b="0" lang="en-US" sz="60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836" name="Рисунок 4" descr="pic_16293_m.jpg"/>
          <p:cNvPicPr/>
          <p:nvPr/>
        </p:nvPicPr>
        <p:blipFill>
          <a:blip r:embed="rId1"/>
          <a:stretch/>
        </p:blipFill>
        <p:spPr>
          <a:xfrm>
            <a:off x="4786200" y="2571840"/>
            <a:ext cx="4071960" cy="29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0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5T03:18:12Z</dcterms:created>
  <dc:creator>SC</dc:creator>
  <dc:description/>
  <dc:language>en-US</dc:language>
  <cp:lastModifiedBy>Home</cp:lastModifiedBy>
  <dcterms:modified xsi:type="dcterms:W3CDTF">2021-06-21T11:34:39Z</dcterms:modified>
  <cp:revision>33</cp:revision>
  <dc:subject/>
  <dc:title>Урок английского языка 2 класс</dc:title>
</cp:coreProperties>
</file>