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773360"/>
            <a:ext cx="6408720" cy="43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«Использование нестандартного спортивного оборудования на занятий по физической культуре в ДО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685800"/>
            <a:ext cx="435600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05520" y="907920"/>
            <a:ext cx="36432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Тереме друзья- словно дружная семья. Все друг друга уважают, доброй ночи всем желают. Утром радостно встают, вместе песенки по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Бег по лесенке, наступая в каждую ячейку 1 ногой, высоко поднимая кол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84720" y="1320840"/>
            <a:ext cx="13665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724280" cy="487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10080" y="1052640"/>
            <a:ext cx="30481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ямиком пришел медведь, на тот Терем поглядеть, лапы сходу натирая, новоселье предвку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Прыжок в ячейку правой ногой-левая слева от лестницы, в след яч-лев ногой-правая за лестниц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4648320" cy="4927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10080" y="907920"/>
            <a:ext cx="30481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трещал по швам наш Терем и в прочность его не веря, жильцы стали выбегать, этот домик покида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Боком к лестнице прыжок в ячейку-из ячейки (вперед-назад)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ухнул Терем расписной и сравнялся он с  землей. Чешет голову медведь, от тоски давай реветь. Проявив смущение, стал просить прощ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472104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08720" y="1125360"/>
            <a:ext cx="3095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брой сказка быть должна и закончилась она тем, что новый Терем в поле все друзья смогли построить. Вот и сказочке конец, а кто слушал молодец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887400"/>
            <a:ext cx="2857320" cy="290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46600" y="887400"/>
            <a:ext cx="4303800" cy="503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71640" y="3067200"/>
            <a:ext cx="28573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857320" cy="309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28960" y="69228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71640" y="3067200"/>
            <a:ext cx="285732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745080" cy="355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4572000" y="1413000"/>
            <a:ext cx="374508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1197000"/>
            <a:ext cx="8496360" cy="38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DejaVu Sans"/>
              </a:rPr>
              <a:t>Инструктаж по проведению упражнений на координационной лест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язательно разминайтесь перед выполнением упражне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имающиеся должны соблюдать дистанцию ( 3 ячей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раться не наступать на планки лест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ину всегда держать прям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вильная техника важнее скорости, не торопите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добейте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ения, потом уже постепенно увеличивайте скор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786480" cy="47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6480" y="1052640"/>
            <a:ext cx="35575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886040"/>
            <a:ext cx="3859560" cy="30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6480" y="1886040"/>
            <a:ext cx="355752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886040"/>
            <a:ext cx="3859560" cy="30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6480" y="1886040"/>
            <a:ext cx="34858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897200"/>
            <a:ext cx="3868920" cy="30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6480" y="1886040"/>
            <a:ext cx="363060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47040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05240" y="18860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6920" y="3543480"/>
            <a:ext cx="34783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791160" cy="475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6480" y="1886040"/>
            <a:ext cx="34858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2276640"/>
            <a:ext cx="7991280" cy="265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«Собрались вместе-это начал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Держаться вместе-это прогресс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Работать вместе-это успех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85800"/>
            <a:ext cx="456084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-то рано поутру, бросив старую нору, мышка по полю бежала, Теремок так увид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Бег по лестнице, наступая в каждую ячейку одной ногой, ручки на поя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9880" y="685800"/>
            <a:ext cx="4213080" cy="541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05520" y="907920"/>
            <a:ext cx="33526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бежала мышка. С мыслями о новоселье, предвкушая здесь веселье, мышка в двери постучала и притихла- замолчала. Тишина была в ответ-значит там никого нет. Забежала мышка в дом-навела порядок в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(Прыжки левым или правым боком в каждую клетку лестницы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2640" y="685800"/>
            <a:ext cx="4246560" cy="541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5520" y="907920"/>
            <a:ext cx="33526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тучали в дверь, а там лягушка, пригласила мышка в дом квакушку, прыгнула лягушка в дом-стали жить они вдв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Прыжки в ячейку ножки вместе, в след- ножки вроз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8240" y="685800"/>
            <a:ext cx="426096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05520" y="1052640"/>
            <a:ext cx="3352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друг опять стучатся в дверь, на лягушку мышь взглянула, та головкою махнула, прыгай зайка поскорей, ведь втроем нам вес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Прыжки на 2-х ногах в каждую клет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17560" y="685800"/>
            <a:ext cx="4211640" cy="541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05520" y="907920"/>
            <a:ext cx="33526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шь понравилось друзьям, заходи лисичка к на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(Прыжок 2-мя ногами прямо в ячейку, в след ячейку бок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7560" y="762120"/>
            <a:ext cx="4211640" cy="533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05520" y="1125360"/>
            <a:ext cx="33526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тер лапы волк о травку, сел у домика на лавку и давай животных звать, чтоб себя им пока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Прыжок в ячейку- в сторону направо, в ячейку- в сторону нале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2:26:10Z</dcterms:created>
  <dc:creator>GPGM</dc:creator>
  <dc:description/>
  <dc:language>en-US</dc:language>
  <cp:lastModifiedBy>Джонни</cp:lastModifiedBy>
  <dcterms:modified xsi:type="dcterms:W3CDTF">2021-04-05T22:15:17Z</dcterms:modified>
  <cp:revision>1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