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9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C4C-4053-4D71-BE81-6B768B44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5FE-59F8-49B8-80D3-1C65C393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C8C-7D93-44A8-AE98-83AF567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DA1-1103-40F2-A9B8-BEF4AC3D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393A-6B28-4D5D-BAFD-56C195A9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ABF4-B233-4739-A705-07050C21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B02-924A-4E44-897C-AA096772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F16F-0B46-48E9-A076-CC5B6593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08F9-2CD3-4171-9C0A-1156C66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C1FC-FFE2-44C7-A7DA-EC6B3B79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03D3-459E-4404-BF46-800B172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EF5-3497-45B2-8ED2-87069B5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E3D-871A-4FA3-A0C4-C06D65E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97AB-8134-4FFD-9126-0A2BD89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44E-765B-4EC2-B2F2-B6E6DFB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8A5A-B91B-42F3-89A8-450A2D6B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0339-95E8-4001-A3D6-F68C6E54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C5C-4F48-445E-8BD7-F13F908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37F-51AC-4FA0-9AEF-0B533F3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29B-51F7-47A0-B351-1A29037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9F6-B752-41DA-BDF1-991AF850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0C6-B034-4A1A-A374-003649F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2A0-EE56-4F2E-AC27-6007A0B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91A-7298-4052-913B-3925AD8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639-6226-42AE-AC0D-FF6CAEEC5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245-B2C4-4207-B9C6-5B8B5DD168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7/81454286.23f/0_7e1ec_fa0a3369_X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0" descr=""/>
          <p:cNvPicPr/>
          <p:nvPr/>
        </p:nvPicPr>
        <p:blipFill>
          <a:blip r:embed="rId1"/>
          <a:stretch/>
        </p:blipFill>
        <p:spPr>
          <a:xfrm>
            <a:off x="731880" y="1468440"/>
            <a:ext cx="8289720" cy="143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9828360" y="4365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143080" y="3571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солнышко на нож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елтые л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не горя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артинка 14 из 13759"/>
          <p:cNvPicPr/>
          <p:nvPr/>
        </p:nvPicPr>
        <p:blipFill>
          <a:blip r:embed="rId1"/>
          <a:stretch/>
        </p:blipFill>
        <p:spPr>
          <a:xfrm>
            <a:off x="1643040" y="2286000"/>
            <a:ext cx="56307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143080" y="5000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, полосатень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редке слад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Дольки на блюде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0004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ела сто руб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рустела на зуб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артинка 14 из 166236"/>
          <p:cNvPicPr/>
          <p:nvPr/>
        </p:nvPicPr>
        <p:blipFill>
          <a:blip r:embed="rId1"/>
          <a:stretch/>
        </p:blipFill>
        <p:spPr>
          <a:xfrm>
            <a:off x="1714680" y="1714680"/>
            <a:ext cx="601164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500200" y="6429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на пригор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желтые бочон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Картинка 20 из 158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000160"/>
            <a:ext cx="5631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000160" y="28584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ро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жерновом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чк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ем при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а 4 из 151318"/>
          <p:cNvPicPr/>
          <p:nvPr/>
        </p:nvPicPr>
        <p:blipFill>
          <a:blip r:embed="rId1"/>
          <a:stretch/>
        </p:blipFill>
        <p:spPr>
          <a:xfrm>
            <a:off x="1785960" y="242892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86000" y="4287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блях белеют ча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итки 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2 из 158800"/>
          <p:cNvPicPr/>
          <p:nvPr/>
        </p:nvPicPr>
        <p:blipFill>
          <a:blip r:embed="rId1"/>
          <a:stretch/>
        </p:blipFill>
        <p:spPr>
          <a:xfrm>
            <a:off x="2000160" y="157176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214720" y="21420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Картинка 9 из 221785"/>
          <p:cNvPicPr/>
          <p:nvPr/>
        </p:nvPicPr>
        <p:blipFill>
          <a:blip r:embed="rId1"/>
          <a:stretch/>
        </p:blipFill>
        <p:spPr>
          <a:xfrm>
            <a:off x="1785960" y="2143080"/>
            <a:ext cx="53737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900000" y="1341360"/>
            <a:ext cx="770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ука о разведении культурных сельскохозяйственных растений, а также само разведение растений, которых человек сам высаживает, ухаживает за всходами, собирает урожай, использует в пищу, называют культурны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делят на несколько основных отраслей: садоводство, зерноводство, овощеводство, бахчеводство, плодоводство, цвето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000160" y="928800"/>
            <a:ext cx="66438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, декоративных (декоративное садоводство), в т. ч. комнатных (комнатное садоводство)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Картинка 2 из 154781"/>
          <p:cNvPicPr/>
          <p:nvPr/>
        </p:nvPicPr>
        <p:blipFill>
          <a:blip r:embed="rId1"/>
          <a:stretch/>
        </p:blipFill>
        <p:spPr>
          <a:xfrm>
            <a:off x="142920" y="285768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43 из 155558"/>
          <p:cNvPicPr/>
          <p:nvPr/>
        </p:nvPicPr>
        <p:blipFill>
          <a:blip r:embed="rId2"/>
          <a:stretch/>
        </p:blipFill>
        <p:spPr>
          <a:xfrm>
            <a:off x="5000760" y="2857680"/>
            <a:ext cx="33606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Картинка 75 из 121"/>
          <p:cNvPicPr/>
          <p:nvPr/>
        </p:nvPicPr>
        <p:blipFill>
          <a:blip r:embed="rId1"/>
          <a:stretch/>
        </p:blipFill>
        <p:spPr>
          <a:xfrm>
            <a:off x="4429080" y="3141720"/>
            <a:ext cx="4505400" cy="337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Картинка 11 из 121"/>
          <p:cNvPicPr/>
          <p:nvPr/>
        </p:nvPicPr>
        <p:blipFill>
          <a:blip r:embed="rId2"/>
          <a:stretch/>
        </p:blipFill>
        <p:spPr>
          <a:xfrm>
            <a:off x="1071720" y="4929120"/>
            <a:ext cx="28209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РН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артинка 31 из 121"/>
          <p:cNvPicPr/>
          <p:nvPr/>
        </p:nvPicPr>
        <p:blipFill>
          <a:blip r:embed="rId3"/>
          <a:stretch/>
        </p:blipFill>
        <p:spPr>
          <a:xfrm>
            <a:off x="214200" y="1928880"/>
            <a:ext cx="50770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а 35 из 8578"/>
          <p:cNvPicPr/>
          <p:nvPr/>
        </p:nvPicPr>
        <p:blipFill>
          <a:blip r:embed="rId1"/>
          <a:stretch/>
        </p:blipFill>
        <p:spPr>
          <a:xfrm>
            <a:off x="3929040" y="335772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Щ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овощн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артинка 14 из 8342"/>
          <p:cNvPicPr/>
          <p:nvPr/>
        </p:nvPicPr>
        <p:blipFill>
          <a:blip r:embed="rId2"/>
          <a:stretch/>
        </p:blipFill>
        <p:spPr>
          <a:xfrm>
            <a:off x="214200" y="2000160"/>
            <a:ext cx="44290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ХЧ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бахче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6 из 332"/>
          <p:cNvPicPr/>
          <p:nvPr/>
        </p:nvPicPr>
        <p:blipFill>
          <a:blip r:embed="rId1"/>
          <a:stretch/>
        </p:blipFill>
        <p:spPr>
          <a:xfrm>
            <a:off x="214200" y="1928880"/>
            <a:ext cx="5683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5 из 7248"/>
          <p:cNvPicPr/>
          <p:nvPr/>
        </p:nvPicPr>
        <p:blipFill>
          <a:blip r:embed="rId2"/>
          <a:stretch/>
        </p:blipFill>
        <p:spPr>
          <a:xfrm>
            <a:off x="4643280" y="3079800"/>
            <a:ext cx="4281480" cy="351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ртинка 9 из 10172"/>
          <p:cNvPicPr/>
          <p:nvPr/>
        </p:nvPicPr>
        <p:blipFill>
          <a:blip r:embed="rId1"/>
          <a:stretch/>
        </p:blipFill>
        <p:spPr>
          <a:xfrm>
            <a:off x="214200" y="1928880"/>
            <a:ext cx="4500720" cy="33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Картинка 2 из 11281"/>
          <p:cNvPicPr/>
          <p:nvPr/>
        </p:nvPicPr>
        <p:blipFill>
          <a:blip r:embed="rId2"/>
          <a:stretch/>
        </p:blipFill>
        <p:spPr>
          <a:xfrm>
            <a:off x="4429080" y="3286080"/>
            <a:ext cx="4505400" cy="337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071800" y="2142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Щ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785960" y="157176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техническ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Картинка 2 из 171147"/>
          <p:cNvPicPr/>
          <p:nvPr/>
        </p:nvPicPr>
        <p:blipFill>
          <a:blip r:embed="rId1"/>
          <a:stretch/>
        </p:blipFill>
        <p:spPr>
          <a:xfrm>
            <a:off x="642960" y="2643120"/>
            <a:ext cx="4352760" cy="356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Картинка 20 из 21615"/>
          <p:cNvPicPr/>
          <p:nvPr/>
        </p:nvPicPr>
        <p:blipFill>
          <a:blip r:embed="rId2"/>
          <a:stretch/>
        </p:blipFill>
        <p:spPr>
          <a:xfrm>
            <a:off x="5500800" y="257184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s://ds04.infourok.ru/uploads/ex/09ce/000e9c45-5810e5b8/img16.jpg"/>
          <p:cNvPicPr/>
          <p:nvPr/>
        </p:nvPicPr>
        <p:blipFill>
          <a:blip r:embed="rId1"/>
          <a:stretch/>
        </p:blipFill>
        <p:spPr>
          <a:xfrm>
            <a:off x="179280" y="230040"/>
            <a:ext cx="8832960" cy="662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madaMobile</dc:creator>
  <dc:description/>
  <dc:language>en-US</dc:language>
  <cp:lastModifiedBy>Ирина</cp:lastModifiedBy>
  <dcterms:modified xsi:type="dcterms:W3CDTF">2021-03-14T06:10:12Z</dcterms:modified>
  <cp:revision>53</cp:revision>
  <dc:subject/>
  <dc:title>Слайд 1</dc:title>
</cp:coreProperties>
</file>