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29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7.jpeg" ContentType="image/jpeg"/>
  <Override PartName="/ppt/media/image10.png" ContentType="image/png"/>
  <Override PartName="/ppt/media/image8.gif" ContentType="image/gif"/>
  <Override PartName="/ppt/media/image19.jpeg" ContentType="image/jpeg"/>
  <Override PartName="/ppt/media/image11.png" ContentType="image/png"/>
  <Override PartName="/ppt/media/image30.jpeg" ContentType="image/jpeg"/>
  <Override PartName="/ppt/media/image18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658-0B5F-47FC-A7B4-6FEC73D1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61E-4A56-4C0A-9D64-1B633105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FBA-4241-4978-BD46-BDB2946C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98EB-CA28-4263-9775-64A1FEB5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2484-CD32-42A9-AA6A-ACD3DA1B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4178-157A-43F0-B078-FDE3BC2A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A0EF-13C2-47EE-BEC4-9A6944D3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5FBB-31D7-4FB2-96CD-07356730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17D6-BA4E-42A3-AE10-C24375A3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24C3-68AC-4C6C-858F-82BF93BC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3B84-F260-4BDD-AC14-DEFD6D20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AC2-8B7B-4861-9EAE-2F9317FE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72FE-5561-4B45-9CF0-E9628DCD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8F7D-86ED-43CF-8733-8066EAB2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B11C-23A7-4321-972B-1910323E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522F-F001-4878-8B01-7D68DD30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E11D-894C-44AC-87B6-F1811CC9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775C-0258-48F9-8707-1ED46C04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D9E-76FA-48C0-A1E1-2AB9CA9D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C71-AB11-481C-858D-76CFE83A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B4C-47D3-4B4B-9EA8-BA0045B7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6913-6D6A-4261-B5CF-09C9F891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BDD-F128-4ED4-9FB4-BC0D5ADD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673-84EF-4DC4-A314-7A06267E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F69E-BDA0-4159-B278-8239E2992A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C4D8-729C-491D-ABB4-EB637387E0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307/81454286.23f/0_7e1ec_fa0a3369_XL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10" descr=""/>
          <p:cNvPicPr/>
          <p:nvPr/>
        </p:nvPicPr>
        <p:blipFill>
          <a:blip r:embed="rId1"/>
          <a:stretch/>
        </p:blipFill>
        <p:spPr>
          <a:xfrm>
            <a:off x="731880" y="1468440"/>
            <a:ext cx="8289720" cy="143352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9828360" y="436572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143080" y="357120"/>
            <a:ext cx="492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городе у доро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солнышко на нож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желтые лу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не горя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Картинка 14 из 13759"/>
          <p:cNvPicPr/>
          <p:nvPr/>
        </p:nvPicPr>
        <p:blipFill>
          <a:blip r:embed="rId1"/>
          <a:stretch/>
        </p:blipFill>
        <p:spPr>
          <a:xfrm>
            <a:off x="1643040" y="2286000"/>
            <a:ext cx="563076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2143080" y="50004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, полосатень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середке сладень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Дольки на блюде"/>
          <p:cNvPicPr/>
          <p:nvPr/>
        </p:nvPicPr>
        <p:blipFill>
          <a:blip r:embed="rId1"/>
          <a:stretch/>
        </p:blipFill>
        <p:spPr>
          <a:xfrm>
            <a:off x="1692360" y="170028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2357280" y="500040"/>
            <a:ext cx="557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дела сто руб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рустела на зуб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Картинка 14 из 166236"/>
          <p:cNvPicPr/>
          <p:nvPr/>
        </p:nvPicPr>
        <p:blipFill>
          <a:blip r:embed="rId1"/>
          <a:stretch/>
        </p:blipFill>
        <p:spPr>
          <a:xfrm>
            <a:off x="1714680" y="1714680"/>
            <a:ext cx="6011640" cy="450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2500200" y="64296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е на пригоро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т желтые бочон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Картинка 20 из 1582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240" y="2000160"/>
            <a:ext cx="563112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2000160" y="285840"/>
            <a:ext cx="535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е рос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жерновом бы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ечки на 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ваем приш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Картинка 4 из 151318"/>
          <p:cNvPicPr/>
          <p:nvPr/>
        </p:nvPicPr>
        <p:blipFill>
          <a:blip r:embed="rId1"/>
          <a:stretch/>
        </p:blipFill>
        <p:spPr>
          <a:xfrm>
            <a:off x="1785960" y="2428920"/>
            <a:ext cx="5438880" cy="4071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2286000" y="42876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еблях белеют чаш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их нитки и руба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Картинка 2 из 158800"/>
          <p:cNvPicPr/>
          <p:nvPr/>
        </p:nvPicPr>
        <p:blipFill>
          <a:blip r:embed="rId1"/>
          <a:stretch/>
        </p:blipFill>
        <p:spPr>
          <a:xfrm>
            <a:off x="2000160" y="157176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214720" y="214200"/>
            <a:ext cx="507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ое, румя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асту на вет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ят меня взросл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аленькие д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Картинка 9 из 221785"/>
          <p:cNvPicPr/>
          <p:nvPr/>
        </p:nvPicPr>
        <p:blipFill>
          <a:blip r:embed="rId1"/>
          <a:stretch/>
        </p:blipFill>
        <p:spPr>
          <a:xfrm>
            <a:off x="1785960" y="2143080"/>
            <a:ext cx="537372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900000" y="1341360"/>
            <a:ext cx="770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стениеводство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наука о разведении культурных сельскохозяйственных растений, а также само разведение растений, которых человек сам высаживает, ухаживает за всходами, собирает урожай, использует в пищу, называют культурным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ениевод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делят на несколько основных отраслей: садоводство, зерноводство, овощеводство, бахчеводство, плодоводство, цветовод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ДО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000160" y="928800"/>
            <a:ext cx="664380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плодовых культур, декоративных (декоративное садоводство), в т. ч. комнатных (комнатное садоводство)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Картинка 2 из 154781"/>
          <p:cNvPicPr/>
          <p:nvPr/>
        </p:nvPicPr>
        <p:blipFill>
          <a:blip r:embed="rId1"/>
          <a:stretch/>
        </p:blipFill>
        <p:spPr>
          <a:xfrm>
            <a:off x="142920" y="2857680"/>
            <a:ext cx="4389480" cy="328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Картинка 43 из 155558"/>
          <p:cNvPicPr/>
          <p:nvPr/>
        </p:nvPicPr>
        <p:blipFill>
          <a:blip r:embed="rId2"/>
          <a:stretch/>
        </p:blipFill>
        <p:spPr>
          <a:xfrm>
            <a:off x="5000760" y="2857680"/>
            <a:ext cx="336060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8" descr="Картинка 75 из 121"/>
          <p:cNvPicPr/>
          <p:nvPr/>
        </p:nvPicPr>
        <p:blipFill>
          <a:blip r:embed="rId1"/>
          <a:stretch/>
        </p:blipFill>
        <p:spPr>
          <a:xfrm>
            <a:off x="4429080" y="3141720"/>
            <a:ext cx="4505400" cy="3373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Картинка 11 из 121"/>
          <p:cNvPicPr/>
          <p:nvPr/>
        </p:nvPicPr>
        <p:blipFill>
          <a:blip r:embed="rId2"/>
          <a:stretch/>
        </p:blipFill>
        <p:spPr>
          <a:xfrm>
            <a:off x="1071720" y="4929120"/>
            <a:ext cx="2820960" cy="1714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ЕРНО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000160" y="92880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культурных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Картинка 31 из 121"/>
          <p:cNvPicPr/>
          <p:nvPr/>
        </p:nvPicPr>
        <p:blipFill>
          <a:blip r:embed="rId3"/>
          <a:stretch/>
        </p:blipFill>
        <p:spPr>
          <a:xfrm>
            <a:off x="214200" y="1928880"/>
            <a:ext cx="507708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Картинка 35 из 8578"/>
          <p:cNvPicPr/>
          <p:nvPr/>
        </p:nvPicPr>
        <p:blipFill>
          <a:blip r:embed="rId1"/>
          <a:stretch/>
        </p:blipFill>
        <p:spPr>
          <a:xfrm>
            <a:off x="3929040" y="3357720"/>
            <a:ext cx="5076720" cy="33811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ВОЩЕ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000160" y="92880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овощны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Картинка 14 из 8342"/>
          <p:cNvPicPr/>
          <p:nvPr/>
        </p:nvPicPr>
        <p:blipFill>
          <a:blip r:embed="rId2"/>
          <a:stretch/>
        </p:blipFill>
        <p:spPr>
          <a:xfrm>
            <a:off x="214200" y="2000160"/>
            <a:ext cx="442908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ХЧЕ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000160" y="92880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бахчевы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Картинка 26 из 332"/>
          <p:cNvPicPr/>
          <p:nvPr/>
        </p:nvPicPr>
        <p:blipFill>
          <a:blip r:embed="rId1"/>
          <a:stretch/>
        </p:blipFill>
        <p:spPr>
          <a:xfrm>
            <a:off x="214200" y="1928880"/>
            <a:ext cx="5683320" cy="32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Картинка 5 из 7248"/>
          <p:cNvPicPr/>
          <p:nvPr/>
        </p:nvPicPr>
        <p:blipFill>
          <a:blip r:embed="rId2"/>
          <a:stretch/>
        </p:blipFill>
        <p:spPr>
          <a:xfrm>
            <a:off x="4643280" y="3079800"/>
            <a:ext cx="4281480" cy="3516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ДО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000160" y="92880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плодовы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Картинка 9 из 10172"/>
          <p:cNvPicPr/>
          <p:nvPr/>
        </p:nvPicPr>
        <p:blipFill>
          <a:blip r:embed="rId1"/>
          <a:stretch/>
        </p:blipFill>
        <p:spPr>
          <a:xfrm>
            <a:off x="214200" y="1928880"/>
            <a:ext cx="4500720" cy="3368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Картинка 2 из 11281"/>
          <p:cNvPicPr/>
          <p:nvPr/>
        </p:nvPicPr>
        <p:blipFill>
          <a:blip r:embed="rId2"/>
          <a:stretch/>
        </p:blipFill>
        <p:spPr>
          <a:xfrm>
            <a:off x="4429080" y="3286080"/>
            <a:ext cx="4505400" cy="337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2071800" y="21420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ЩИВ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ИЧЕСКИХ КУЛЬ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1785960" y="157176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технически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Картинка 2 из 171147"/>
          <p:cNvPicPr/>
          <p:nvPr/>
        </p:nvPicPr>
        <p:blipFill>
          <a:blip r:embed="rId1"/>
          <a:stretch/>
        </p:blipFill>
        <p:spPr>
          <a:xfrm>
            <a:off x="642960" y="2643120"/>
            <a:ext cx="4352760" cy="356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Картинка 20 из 21615"/>
          <p:cNvPicPr/>
          <p:nvPr/>
        </p:nvPicPr>
        <p:blipFill>
          <a:blip r:embed="rId2"/>
          <a:stretch/>
        </p:blipFill>
        <p:spPr>
          <a:xfrm>
            <a:off x="5500800" y="2571840"/>
            <a:ext cx="2638440" cy="3800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s://ds04.infourok.ru/uploads/ex/09ce/000e9c45-5810e5b8/img16.jpg"/>
          <p:cNvPicPr/>
          <p:nvPr/>
        </p:nvPicPr>
        <p:blipFill>
          <a:blip r:embed="rId1"/>
          <a:stretch/>
        </p:blipFill>
        <p:spPr>
          <a:xfrm>
            <a:off x="179280" y="230040"/>
            <a:ext cx="8832960" cy="6623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madaMobile</dc:creator>
  <dc:description/>
  <dc:language>en-US</dc:language>
  <cp:lastModifiedBy>Ирина</cp:lastModifiedBy>
  <dcterms:modified xsi:type="dcterms:W3CDTF">2021-03-14T06:10:12Z</dcterms:modified>
  <cp:revision>53</cp:revision>
  <dc:subject/>
  <dc:title>Слайд 1</dc:title>
</cp:coreProperties>
</file>