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8C3-E08E-4EC5-830D-DC5FCDD9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AC1-5D79-45AC-8DF1-78E2E26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98B-13F7-41DB-A3FC-7981817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FCC-8AE8-4461-932F-850FBDB0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750-4987-4695-BF54-9829A21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0A4-5525-40FF-9A16-B92DF83B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270-0AB4-4DD0-97D0-104E1F8F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FF7-F1FA-485F-B726-9EAA196A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B58-CB1D-4CCB-AECF-EE75E695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42A-FE82-4E96-8324-7E73AE0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401-E47E-450E-B7A8-AB6559C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2B8-6370-4D18-B4DB-68952A0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16FF-29C5-4906-8786-56F30AEC7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комнатного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cs633829.vk.me/v633829932/15d9/rF_f3ZhBU0g.jpg"/>
          <p:cNvPicPr/>
          <p:nvPr/>
        </p:nvPicPr>
        <p:blipFill>
          <a:blip r:embed="rId2"/>
          <a:stretch/>
        </p:blipFill>
        <p:spPr>
          <a:xfrm>
            <a:off x="2340000" y="2565360"/>
            <a:ext cx="4286160" cy="2705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27944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садка – это замена почвы без сохранения земляного кома на корн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валка – это перенос растения в горшок с сохранением земляного ко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fotoham.ru/img/picture/May/26/85410a985d2669a0d260d992914cf0c5/1.jpg"/>
          <p:cNvPicPr/>
          <p:nvPr/>
        </p:nvPicPr>
        <p:blipFill>
          <a:blip r:embed="rId2"/>
          <a:stretch/>
        </p:blipFill>
        <p:spPr>
          <a:xfrm>
            <a:off x="6167520" y="2270160"/>
            <a:ext cx="2843280" cy="1438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novouralsk1.miltor.ru/img_article/21-18ba731c3e941bbb9f29fce9b8e5b82f.png"/>
          <p:cNvPicPr/>
          <p:nvPr/>
        </p:nvPicPr>
        <p:blipFill>
          <a:blip r:embed="rId3"/>
          <a:stretch/>
        </p:blipFill>
        <p:spPr>
          <a:xfrm>
            <a:off x="2050920" y="4873680"/>
            <a:ext cx="619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ся тогда, когда растению становится тесно в го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земляной ком не разруш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жую землю насыпают небольшим слоем на дно и добавляют между стенками и земляным комом, и свер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karona.net/uploads/posts/2013-10/1381601349_perevalka-rasteniya-1.jpg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424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karona.net/uploads/posts/2013-10/1381605780_perevalka-rasteniya-2.jpg"/>
          <p:cNvPicPr/>
          <p:nvPr/>
        </p:nvPicPr>
        <p:blipFill>
          <a:blip r:embed="rId2"/>
          <a:stretch/>
        </p:blipFill>
        <p:spPr>
          <a:xfrm>
            <a:off x="682560" y="765000"/>
            <a:ext cx="7885080" cy="525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karona.net/uploads/posts/2013-10/1381605903_perevalka-rasteniya-3.jpg"/>
          <p:cNvPicPr/>
          <p:nvPr/>
        </p:nvPicPr>
        <p:blipFill>
          <a:blip r:embed="rId2"/>
          <a:stretch/>
        </p:blipFill>
        <p:spPr>
          <a:xfrm>
            <a:off x="457200" y="716040"/>
            <a:ext cx="8137440" cy="5424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karona.net/uploads/posts/2013-10/1381605967_perevalka-rasteniya-4.jpg"/>
          <p:cNvPicPr/>
          <p:nvPr/>
        </p:nvPicPr>
        <p:blipFill>
          <a:blip r:embed="rId2"/>
          <a:stretch/>
        </p:blipFill>
        <p:spPr>
          <a:xfrm>
            <a:off x="636480" y="782640"/>
            <a:ext cx="80596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karona.net/uploads/posts/2013-10/1381606100_perevalka-rasteniya-5.jpg"/>
          <p:cNvPicPr/>
          <p:nvPr/>
        </p:nvPicPr>
        <p:blipFill>
          <a:blip r:embed="rId2"/>
          <a:stretch/>
        </p:blipFill>
        <p:spPr>
          <a:xfrm>
            <a:off x="457200" y="598320"/>
            <a:ext cx="8491680" cy="5659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3T17:08:44Z</dcterms:created>
  <dc:creator>Ан</dc:creator>
  <dc:description/>
  <dc:language>en-US</dc:language>
  <cp:lastModifiedBy>Ирина</cp:lastModifiedBy>
  <dcterms:modified xsi:type="dcterms:W3CDTF">2021-04-09T06:35:06Z</dcterms:modified>
  <cp:revision>19</cp:revision>
  <dc:subject/>
  <dc:title>Слайд 1</dc:title>
</cp:coreProperties>
</file>