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450-C900-4830-B134-F117831A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C05-3273-4239-AF1A-D5FBD630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FF5-A414-49B2-AEEA-552843B7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194-FB51-4D54-9423-D299A844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CD8-1754-498B-A05C-F9C82611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4E1-7D2A-4959-B341-92B582B5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986-2C32-4675-A109-CF6757A7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15E-22C1-4257-9C17-A2F292C3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4EB-BE0D-4506-A8EB-9499379A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64F-E8BF-42E0-A29A-CABFD6D0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FC6-48EA-4672-A805-56608F0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E1A-0505-4CE5-9A57-01887F1E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C947-7541-4B51-BA14-FCDEB315D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47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и пересадка комнатного рас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cs633829.vk.me/v633829932/15d9/rF_f3ZhBU0g.jpg"/>
          <p:cNvPicPr/>
          <p:nvPr/>
        </p:nvPicPr>
        <p:blipFill>
          <a:blip r:embed="rId2"/>
          <a:stretch/>
        </p:blipFill>
        <p:spPr>
          <a:xfrm>
            <a:off x="2340000" y="2565360"/>
            <a:ext cx="4286160" cy="2705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и пересадка раст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27944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садка – это замена почвы без сохранения земляного кома на корн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валка – это перенос растения в горшок с сохранением земляного ко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fotoham.ru/img/picture/May/26/85410a985d2669a0d260d992914cf0c5/1.jpg"/>
          <p:cNvPicPr/>
          <p:nvPr/>
        </p:nvPicPr>
        <p:blipFill>
          <a:blip r:embed="rId2"/>
          <a:stretch/>
        </p:blipFill>
        <p:spPr>
          <a:xfrm>
            <a:off x="6167520" y="2270160"/>
            <a:ext cx="2843280" cy="1438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novouralsk1.miltor.ru/img_article/21-18ba731c3e941bbb9f29fce9b8e5b82f.png"/>
          <p:cNvPicPr/>
          <p:nvPr/>
        </p:nvPicPr>
        <p:blipFill>
          <a:blip r:embed="rId3"/>
          <a:stretch/>
        </p:blipFill>
        <p:spPr>
          <a:xfrm>
            <a:off x="2050920" y="4873680"/>
            <a:ext cx="619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ся тогда, когда растению становится тесно в гор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земляной ком не разруша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вежую землю насыпают небольшим слоем на дно и добавляют между стенками и земляным комом, и сверх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рас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karona.net/uploads/posts/2013-10/1381601349_perevalka-rasteniya-1.jpg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424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karona.net/uploads/posts/2013-10/1381605780_perevalka-rasteniya-2.jpg"/>
          <p:cNvPicPr/>
          <p:nvPr/>
        </p:nvPicPr>
        <p:blipFill>
          <a:blip r:embed="rId2"/>
          <a:stretch/>
        </p:blipFill>
        <p:spPr>
          <a:xfrm>
            <a:off x="682560" y="765000"/>
            <a:ext cx="7885080" cy="525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karona.net/uploads/posts/2013-10/1381605903_perevalka-rasteniya-3.jpg"/>
          <p:cNvPicPr/>
          <p:nvPr/>
        </p:nvPicPr>
        <p:blipFill>
          <a:blip r:embed="rId2"/>
          <a:stretch/>
        </p:blipFill>
        <p:spPr>
          <a:xfrm>
            <a:off x="457200" y="716040"/>
            <a:ext cx="8137440" cy="5424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karona.net/uploads/posts/2013-10/1381605967_perevalka-rasteniya-4.jpg"/>
          <p:cNvPicPr/>
          <p:nvPr/>
        </p:nvPicPr>
        <p:blipFill>
          <a:blip r:embed="rId2"/>
          <a:stretch/>
        </p:blipFill>
        <p:spPr>
          <a:xfrm>
            <a:off x="636480" y="782640"/>
            <a:ext cx="8059680" cy="5373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karona.net/uploads/posts/2013-10/1381606100_perevalka-rasteniya-5.jpg"/>
          <p:cNvPicPr/>
          <p:nvPr/>
        </p:nvPicPr>
        <p:blipFill>
          <a:blip r:embed="rId2"/>
          <a:stretch/>
        </p:blipFill>
        <p:spPr>
          <a:xfrm>
            <a:off x="457200" y="598320"/>
            <a:ext cx="8491680" cy="5659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3T17:08:44Z</dcterms:created>
  <dc:creator>Ан</dc:creator>
  <dc:description/>
  <dc:language>en-US</dc:language>
  <cp:lastModifiedBy>Ирина</cp:lastModifiedBy>
  <dcterms:modified xsi:type="dcterms:W3CDTF">2021-04-09T06:35:06Z</dcterms:modified>
  <cp:revision>19</cp:revision>
  <dc:subject/>
  <dc:title>Слайд 1</dc:title>
</cp:coreProperties>
</file>