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861C-5FB4-48F0-B86F-F08F6224C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8AF-19AB-491A-BCF7-112DE1BA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65DD-386B-4CE2-A465-0CC0BAAF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7B6-4F27-4790-8346-B769077C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8C20-13F0-498B-91DE-32DC12271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7E93-3F11-4E53-AB6F-60F60D51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389-9D92-4F8F-ADBE-617DB992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9E15-3A4D-4F4F-A795-C00F27D99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33C2-EE2F-47F6-825E-D79ED551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3117-FB52-4233-A56B-5E814865C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D5EC-8BE1-4319-B964-16FDA637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2ADD-43D6-4814-AC83-9FEE2CED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80C37-EB92-41F4-A4B9-6511E2B33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457200" y="47592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и пересадка комнатного рас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cs633829.vk.me/v633829932/15d9/rF_f3ZhBU0g.jpg"/>
          <p:cNvPicPr/>
          <p:nvPr/>
        </p:nvPicPr>
        <p:blipFill>
          <a:blip r:embed="rId2"/>
          <a:stretch/>
        </p:blipFill>
        <p:spPr>
          <a:xfrm>
            <a:off x="2340000" y="2565360"/>
            <a:ext cx="4286160" cy="270504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и пересадка раст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27944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садка – это замена почвы без сохранения земляного кома на корня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еревалка – это перенос растения в горшок с сохранением земляного ком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http://fotoham.ru/img/picture/May/26/85410a985d2669a0d260d992914cf0c5/1.jpg"/>
          <p:cNvPicPr/>
          <p:nvPr/>
        </p:nvPicPr>
        <p:blipFill>
          <a:blip r:embed="rId2"/>
          <a:stretch/>
        </p:blipFill>
        <p:spPr>
          <a:xfrm>
            <a:off x="6167520" y="2270160"/>
            <a:ext cx="2843280" cy="14382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http://www.novouralsk1.miltor.ru/img_article/21-18ba731c3e941bbb9f29fce9b8e5b82f.png"/>
          <p:cNvPicPr/>
          <p:nvPr/>
        </p:nvPicPr>
        <p:blipFill>
          <a:blip r:embed="rId3"/>
          <a:stretch/>
        </p:blipFill>
        <p:spPr>
          <a:xfrm>
            <a:off x="2050920" y="4873680"/>
            <a:ext cx="619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ится тогда, когда растению становится тесно в горшк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и этом земляной ком не разрушаетс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вежую землю насыпают небольшим слоем на дно и добавляют между стенками и земляным комом, и сверх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Arial"/>
              </a:rPr>
              <a:t>Перевалка рас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karona.net/uploads/posts/2013-10/1381601349_perevalka-rasteniya-1.jpg"/>
          <p:cNvPicPr/>
          <p:nvPr/>
        </p:nvPicPr>
        <p:blipFill>
          <a:blip r:embed="rId2"/>
          <a:stretch/>
        </p:blipFill>
        <p:spPr>
          <a:xfrm>
            <a:off x="395280" y="1125360"/>
            <a:ext cx="8353440" cy="542484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http://karona.net/uploads/posts/2013-10/1381605780_perevalka-rasteniya-2.jpg"/>
          <p:cNvPicPr/>
          <p:nvPr/>
        </p:nvPicPr>
        <p:blipFill>
          <a:blip r:embed="rId2"/>
          <a:stretch/>
        </p:blipFill>
        <p:spPr>
          <a:xfrm>
            <a:off x="682560" y="765000"/>
            <a:ext cx="7885080" cy="52549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karona.net/uploads/posts/2013-10/1381605903_perevalka-rasteniya-3.jpg"/>
          <p:cNvPicPr/>
          <p:nvPr/>
        </p:nvPicPr>
        <p:blipFill>
          <a:blip r:embed="rId2"/>
          <a:stretch/>
        </p:blipFill>
        <p:spPr>
          <a:xfrm>
            <a:off x="457200" y="716040"/>
            <a:ext cx="8137440" cy="54244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792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http://karona.net/uploads/posts/2013-10/1381605967_perevalka-rasteniya-4.jpg"/>
          <p:cNvPicPr/>
          <p:nvPr/>
        </p:nvPicPr>
        <p:blipFill>
          <a:blip r:embed="rId2"/>
          <a:stretch/>
        </p:blipFill>
        <p:spPr>
          <a:xfrm>
            <a:off x="636480" y="782640"/>
            <a:ext cx="8059680" cy="537372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karona.net/uploads/posts/2013-10/1381606100_perevalka-rasteniya-5.jpg"/>
          <p:cNvPicPr/>
          <p:nvPr/>
        </p:nvPicPr>
        <p:blipFill>
          <a:blip r:embed="rId2"/>
          <a:stretch/>
        </p:blipFill>
        <p:spPr>
          <a:xfrm>
            <a:off x="457200" y="598320"/>
            <a:ext cx="8491680" cy="56595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3T17:08:44Z</dcterms:created>
  <dc:creator>Ан</dc:creator>
  <dc:description/>
  <dc:language>en-US</dc:language>
  <cp:lastModifiedBy>Ирина</cp:lastModifiedBy>
  <dcterms:modified xsi:type="dcterms:W3CDTF">2021-04-09T06:35:06Z</dcterms:modified>
  <cp:revision>19</cp:revision>
  <dc:subject/>
  <dc:title>Слайд 1</dc:title>
</cp:coreProperties>
</file>