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C43-5DF8-4404-A085-B0EF2D8B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6A4-CC3D-456D-9030-41006DD5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901-E939-4247-AD30-2305C71F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73B-239B-4BA1-BF4C-F647BF4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C03F-CD78-409B-96E9-4B3146E8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C19-2CF2-4877-A0C0-F12CC35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F3BC-C4B3-4EAE-98F4-99D45AD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79B7-6F9E-4047-A5C0-07D64FC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513D-63F6-4FE1-A856-C13970E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4806-6939-46C5-8D63-471FBC10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1E6-F2AC-4140-8ADC-4F6D325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766-D794-45FC-814A-5E233A3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C9C-5EBB-406E-9D2C-EEF14CD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D4BE-8F33-49F8-95A9-4C5BD62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3311-5B30-4ECF-A4FA-FA35FFA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0FDB-4F69-4989-818B-32C83268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8339-39A5-42D9-A061-A35A6BF4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BD4-3B54-4476-8172-5B9D78B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6E4-E216-4217-95BB-886F5DB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335-F3F7-411F-9759-4149403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AA3-030B-4213-A840-64DC51C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BB1-8786-4F01-BAB2-1A533A9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C0B-F4C1-4B13-A04B-1A5F726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FF6-9721-4883-947C-D9AF409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023152-ADCD-4885-886C-B2442F7C626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B48B2E-E275-46A1-BE3F-592FB16F8E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63000"/>
            <a:ext cx="883908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РОЕНИЕ ЦВЕТКОВЫХ РАСТЕНИЙ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30072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ового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096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096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048120" y="5945040"/>
            <a:ext cx="16761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Кор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растений в почве, поглощение воды и минеральных веществ из почвы, в корне вырабатываются необходимые для жизни растений органические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562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Стебел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емная часть растения, связывает корень и лист; обеспечивает прохождение воды и питательных веществ к листьям и цветк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Лис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ет процесс фотосинтеза, испарение воды и процесс газооб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6212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Цветок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 размножения растений, в котором развиваются семен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ест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ая часть цветк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Тычин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меет пыльник, внутри которого созревает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ыль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икроспоры. Тычинки и пестик защищены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нч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стоит из лепе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2971800" y="2971800"/>
            <a:ext cx="3124080" cy="2819520"/>
          </a:xfrm>
          <a:custGeom>
            <a:avLst/>
            <a:gdLst>
              <a:gd name="textAreaLeft" fmla="*/ 1026720 w 3124080"/>
              <a:gd name="textAreaRight" fmla="*/ 2103840 w 3124080"/>
              <a:gd name="textAreaTop" fmla="*/ 1317240 h 2819520"/>
              <a:gd name="textAreaBottom" fmla="*/ 1771920 h 28195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647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5562720" y="2895480"/>
            <a:ext cx="2361960" cy="609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6705720" y="3503160"/>
            <a:ext cx="1218960" cy="993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9246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1141560" y="2284560"/>
            <a:ext cx="3355920" cy="152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572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038480" y="1750680"/>
            <a:ext cx="1981440" cy="1374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4876920" y="1750680"/>
            <a:ext cx="1218960" cy="1755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19920" y="1523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ч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1523880" y="6094440"/>
            <a:ext cx="914400" cy="79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о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914400" y="4952880"/>
            <a:ext cx="8380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note_shkola42</cp:lastModifiedBy>
  <cp:lastPrinted>2021-03-15T09:57:58Z</cp:lastPrinted>
  <dcterms:modified xsi:type="dcterms:W3CDTF">2021-03-15T09:59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