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82DF-7335-4E85-B0AA-1A10A6796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66D1-3223-4FDB-AEC8-D448A117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D2A-D341-428E-ADC4-9763ADB8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D052-C2CB-4937-B3DB-06201A1F6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028E-2692-4CB6-B29C-435F7601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979D-CC5C-4A31-9E77-1AB7AB07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324D-C2F1-4ED9-8AC9-2C5CA68C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5FD8F-1C32-42F9-9436-9BBDE70D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749A-D74A-440B-ACBF-ECF1F82B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A3AC5-1786-4C8A-915B-0A9D5770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7B5D-5BBE-49B7-A84E-691BFEC8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C804-2113-4B9F-BD36-10326D731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F266-606A-4381-A424-33564A58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3FB36-86E3-42B4-A15D-360E1E72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0F7A-B13B-42C5-8DFD-B0152A81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E7BB-F63B-48A5-985D-5E6842A37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251400" y="190512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83772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251400" y="4116600"/>
            <a:ext cx="25776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5CF0-23E6-46E6-8E93-F674B561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A583-02A1-4B16-B872-95283FC16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771-F4F8-4FCD-98A5-CA96EF6B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FF6-1667-46F4-BD73-8B6DD997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92520"/>
            <a:ext cx="838368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838D-EC25-4404-A5BA-6AC509254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C039-478D-4561-A618-126240FC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0280" y="411660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9EB-F08C-434A-A575-889E607E3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0280" y="1905120"/>
            <a:ext cx="390672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116600"/>
            <a:ext cx="80060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9CB8-D9EB-4630-AD45-202BB1FF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600" cy="5027760"/>
            <a:chOff x="318960" y="1828800"/>
            <a:chExt cx="8823600" cy="5027760"/>
          </a:xfrm>
        </p:grpSpPr>
        <p:sp>
          <p:nvSpPr>
            <p:cNvPr id="1" name="Freeform 2"/>
            <p:cNvSpPr/>
            <p:nvPr/>
          </p:nvSpPr>
          <p:spPr>
            <a:xfrm>
              <a:off x="838080" y="4618080"/>
              <a:ext cx="8304480" cy="223848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360" y="1828800"/>
              <a:ext cx="8809200" cy="502776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8080" y="4654440"/>
              <a:ext cx="8304480" cy="2202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8080" y="1828800"/>
              <a:ext cx="73123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8080" y="1828800"/>
              <a:ext cx="44640" cy="28321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640" y="4610160"/>
              <a:ext cx="44280" cy="224640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10160"/>
              <a:ext cx="4569120" cy="442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" bIns="-2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10160"/>
              <a:ext cx="46080" cy="224640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5280"/>
            <a:ext cx="19004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7BD955-9DDA-42A7-AB36-383633B7CBD1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-92520"/>
            <a:ext cx="838368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5120"/>
            <a:ext cx="80060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F21BEA-EF8F-4502-924C-58A2DF3F42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000" y="63000"/>
            <a:ext cx="8839080" cy="173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СТРОЕНИЕ ЦВЕТКОВЫХ РАСТЕНИЙ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619280" y="1800360"/>
            <a:ext cx="630072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43000"/>
            <a:ext cx="838512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ового раст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1752480" y="1905120"/>
            <a:ext cx="5943600" cy="43434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2209680" y="5867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р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209680" y="5715000"/>
            <a:ext cx="15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рен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>
            <a:off x="3048120" y="5945040"/>
            <a:ext cx="1676160" cy="2304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6169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Корень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репление растений в почве, поглощение воды и минеральных веществ из почвы, в корне вырабатываются необходимые для жизни растений органические веществ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5562360" cy="350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228600"/>
            <a:ext cx="86932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Стебель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земная часть растения, связывает корень и лист; обеспечивает прохождение воды и питательных веществ к листьям и цветка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3520" y="3124080"/>
            <a:ext cx="358128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4495680" y="3124080"/>
            <a:ext cx="38102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40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Лист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вает процесс фотосинтеза, испарение воды и процесс газообм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762120" y="1781280"/>
            <a:ext cx="7619760" cy="50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-360" y="380520"/>
            <a:ext cx="88455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99ff66"/>
              </a:buClr>
              <a:buFont typeface="Symbol" charset="2"/>
              <a:buChar char="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ffff66"/>
                </a:solidFill>
                <a:latin typeface="Arial"/>
              </a:rPr>
              <a:t>Цветок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 размножения растений, в котором развиваются семен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естик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женская часть цветка.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Тычинк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имеет пыльник, внутри которого созревает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пыльц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микроспоры. Тычинки и пестик защищены </a:t>
            </a:r>
            <a:r>
              <a:rPr b="0" lang="ru-RU" sz="3200" spc="-1" strike="noStrike">
                <a:solidFill>
                  <a:srgbClr val="ffff66"/>
                </a:solidFill>
                <a:latin typeface="Arial"/>
              </a:rPr>
              <a:t>венчико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который состоит из лепестк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3124080" y="3429000"/>
            <a:ext cx="548640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оение цвет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3"/>
          <p:cNvSpPr/>
          <p:nvPr/>
        </p:nvSpPr>
        <p:spPr>
          <a:xfrm>
            <a:off x="2971800" y="2971800"/>
            <a:ext cx="3124080" cy="2819520"/>
          </a:xfrm>
          <a:custGeom>
            <a:avLst/>
            <a:gdLst>
              <a:gd name="textAreaLeft" fmla="*/ 1026720 w 3124080"/>
              <a:gd name="textAreaRight" fmla="*/ 2103840 w 3124080"/>
              <a:gd name="textAreaTop" fmla="*/ 1317240 h 2819520"/>
              <a:gd name="textAreaBottom" fmla="*/ 1771920 h 2819520"/>
            </a:gdLst>
            <a:ahLst/>
            <a:rect l="textAreaLeft" t="textAreaTop" r="textAreaRight" b="textAreaBottom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095880" cy="4647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5562720" y="2895480"/>
            <a:ext cx="2361960" cy="609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ine 6"/>
          <p:cNvSpPr/>
          <p:nvPr/>
        </p:nvSpPr>
        <p:spPr>
          <a:xfrm flipV="1">
            <a:off x="6705720" y="3503160"/>
            <a:ext cx="1218960" cy="99396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7924680" y="335268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н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1141560" y="2284560"/>
            <a:ext cx="3355920" cy="15271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457200" y="18288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ст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Line 10"/>
          <p:cNvSpPr/>
          <p:nvPr/>
        </p:nvSpPr>
        <p:spPr>
          <a:xfrm flipV="1">
            <a:off x="4038480" y="1750680"/>
            <a:ext cx="1981440" cy="137484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 flipV="1">
            <a:off x="4876920" y="1750680"/>
            <a:ext cx="1218960" cy="175572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6019920" y="1523880"/>
            <a:ext cx="16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ычин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3"/>
          <p:cNvSpPr/>
          <p:nvPr/>
        </p:nvSpPr>
        <p:spPr>
          <a:xfrm flipV="1">
            <a:off x="1523880" y="6094440"/>
            <a:ext cx="914400" cy="792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0" y="5943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Цветонож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0" y="45720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Чаше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Line 16"/>
          <p:cNvSpPr/>
          <p:nvPr/>
        </p:nvSpPr>
        <p:spPr>
          <a:xfrm>
            <a:off x="914400" y="4952880"/>
            <a:ext cx="838080" cy="22860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note_shkola42</cp:lastModifiedBy>
  <cp:lastPrinted>2021-03-15T09:57:58Z</cp:lastPrinted>
  <dcterms:modified xsi:type="dcterms:W3CDTF">2021-03-15T09:59:2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