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8402-AF07-49E3-B8A8-8CA450D0C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6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116600"/>
            <a:ext cx="8006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DD47-7962-4093-AE40-E5C4DC0F3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0280" y="190512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11660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0280" y="411660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DE83-6910-482C-B8D0-DD58320A2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2577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4560" y="1905120"/>
            <a:ext cx="2577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1400" y="1905120"/>
            <a:ext cx="2577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116600"/>
            <a:ext cx="2577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4560" y="4116600"/>
            <a:ext cx="2577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1400" y="4116600"/>
            <a:ext cx="2577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A9E6-5535-471F-AA9C-23A6DD16F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2B005-A7A9-4976-B18B-BCE9B82AB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37720" y="1905120"/>
            <a:ext cx="8006040" cy="42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2EE81-461E-4629-9BAB-6A6BE2917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604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DFFF6-3FCD-4706-A3E9-A80B80D03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90672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0280" y="1905120"/>
            <a:ext cx="390672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9B2E6-F7B7-45A5-986E-7806C40C0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25E3A-DF14-4BB3-AAA2-9518B7146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-92520"/>
            <a:ext cx="838368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DADE1-B868-41A5-B1C0-F7541416F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40280" y="1905120"/>
            <a:ext cx="390672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7720" y="411660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5B451-DF2D-4E64-A0B6-0FF863427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5120"/>
            <a:ext cx="8006040" cy="42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EFFA-0E2B-4439-BFE4-021D4D7C2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90672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0280" y="190512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40280" y="411660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A8194-987F-4D5B-BCE2-15C957BA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40280" y="190512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7720" y="4116600"/>
            <a:ext cx="8006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75C9E-876B-4B8E-A260-3747DBDF5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6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37720" y="4116600"/>
            <a:ext cx="8006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FE8BB-95BB-457E-BA4E-16B136F76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0280" y="190512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11660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40280" y="411660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238C5-5C1F-4FC9-9CF0-5B93332F9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2577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4560" y="1905120"/>
            <a:ext cx="2577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51400" y="1905120"/>
            <a:ext cx="2577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37720" y="4116600"/>
            <a:ext cx="2577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4560" y="4116600"/>
            <a:ext cx="2577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51400" y="4116600"/>
            <a:ext cx="2577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A0C69-954B-40E2-BDA5-42A3AB16A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604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1FFD-C506-48C7-B5C6-EFE6F0CF7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90672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0280" y="1905120"/>
            <a:ext cx="390672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32A7-4AFE-4871-8613-87F0D1AA9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0A0A-1F4F-45F5-B552-7E1791AA5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-92520"/>
            <a:ext cx="838368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5869-C55F-4C37-8C99-B25F210A4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0280" y="1905120"/>
            <a:ext cx="390672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11660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F479-B303-42C5-833B-00B8F824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90672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0280" y="190512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0280" y="411660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9ADE-E4C7-4C3D-9A3F-F9E1CC69E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0280" y="190512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116600"/>
            <a:ext cx="8006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A46E-47DF-45F3-B1B6-D964F5D6D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318960" y="1828800"/>
            <a:ext cx="8823600" cy="5027760"/>
            <a:chOff x="318960" y="1828800"/>
            <a:chExt cx="8823600" cy="5027760"/>
          </a:xfrm>
        </p:grpSpPr>
        <p:sp>
          <p:nvSpPr>
            <p:cNvPr id="1" name="Freeform 2"/>
            <p:cNvSpPr/>
            <p:nvPr/>
          </p:nvSpPr>
          <p:spPr>
            <a:xfrm>
              <a:off x="838080" y="4618080"/>
              <a:ext cx="8304480" cy="223848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333360" y="1828800"/>
              <a:ext cx="8809200" cy="502776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838080" y="4654440"/>
              <a:ext cx="8304480" cy="2202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838080" y="1828800"/>
              <a:ext cx="7312320" cy="442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838080" y="1828800"/>
              <a:ext cx="44640" cy="28321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>
              <a:off x="836640" y="4610160"/>
              <a:ext cx="44280" cy="224640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318960" y="4610160"/>
              <a:ext cx="4569120" cy="442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>
              <a:off x="318960" y="4610160"/>
              <a:ext cx="46080" cy="224640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5280"/>
            <a:ext cx="1900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5280"/>
            <a:ext cx="1900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0E7B9EE-F549-4909-885D-7A0D8E79D5B8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5120"/>
            <a:ext cx="800604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3E0BD31-B286-40A0-AE7E-2C5601A619F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0000" y="63000"/>
            <a:ext cx="8839080" cy="173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СТРОЕНИЕ ЦВЕТКОВЫХ РАСТЕНИЙ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619280" y="1800360"/>
            <a:ext cx="6300720" cy="41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512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троение цветкового растен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1752480" y="1905120"/>
            <a:ext cx="5943600" cy="43434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2209680" y="5867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р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2209680" y="571500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рен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5"/>
          <p:cNvSpPr/>
          <p:nvPr/>
        </p:nvSpPr>
        <p:spPr>
          <a:xfrm>
            <a:off x="3048120" y="5945040"/>
            <a:ext cx="1676160" cy="230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169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66"/>
              </a:buClr>
              <a:buFont typeface="Symbol" charset="2"/>
              <a:buChar char="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66"/>
                </a:solidFill>
                <a:latin typeface="Arial"/>
              </a:rPr>
              <a:t>Корень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крепление растений в почве, поглощение воды и минеральных веществ из почвы, в корне вырабатываются необходимые для жизни растений органические вещест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1676520" y="3048120"/>
            <a:ext cx="5562360" cy="35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52280" y="228600"/>
            <a:ext cx="86932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66"/>
                </a:solidFill>
                <a:latin typeface="Arial"/>
              </a:rPr>
              <a:t>Стебель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земная часть растения, связывает корень и лист; обеспечивает прохождение воды и питательных веществ к листьям и цветкам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533520" y="3124080"/>
            <a:ext cx="3581280" cy="3048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"/>
          <p:cNvPicPr/>
          <p:nvPr/>
        </p:nvPicPr>
        <p:blipFill>
          <a:blip r:embed="rId2"/>
          <a:stretch/>
        </p:blipFill>
        <p:spPr>
          <a:xfrm>
            <a:off x="4495680" y="3124080"/>
            <a:ext cx="381024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5406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66"/>
              </a:buClr>
              <a:buFont typeface="Symbol" charset="2"/>
              <a:buChar char="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66"/>
                </a:solidFill>
                <a:latin typeface="Arial"/>
              </a:rPr>
              <a:t>Лист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еспечивает процесс фотосинтеза, испарение воды и процесс газообме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762120" y="1781280"/>
            <a:ext cx="7619760" cy="50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-360" y="380520"/>
            <a:ext cx="88455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66"/>
              </a:buClr>
              <a:buFont typeface="Symbol" charset="2"/>
              <a:buChar char="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66"/>
                </a:solidFill>
                <a:latin typeface="Arial"/>
              </a:rPr>
              <a:t>Цветок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рган размножения растений, в котором развиваются семена. </a:t>
            </a: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Пестик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женская часть цветка. </a:t>
            </a: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Тычинк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имеет пыльник, внутри которого созревает </a:t>
            </a: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пыльц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микроспоры. Тычинки и пестик защищены </a:t>
            </a: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венчиком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который состоит из лепестк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3124080" y="3429000"/>
            <a:ext cx="54864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троение цвет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3"/>
          <p:cNvSpPr/>
          <p:nvPr/>
        </p:nvSpPr>
        <p:spPr>
          <a:xfrm>
            <a:off x="2971800" y="2971800"/>
            <a:ext cx="3124080" cy="2819520"/>
          </a:xfrm>
          <a:custGeom>
            <a:avLst/>
            <a:gdLst>
              <a:gd name="textAreaLeft" fmla="*/ 1026720 w 3124080"/>
              <a:gd name="textAreaRight" fmla="*/ 2103840 w 3124080"/>
              <a:gd name="textAreaTop" fmla="*/ 1317240 h 2819520"/>
              <a:gd name="textAreaBottom" fmla="*/ 1771920 h 281952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6095880" cy="4647960"/>
          </a:xfrm>
          <a:prstGeom prst="rect">
            <a:avLst/>
          </a:prstGeom>
          <a:ln w="0">
            <a:noFill/>
          </a:ln>
        </p:spPr>
      </p:pic>
      <p:sp>
        <p:nvSpPr>
          <p:cNvPr id="111" name="Line 5"/>
          <p:cNvSpPr/>
          <p:nvPr/>
        </p:nvSpPr>
        <p:spPr>
          <a:xfrm>
            <a:off x="5562720" y="2895480"/>
            <a:ext cx="2361960" cy="60984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Line 6"/>
          <p:cNvSpPr/>
          <p:nvPr/>
        </p:nvSpPr>
        <p:spPr>
          <a:xfrm flipV="1">
            <a:off x="6705720" y="3503160"/>
            <a:ext cx="1218960" cy="99396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7924680" y="33526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нч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Line 8"/>
          <p:cNvSpPr/>
          <p:nvPr/>
        </p:nvSpPr>
        <p:spPr>
          <a:xfrm flipH="1" flipV="1">
            <a:off x="1141560" y="2284560"/>
            <a:ext cx="3355920" cy="152712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457200" y="18288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ст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Line 10"/>
          <p:cNvSpPr/>
          <p:nvPr/>
        </p:nvSpPr>
        <p:spPr>
          <a:xfrm flipV="1">
            <a:off x="4038480" y="1750680"/>
            <a:ext cx="1981440" cy="137484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11"/>
          <p:cNvSpPr/>
          <p:nvPr/>
        </p:nvSpPr>
        <p:spPr>
          <a:xfrm flipV="1">
            <a:off x="4876920" y="1750680"/>
            <a:ext cx="1218960" cy="175572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12"/>
          <p:cNvSpPr/>
          <p:nvPr/>
        </p:nvSpPr>
        <p:spPr>
          <a:xfrm>
            <a:off x="6019920" y="1523880"/>
            <a:ext cx="165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ычин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Line 13"/>
          <p:cNvSpPr/>
          <p:nvPr/>
        </p:nvSpPr>
        <p:spPr>
          <a:xfrm flipV="1">
            <a:off x="1523880" y="6094440"/>
            <a:ext cx="914400" cy="792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14"/>
          <p:cNvSpPr/>
          <p:nvPr/>
        </p:nvSpPr>
        <p:spPr>
          <a:xfrm>
            <a:off x="0" y="59436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Цветонож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5"/>
          <p:cNvSpPr/>
          <p:nvPr/>
        </p:nvSpPr>
        <p:spPr>
          <a:xfrm>
            <a:off x="0" y="45720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шеч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Line 16"/>
          <p:cNvSpPr/>
          <p:nvPr/>
        </p:nvSpPr>
        <p:spPr>
          <a:xfrm>
            <a:off x="914400" y="4952880"/>
            <a:ext cx="838080" cy="2286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рина</dc:creator>
  <dc:description/>
  <dc:language>en-US</dc:language>
  <cp:lastModifiedBy>note_shkola42</cp:lastModifiedBy>
  <cp:lastPrinted>2021-03-15T09:57:58Z</cp:lastPrinted>
  <dcterms:modified xsi:type="dcterms:W3CDTF">2021-03-15T09:59:24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