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B1C-6717-4C31-B03D-F16802A3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C14-FC0A-4651-BF27-3B09A4D7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6E1-7CE7-4C3A-ACCE-E08EFFAE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19A-D645-49E9-80EA-A9360390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A27-9CED-4732-B994-F871CF60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EF5-3DD0-4151-A4B1-61CA03DA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B56-A414-4C9A-82BB-C32630CE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0ED-248C-4BA2-820C-B8A00A12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A36-4FAD-439A-850F-730AB117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D74-F78B-4355-BFEA-24DD88C9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C5F-20C8-42A1-9FD0-E73C50C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A57-ADCA-4438-BBE9-099674D0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DBEF-177E-4AD2-AD13-7B272BB83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622160"/>
            <a:ext cx="91440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ый медвед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обжев Алексей, группа Т-1-21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09080"/>
            <a:ext cx="10515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бурого медведя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471640" y="1023480"/>
            <a:ext cx="613404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 бурого медведя типичен для представителя семейства медвежьих. Тело у него мощное, с высокой холкой; голова массивная с небольшими ушами и глаз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1"/>
          <a:stretch/>
        </p:blipFill>
        <p:spPr>
          <a:xfrm>
            <a:off x="704880" y="1023840"/>
            <a:ext cx="4386240" cy="2341800"/>
          </a:xfrm>
          <a:prstGeom prst="rect">
            <a:avLst/>
          </a:prstGeom>
          <a:ln w="0">
            <a:noFill/>
          </a:ln>
        </p:spPr>
      </p:pic>
      <p:sp>
        <p:nvSpPr>
          <p:cNvPr id="46" name="Объект 2"/>
          <p:cNvSpPr/>
          <p:nvPr/>
        </p:nvSpPr>
        <p:spPr>
          <a:xfrm flipV="1" rot="10800000">
            <a:off x="5471640" y="3427920"/>
            <a:ext cx="61340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ый медведь всеядный, но рацион у него на 3/4 растительный: ягоды, жёлуди, орехи, корни, клубни и стебли трав. В неурожайные на ягоды годы в северных областях медведи посещают посевы овса, а в южных — посевы кукуру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"/>
          <p:cNvPicPr/>
          <p:nvPr/>
        </p:nvPicPr>
        <p:blipFill>
          <a:blip r:embed="rId2"/>
          <a:stretch/>
        </p:blipFill>
        <p:spPr>
          <a:xfrm>
            <a:off x="704880" y="3676680"/>
            <a:ext cx="43862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91800"/>
            <a:ext cx="10515600" cy="40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обитания бурых медведей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41520" y="1962000"/>
            <a:ext cx="160020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бъект 2"/>
          <p:cNvSpPr/>
          <p:nvPr/>
        </p:nvSpPr>
        <p:spPr>
          <a:xfrm>
            <a:off x="9101160" y="4540320"/>
            <a:ext cx="1600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бъект 2"/>
          <p:cNvSpPr/>
          <p:nvPr/>
        </p:nvSpPr>
        <p:spPr>
          <a:xfrm>
            <a:off x="709560" y="4540320"/>
            <a:ext cx="2451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л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7945560" y="655560"/>
            <a:ext cx="3914640" cy="2632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>
            <a:off x="4160880" y="3429000"/>
            <a:ext cx="3940200" cy="2981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3"/>
          <a:stretch/>
        </p:blipFill>
        <p:spPr>
          <a:xfrm>
            <a:off x="228600" y="804960"/>
            <a:ext cx="37101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7T07:04:51Z</dcterms:created>
  <dc:creator>Student</dc:creator>
  <dc:description/>
  <dc:language>en-US</dc:language>
  <cp:lastModifiedBy>Admin</cp:lastModifiedBy>
  <dcterms:modified xsi:type="dcterms:W3CDTF">2021-09-17T08:51:33Z</dcterms:modified>
  <cp:revision>8</cp:revision>
  <dc:subject/>
  <dc:title>Бурый медведь</dc:title>
</cp:coreProperties>
</file>