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1E42-DC18-4337-A3BE-1ECAA3E7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73D6-38BA-4567-AAC2-D6ECD760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5F1E-D73D-4A52-9445-F8AF40D0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43B-1CA4-485B-8314-B9CA64F2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7945-C12D-4B78-B68A-A8299234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4B5D-95F6-469A-8DD0-BF482FAD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5A63-DCB5-4B07-ACA7-C2074DA1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A2C-CAEA-4153-BC87-31619D93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8C2-2653-4B7C-87F1-B89419EC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7E14-548C-4A4B-AA7A-46666946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2B02-EB5B-4C1B-B813-F4782D23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A35-59AF-4EE4-A119-DD93E29B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87C8-AEAF-4887-BF10-C98960FE2E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622160"/>
            <a:ext cx="91440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ый медведь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обжев Алексей, группа Т-1-21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БПОУ «Смоленский строительный колледж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09080"/>
            <a:ext cx="10515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бурого медведя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471640" y="1023480"/>
            <a:ext cx="6134040" cy="13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 бурого медведя типичен для представителя семейства медвежьих. Тело у него мощное, с высокой холкой; голова массивная с небольшими ушами и глаз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5" descr=""/>
          <p:cNvPicPr/>
          <p:nvPr/>
        </p:nvPicPr>
        <p:blipFill>
          <a:blip r:embed="rId1"/>
          <a:stretch/>
        </p:blipFill>
        <p:spPr>
          <a:xfrm>
            <a:off x="704880" y="1023840"/>
            <a:ext cx="4386240" cy="2341800"/>
          </a:xfrm>
          <a:prstGeom prst="rect">
            <a:avLst/>
          </a:prstGeom>
          <a:ln w="0">
            <a:noFill/>
          </a:ln>
        </p:spPr>
      </p:pic>
      <p:sp>
        <p:nvSpPr>
          <p:cNvPr id="46" name="Объект 2"/>
          <p:cNvSpPr/>
          <p:nvPr/>
        </p:nvSpPr>
        <p:spPr>
          <a:xfrm flipV="1" rot="10800000">
            <a:off x="5471640" y="3427920"/>
            <a:ext cx="613404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ый медведь всеядный, но рацион у него на 3/4 растительный: ягоды, жёлуди, орехи, корни, клубни и стебли трав. В неурожайные на ягоды годы в северных областях медведи посещают посевы овса, а в южных — посевы кукуруз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7" descr=""/>
          <p:cNvPicPr/>
          <p:nvPr/>
        </p:nvPicPr>
        <p:blipFill>
          <a:blip r:embed="rId2"/>
          <a:stretch/>
        </p:blipFill>
        <p:spPr>
          <a:xfrm>
            <a:off x="704880" y="3676680"/>
            <a:ext cx="43862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91800"/>
            <a:ext cx="10515600" cy="40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обитания бурых медведей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141520" y="1962000"/>
            <a:ext cx="160020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д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бъект 2"/>
          <p:cNvSpPr/>
          <p:nvPr/>
        </p:nvSpPr>
        <p:spPr>
          <a:xfrm>
            <a:off x="9101160" y="4540320"/>
            <a:ext cx="16002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й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Объект 2"/>
          <p:cNvSpPr/>
          <p:nvPr/>
        </p:nvSpPr>
        <p:spPr>
          <a:xfrm>
            <a:off x="709560" y="4540320"/>
            <a:ext cx="24512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нные ле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5" descr=""/>
          <p:cNvPicPr/>
          <p:nvPr/>
        </p:nvPicPr>
        <p:blipFill>
          <a:blip r:embed="rId1"/>
          <a:stretch/>
        </p:blipFill>
        <p:spPr>
          <a:xfrm>
            <a:off x="7945560" y="655560"/>
            <a:ext cx="3914640" cy="26323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2"/>
          <a:stretch/>
        </p:blipFill>
        <p:spPr>
          <a:xfrm>
            <a:off x="4160880" y="3429000"/>
            <a:ext cx="3940200" cy="29811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"/>
          <p:cNvPicPr/>
          <p:nvPr/>
        </p:nvPicPr>
        <p:blipFill>
          <a:blip r:embed="rId3"/>
          <a:stretch/>
        </p:blipFill>
        <p:spPr>
          <a:xfrm>
            <a:off x="228600" y="804960"/>
            <a:ext cx="37101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17T07:04:51Z</dcterms:created>
  <dc:creator>Student</dc:creator>
  <dc:description/>
  <dc:language>en-US</dc:language>
  <cp:lastModifiedBy>Admin</cp:lastModifiedBy>
  <dcterms:modified xsi:type="dcterms:W3CDTF">2021-09-17T08:51:33Z</dcterms:modified>
  <cp:revision>8</cp:revision>
  <dc:subject/>
  <dc:title>Бурый медведь</dc:title>
</cp:coreProperties>
</file>