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33F-95C8-457A-87A8-2051BE46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887-61BC-49E6-A30E-8789E29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12C-11FF-4C82-8916-7FBA7A76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236-426B-4367-80CA-F634D117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EDD-FC83-4755-9FD9-F422F5C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3CC-B6ED-4CB2-A064-2F31BA7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410-7F97-493A-8637-0F57ED8D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942-AE59-40DD-930D-2B77FDF0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D6A-074B-4F3E-8D30-3E241BF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C83-3574-4E06-9BF9-450EBCA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476-D50E-4C29-97FB-A96E0FF0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DBB-6642-43AD-A8E3-9031BB4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EF35-3E96-45D7-AFD0-623250E89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62216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обжев Алексей, группа Т-1-21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09080"/>
            <a:ext cx="10515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бурого медвед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471640" y="1023480"/>
            <a:ext cx="613404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 бурого медведя типичен для представителя семейства медвежьих. Тело у него мощное, с высокой холкой; голова массивная с небольшими ушами и глаз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704880" y="1023840"/>
            <a:ext cx="4386240" cy="234180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2"/>
          <p:cNvSpPr/>
          <p:nvPr/>
        </p:nvSpPr>
        <p:spPr>
          <a:xfrm flipV="1" rot="10800000">
            <a:off x="5471640" y="3427920"/>
            <a:ext cx="61340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ый медведь всеядный, но рацион у него на 3/4 растительный: ягоды, жёлуди, орехи, корни, клубни и стебли трав. В неурожайные на ягоды годы в северных областях медведи посещают посевы овса, а в южных — посевы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"/>
          <p:cNvPicPr/>
          <p:nvPr/>
        </p:nvPicPr>
        <p:blipFill>
          <a:blip r:embed="rId2"/>
          <a:stretch/>
        </p:blipFill>
        <p:spPr>
          <a:xfrm>
            <a:off x="704880" y="3676680"/>
            <a:ext cx="43862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91800"/>
            <a:ext cx="10515600" cy="4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обитания бурых медведей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41520" y="1962000"/>
            <a:ext cx="16002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бъект 2"/>
          <p:cNvSpPr/>
          <p:nvPr/>
        </p:nvSpPr>
        <p:spPr>
          <a:xfrm>
            <a:off x="9101160" y="4540320"/>
            <a:ext cx="1600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бъект 2"/>
          <p:cNvSpPr/>
          <p:nvPr/>
        </p:nvSpPr>
        <p:spPr>
          <a:xfrm>
            <a:off x="709560" y="4540320"/>
            <a:ext cx="2451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л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7945560" y="655560"/>
            <a:ext cx="3914640" cy="2632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4160880" y="3429000"/>
            <a:ext cx="3940200" cy="2981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228600" y="804960"/>
            <a:ext cx="37101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7T07:04:51Z</dcterms:created>
  <dc:creator>Student</dc:creator>
  <dc:description/>
  <dc:language>en-US</dc:language>
  <cp:lastModifiedBy>Admin</cp:lastModifiedBy>
  <dcterms:modified xsi:type="dcterms:W3CDTF">2021-09-17T08:51:33Z</dcterms:modified>
  <cp:revision>8</cp:revision>
  <dc:subject/>
  <dc:title>Бурый медведь</dc:title>
</cp:coreProperties>
</file>