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93D-E735-4941-BDD1-DB258C26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79D-A777-48BC-906E-955B294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552-1171-4361-88CC-9F03D27D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935-CD98-478B-9C69-B05332E2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9214-12FD-4BF1-93D6-980DAC2A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9C9F-552E-4FA8-B6A5-40CA868C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C553-A4B6-46C0-9523-8F00C9F3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0B1-B7B6-4B21-971E-ADD70AF8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B14-C853-4175-BBE8-7C85312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EE08-57E0-4D38-8645-88A88C4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A28-C237-4DFC-9AD9-F25661F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B2E-98A5-4A16-A744-856806D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41F8-9E1E-4DF1-A38E-EAD6202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7D2B-420F-43E6-B9B6-FF52461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93A4-8DFD-4B88-8484-2A1EDBD1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F9F2-609A-4AA6-AC9C-A0CAD439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A382-417C-402F-875A-834AD9BA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A9B-C84E-4316-B6FD-451FDD0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95D-92DF-46DA-998B-75363A85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FAD-4772-492E-AB49-5818E33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66E-43F3-4679-B7C9-73062D4A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D56-1619-4789-B4BE-D66D6FEF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6DF-16C5-4F36-A4FA-B6AAD45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5B5-0607-41F2-A001-896A4AE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DD14-2028-446B-96F5-B2D101B830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721-BD62-48DB-BAF9-AD4DCB2BCC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ldom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6" descr="0_cd9b_87694cf7_XL"/>
          <p:cNvPicPr/>
          <p:nvPr/>
        </p:nvPicPr>
        <p:blipFill>
          <a:blip r:embed="rId1"/>
          <a:stretch/>
        </p:blipFill>
        <p:spPr>
          <a:xfrm>
            <a:off x="5562720" y="2743200"/>
            <a:ext cx="28191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ck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uall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s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 at 8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ик обычно просыпается в 8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r sist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ess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7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е сестра всегда одевается в 7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ir uncle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unch at 12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х дядя завтракает в 12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s friend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wimming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го друг  часто ходит в бассей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 little bro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the c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й младший брат  иногда играет с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r fa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c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V 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ш папа смотрит телевизор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01151656330"/>
          <p:cNvPicPr/>
          <p:nvPr/>
        </p:nvPicPr>
        <p:blipFill>
          <a:blip r:embed="rId1"/>
          <a:stretch/>
        </p:blipFill>
        <p:spPr>
          <a:xfrm>
            <a:off x="5943600" y="1828800"/>
            <a:ext cx="2666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20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аблица соответс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 Present Simple Tense 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лова подсказки)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earningApps.org/watch?v=pqbmz2s1k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286000" y="4830840"/>
            <a:ext cx="312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286000"/>
            <a:ext cx="9144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 Present Simple Tens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лаголы в 3лиц. ед. числе.)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 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LearningApps.org/view13352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3429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2133720"/>
            <a:ext cx="9144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Глаголы в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e Present Simple Tense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 3 лиц. ед. числе-1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learningapps.org/display?v=pfh6tytwk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124080" y="4876920"/>
            <a:ext cx="32004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920" y="236196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кторина с выбором ответа  "The Present Simple Tensе" (утвердительыне предлож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learningapps.org/display?v=poi4qfzrn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352680" y="5029200"/>
            <a:ext cx="2820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упр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нения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br>
              <a:rPr sz="4400"/>
            </a:b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192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кторина с выбором ответа" The Present Simple Tense (глаголы)"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  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LearningApps.org/view13352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0430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ых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 rot="372000">
            <a:off x="5562720" y="2666880"/>
            <a:ext cx="3119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ce in a while - изредка; ин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ce a week - раз в недел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twice a week - два раза в неде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ever - никогд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ых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3" descr="10deac4b3cfbt"/>
          <p:cNvPicPr/>
          <p:nvPr/>
        </p:nvPicPr>
        <p:blipFill>
          <a:blip r:embed="rId1"/>
          <a:stretch/>
        </p:blipFill>
        <p:spPr>
          <a:xfrm rot="372000">
            <a:off x="5562720" y="2666880"/>
            <a:ext cx="3119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 словом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23351556_1208878086_33"/>
          <p:cNvPicPr/>
          <p:nvPr/>
        </p:nvPicPr>
        <p:blipFill>
          <a:blip r:embed="rId1"/>
          <a:stretch/>
        </p:blipFill>
        <p:spPr>
          <a:xfrm rot="313200">
            <a:off x="5948280" y="2673360"/>
            <a:ext cx="2432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312408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23351570_1208878157_0701151701590"/>
          <p:cNvPicPr/>
          <p:nvPr/>
        </p:nvPicPr>
        <p:blipFill>
          <a:blip r:embed="rId1"/>
          <a:stretch/>
        </p:blipFill>
        <p:spPr>
          <a:xfrm rot="321600">
            <a:off x="5486040" y="3352320"/>
            <a:ext cx="2671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447920"/>
            <a:ext cx="44956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m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dre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fi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te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a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 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t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car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y  + -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 buy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lay + -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 play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ile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= smil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+ 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know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et  + -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= meet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pen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open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d 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read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p +-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stop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10698"/>
          <p:cNvPicPr/>
          <p:nvPr/>
        </p:nvPicPr>
        <p:blipFill>
          <a:blip r:embed="rId1"/>
          <a:stretch/>
        </p:blipFill>
        <p:spPr>
          <a:xfrm>
            <a:off x="380880" y="304920"/>
            <a:ext cx="947880" cy="119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10698"/>
          <p:cNvPicPr/>
          <p:nvPr/>
        </p:nvPicPr>
        <p:blipFill>
          <a:blip r:embed="rId2"/>
          <a:stretch/>
        </p:blipFill>
        <p:spPr>
          <a:xfrm>
            <a:off x="7315200" y="954000"/>
            <a:ext cx="16318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You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sister and 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 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fathe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 c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homework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10698"/>
          <p:cNvPicPr/>
          <p:nvPr/>
        </p:nvPicPr>
        <p:blipFill>
          <a:blip r:embed="rId1"/>
          <a:stretch/>
        </p:blipFill>
        <p:spPr>
          <a:xfrm>
            <a:off x="6172200" y="1219320"/>
            <a:ext cx="3200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7fc7b75b3f8b"/>
          <p:cNvPicPr/>
          <p:nvPr/>
        </p:nvPicPr>
        <p:blipFill>
          <a:blip r:embed="rId1"/>
          <a:stretch/>
        </p:blipFill>
        <p:spPr>
          <a:xfrm>
            <a:off x="6705720" y="2514600"/>
            <a:ext cx="19731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ю в теннис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каждый д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шь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те в тенн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 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м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 .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ногда играют в теннис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10698"/>
          <p:cNvPicPr/>
          <p:nvPr/>
        </p:nvPicPr>
        <p:blipFill>
          <a:blip r:embed="rId1"/>
          <a:stretch/>
        </p:blipFill>
        <p:spPr>
          <a:xfrm>
            <a:off x="6172200" y="2438280"/>
            <a:ext cx="2693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21-09-23T20:07:5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