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681-60E2-47EE-868B-21FCB2E6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410-F2B0-44DE-864E-2F426798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656-83A1-4B95-840E-A8187F71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B84-1755-4DC2-B7F1-77009BCA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F01C-B26F-4616-B850-600CCB63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971-5E7F-40E7-B09A-1D65B3F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60A4-0A7E-4AFD-A85C-BF2214B4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B1C2-3C62-4D29-A1E3-7A138B03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A6E4-376E-431A-834B-F483982E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480D-207F-4CD4-91C2-0C677F3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F511-DAEF-446C-AF59-8F3EBBDC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4D0-30DB-42C3-8A33-FDEA7FCF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5C3F-7D9F-4F09-8646-A05F545B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2B60-E249-4C7B-8E46-497B7B94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1E16-FA24-44E3-BAED-74276EB4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3DB4-A6FD-41D5-A9CA-E690E0DA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2D51-6D9A-402B-ABE6-331888A1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EE1-9F7E-4C52-AB27-B4DDF412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BB4-B878-4575-9C4C-C020D505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7BB-234A-4E6D-9A09-5500BDED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624-CA60-4609-A1B9-978C36E9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767-EF84-4BFA-96B4-25B31E12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2EC-84F9-4A36-B29E-1F92221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B15-659E-4B39-8C6C-E5079E3B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BD53-CFA1-4F95-8BAB-A6FDFE5D92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9B71-F5E8-4683-9580-810255197C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1" name="Picture 4" descr="301cb490028fbf2a0fc2a297271_prev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800600" y="106668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he Present Simple </a:t>
            </a: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en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609588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хорошева Н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eldom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lway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ometime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0_cd9b_87694cf7_XL"/>
          <p:cNvPicPr/>
          <p:nvPr/>
        </p:nvPicPr>
        <p:blipFill>
          <a:blip r:embed="rId1"/>
          <a:stretch/>
        </p:blipFill>
        <p:spPr>
          <a:xfrm>
            <a:off x="5562720" y="2743200"/>
            <a:ext cx="28191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ck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suall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sh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 at 8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ик обычно просыпается в 8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r sist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lway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ess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 7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е сестра всегда одевается в 7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ir uncle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unch at 12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х дядя завтракает в 12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is friend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o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swimming p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го друг  часто ходит в бассей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 little brother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th the c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й младший брат  иногда играет с ко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ur father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ch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V 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ш папа смотрит телевизор кажды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0701151656330"/>
          <p:cNvPicPr/>
          <p:nvPr/>
        </p:nvPicPr>
        <p:blipFill>
          <a:blip r:embed="rId1"/>
          <a:stretch/>
        </p:blipFill>
        <p:spPr>
          <a:xfrm>
            <a:off x="5943600" y="1828800"/>
            <a:ext cx="26668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Таблица соответс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e Present Simple Tense (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лова подсказки)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LearningApps.org/watch?v=pqbmz2s1k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286000" y="4830840"/>
            <a:ext cx="3124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286000"/>
            <a:ext cx="91440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лассификация "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e Present Simple Tense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глаголы в 3лиц. ед. числе.)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LearningApps.org/view13352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3429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2133720"/>
            <a:ext cx="9144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лассификация "Глаголы в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e Present Simple Tense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 3 лиц. ед. числе-1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learningapps.org/display?v=pfh6tytwk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124080" y="4876920"/>
            <a:ext cx="32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920" y="23619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кторина с выбором ответа  "The Present Simple Tensе" (утвердительыне предложе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ttp://learningapps.org/display?v=poi4qfzrn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352680" y="5029200"/>
            <a:ext cx="2820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1920" y="19810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кторина с выбором ответа" The Present Simple Tense (глаголы)"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  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ttp://LearningApps.org/view13352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0430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ually [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u: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ыч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lwei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ten  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dom  [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ld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д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times [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Λ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taimz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ых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3" descr="10deac4b3cfbt"/>
          <p:cNvPicPr/>
          <p:nvPr/>
        </p:nvPicPr>
        <p:blipFill>
          <a:blip r:embed="rId1"/>
          <a:stretch/>
        </p:blipFill>
        <p:spPr>
          <a:xfrm rot="372000">
            <a:off x="5562720" y="2666880"/>
            <a:ext cx="3119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nce in a while - изредка; ин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nce a week - раз в недел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twice a week - два раза в недел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ever - никогд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ых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3" descr="10deac4b3cfbt"/>
          <p:cNvPicPr/>
          <p:nvPr/>
        </p:nvPicPr>
        <p:blipFill>
          <a:blip r:embed="rId1"/>
          <a:stretch/>
        </p:blipFill>
        <p:spPr>
          <a:xfrm rot="372000">
            <a:off x="5562720" y="2666880"/>
            <a:ext cx="3119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ловосочетания стоят в конц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о словом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 ден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er, winter, spring, aut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 o’cloc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23351556_1208878086_33"/>
          <p:cNvPicPr/>
          <p:nvPr/>
        </p:nvPicPr>
        <p:blipFill>
          <a:blip r:embed="rId1"/>
          <a:stretch/>
        </p:blipFill>
        <p:spPr>
          <a:xfrm rot="313200">
            <a:off x="5948280" y="2673360"/>
            <a:ext cx="2432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312408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04920" y="1066320"/>
            <a:ext cx="9677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ru-RU" sz="6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сли  в предложении говорится об одном человеке, животном, предмете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he, she it)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( кроме Я) , то есть глагол стоит в 3 лице единственном числе, к глаголу добавляется окончание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–s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или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К глаголу добавляется окончание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– es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есл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лово заканч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на буквы: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76520" y="33526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819520" y="44956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+ -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23351570_1208878157_0701151701590"/>
          <p:cNvPicPr/>
          <p:nvPr/>
        </p:nvPicPr>
        <p:blipFill>
          <a:blip r:embed="rId1"/>
          <a:stretch/>
        </p:blipFill>
        <p:spPr>
          <a:xfrm rot="321600">
            <a:off x="5486040" y="3352320"/>
            <a:ext cx="2671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447920"/>
            <a:ext cx="44956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+ 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m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re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dre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f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te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 =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 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t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car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uy  + -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 buy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lay + -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 play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ile +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= smile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+ 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know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et 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= meet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pen +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open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d  +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read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p +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stop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10698"/>
          <p:cNvPicPr/>
          <p:nvPr/>
        </p:nvPicPr>
        <p:blipFill>
          <a:blip r:embed="rId1"/>
          <a:stretch/>
        </p:blipFill>
        <p:spPr>
          <a:xfrm>
            <a:off x="380880" y="304920"/>
            <a:ext cx="947880" cy="119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10698"/>
          <p:cNvPicPr/>
          <p:nvPr/>
        </p:nvPicPr>
        <p:blipFill>
          <a:blip r:embed="rId2"/>
          <a:stretch/>
        </p:blipFill>
        <p:spPr>
          <a:xfrm>
            <a:off x="7315200" y="954000"/>
            <a:ext cx="16318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 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ou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 sister and 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 fath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 c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10698"/>
          <p:cNvPicPr/>
          <p:nvPr/>
        </p:nvPicPr>
        <p:blipFill>
          <a:blip r:embed="rId1"/>
          <a:stretch/>
        </p:blipFill>
        <p:spPr>
          <a:xfrm>
            <a:off x="6172200" y="1219320"/>
            <a:ext cx="3200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утверди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6248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сказуемое ( смысловой гл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 3 лиц. ед. ч. +-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, -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 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обстоятельство врем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может стоять после подлежащег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7fc7b75b3f8b"/>
          <p:cNvPicPr/>
          <p:nvPr/>
        </p:nvPicPr>
        <p:blipFill>
          <a:blip r:embed="rId1"/>
          <a:stretch/>
        </p:blipFill>
        <p:spPr>
          <a:xfrm>
            <a:off x="6705720" y="2514600"/>
            <a:ext cx="197316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ю в теннис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каждый де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шь в тенни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те в тенни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 usuall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обычно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м в тенни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 .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ногда играют в теннис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10698"/>
          <p:cNvPicPr/>
          <p:nvPr/>
        </p:nvPicPr>
        <p:blipFill>
          <a:blip r:embed="rId1"/>
          <a:stretch/>
        </p:blipFill>
        <p:spPr>
          <a:xfrm>
            <a:off x="6172200" y="2438280"/>
            <a:ext cx="26938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Наталья</cp:lastModifiedBy>
  <dcterms:modified xsi:type="dcterms:W3CDTF">2021-09-23T20:07:5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