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3180-9264-4465-9423-5DF8E65AE3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731A-8D2E-4C97-A3BA-5AB7826961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1B5A-C492-4466-8E31-26FE0A345B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62D-6105-4096-A03D-55719658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76C-76AE-4578-9A01-D7F3369B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F3523-3414-4BB6-ABCA-78B25128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DB4A4-95BE-422F-A537-E326C3B4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DB2AC-253B-40CD-AC3A-02062DBF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CF219-1289-4BA4-B0AD-DD9FD619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B02EB-EBB3-4135-8BD0-322515A1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FA392-FA09-434E-AB90-454F59FB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48A9A-B914-4B8E-91AA-C7A15E72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3DFDC-2746-4B2D-86C0-86620312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438B0-A9F2-48B2-9CCC-F8F6AC39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DD8AD-A2EF-4988-A9AF-F2D7DDE2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B72-0ADD-4C3A-B78F-B6B316B9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6EA28-BCD2-424C-8ED9-4C73390B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0C8DE-EA25-43F8-8083-F77EC287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63D5C-3009-4D3C-81D3-F4AABC53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A3561-3A67-4A1E-B7BA-1CE43D2A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3A704-D15D-48FF-B97A-DB3BF68C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84DAB-296E-494F-8615-B8CCAE0E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B86A2-D2E4-4422-87D5-48BC782A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2530A-3565-4C23-B0D0-4EACFBB0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0A702-83B8-4F03-A9D4-6B6D489E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B7136-3B3D-4687-B52F-22009CD1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E85-8207-4F09-B8C8-C153972B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E42C2-983D-44CB-8D48-2AECAD1F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D5BE-8924-4618-8694-A2FD2034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E538A-59CB-4829-85B8-B83F9C91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4B9BB-FC2E-48E9-AF7B-B3834DFE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91CA2-F1B8-442B-BC17-41DB224F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EA14F-DAE3-4DF9-AA70-97F22F6B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32F08-428E-4AE4-84A8-208A6D77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98F9A-9792-44E1-952A-47C78830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A1735-EFDD-4D06-B08A-338EB615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C2034-28FB-4AD7-9E67-91F0FD02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CC8F-766B-464B-AFE2-A635F43C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FE4CE-9AA0-4088-AF0D-02306860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38A2B-F763-46F6-B851-863D8760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CD3FB-5C6D-45EC-8DA2-3111D174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B9094-7AA1-4E2E-9401-9E1216E3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0707F-9010-44DA-BB55-281965F3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AD889-7B5A-487C-B27E-232E7D06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B9D7B-7A00-49AB-971F-70A966DE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6AE1F-3601-4809-B737-D3ED1FCD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75384-963E-4F42-8F27-178B09DD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AAA1B-94BB-4B0C-804F-2E9B992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160E-36F1-4C3B-AA56-EEE590DB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96E9B-78CB-49EE-BE21-10595E03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12AFB-993E-42D0-B452-0EFE0F24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D3F34-A782-4956-B167-4307BBE5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C6AC9-3A78-48E4-BC17-33E96F4D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D90CD-2B90-4DB2-96D2-3BFA2BE8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F3488-1BCE-4DF9-9319-BA18A3CA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756B4-8C9C-4E64-B749-7CB639D1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F9662-AC33-4448-979F-41D41358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8C432-38D2-4A78-B89C-5ED1E7EA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F1D1F-EAFF-4BEF-9C17-926EEA19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2F71-6850-44DC-8270-9FD2B345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C80C3-B54E-4098-A94D-806CB100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54B19-7195-4579-A9A7-FC230F20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4216A-A739-4E86-B05D-359B4FF9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F2877-40A6-4458-B855-5A9CE70E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7C824-6145-4785-A24A-C6238EFB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CB174-7AE2-405D-94F1-36885AF8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77E47-5A2A-40AB-A68A-126502F1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A2D17-00EE-4487-9B77-2F601D01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8A604-7DF7-41FD-8193-877FC5B0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DA8A9-5BB2-4DEA-BD2F-B973852B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144A-2828-4BF0-8731-DB049077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B32F1-E1AF-4301-9699-09E8EA2A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CBFB4-B327-4D59-9996-57AB30C0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A84E5-E7A8-4C54-8E48-6E49D8F0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34362-0EB0-4F87-9E16-3009AF8F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356A6-F7E7-4BCF-BCBC-2D129D8F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7B1B7-712E-45E2-A9D0-5C7173CF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1EA20-C8C6-443E-9040-6353DF1A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27F41-7DC5-4FD6-9728-3295C9FF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5123A-D1BC-4F7B-9B09-384C6249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72032C-3B88-4900-B3B6-80ED9087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781E-CC02-4A65-950F-96A6D611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00D001-D97B-41A6-93B3-40757A2E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FB3DF-363B-47E0-A151-3F5726CD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DA2FE-FCDF-41CE-BB5E-3F0801A8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1D74E0-CA05-4541-96FA-E1741B09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539E1-FD35-4300-9A71-06C6F63A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C06DD-C4A0-4416-9290-FAE98DFA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54800-8406-42A8-B104-90726543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77174-3429-4710-9A9C-DBD2B06E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80BBE-CB5C-4E9F-ABD0-6E85C69A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E51AB-FF6A-4237-9E58-8A755A20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8C1C-1651-45F4-B75D-A4625AF6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918298-84E7-45FB-AEFD-751CCC4B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3399C-642A-41C6-BAB0-34BFB469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F64C33-DB66-4DDF-94FD-D8ADAA2F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28014-377C-45DB-8F8F-C721E746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A8DBF-C837-4A4F-BAFF-7DA8B375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84EE90-3EDF-457A-8FF7-C87FEDFE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F8E06-8B3F-4D9E-A0BC-E0308DED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105EA-3F2F-456B-9F90-BC124897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1F578-1DFF-4343-BF9D-9325BA13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50C46-3BEB-4A66-B6F3-75D86D6A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29F2-C4C1-4447-9EE6-8B78EB1F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0B38C-3151-4897-9696-9BA62B31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F6C96-4AC1-429B-A92B-C514D6B7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7BCAA-14F0-42C2-8808-F1512F68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555B17-3C09-4929-9452-CCB5CED4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03DF1B-C3D0-4405-B7D8-0D3B6E73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17F9AB-2B14-409C-88AC-0AFC75B3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272AB8-0603-4BD1-AB76-3E488FBF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E5D56-EDA0-4AFD-8911-C13BEDD9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9FC38-8C6C-41EE-95E7-26C009E1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BB1269-28F6-4BA7-9245-1685E9CB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1E5-D452-4B70-8200-27F0D78D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2E35-9804-4916-B0CE-2B32F0FD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FE055-0D01-4A56-88EB-F1F73AED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7340E-4A41-4B10-8255-C58C128B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457BD0-C3A9-498E-8599-533064D5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75ED85-386E-4529-9B9E-F8DBCD8B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CB2C8-4EC9-4193-B028-453D7BB0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242E-15FC-4FE1-9525-74691470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7DC3-A334-432F-9E45-59217E9E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FE21-0E52-411F-8E68-9B16361C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13C5-2DA5-4C47-8677-CA1E17A5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67BBE-BF3B-411D-9604-9015900C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676D-BB6F-41C3-84C4-07AFC4CD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2AE27-D83A-4D44-910C-1368F60C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81F54-A01D-4CD3-AE9C-915E4FB4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6E63-359A-417D-A776-182358E2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8B8-15DB-4B45-929C-B327811F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43D2-5017-43F9-AAE8-6E8D7FE1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5C81F-E86E-477A-AE34-9CAF8E3F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0A65-B9FA-4AF4-8918-708DC8D3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CC549-43FD-41E8-A4D7-37613FDB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AD85-E19C-4F0B-BE7E-C58E821D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9BA51-C7DB-4283-B985-FE4B59EE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A4140-C15B-461C-8494-90AA94AD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E2148-07FB-4E97-9DE4-A6BF842F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2229D-81FE-460B-9782-A0544A07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5049A-AE9A-4E48-86CF-17ECAC58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FC9-3219-4477-99E2-89ECBE7A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CF619-DA34-4B4D-8534-4D2D6FD2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878D0-DB96-4F7E-8817-78580C6D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8CEB-02CB-4868-98BC-C0A4739A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6BFB5-4AAB-4887-8DA3-35D97D8D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FF89-882C-4844-BEEF-66C368A0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E08F6-2FAE-463A-B138-38102A82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2BAFF-F47D-44F8-9BA8-E94BC26A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3C3A-988D-4BF7-BE8E-95AF835B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540A-3C82-48EA-B407-DD097F45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1F587-BB6E-460E-AD9F-6167882C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4FF-B451-4056-8F85-2303AAF3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FC003-D1EA-40E7-A001-BCDCB104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D34C-81CF-4C09-B788-B141994E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F4050-75B9-457A-BDA3-9C89D77C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2E1B9-0A06-4068-AE0B-7A887564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28CA3-E81B-48A8-AC61-0040C47F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CE673-4C36-4EDC-A3D5-09250A3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7E920-4718-4928-BE06-E4E71A4C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E363-C299-45D2-ACAF-9D660D11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E897A-DDEC-4720-9AFF-9FEE1EF7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F4F07-8CBE-4120-B864-CE33C3BF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80A-DFC2-44A3-97B5-024DD1FE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37C37-15D6-4D71-9144-B07E9B9B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D766C-9DFA-408B-BE47-FCF554A4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6CCD9-1D18-4792-8FA8-437E334B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002B0-8B08-4317-B72A-3AF8CDAF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2FFC6-99AC-470C-BC59-7363F3B6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D806F-B692-4599-ABC8-A4FF5C8A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24390-4B07-4118-B785-D2C4FF0B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AB145-8A80-4AE7-9370-C90D9A9B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C6A70-39BD-4347-908A-40810BB3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D82E0-57C6-4EE0-9265-0211DB99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980-B8BF-4AA8-8527-E5246461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FCC03-C287-4C8F-9031-21D20BEC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693DF-6613-4005-A6B4-2FCD86E2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FB3E5-FFFF-4D66-B724-67008EF2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6082A-BA6C-40B1-A916-F1376C3C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A556C-6F5D-4E32-A974-C3A61027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21EBB-10FF-49F5-83A3-23502C7F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04EEE-CB68-4A74-B869-4EE158BB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E1001-C083-470F-9736-82419B77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F7FB6-C8BE-439A-8C43-C0EB5FBC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A5526-C3BA-478E-986C-8F91B5B4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AFF-254E-4D01-9429-EDE2BFE8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9B2AE-BED7-4462-A408-60D4E474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67C95-5373-4D3B-8EF9-E12D63A4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E3819-3CDF-4E39-9FCC-72114E30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DCF7F-5E73-4647-8C26-FBD88E23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1CDF7-B0C0-4386-913F-871F90E0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1E044-3CDB-4FFA-9A2B-C8C8F861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54D96-8792-45E2-8A06-EEF13CAF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0D40B-5A51-45D5-B57F-2104595E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8B177-EA12-4490-AEB9-6E70FAE1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4261B-D3B3-4AD0-AB8C-D5A8AA12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045-337E-4AD6-BF5E-AC47C270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C36F9-6C9A-4F5E-9048-061CB53E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8F85C-708D-4F80-AD38-13A241E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DD995-5D09-477D-AFD1-7FC0F0EE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6152C-D7D0-4093-A503-544D5030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9F161-F675-428E-9AD1-20D8450F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042EF-AC73-4BD5-B80B-D2BE35AE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1107C-442E-4AA1-B27C-5CCF5BDB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81C78-162C-4353-A348-955EA63D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DAF5B-87F6-4CE5-8A18-38FCAA7A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8F209-3D11-434B-AB05-FD760322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B335-AF36-4A01-8FF7-610979B1F5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0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F0BF-D752-4EEC-92DC-6964C11467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5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63F8-861C-42A7-8F2B-F68E76FD09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9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EAC3-8C1C-490A-8409-AD4E65D61B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D8DA-D37C-4CF3-8242-2422BD2C01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3B09-D163-47BE-9138-959537BD0D4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6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FF2F-1266-4362-85BF-684DB6E38C7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67CE-0E16-4DB8-AAE0-64857494584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645D-24D9-4DB8-BB9C-5EC1FE09D69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FA0D-7C0C-4A25-B45E-6CBBDF2F256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ED06-D44D-4976-B47E-BB82BC4D14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4D86-3447-452B-B51E-2C0C95BF55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A81E-6300-4DE8-ACB6-68E48FA42E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2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9D04-83A8-4180-88A7-AB212C7179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235D-5D48-4375-BDBF-A23116DB74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1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8C7F-1342-420B-8F78-B91A6BFC0E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6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0D2A-13CD-42D0-A838-5C0FA78974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2;&#1086;&#1077;&#1085;&#1085;&#1099;&#1077;_&#1076;&#1077;&#1081;&#1089;&#1090;&#1074;&#1080;&#1103;" TargetMode="External"/><Relationship Id="rId2" Type="http://schemas.openxmlformats.org/officeDocument/2006/relationships/hyperlink" Target="https://ru.wikipedia.org/wiki/&#1063;&#1088;&#1077;&#1079;&#1074;&#1099;&#1095;&#1072;&#1081;&#1085;&#1072;&#1103;_&#1089;&#1080;&#1090;&#1091;&#1072;&#1094;&#1080;&#1103;" TargetMode="External"/><Relationship Id="rId3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723920"/>
            <a:ext cx="8183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участников образовательного процесса при возникновении чрезвычайной ситуации. Правила безопасного поведения.</a:t>
            </a:r>
            <a:br>
              <a:rPr sz="2800"/>
            </a:br>
            <a:br>
              <a:rPr sz="2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на педагогическом совете МАОУ СОШ №56 10.04.2018г.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еподаватель-организатор ОБЖ МАОУ СОШ №56  В.А. Филимонов. </a:t>
            </a:r>
            <a:br>
              <a:rPr sz="1400"/>
            </a:br>
            <a:endParaRPr b="1" lang="en-US" sz="1400" spc="-1" strike="noStrike">
              <a:solidFill>
                <a:srgbClr val="ff8d3e"/>
              </a:solidFill>
              <a:latin typeface="Corbel"/>
            </a:endParaRPr>
          </a:p>
        </p:txBody>
      </p:sp>
      <p:sp>
        <p:nvSpPr>
          <p:cNvPr id="769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E80D-4810-4A2E-8C2A-719C9FAA455E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3" descr=""/>
          <p:cNvPicPr/>
          <p:nvPr/>
        </p:nvPicPr>
        <p:blipFill>
          <a:blip r:embed="rId1"/>
          <a:srcRect l="11661" t="8484" r="16405" b="7921"/>
          <a:stretch/>
        </p:blipFill>
        <p:spPr>
          <a:xfrm>
            <a:off x="7620120" y="579600"/>
            <a:ext cx="1025280" cy="1191960"/>
          </a:xfrm>
          <a:prstGeom prst="rect">
            <a:avLst/>
          </a:prstGeom>
          <a:ln w="0">
            <a:noFill/>
          </a:ln>
        </p:spPr>
      </p:pic>
      <p:pic>
        <p:nvPicPr>
          <p:cNvPr id="771" name="Рисунок 5" descr="http://archivebelinskij.pnzreg.ru/files/belinskij_pnzreg_ru/268_3.jpg"/>
          <p:cNvPicPr/>
          <p:nvPr/>
        </p:nvPicPr>
        <p:blipFill>
          <a:blip r:embed="rId2"/>
          <a:srcRect l="32853" t="4807" r="25164" b="0"/>
          <a:stretch/>
        </p:blipFill>
        <p:spPr>
          <a:xfrm>
            <a:off x="604800" y="550800"/>
            <a:ext cx="1447920" cy="1251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" descr=""/>
          <p:cNvPicPr/>
          <p:nvPr/>
        </p:nvPicPr>
        <p:blipFill>
          <a:blip r:embed="rId3"/>
          <a:stretch/>
        </p:blipFill>
        <p:spPr>
          <a:xfrm>
            <a:off x="4038480" y="550800"/>
            <a:ext cx="1447920" cy="171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94760" y="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ы управления по ГО и Ч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15192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рганизации управления деятельностью учебного заведения по делам ГО и ЧС назначаетс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ник, уполномоченный на решение задач в области ГО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меститель руководителя общеобразовательного учреждения по обеспечению безопас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шения задач по защите жизни и здоровья обучающихся и персонала в учебном заведении может быть созда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овая комиссия по чрезвычайным ситуациям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комиссия, как правило, создаётся при возникновении ЧС в районе расположения учебного заведени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главляет комиссию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ректор учебного завед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заведении также может быть созда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окомисс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организованного вывода (вывоза) обучающихся и персонала из зон ЧС природного, техногенного и социального характера, их кратковременного размещения в заблаговременно подготовленных местах в районах, находящихся вне зон действия поражающих факторов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главляет эвакокомисс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 правило,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ведующий учебной частью учебного заве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3" descr=""/>
          <p:cNvPicPr/>
          <p:nvPr/>
        </p:nvPicPr>
        <p:blipFill>
          <a:blip r:embed="rId1"/>
          <a:srcRect l="11661" t="8484" r="16405" b="7921"/>
          <a:stretch/>
        </p:blipFill>
        <p:spPr>
          <a:xfrm>
            <a:off x="7467480" y="152280"/>
            <a:ext cx="83844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лжностные лица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 вопросам ГО и защиты от ЧС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ОУ СОШ № 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22824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228600" y="1397160"/>
          <a:ext cx="8686800" cy="5119560"/>
        </p:xfrm>
        <a:graphic>
          <a:graphicData uri="http://schemas.openxmlformats.org/drawingml/2006/table">
            <a:tbl>
              <a:tblPr/>
              <a:tblGrid>
                <a:gridCol w="3352680"/>
                <a:gridCol w="5334120"/>
              </a:tblGrid>
              <a:tr h="88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ь 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миец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 Владимирович,  директор МАОУ СОШ №56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, уполномоченный на решение задач по ГО и защите от Ч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ано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иколай Александрович, Заместитель директора по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Х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ый за проведение вводного инструктажа по ГО и Ч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ано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иколай Александрович, Заместитель директора по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Х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и групп занятий по курсовому обучению работников учреждения по вопросам ГО и защите от Ч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едшие обучение должностные лица по количеству групп в соответствии с приказом директора учреждения на новый учебный 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уппы населения по обучению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ам ГО и защиты от ЧС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уководите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ов исполнительной власти, органов местного самоуправления 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рганиз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стные лица и работники ГО и РС и Ч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ый состав формирований и служ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ющее насе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ботающее насе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учающиес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51F9-67B7-42F5-B97B-FBA7D4980D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ющее насе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ходит занятия по месту работ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вует в учениях, тренировках и других плановых мероприятиях по гражданской оборон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 изучает способы защиты от опасностей, возникающих при ведении военных действий или в следствие этих действ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ае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ный инструктаж по ГО и Ч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иеме на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9932-EC08-4C99-B7F5-67802F93DE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ботающее насе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052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ает мероприятия, проводимые по тематике гражданской обороны по месту жительства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Это могут быть беседы, лекции, вечера вопросов и ответов, консультации, показ учебных фильмов и т.д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вует в учениях и тренировках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изучает памятки, листовки и пособия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ушивает радиопередачи и просматривает телепрограммы по тематике гражданской об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9E07-639E-42C7-84E0-A5FDE1FC06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учающие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609480" y="1752480"/>
            <a:ext cx="7925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т обучение в учебное время по курсу «Основы безопасности жизнедеятельности» и дисциплине «Безопасность жизнедеятельнос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ют в учениях и тренировках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изучают памятки, листовки и пособия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ушивают радиопередачи и просматривают телепрограммы по тематике гражданской об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4746-F003-44D4-9EEB-C2C34CDA7A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курсового обучения по ГО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ОУ СОШ №56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урсов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готовности работников организации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елым и адекватным действиям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угрозе и возникновении опасностей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щих ЧС и военным конфликтам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ктерным для района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ты и 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ивания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тников организ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ADD7-7D69-474A-96DD-47915A000C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задач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я  работников  по ГО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2018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380520" y="13716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ми задачами обучения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поражающих факторов источников ЧС, характерных для места расположения организации, а также различных видов оруж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пособов защиты от опасностей, возникающих при ЧС и военных конфлик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порядка и последовательности действий по сигнал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НИМАНИЕ ВСЕМ!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приемов оказания первой помощи пострадавш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навыков в пользовании средствами индивидуальной и коллективной защ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практического применения полученных знаний в интересах обеспечения безопасности жизне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работников организации к выполнению своих должностных и специальных обязанностей в условиях угрозы и возникновения опасностей при ЧС и военных конфлик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684C-D834-4A4D-8786-E2CBDE66C0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нцип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ового обучения рабо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80520" y="12952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ми принципами курсового обучения являю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аботников организации тому, что необходимо в условиях угрозы и возникновения опасностей при ЧС и военных конфликт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 и максимальное приближение к реальной обстанов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лое сочетание различных форм и методов обу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сть и методическая последовательность обуче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от простого к сложному, от частного к общему, от известного к неизвестному»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тельность и активность обу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 обу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DBCF-7134-4ACC-87B5-EE52A625E6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и формы занятий курсового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я рабо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0456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учебной деятельно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водимые в ходе курсового обучения, подразделяются н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оретическ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формой теоретических занятий при обучении работников организации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заня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работниками, имеющими автоматизированные рабочие места (персональные компьютеры с выходом в интернет или в локальную компьютерную сеть организации)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проводиться дистанционно (Рабочая программа курсового обучения МАОУ СОШ №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обучения работников организации составляет проведен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х занят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ые занят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и ум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енные при освоении тем программы курсового обучения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ую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ходе участия работников организац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нировках и комплексных учениях по ГО и Ч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11F5-A98A-4A26-918D-D925FA016B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404E-E759-4A53-ABBE-0E8D6FDC8F9A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Прямоугольник 4"/>
          <p:cNvSpPr/>
          <p:nvPr/>
        </p:nvSpPr>
        <p:spPr>
          <a:xfrm>
            <a:off x="457200" y="360360"/>
            <a:ext cx="835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резвычайная ситуац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становка на определенной территор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ложившаяся в результ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р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го природного яв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строф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ийного или иного бедств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которая может повлечь или повлекла за со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ие жерт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а так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щер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ю люд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окружающей сре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ые материальные пот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рушение условий жизнедеятельност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 на Курсовое обучен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ботников МАОУ С ОШ № 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0456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9720" indent="-285840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972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9720" indent="-285840">
              <a:lnSpc>
                <a:spcPct val="10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B381-E803-4880-8B1D-553B66EB5C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457200" y="1447920"/>
          <a:ext cx="8153280" cy="4752720"/>
        </p:xfrm>
        <a:graphic>
          <a:graphicData uri="http://schemas.openxmlformats.org/drawingml/2006/table">
            <a:tbl>
              <a:tblPr/>
              <a:tblGrid>
                <a:gridCol w="2057400"/>
                <a:gridCol w="6095880"/>
              </a:tblGrid>
              <a:tr h="1412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Директора МАОУ СОШ №56 от  09 января  2018 года  №ОД- 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б итогах подготовки работников МАОУ СОШ №56 по вопросам гражданской обороне и защиты от чрезвычайных ситуаций в  2017 году и задачах на 2018 год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188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ПРИКАЗ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- 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09 .01.  2018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 учебных групп и руководителей занятий по ГО и ЧС на 2018 год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68688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ка  учений, тренировок на 2018 го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списание занятий по ГО и ЧС на 2018 го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4416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бочая  программа курсового обучения работников МАОУ СОШ №56 в области ГО и Ч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 Директора МАОУ СОШ №56 от  09.01.2018 г.  №ОД- 1/4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б итогах подготовки работников МАОУ СОШ №56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 вопросам ГО и защиты от ЧС в  2017 году и задачах на 2018 год»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0456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лавной задачей … на 2018 год считать повышение практической направленности к действиям при угрозе и возникновении опасностей, присущих ЧС…, в том числе и по сигналу «ВНИМАНИЕ ВСЕМ!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дготовку должностных лиц осуществлять на курсах ГО городского округа «Город Калининград» в соответствии с утвержденными планами и заявка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урсовое обучение работников организовать по учебным группам (прилож.№ 1)  в соответствии с действующими программами подготов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ебный год начать 09 января 2018 г., закончить 30 ноября 2018 г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ни проведения занятий – вторник 2</a:t>
            </a:r>
            <a:r>
              <a:rPr b="0" lang="ru-RU" sz="1500" spc="-1" strike="noStrike" u="sng" baseline="30000">
                <a:solidFill>
                  <a:srgbClr val="000000"/>
                </a:solidFill>
                <a:uFillTx/>
                <a:latin typeface="Arial"/>
              </a:rPr>
              <a:t>ой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и (или) 4</a:t>
            </a:r>
            <a:r>
              <a:rPr b="0" lang="ru-RU" sz="1500" spc="-1" strike="noStrike" u="sng" baseline="30000">
                <a:solidFill>
                  <a:srgbClr val="000000"/>
                </a:solidFill>
                <a:uFillTx/>
                <a:latin typeface="Arial"/>
              </a:rPr>
              <a:t>ой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едели месяц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урсовое обучение … проводить в объеме 16 часов в соответствии с расписанием занятий (прилож. № 3) и программой  обучения (прилож. №4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ходе учений, тренировок (прилож. №2) и занятий по ГОЧС основные усилие направить на практическое выполнение должностными лицами своих функциональных обязанностей, на привитие им умения анализировать и оценивать обстановку, принимать грамотные решения … при возникновении  ЧС…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полномоченному … Баранову Н.А. провести инструкторско-методическое занятие с руководителями занятий о порядке их подготовки проведению занятий лично проверять готовность руководителей групп к занятиям, организацию и ход их проведения. По результатам проверок представлять мне сведения о качестве проведенных занят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их посещаем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84CF-9B74-43D4-AC91-49C6A08CC6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94760" y="38052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ых групп и руководителей занятий по ГО и ЧС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ОУ СОШ №56 на 2018г. </a:t>
            </a: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533520" y="1371600"/>
          <a:ext cx="7848360" cy="4437000"/>
        </p:xfrm>
        <a:graphic>
          <a:graphicData uri="http://schemas.openxmlformats.org/drawingml/2006/table">
            <a:tbl>
              <a:tblPr/>
              <a:tblGrid>
                <a:gridCol w="914400"/>
                <a:gridCol w="685800"/>
                <a:gridCol w="3581280"/>
                <a:gridCol w="1000080"/>
                <a:gridCol w="1666800"/>
              </a:tblGrid>
              <a:tr h="315720"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ные подразделения,  формирования 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176040" indent="-17604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русского языка и литературы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естественного цикл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математики и инфор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по У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гун Е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учителей нач.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У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цкая И.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ин. языко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физ. культуры, технологии, 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монов В.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доп.  образ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-организаторы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-психолог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 педагог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истории, муз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по 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чурская Л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о-техничес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по АХ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нов Н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238C-F54D-4CAB-A40E-71F207F3AF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1"/>
          <a:stretch/>
        </p:blipFill>
        <p:spPr>
          <a:xfrm>
            <a:off x="7645320" y="2746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тика  </a:t>
            </a:r>
            <a:br>
              <a:rPr sz="16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й, тренировок по ГО в МАОУ СОШ №56  </a:t>
            </a:r>
            <a:br>
              <a:rPr sz="16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2018 год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457200" y="1371600"/>
          <a:ext cx="8153280" cy="4994280"/>
        </p:xfrm>
        <a:graphic>
          <a:graphicData uri="http://schemas.openxmlformats.org/drawingml/2006/table">
            <a:tbl>
              <a:tblPr/>
              <a:tblGrid>
                <a:gridCol w="549360"/>
                <a:gridCol w="5851440"/>
                <a:gridCol w="1752480"/>
              </a:tblGrid>
              <a:tr h="66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о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а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йствия в случае опасностей, возникающих в результате чрезвычайной  ситуации и пожара»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работники и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а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Экстренная эвакуация обучающихся и работающих из помещений и зданий образовательного учреждения в случае возникновения пожара и других ЧС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работники и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и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 эвакуации обучающихся из помещений образовательного учреждения в противорадиационное укрытие (в соответствии с Рабочей программой по предмету «Основы безопасности жизнедеятельности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х, 10-х и 11-х классо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0EC8-EC87-418A-9A82-1B94A8CF4B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760" y="4568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исание занятий по ГО и ЧС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работниками МАОУ СОШ №56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2018 год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304920" y="1371600"/>
          <a:ext cx="8305560" cy="4916520"/>
        </p:xfrm>
        <a:graphic>
          <a:graphicData uri="http://schemas.openxmlformats.org/drawingml/2006/table">
            <a:tbl>
              <a:tblPr/>
              <a:tblGrid>
                <a:gridCol w="685800"/>
                <a:gridCol w="5181480"/>
                <a:gridCol w="609480"/>
                <a:gridCol w="1067040"/>
                <a:gridCol w="761760"/>
              </a:tblGrid>
              <a:tr h="380880"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4132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оражающие факторы источников чрезвычайных ситуаций, характерных для мест расположения и производственной деятельности организации, а также оружия массового поражения и других видов оруж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610"/>
                        </a:lnSpc>
                        <a:tabLst>
                          <a:tab algn="l" pos="0"/>
                          <a:tab algn="l" pos="15192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-7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2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-23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-85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-2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№5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-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рядок получения сигнала «ВНИМАНИЕ ВСЕМ!» с информацией о воздушной тревоге, химической тревоге, радиационной опасности или угрозе катастрофического затопления и действий работников организации по н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61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рядок и правила использования средств индивидуальной и коллективной защиты, а также средств пожаротушения, имеющихся в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ействия работников при аварии, катастрофе и пожаре на территории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.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Действия работников организации при угрозе и возникновении чрезвычайных ситуаций, военных конфликтов, угрозе и совершения террористических а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.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азание перв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12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Действия работников организации в условиях негативных и опасных факторов бытов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ts val="11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8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6CE6-126D-4B68-9752-6508161F3D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ируемые результаты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ового обучения рабо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8088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и организации должны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ающие факторы источников ЧС, характерных для территории проживания и работы, а также оружия массового поражения и других видов оруж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и средства защиты от опасностей, возникающих при военных конфликтах или вследствие этих конфликтов, а также при ЧС природного и техногенного характера, свои обязанности в области ГО и защиты от Ч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расположения средств индивидуальной и коллективной защи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расположения первичных средств пожаротушения, имеющихся в орган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лучения средств индивидуальной защиты, а также укрытия в средствах коллективной защиты работников организации, правила поведения в защитных сооруж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ействий по обеспечению личной безопасности в местах массового скопления людей, при пожаре, на водных объектах, в походе и на прир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2CB7-51CE-4265-9AE2-02EB3DBF00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ируемые результаты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ового обучения рабо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и организации должны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м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овать по сигналу «ВНИМАНИЕ ВСЕМ!», с информацией о воздушной тревоге, химической тревоге, радиационной опасности или угрозе катастрофического затоп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средствами индивидуальной и коллективной защ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частичную санитарную обработ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 выполнять мероприятия по реализации основных способов защ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первичными средствами пожаротушения, имеющимися в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ть первую помощь в неотложных 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570D-060E-4DD1-898E-A78477352D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оприятия по обеспечению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ований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при проведении занятий обеспечивается их четкой организацией, точным соблюдением требований безопасности, положениями руководств, приказов и распоряжений прямых начальников, а также применением знаний и навыков, полученных в ходе проведения различных видов инструктажей и занятий по изучению требований безопасности по темам в соответствии с тематическим пла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и занятий обязаны принимать меры по предотвращению травматизма обучаемых, устанавливать необходимые требования безопасности при обращении с приборами, инвентарем, инструментами, другим оборудование, своевременно доводить эти требования и добиваться строгого их вы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безопасности должны выполняться при любых условиях, независимо от времени проведения занятий, наличия обучаемых и материаль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емые, не усвоившие требования безопасности, к занятиям        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   допускаю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AC31-922F-4470-B03D-1DD7DC30CB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marL="264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учение вопросам ГО и защиты от ЧС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учебном процессе по предмету ОБ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1" name="Объект 3" descr=""/>
          <p:cNvPicPr/>
          <p:nvPr/>
        </p:nvPicPr>
        <p:blipFill>
          <a:blip r:embed="rId1"/>
          <a:stretch/>
        </p:blipFill>
        <p:spPr>
          <a:xfrm>
            <a:off x="560520" y="1603440"/>
            <a:ext cx="7986600" cy="4419360"/>
          </a:xfrm>
          <a:prstGeom prst="rect">
            <a:avLst/>
          </a:prstGeom>
          <a:ln w="0">
            <a:noFill/>
          </a:ln>
        </p:spPr>
      </p:pic>
      <p:sp>
        <p:nvSpPr>
          <p:cNvPr id="852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C99D-BE5B-4926-A54B-C5A4717276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818676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marL="53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о предмета ОБЖ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Системе обучения вопросам ГО и защиты от ЧС</a:t>
            </a:r>
            <a:br>
              <a:rPr sz="20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Объект 1" descr=""/>
          <p:cNvPicPr/>
          <p:nvPr/>
        </p:nvPicPr>
        <p:blipFill>
          <a:blip r:embed="rId1"/>
          <a:stretch/>
        </p:blipFill>
        <p:spPr>
          <a:xfrm>
            <a:off x="19080" y="987480"/>
            <a:ext cx="8680320" cy="586404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4" descr=""/>
          <p:cNvPicPr/>
          <p:nvPr/>
        </p:nvPicPr>
        <p:blipFill>
          <a:blip r:embed="rId2"/>
          <a:stretch/>
        </p:blipFill>
        <p:spPr>
          <a:xfrm>
            <a:off x="7924680" y="33480"/>
            <a:ext cx="838440" cy="977760"/>
          </a:xfrm>
          <a:prstGeom prst="rect">
            <a:avLst/>
          </a:prstGeom>
          <a:ln w="0">
            <a:noFill/>
          </a:ln>
        </p:spPr>
      </p:pic>
      <p:sp>
        <p:nvSpPr>
          <p:cNvPr id="85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12EA-5584-443E-A553-99887D0E64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0BA9-4F7D-454A-8A4C-556AA5D74066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304920" y="304920"/>
          <a:ext cx="8458200" cy="5527440"/>
        </p:xfrm>
        <a:graphic>
          <a:graphicData uri="http://schemas.openxmlformats.org/drawingml/2006/table">
            <a:tbl>
              <a:tblPr/>
              <a:tblGrid>
                <a:gridCol w="1600200"/>
                <a:gridCol w="2954160"/>
                <a:gridCol w="3903840"/>
              </a:tblGrid>
              <a:tr h="274680">
                <a:tc gridSpan="3"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Классификация ЧС по зонам распространения, потерям и ущерб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052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Gill Sans MT"/>
                        </a:rPr>
                        <a:t>Характер Ч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d1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Gill Sans MT"/>
                        </a:rPr>
                        <a:t>Зона чрезвычайной ситу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d1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Количество пострадавших (погибших или получивших ущерб здоровью) либо ущерб окружающей среде и материальных потерь (размер материального ущерб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d1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71f28"/>
                          </a:solidFill>
                          <a:latin typeface="Gill Sans MT"/>
                        </a:rPr>
                        <a:t>Лок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Зона ЧС не выходит за пределы территории объ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Не более 10 чел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не более 100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уницип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она ЧС не выходит за пределы территории одного по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 более 50 чел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 более 5 млн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71f28"/>
                          </a:solidFill>
                          <a:latin typeface="Gill Sans MT"/>
                        </a:rPr>
                        <a:t>Межмуницип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Зона ЧС затрагивает территорию 2-х и более посе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Не более 50 чел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не более 5 млн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Регион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она ЧС не выходит за пределы территории одного субъекта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выше 50 чел., но не более 500 чел., свыше 5 млн. руб, но не более 500 млн.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71f28"/>
                          </a:solidFill>
                          <a:latin typeface="Gill Sans MT"/>
                        </a:rPr>
                        <a:t>Межрегион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Зона ЧС затрагивает территорию 2-х и более субъектов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71f28"/>
                          </a:solidFill>
                          <a:latin typeface="Corbel"/>
                        </a:rPr>
                        <a:t>Свыше 50 чел. но не более 500 чел., свыше 5 млн. руб, но не более 500 млн.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0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Федераль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выше 500 чел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85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выше 500 млн.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Объект 1" descr=""/>
          <p:cNvPicPr/>
          <p:nvPr/>
        </p:nvPicPr>
        <p:blipFill>
          <a:blip r:embed="rId1"/>
          <a:stretch/>
        </p:blipFill>
        <p:spPr>
          <a:xfrm>
            <a:off x="304920" y="129852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990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е вопросам ГО и защиты от ЧС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хся 8-х классов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грамме предмета ОБЖ по 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Box 2"/>
          <p:cNvSpPr/>
          <p:nvPr/>
        </p:nvSpPr>
        <p:spPr>
          <a:xfrm>
            <a:off x="2142000" y="426708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азде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A7A0-5800-455D-B9A8-FA382E5E2D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вопросам ГО и защиты от ЧС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щихся старшей школы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дульн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ение предмета ОБЖ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2" name="Объект 1" descr=""/>
          <p:cNvPicPr/>
          <p:nvPr/>
        </p:nvPicPr>
        <p:blipFill>
          <a:blip r:embed="rId1"/>
          <a:stretch/>
        </p:blipFill>
        <p:spPr>
          <a:xfrm>
            <a:off x="79200" y="1371600"/>
            <a:ext cx="8382240" cy="5029200"/>
          </a:xfrm>
          <a:prstGeom prst="rect">
            <a:avLst/>
          </a:prstGeom>
          <a:ln w="0">
            <a:noFill/>
          </a:ln>
        </p:spPr>
      </p:pic>
      <p:sp>
        <p:nvSpPr>
          <p:cNvPr id="863" name="TextBox 4"/>
          <p:cNvSpPr/>
          <p:nvPr/>
        </p:nvSpPr>
        <p:spPr>
          <a:xfrm>
            <a:off x="1905120" y="39117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Мод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46DF-58C7-4D2E-BBBF-C94B69EAFE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marL="63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урочная деятельность. 8 класс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ужок «Защитник Отечества»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36680" y="1371600"/>
            <a:ext cx="847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ХБЗ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редства коллективной и индивидуальной защ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дицинская подготов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ервая помощь в экстремаль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овседневной жизни и службы в воинской части (подразделен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евая подготов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невая подготовк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тическая подготов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ладная физическая подготов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воспитательная и организационно-массовая работа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6474-989D-4238-99C4-3773B5B76F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marL="72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урочная деятельность. 10 класс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бные сб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9" name="Объект 3" descr=""/>
          <p:cNvPicPr/>
          <p:nvPr/>
        </p:nvPicPr>
        <p:blipFill>
          <a:blip r:embed="rId1"/>
          <a:stretch/>
        </p:blipFill>
        <p:spPr>
          <a:xfrm>
            <a:off x="603360" y="1517760"/>
            <a:ext cx="8070840" cy="4505040"/>
          </a:xfrm>
          <a:prstGeom prst="rect">
            <a:avLst/>
          </a:prstGeom>
          <a:ln w="0">
            <a:noFill/>
          </a:ln>
        </p:spPr>
      </p:pic>
      <p:sp>
        <p:nvSpPr>
          <p:cNvPr id="870" name="TextBox 4"/>
          <p:cNvSpPr/>
          <p:nvPr/>
        </p:nvSpPr>
        <p:spPr>
          <a:xfrm>
            <a:off x="2787480" y="295596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6D85-6DEE-46FB-BAB8-E7BF66D272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539640"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 в нашей школе!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НО – ДОСУГОВЫЙ ЦЕНТР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Я люблю ОБЖ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76320" y="1189080"/>
          <a:ext cx="8915400" cy="5568840"/>
        </p:xfrm>
        <a:graphic>
          <a:graphicData uri="http://schemas.openxmlformats.org/drawingml/2006/table">
            <a:tbl>
              <a:tblPr/>
              <a:tblGrid>
                <a:gridCol w="1218960"/>
                <a:gridCol w="76964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действие всестороннему гармоничному развитию личности учащегося – гражданина и патриота нашей любимой Род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итие любви и уважения к Родине и ее Вооруженным Сил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ятие психологической нагрузки путем смены вида деятель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коммуникативных способностей в разновозрастном коллективе и  самодисциплины, преодоление комплексов и фоби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способности оценивать себя и других людей по делам и отношению к окружающи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лучение знаний, умений и навыков по вопросам БЖД, Г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НВП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ствование физического развития, содействие в подготовке к сдаче норм ГТ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тремления к ЗОЖ, отвлечение от соблазнов приобретения вредных привычек и совершения проступков, содействие сохранности имущества шк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ивное использование учебно-материальной базы ОБ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87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66E6-4D54-481B-AF87-E3F68BCC42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1635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 здравствует здоровый образ жизни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НО – ДОСУГОВЫЙ ЦЕНТР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метно-досуговый центр работ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онедельника по пятницу в первой половине д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4492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ля учащихся любых (всех) классов (возрас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2800" indent="-18252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на каждой перем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ля администрации,  преподавателей и их детей дошкольного возра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2800" indent="-18252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 любое время на свободных уроках (окнах) и переменах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38E0-0259-4E13-AA5D-FAB53AE764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339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затели работы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2016-2017 учебном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990720" y="1295280"/>
          <a:ext cx="7238880" cy="4978440"/>
        </p:xfrm>
        <a:graphic>
          <a:graphicData uri="http://schemas.openxmlformats.org/drawingml/2006/table">
            <a:tbl>
              <a:tblPr/>
              <a:tblGrid>
                <a:gridCol w="4816440"/>
                <a:gridCol w="1211040"/>
                <a:gridCol w="1211400"/>
              </a:tblGrid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дней/часов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недель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ей/часов работы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ов работы в день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школьников 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участников ПД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охв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посе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оличества посещений к количеству школьников в 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тителей в день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E959-2985-4C82-9FFC-56306D0B92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076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НО – ДОСУГОВЫЙ ЦЕНТР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 работы в 2016-2017 учебном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3" name=""/>
          <p:cNvGraphicFramePr/>
          <p:nvPr/>
        </p:nvGraphicFramePr>
        <p:xfrm>
          <a:off x="609480" y="1447920"/>
          <a:ext cx="8001000" cy="5065560"/>
        </p:xfrm>
        <a:graphic>
          <a:graphicData uri="http://schemas.openxmlformats.org/drawingml/2006/table">
            <a:tbl>
              <a:tblPr/>
              <a:tblGrid>
                <a:gridCol w="952560"/>
                <a:gridCol w="501840"/>
                <a:gridCol w="500040"/>
                <a:gridCol w="501480"/>
                <a:gridCol w="500040"/>
                <a:gridCol w="500040"/>
                <a:gridCol w="501840"/>
                <a:gridCol w="500040"/>
                <a:gridCol w="501480"/>
                <a:gridCol w="500040"/>
                <a:gridCol w="1335240"/>
                <a:gridCol w="1206360"/>
              </a:tblGrid>
              <a:tr h="282240">
                <a:tc row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дней занятий  по месяцам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щения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н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gridSpan="1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имечание: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учета посещений в дни занятий по расписанию и по отдельным заяв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84" name="Picture 3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712800" cy="817560"/>
          </a:xfrm>
          <a:prstGeom prst="rect">
            <a:avLst/>
          </a:prstGeom>
          <a:ln w="0">
            <a:noFill/>
          </a:ln>
        </p:spPr>
      </p:pic>
      <p:sp>
        <p:nvSpPr>
          <p:cNvPr id="88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23D4-03F6-4380-A20D-A0E4ABE319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900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 учебно-материальной базы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защиты от Ч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609480" y="1371600"/>
            <a:ext cx="825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абинет ОБЖ – оборудован и оснащен необходимым имущ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аборантская ОБ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овременное оборудование 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У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на 1100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редства индивидуальной защиты и приборы РХБ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едицинские тренажеры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олоса препят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идео-фильмы, литература, стационарные и мобильные наглядные пособия и плак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й тир (2 ед. оруж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лковый тир для пневматического оруж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ово-габаритные макеты АК-74 – 2 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е автотренажеры (д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4DC6-0667-4011-8A27-A04BBD7A6E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723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ояние учебно-материальной базы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 и защиты от Ч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96680" indent="-62064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бно-материальная баз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92680" indent="-62064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ует предъявляемым к ней требования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92680" indent="-62064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держивается в рабочем состояни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92680" indent="-62064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вается в соответствии с перспективным планом на 5 л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92680" indent="-62064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ется с интенсивной нагрузкой в урочное и неурочное врем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96680" indent="-62064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МБ ГО и ЧС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вое место в г. Калининграде на смотре-конкурсе  2016 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96680" indent="-62064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Первое место в Калининградской области в 2014 году (Кубо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96680" indent="-620640">
              <a:spcBef>
                <a:spcPts val="649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FDF2-120E-4F93-AE1C-324FDA47E1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A78F-3A1D-427A-96A6-3A989C03AA60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Схема 4" descr=""/>
          <p:cNvPicPr/>
          <p:nvPr/>
        </p:nvPicPr>
        <p:blipFill>
          <a:blip r:embed="rId1"/>
          <a:stretch/>
        </p:blipFill>
        <p:spPr>
          <a:xfrm>
            <a:off x="231840" y="536400"/>
            <a:ext cx="8766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94760" y="151920"/>
            <a:ext cx="8015400" cy="1019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и 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нировок по эваку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ебные и воспитательные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ать у администрации и работников школы единое понимание задач, мероприятий, последовательности и способов действий в случае опасностей, возникающих при внезапном нападении противника, угрозе террористического акта, в результате ЧС и  пожа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практические навыки сотрудников и учащихся школы по эвакуации из здания при внезапном возникновении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ить уверенность учащихся в способности администрации и педагогов школы и своих возможностях обеспечить безопасность в различных Ч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готовность школы к осуществлению внезапной эвакуации при возникновении ЧС в нормативные с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E3CC-E156-455C-B082-97D547454A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760" y="196560"/>
            <a:ext cx="8015400" cy="974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и 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нировок по эваку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30492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35880" indent="-2516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вещение сотрудников, учащихся и посетителей школы о возникновении Ч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516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временное открытие дверей основных и запасных выходов из з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516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осуществление эвакуации из здания школы учащихся, сотрудников и посетителей, защита людей на путях эвак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51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редоточение (построение) персонала и учащихся в месте (пункте) сбора, проверка и учет наличия персонала и учащихся в пункте с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51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товности  спасательной и санитарной групп к действ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CFC9-552C-498A-B91F-DB41E165D8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3" descr=""/>
          <p:cNvPicPr/>
          <p:nvPr/>
        </p:nvPicPr>
        <p:blipFill>
          <a:blip r:embed="rId2"/>
          <a:srcRect l="11661" t="8484" r="16405" b="7921"/>
          <a:stretch/>
        </p:blipFill>
        <p:spPr>
          <a:xfrm>
            <a:off x="7467480" y="196920"/>
            <a:ext cx="838440" cy="97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94760" y="151920"/>
            <a:ext cx="8015400" cy="1019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овещение и открывание дверей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эваку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0" name="Объект 2" descr=""/>
          <p:cNvPicPr/>
          <p:nvPr/>
        </p:nvPicPr>
        <p:blipFill>
          <a:blip r:embed="rId2"/>
          <a:stretch/>
        </p:blipFill>
        <p:spPr>
          <a:xfrm>
            <a:off x="536400" y="1401840"/>
            <a:ext cx="8101080" cy="5029200"/>
          </a:xfrm>
          <a:prstGeom prst="rect">
            <a:avLst/>
          </a:prstGeom>
          <a:ln w="0">
            <a:noFill/>
          </a:ln>
        </p:spPr>
      </p:pic>
      <p:sp>
        <p:nvSpPr>
          <p:cNvPr id="90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2B70-DCDD-459D-9ED5-0026820A8B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760" y="151920"/>
            <a:ext cx="8015400" cy="1019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 задача при эвакуации –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стро вывести людей в безопасное мест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045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76040" algn="ctr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 (тренер), который проводил занятия с класс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76040" algn="ctr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сонально отвечает за жизнь и здоровье учащихся класс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76040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обязанности учителя (тренера) при эваку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ь окна кабине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ть  список учащихся и лист контроля эвакуации класс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учащихся в колонну по два, проверить их наличие и вывести из кабинета в корид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 закрыть двери в кабинет –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 на замок не закрыв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безопасный маршрут и, возглавляя колонну, быстро и организовано, без паники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захода в гардероб и другие помещ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в колонне по два в направлении ближайшего выхода из здания к месту построения на стадионе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класс на месте построения на стадионе и проверить по списку наличие учащихся в стро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лист контроля эвакуации кл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8892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ожить соответствующему завучу о результатах эвакуации и сдать ему лист контроля эвакуации кл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 algn="just">
              <a:lnSpc>
                <a:spcPts val="15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отсутствия учащегося в период эвакуации – учитель срочно доложить об этом директору для  принятия им решения о направлении спасательной группы для поиска уча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AA55-26AA-42C3-8393-55FCCB2791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94760" y="151920"/>
            <a:ext cx="8015400" cy="1019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ец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ения листа контр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762120" y="1447920"/>
          <a:ext cx="7315200" cy="464796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4647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 КОНТРОЛЯ ЭВАК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 а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                       Дата: 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. 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0" i="1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иску:                      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овало на занятиях: __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ся в строю:                 __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 че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и на занятиях, но нет в строю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 чел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-имен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доров Серг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  _________________ _________________  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одаватель-руководитель эвакуацией класса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дпис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 / ____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ванов П.П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ь              расшифровка  - разборч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 иниц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90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A519-CD43-4D4E-9657-1ACFBC12D1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010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 организации эвакуаци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й с ОВЗ </a:t>
            </a:r>
            <a:br>
              <a:rPr sz="28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. №ОД-95 от 29.08.2017г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53316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м руководителям и учителям, ведущим урок, ежеднев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ять возможности учащихся по самостоятельной эвакуации из здания школы по состоянию здоровья в случае опасностей, возникающих при внезапном нападении противника, угрозе террористического акта, в результате чрезвычайной ситуации и  пож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в классе учащихся с нарушениями или травмами опорно-двигательного аппарата в начале каждого урока планировать и организовывать оказание им помощи  другими учащимися на случай необходимости эвакуации из здания школы как  во время урока, так и на пере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за эвакуацию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хся с нарушениями или травмами опорно-двигательного аппарата возложить на классных руководителей и преподавателей, ведущих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8CEE-9FC6-4B13-83E6-74FFE6B996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СОБЫ ПЕРЕНОСК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ЮДЕЙ С ОВ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ИСПОЛЬЗОВАНИЯ СПЕЦИАЛЬ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САНИТАРНЫХ ЛЯМ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САНИТАРНЫХ ЖЕСТКИХ ИЛИ МЯГКИХ НОСИ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ПОДРУЧ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2"/>
          <a:stretch/>
        </p:blipFill>
        <p:spPr>
          <a:xfrm>
            <a:off x="7467480" y="260280"/>
            <a:ext cx="708120" cy="8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94760" y="152280"/>
            <a:ext cx="8015400" cy="10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АМОЕ ГЛАВ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 ОСТАВ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ЛОВЕ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З ВНИМ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МОЩ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572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бучения и учебно-материальная база ГО и защиты от ЧС МАОУ СОШ №56 способствует повышению готовности учащихся и работников школы к умелым и адекватным действиям при угрозе и возникновении опасностей, присущих ЧС и военным конфликтам, характерным для района расположения школы и проживания ее работников и учащихся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899F-0073-4307-98BC-C54EA98461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F0DB-344A-475B-8B10-21FB562ABB4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685800" y="457200"/>
          <a:ext cx="8153280" cy="57913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5349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ТЕХНОГЕННЫЕ   ЧС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6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С, связанные со взрывами и пожарам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варии на химически опасных объектах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варии с выбросом радиоактивных вещест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42800" indent="-44280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2800" indent="-44280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идродинамические авари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2800" indent="-44280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незапное обрушение зданий, сооружени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2800" indent="-44280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варии на коммунально-энергетических система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9840">
                <a:tc gridSpan="2">
                  <a:txBody>
                    <a:bodyPr lIns="90000" rIns="90000" anchor="t">
                      <a:noAutofit/>
                    </a:bodyPr>
                    <a:p>
                      <a:pPr marL="900000" indent="-36972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ранспортные аварии (происшествия и катастрофы на железнодорожном, автомобильном, авиационном, водном, трубопроводном транспорте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CF33-B228-4DA7-842F-293210F7A75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457200" y="122400"/>
          <a:ext cx="8153280" cy="572904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79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РОДНЫЕ ЧС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480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геологические явления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гидрологические явления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метеорологические явления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пожары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1438200" indent="-3585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0560-22ED-4506-BBE2-3F5CBFF0128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457200" y="324000"/>
          <a:ext cx="8229600" cy="6188040"/>
        </p:xfrm>
        <a:graphic>
          <a:graphicData uri="http://schemas.openxmlformats.org/drawingml/2006/table">
            <a:tbl>
              <a:tblPr/>
              <a:tblGrid>
                <a:gridCol w="4267080"/>
                <a:gridCol w="396252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БИОЛОГО-СОЦИАЛЬНЫЕ Ч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8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ссовые заболевани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45f07"/>
                          </a:solidFill>
                          <a:latin typeface="Corbel"/>
                        </a:rPr>
                        <a:t>людей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пидеми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ндем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45f07"/>
                          </a:solidFill>
                          <a:latin typeface="Corbel"/>
                        </a:rPr>
                        <a:t>сельскохозяйственных животных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пизооти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нзоот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45f07"/>
                          </a:solidFill>
                          <a:latin typeface="Corbel"/>
                        </a:rPr>
                        <a:t>сельскохозяйственных растений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пифитоти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нфитот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ррористические ак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ежнациональные конфлик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бастовки, бун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еноцид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мографические кризисы (взрыв, спад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D5D0-626D-40D6-A847-A6C95A25FEC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рямоугольник 6"/>
          <p:cNvSpPr/>
          <p:nvPr/>
        </p:nvSpPr>
        <p:spPr>
          <a:xfrm>
            <a:off x="0" y="1676520"/>
            <a:ext cx="9144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ражданская оборо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мероприят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одготовке к защите и по защ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л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ьных и культурных цен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опасност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ающих при ведении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военных действий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следствие этих действ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же при возникновении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чрезвычайных ситу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родного и техногенного харак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общеобразовательном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режден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04920" y="12952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 в ОУ призвана обеспечить  обу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а ОУ и обучающихся способам защиты от опасностей, возникающих при ведении военных действий или вследствие этих действий, а также при ЧС природного и  техноген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бщеобразовательном учрежден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бщих основаниях в соответствии с положением Федерального закона Российской Федерации «О гражданской обороне» и другими докум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главляет ГО ОУ дирек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по должности несёт персональную ответственность за организацию и проведение мероприятий по гражданской обор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21-09-26T12:05:21Z</dcterms:modified>
  <cp:revision>7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