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6006-8B93-49A5-940C-4377AAA28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1A1C-B144-4725-8A6C-6E417BD7D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090-1623-4B4A-BB24-E5F2645D2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2D6-9A9A-4CEA-AC6D-1168C8F0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220-FD20-456B-BF62-41917768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D548-E223-460F-B76D-932DF91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5D1A1-47BB-4099-9CAB-C990ED4D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B6F99-34C8-476C-8A7B-1F7C152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1B6E6-B3AE-4FCB-AEFB-34A7F43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8B8A7-073E-4D06-B14A-2E60B4F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ABF87-92DA-421D-A40C-19CBC5B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A9FCA-D451-4592-88F5-62907E7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3B372-CC29-49CD-BF3E-1CA8D18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8151B-0706-4BC0-92E2-44BF905F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31006-945C-49D5-8279-8F819170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B96-4542-41F0-BD0D-56B36475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EB446-DA93-4A92-84DC-EC171F4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2ACC5-E47C-4BA6-A3F7-C8951A37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757F-C602-4E25-BE86-9982D230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2C199-CBE9-41A6-AFCE-9B396320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F88F0-2C59-494E-A100-EDDE696E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D4BB4-2BE4-4B9F-97FA-0B9FAD9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30028-A0BF-4C16-9626-7A29734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00880-E62E-4313-ABFD-32E09C6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4CA3E-00D5-4B7E-8A82-C2C0BE23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19503-5A44-4012-833B-8BD6EC27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095-C1A2-4B0D-8E14-DD09C33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BCE44-1184-4EC1-A6B2-C0513A1A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23145-E9E1-4026-A04F-DFDDA99D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A6872-DD78-4CEF-8D36-834D236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05ED9-1A61-48BD-BF46-77FF062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1E67-7159-46AE-AE9F-4B1EDC5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E4C5-6BDA-45A2-B6D1-6180452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9F456-6E62-4421-9C0B-50E5F0F3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B0A4-9975-44CC-A912-E1C7DA0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A5A76-DE16-4841-B60A-437BAE9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F035-95C6-4977-8D5C-8FB570A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048D-6365-4B96-A720-F491E203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5821-A0CE-435C-AA19-87718A44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E1CA-6FD7-4CBB-9A5B-CF5D190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6C2D-9440-4D0F-9B2C-343DA501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BAE04-0580-4ED3-B108-F9E7B8B9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DA0C-C5AE-4A64-BEB9-46588F6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3BBE1-804B-4611-892B-0B44104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F6A1D-E0BC-449D-82DB-10FF24D0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9455-5207-4A85-BB8F-30DEB2EC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EA6E7-2D6C-4467-8B8D-8416EE7A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DFACF-84F0-4465-A86D-23DCA47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FA0A-AB53-456B-B62E-2ACD241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05716-930C-4EA2-BA39-8628097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393A3-3B10-4062-B73C-D89C5DF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634DC-EFAC-4095-8A38-7CD5BC8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12422-2F6A-4D91-BF6D-C7BB3D70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7C0BF-0A26-48C4-BDDF-346AF077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99FD8-E2CD-483F-8A24-B881079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AF97E-8D03-4151-8A24-DC71104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CBC10-D1AE-46BE-93B1-21208CD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7DAE5-2D94-4294-9A4B-3EAB4338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C34EF-EA91-4966-AEAE-76C062CF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8075-D451-441F-9B89-D3FDCD77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5CC2B-6B6C-4167-BBA9-62DCEA2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A1227-F0A3-40B3-BDC7-FE7552C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E0CF5-0C93-4D7C-8140-4D09E9D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16069-BC70-4867-A8C6-D1AC01A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87386-55D2-41E6-A667-291378F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40B7D-76AA-4391-A2CE-57FDD67A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D5AE8-639B-4EA8-A87D-CD1F5C54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5E118-61CD-4600-B7EC-6068275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254BB-2F47-467C-8DF9-EA87BDF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F2D53-A961-4717-B369-14E40B16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475C-0748-4DE8-99D6-9124F54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B3FE0-4867-4CAA-8C27-0560C38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AE50-4BDB-47B0-85EB-926A8D0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CD76B-4C2F-44EA-B0E2-1594E68F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FEDC0-A66D-4A0C-8D71-EE8C236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74A2B-B0B6-4416-A82E-4B8EA1E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20C14-A1C6-4178-A594-B44C84C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9D887-218D-42CD-BF3D-64EA2B37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17F6E-A382-445E-BBF6-C1EB4CF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C2DAB-996B-41D8-8460-E8AC3A2C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1B3F4-B41D-46B5-8655-E2F1E2B9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8AAC-AD72-4D74-8C74-07C72F5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DC573-45E6-484C-8EFF-1F2B04F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F0999-67D4-4C13-90F8-7BC5631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ACF92-5EF5-4C2E-B49B-BBC7C51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B4C62-1F6C-4AA7-80E1-AF7D067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BB8A9-4C4A-4DDF-B099-0E834A1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003AA-28A1-40B8-9B4B-5346EC7A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D38A1-7EC0-49FA-8D92-BC7BA86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EE938-8F5A-40FE-8DEC-CCC29E7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ECD8D-D485-4B46-AF62-9367D58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53C35-0168-4680-884F-6F402804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80D2-7CB7-4542-A62D-BBAE4F6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CC7DE-FBCE-4F72-9122-0BE6483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10509-6B30-4ADA-B2C0-7D559A48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75414-A444-4B15-9706-A6FF23F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CAB63-6B85-4DB7-8D6A-ACE00A4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F3D69-35FC-4EC4-93DB-BABB341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9116B-A87B-4145-A8FC-0F3804E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6B2FF-BE4B-4FF6-BECC-6CE3361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AC0E4-A82D-4AE6-A2D9-C162482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401D4-65AB-468C-909D-22060FA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CA9A2-003D-4A00-9823-4746E84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7FA0-8E5A-4578-8300-5C59265F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169CA-7A66-4163-9337-15C81D5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8F25A-B7F3-41F7-AA46-BD5CE8E0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A4C84-8C52-455F-AC00-3F87CCF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42517-D188-4AA8-89B8-A02341B8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B8A79-2B5B-45FE-A069-9F049DE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FBA93-8D79-4938-8AD3-F906619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912ED-CBE1-4A68-91C6-3611B1F1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C50C9-D4DC-4854-AB50-949B383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BE09F-C82B-4CA7-8B0E-6D09367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61F17-1273-4748-ABF7-CE33410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B61-1F28-4CBE-B027-1B30DA1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5F9-9463-4AA6-89B5-0B6CB88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9AFDE-DE45-48E8-9018-68A2E950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8B6F4-395E-49F6-A428-7D4D6DD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5A0CA-F8A5-4AB5-BA10-8372CB0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32080-FFD7-467E-88B6-8DEAE942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2D704-C219-4386-A7E0-2EEF0D0A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F661-AB34-437C-ADC1-947BB02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F0F5-15BE-4159-8221-232688B3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0F79-F342-4427-B62A-3752DC10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B282-C9A1-479C-B164-439BBBBC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0A16-BB03-47D8-8AF7-C6C4E65D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0748-2B78-472B-953A-31B4635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3B3F-7F11-4B5B-8DC4-A2B1AF7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160E-0ADB-485C-9539-A59537C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F7BA-8755-4119-9BDC-BC0F8C25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E46-EC8A-4999-B685-2965EF4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49E8-70C2-4796-BD6A-D7A143E0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B7CC-6162-414A-B2B2-627BADD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882F-79FA-45F6-A1B2-4B014DA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C1AA-57D8-4938-A91A-9905C04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3C15-0A6C-47F6-873C-8A0A09C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0816-72F3-4FD0-9251-BBF05599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8CA9-C876-4A51-A46B-1CBB45A8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200D-FA34-4BCE-9690-5C17E588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CE54-A1DE-419A-92A8-73920A1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3698-5553-48EC-ADE5-B00D60C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9F4-D5CE-42FE-9E2B-E962A85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03DB-FD74-4C17-9B9E-189ECBE8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5876-32C0-4A15-A0DD-1014FC08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83FB-8D29-4A11-A6B0-4655E51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648F-8EC4-4A9C-8C33-F8BB69C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F8D4-F7D1-4C74-B855-3A9454E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F025-AF0E-4695-88D3-F5A8549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7F78-9BDF-4D6B-B608-4B068A9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7516-8564-4D56-84B9-132DF153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CBEA-898A-4119-9772-9D5B6AA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89B3D-62F3-4796-9AAD-74EC7DB5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69F-4C5A-4623-AD81-0AA7E48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CCCA-72AD-494F-BC57-937F5C0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5C28-CF54-470A-9170-1D1AECC9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B26E-B9E3-4DF5-AFF3-3C6AB047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9491-8402-4AC9-99B3-5C72FE5D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865B-631B-4D86-84D5-20BBBF3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C29F-4981-4389-8E7B-DFAB357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28FF-D0AD-4821-A4BC-B87AF0A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82EB-5290-4CFF-A791-14D0FE0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78CB-7686-48BC-B303-46806E1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22F5-00AF-4957-9316-1D639540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3B1-275E-4CBE-BFF5-0716001B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AF89-B222-4864-8CDE-CC85ACFD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96E6-F980-43BE-A48B-8512A89E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B586-4694-456F-B12B-E3E17DC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A4B3-4445-405D-9A5A-275051A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0827-979D-439B-9886-10F363BB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F899D-C27E-4C98-944C-F8349C25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F5C8-42E7-4D18-8717-C5A69B53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FD63-68FD-43A3-8963-5485F48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EF043-4884-4F06-9F82-1308E8E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0724-0313-4C95-B2C2-6EF95E8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63E-78C0-4F53-9928-CE7FDBD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477A-4095-4020-8886-44626DB1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3CCB-6066-4D16-BB61-7B36E79C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A01B-BE5B-4DDF-A709-6CCEA4C3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501E-EBAE-4D4E-9B9C-3288C95D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4F16-BEF8-47D8-ACC7-687A3D35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0A56-7828-4512-A0F1-196EDD21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F955-D5C8-4F04-9873-0120CCF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C5C8-E6A5-4C8B-BC97-169308CC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1FBD-62FC-4389-A76A-9C535C9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64B2-E419-4FDB-A425-C18917E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76D-0A5E-4527-BF7D-B075174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E59D-E1D3-4E2D-BA7C-654F717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DCEE-A814-41B3-ACFA-5F48B8B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CC69-58F8-4A99-980C-FD63FB1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6155-CBF1-4FD7-96BC-7FB152A3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530B-29F6-4F29-8F17-8911BDEF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A8935-2860-45C7-B454-5D5E1C34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A011-19AE-435D-9098-481D94B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146F6-E95E-4E10-A68B-A8B6C73C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8CC5-225C-42E2-AF0B-AE624EC2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69FE-A534-48EA-AB58-F259E09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F73-6751-4880-A54D-054BC55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0CDEF-1E3D-425C-8C55-DCDE1BA2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EF72-7AA9-4DE8-AAF4-70EDD22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12B2-2AA0-44B6-95E6-75288DE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3597-B819-4622-B5C8-F6B3A79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01A99-C55D-4B53-8551-10DD935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5E9E6-68FD-408C-BAD5-AE9CA65A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3FDC1-D978-41A0-BE6C-14771F9D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8D086-0350-4D3C-98F3-B14A1688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6103-2ADF-4182-9A8C-6B68E6C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DD05A-4724-44A3-B88E-11147CF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90BB-00D4-43B5-BF47-D53581152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858-E989-4DC4-88FF-4DD5FCCD28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755-17A6-4C4F-BE1D-B7147EBBB9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798B-FA90-4591-B4BA-7ECF95D50F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FBE-0193-43EC-9BE0-E013E4FC43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60F-07A7-4D40-952B-B9BBE1F9C7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C47-E4BA-42B4-874E-E55A3F7E05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5B1-30F4-4D88-92CC-ECBE26920F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995-77EA-4922-9FEA-3D0CA2D83A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C0AF-75CB-468B-99DB-F3CCE1AFA2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66B-C3D0-4DAA-8F1F-59779BC0D4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ABD-0D80-4841-AA37-0A58B5F411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327-23B5-48E4-968E-4E51F32367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6056-1393-4226-9542-1C8E9FECAA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A09-4D08-47F3-94E6-E4C553F262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877-A762-4C85-B567-B84F9340B1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7E2-00A3-4019-86E8-AAA6D476BB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6;&#1077;&#1085;&#1085;&#1099;&#1077;_&#1076;&#1077;&#1081;&#1089;&#1090;&#1074;&#1080;&#1103;" TargetMode="External"/><Relationship Id="rId2" Type="http://schemas.openxmlformats.org/officeDocument/2006/relationships/hyperlink" Target="https://ru.wikipedia.org/wiki/&#1063;&#1088;&#1077;&#1079;&#1074;&#1099;&#1095;&#1072;&#1081;&#1085;&#1072;&#1103;_&#1089;&#1080;&#1090;&#1091;&#1072;&#1094;&#1080;&#1103;" TargetMode="External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астников образовательного процесса при возникновении чрезвычайной ситуации. Правила безопасного поведения.</a:t>
            </a:r>
            <a:br>
              <a:rPr sz="2800"/>
            </a:br>
            <a:br>
              <a:rPr sz="2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 МАОУ СОШ №56 10.04.2018г.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еподаватель-организатор ОБЖ МАОУ СОШ №56  В.А. Филимонов. </a:t>
            </a:r>
            <a:br>
              <a:rPr sz="1400"/>
            </a:br>
            <a:endParaRPr b="1" lang="en-US" sz="14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9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064-8F92-4555-BF91-B3A4D457541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620120" y="579600"/>
            <a:ext cx="1025280" cy="1191960"/>
          </a:xfrm>
          <a:prstGeom prst="rect">
            <a:avLst/>
          </a:prstGeom>
          <a:ln w="0">
            <a:noFill/>
          </a:ln>
        </p:spPr>
      </p:pic>
      <p:pic>
        <p:nvPicPr>
          <p:cNvPr id="771" name="Рисунок 5" descr="http://archivebelinskij.pnzreg.ru/files/belinskij_pnzreg_ru/268_3.jpg"/>
          <p:cNvPicPr/>
          <p:nvPr/>
        </p:nvPicPr>
        <p:blipFill>
          <a:blip r:embed="rId2"/>
          <a:srcRect l="32853" t="4807" r="25164" b="0"/>
          <a:stretch/>
        </p:blipFill>
        <p:spPr>
          <a:xfrm>
            <a:off x="604800" y="550800"/>
            <a:ext cx="1447920" cy="1251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4038480" y="550800"/>
            <a:ext cx="144792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управления по ГО и Ч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519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управления деятельностью учебного заведения по делам ГО и ЧС назнач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ник, уполномоченный на решение задач в области ГО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ститель руководителя общеобразовательного учреждения по обеспечению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задач по защите жизни и здоровья обучающихся и персонала в учебном заведении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ая комиссия по чрезвычайным ситуациям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комиссия, как правило, создаётся при возникновении ЧС в районе расположения учебного заведе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комиссию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ектор учебного завед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также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окомисс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рганизованного вывода (вывоза) обучающихся и персонала из зон ЧС природного, техногенного и социального характера, их кратковременного размещения в заблаговременно подготовленных местах в районах, находящихся вне зон действия поражающих фактор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эвакокомисс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правило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едующий учебной частью учебного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467480" y="152280"/>
            <a:ext cx="83844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лжностные лиц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вопросам ГО и защиты от ЧС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ОУ СОШ № 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2824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228600" y="1397160"/>
          <a:ext cx="8686800" cy="5119560"/>
        </p:xfrm>
        <a:graphic>
          <a:graphicData uri="http://schemas.openxmlformats.org/drawingml/2006/table">
            <a:tbl>
              <a:tblPr/>
              <a:tblGrid>
                <a:gridCol w="3352680"/>
                <a:gridCol w="5334120"/>
              </a:tblGrid>
              <a:tr h="88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миец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Владимирович,  директор МАОУ СОШ №56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, уполномоченный на решение задач по ГО и защите от Ч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за проведение вводного инструктажа по ГО и Ч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групп занятий по курсовому обучению работников учреждения по вопросам ГО и защите от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едшие обучение должностные лица по количеству групп в соответствии с приказом директора учреждения на новый учебный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ы населения по обучени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ам ГО и защиты от ЧС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уководите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ов исполнительной власти, органов местного самоуправления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рганиз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лица и работники ГО и РС и Ч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ый состав формирований и служ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чающиес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F0A-8EAE-44EC-8001-6F03698611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дит занятия по месту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ует в учениях, тренировках и других плановых мероприятиях по гражданской оборо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 изучает способы защиты от опасностей, возникающих при ведении военных действий или в следствие этих действ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й инструктаж по ГО и Ч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FB6-CF9D-4D2A-902F-001FC33CB7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52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ет мероприятия, проводимые по тематике гражданской обороны по месту жительства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то могут быть беседы, лекции, вечера вопросов и ответов, консультации, показ учебных фильмов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уе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зучае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ушивает радиопередачи и просматривае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1D31-6E63-48E8-832F-A3C552F13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ающие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09480" y="17524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т обучение в учебное время по курсу «Основы безопасности жизнедеятельности» и дисциплине «Безопасность жизнедеятель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изучаю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ивают радиопередачи и просматриваю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2D43-4E37-455F-BC4C-16FB147596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курсового обучения по 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 СОШ №56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урсов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готовности работников организации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лым и адекватным действиям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угрозе и возникновении опасностей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щих ЧС и военным конфликтам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ктерным для района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ы и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ивания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ников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DE20-4B8F-4A81-A2EC-E6DC08ACA5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 работников  по Г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задачами обучения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поражающих факторов источников ЧС, характерных для места расположения организации, а также различных видов оруж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пособов защиты от опасностей, возникающих при ЧС и военных конфли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орядка и последовательности действий по сигнал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риемов оказания первой помощи пострадавш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навыков в пользовании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актического применения полученных знаний в интересах обеспечения безопасности жизне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работников организации к выполнению своих должностных и специальных обязанностей в условиях угрозы и возникновения опасностей при ЧС и военных конфли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AD6F-D361-4556-936C-8DFEF9BF83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принципами курсового обучения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ботников организации тому, что необходимо в условиях угрозы и возникновения опасностей при ЧС и военных конфликт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и максимальное приближение к реальной обстанов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ое сочетание различных форм и методов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 и методическая последовательность обу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т простого к сложному, от частного к общему, от известного к неизвестному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ь и активность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BF2-307B-468A-9F3C-64D70E03BC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и формы занятий курсов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чеб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мые в ходе курсового обучения, подразделяются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тическ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теоретических занятий при обучении работников организаци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аботниками, имеющими автоматизированные рабочие места (персональные компьютеры с выходом в интернет или в локальную компьютерную сеть организации)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проводиться дистанционно (Рабочая программа курсового обучения МАОУ СОШ №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обучения работников организации составляет провед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 занят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занят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и ум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е при освоении тем программы курсового обуче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у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участия работников организац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нировках и комплексных учениях по ГО 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376-1BFC-44C4-A94B-3B44777990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E14-B194-4B07-86CA-4649B15C4A7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оугольник 4"/>
          <p:cNvSpPr/>
          <p:nvPr/>
        </p:nvSpPr>
        <p:spPr>
          <a:xfrm>
            <a:off x="457200" y="360360"/>
            <a:ext cx="835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вычайная ситуац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становка на определенной терри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ложившаяся 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го природного я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йного или иного бедств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оторая может повлечь или повлекла за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е жерт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р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ю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кружающей сре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ые материальные по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рушение условий жизнедеятельност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на Курсовое обуч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тников МАОУ С ОШ №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4CDC-3948-428F-B210-367EE2E1A0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457200" y="1447920"/>
          <a:ext cx="8153280" cy="4752720"/>
        </p:xfrm>
        <a:graphic>
          <a:graphicData uri="http://schemas.openxmlformats.org/drawingml/2006/table">
            <a:tbl>
              <a:tblPr/>
              <a:tblGrid>
                <a:gridCol w="2057400"/>
                <a:gridCol w="6095880"/>
              </a:tblGrid>
              <a:tr h="1412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Директора МАОУ СОШ №56 от  09 января  2018 года  №ОД- 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 итогах подготовки работников МАОУ СОШ №56 по вопросам гражданской обороне и защиты от чрезвычайных ситуаций в  2017 году и задачах на 2018 год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8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РИКА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- 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09 .01.  2018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учебных групп и руководителей занятий по ГО и ЧС на 2018 год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68688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  учений, тренировок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списание занятий по ГО и ЧС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чая  программа курсового обучения работников МАОУ СОШ №56 в области ГО и Ч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Директора МАОУ СОШ №56 от  09.01.2018 г.  №ОД- 1/4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 итогах подготовки работников МАОУ СОШ №56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вопросам ГО и защиты от ЧС в  2017 году и задачах на 2018 год»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лавной задачей … на 2018 год считать повышение практической направленности к действиям при угрозе и возникновении опасностей, присущих ЧС…, в том числе и по сигналу «ВНИМАНИЕ ВСЕМ!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дготовку должностных лиц осуществлять на курсах ГО городского округа «Город Калининград» в соответствии с утвержденными планами и заявк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работников организовать по учебным группам (прилож.№ 1)  в соответствии с действующими программами подготов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ебный год начать 09 января 2018 г., закончить 30 ноября 2018 г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ни проведения занятий – вторник 2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и (или) 4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едели меся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… проводить в объеме 16 часов в соответствии с расписанием занятий (прилож. № 3) и программой  обучения (прилож. №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ходе учений, тренировок (прилож. №2) и занятий по ГОЧС основные усилие направить на практическое выполнение должностными лицами своих функциональных обязанностей, на привитие им умения анализировать и оценивать обстановку, принимать грамотные решения … при возникновении  ЧС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олномоченному … Баранову Н.А. провести инструкторско-методическое занятие с руководителями занятий о порядке их подготовки проведению занятий лично проверять готовность руководителей групп к занятиям, организацию и ход их проведения. По результатам проверок представлять мне сведения о качестве проведенных занят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их посещаем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49B2-2AF9-4EBF-94E0-A24789F2AE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х групп и руководителей занятий по ГО и ЧС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56 на 2018г. 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533520" y="1371600"/>
          <a:ext cx="7848360" cy="4437000"/>
        </p:xfrm>
        <a:graphic>
          <a:graphicData uri="http://schemas.openxmlformats.org/drawingml/2006/table">
            <a:tbl>
              <a:tblPr/>
              <a:tblGrid>
                <a:gridCol w="914400"/>
                <a:gridCol w="685800"/>
                <a:gridCol w="3581280"/>
                <a:gridCol w="1000080"/>
                <a:gridCol w="1666800"/>
              </a:tblGrid>
              <a:tr h="31572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ные подразделения,  формирования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русского языка и литератур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естественного цик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математики и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гун Е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учителей нач.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цкая И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н. язык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физ. культуры, технологии, 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монов В.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доп.  образ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организатор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психолог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едагог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стории, муз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чурская Л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-техничес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АХ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ов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163-7F1F-4E7E-BB33-9D7A19A439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тика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й, тренировок по ГО в МАОУ СОШ №56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457200" y="1371600"/>
          <a:ext cx="8153280" cy="4994280"/>
        </p:xfrm>
        <a:graphic>
          <a:graphicData uri="http://schemas.openxmlformats.org/drawingml/2006/table">
            <a:tbl>
              <a:tblPr/>
              <a:tblGrid>
                <a:gridCol w="549360"/>
                <a:gridCol w="5851440"/>
                <a:gridCol w="1752480"/>
              </a:tblGrid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йствия в случае опасностей, возникающих в результате чрезвычайной  ситуации и пожара»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стренная эвакуация обучающихся и работающих из помещений и зданий образовательного учреждения в случае возникновения пожара и других ЧС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эвакуации обучающихся из помещений образовательного учреждения в противорадиационное укрытие (в соответствии с Рабочей программой по предмету «Основы безопасности жизнедеятельности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х, 10-х и 11-х класс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76C-1872-49A0-B29B-B8783B94E3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4568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исание занятий по ГО и ЧС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аботниками МАОУ СОШ №5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2018 год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04920" y="1371600"/>
          <a:ext cx="8305560" cy="4916520"/>
        </p:xfrm>
        <a:graphic>
          <a:graphicData uri="http://schemas.openxmlformats.org/drawingml/2006/table">
            <a:tbl>
              <a:tblPr/>
              <a:tblGrid>
                <a:gridCol w="685800"/>
                <a:gridCol w="5181480"/>
                <a:gridCol w="609480"/>
                <a:gridCol w="1067040"/>
                <a:gridCol w="761760"/>
              </a:tblGrid>
              <a:tr h="380880"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413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ажающие факторы источников чрезвычайных ситуаций, характерных для мест расположения и производственной деятельности организации, а также оружия массового поражения и других видов оруж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15192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7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3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85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-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рядок получения сигнала «ВНИМАНИЕ ВСЕМ!» с информацией о воздушной тревоге, химической тревоге, радиационной опасности или угрозе катастрофического затопления и действий работников организации по 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рядок и правила использования средств индивидуальной и коллективной защиты, а также средств пожаротушения, имеющихся в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ействия работников при аварии, катастрофе и пожаре на территории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ействия работников организации при угрозе и возникновении чрезвычайных ситуаций, военных конфликтов, угрозе и совершения террористических а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азание перв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ействия работников организации в условиях негативных и опасных факторов бытов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8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0C5-237E-468F-A60A-DB95AB6726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ающие факторы источников ЧС, характерных для территории проживания и работы, а также оружия массового поражения и других видов оруж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 средства защиты от опасностей, возникающих при военных конфликтах или вследствие этих конфликтов, а также при ЧС природного и техногенного характера, свои обязанности в области ГО и защиты от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средств индивидуальной и коллективной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первичных средств пожаротушения, имеющихся в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лучения средств индивидуальной защиты, а также укрытия в средствах коллективной защиты работников организации, правила поведения в защитных сооруж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ействий по обеспечению личной безопасности в местах массового скопления людей, при пожаре, на водных объектах, в походе и на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F16-3CF0-4633-9BB7-1321038BCB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овать по сигналу «ВНИМАНИЕ ВСЕМ!», с информацией о воздушной тревоге, химической тревоге, радиационной опасности или угрозе катастрофического зато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частичную санитарную обрабо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выполнять мероприятия по реализации основных способов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первичными средствами пожаротушения, имеющимися в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ервую помощь в неотлож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000-7800-442D-8790-969AB3395D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 по обеспечению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при проведении занятий обеспечивается их четкой организацией, точным соблюдением требований безопасности, положениями руководств, приказов и распоряжений прямых начальников, а также применением знаний и навыков, полученных в ходе проведения различных видов инструктажей и занятий по изучению требований безопасности по темам в соответствии с тематическим пл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занятий обязаны принимать меры по предотвращению травматизма обучаемых, устанавливать необходимые требования безопасности при обращении с приборами, инвентарем, инструментами, другим оборудование, своевременно доводить эти требования и добиваться строгого их вы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безопасности должны выполняться при любых условиях, независимо от времени проведения занятий, наличия обучаемых и материаль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емые, не усвоившие требования безопасности, к занятиям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   допуск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D53-B308-4287-99AD-5EA40C476E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264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учебном процессе по предмету ОБ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Объект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7986600" cy="4419360"/>
          </a:xfrm>
          <a:prstGeom prst="rect">
            <a:avLst/>
          </a:prstGeom>
          <a:ln w="0">
            <a:noFill/>
          </a:ln>
        </p:spPr>
      </p:pic>
      <p:sp>
        <p:nvSpPr>
          <p:cNvPr id="85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3158-5724-4FF5-8457-3F6953CF52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18676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53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предмета ОБЖ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истеме обучения вопросам ГО и защиты от ЧС</a:t>
            </a: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Объект 1" descr=""/>
          <p:cNvPicPr/>
          <p:nvPr/>
        </p:nvPicPr>
        <p:blipFill>
          <a:blip r:embed="rId1"/>
          <a:stretch/>
        </p:blipFill>
        <p:spPr>
          <a:xfrm>
            <a:off x="19080" y="987480"/>
            <a:ext cx="8680320" cy="58640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2"/>
          <a:stretch/>
        </p:blipFill>
        <p:spPr>
          <a:xfrm>
            <a:off x="7924680" y="33480"/>
            <a:ext cx="838440" cy="977760"/>
          </a:xfrm>
          <a:prstGeom prst="rect">
            <a:avLst/>
          </a:prstGeom>
          <a:ln w="0">
            <a:noFill/>
          </a:ln>
        </p:spPr>
      </p:pic>
      <p:sp>
        <p:nvSpPr>
          <p:cNvPr id="85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2DC-5166-48A5-8695-EFF123045A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45D-E18B-4629-B277-590641EBD3C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304920" y="304920"/>
          <a:ext cx="8458200" cy="5527440"/>
        </p:xfrm>
        <a:graphic>
          <a:graphicData uri="http://schemas.openxmlformats.org/drawingml/2006/table">
            <a:tbl>
              <a:tblPr/>
              <a:tblGrid>
                <a:gridCol w="1600200"/>
                <a:gridCol w="2954160"/>
                <a:gridCol w="3903840"/>
              </a:tblGrid>
              <a:tr h="274680">
                <a:tc gridSpan="3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Классификация ЧС по зонам распространения, потерям и ущер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5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Характер Ч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Зона чрезвычай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Количество пострадавших (погибших или получивших ущерб здоровью) либо ущерб окружающей среде и материальных потерь (размер материального ущерб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Лок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не выходит за пределы территории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0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по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субъекта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 чел.,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Свыше 50 чел.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Федер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Объект 1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хся 8-х классов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грамме предмета ОБЖ по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2"/>
          <p:cNvSpPr/>
          <p:nvPr/>
        </p:nvSpPr>
        <p:spPr>
          <a:xfrm>
            <a:off x="2142000" y="42670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3EF6-7842-4B38-9668-0AF827C089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хся старшей школы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дуль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едмета ОБЖ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2" name="Объект 1" descr=""/>
          <p:cNvPicPr/>
          <p:nvPr/>
        </p:nvPicPr>
        <p:blipFill>
          <a:blip r:embed="rId1"/>
          <a:stretch/>
        </p:blipFill>
        <p:spPr>
          <a:xfrm>
            <a:off x="79200" y="1371600"/>
            <a:ext cx="8382240" cy="5029200"/>
          </a:xfrm>
          <a:prstGeom prst="rect">
            <a:avLst/>
          </a:prstGeom>
          <a:ln w="0">
            <a:noFill/>
          </a:ln>
        </p:spPr>
      </p:pic>
      <p:sp>
        <p:nvSpPr>
          <p:cNvPr id="863" name="TextBox 4"/>
          <p:cNvSpPr/>
          <p:nvPr/>
        </p:nvSpPr>
        <p:spPr>
          <a:xfrm>
            <a:off x="1905120" y="3911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AA68-E587-484A-B18F-D8CBD45362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63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8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жок «Защитник Отечества»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36680" y="1371600"/>
            <a:ext cx="847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ХБЗ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ства коллективной и индивидуальной за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дицинская подгото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вая помощь в экстремаль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овседневной жизни и службы в воинской части (подразделе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в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невая подготовк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т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ладная физ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воспитательная и организационно-массовая работ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E73-9393-4DB8-9F16-A3966486D5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marL="72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10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ые сб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Объект 3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8070840" cy="4505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27874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117-97A0-4E29-8551-F0EB4BC948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539640"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в нашей школе!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 люблю ОБЖ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учение знаний, умений и навыков по вопросам БЖД, Г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8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8F3-86E1-4E25-89D7-2D71F60632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00B-B8FB-497A-A0E9-6AAC6AA5CD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339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539-427B-46BA-8A0D-AD367C2C96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076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мечание: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учета посещений в дни занятий по расписанию и по отдельным заяв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84" name="Picture 3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12800" cy="817560"/>
          </a:xfrm>
          <a:prstGeom prst="rect">
            <a:avLst/>
          </a:prstGeom>
          <a:ln w="0">
            <a:noFill/>
          </a:ln>
        </p:spPr>
      </p:pic>
      <p:sp>
        <p:nvSpPr>
          <p:cNvPr id="88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0A7-E3FA-48CF-89C2-AB159090B9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900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09480" y="1371600"/>
            <a:ext cx="825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У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на 110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лоса препят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идео-фильмы, литература,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ковый тир для пневматического оруж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F49-9C0F-479E-AA38-03DBD0C371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яние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материальн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ует предъявляемым к ней требования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ется в рабочем состоян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ся в соответствии с перспективным планом на 5 л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с интенсивной нагрузкой в урочное и неурочно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МБ ГО и ЧС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ое место в г. Калининграде на смотре-конкурсе  2016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Первое место в Калининградской области в 2014 году (Кубо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1728-1AF7-4B01-AE76-F20563DB37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0A4-D7B6-47A7-BD42-426B260D4D2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Схема 4" descr=""/>
          <p:cNvPicPr/>
          <p:nvPr/>
        </p:nvPicPr>
        <p:blipFill>
          <a:blip r:embed="rId1"/>
          <a:stretch/>
        </p:blipFill>
        <p:spPr>
          <a:xfrm>
            <a:off x="231840" y="536400"/>
            <a:ext cx="8766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ые и воспитательны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у администрации и работников школы единое понимание задач, мероприятий, последовательности и способов действий в случае опасностей, возникающих при внезапном нападении противника, угрозе террористического акта, в результате ЧС и  пож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практические навыки сотрудников и учащихся школы по эвакуации из здания при внезапном возникновен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уверенность учащихся в способности администрации и педагогов школы и своих возможностях обеспечить безопасность в различных Ч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школы к осуществлению внезапной эвакуации при возникновении ЧС в нормативные с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3762-B8AD-4C2A-9498-427110FDA1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196560"/>
            <a:ext cx="8015400" cy="97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 сотрудников, учащихся и посетителей школы о возникновении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открытие дверей основных и запасных выходов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осуществление эвакуации из здания школы учащихся, сотрудников и посетителей, защита людей на путях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(построение) персонала и учащихся в месте (пункте) сбора, проверка и учет наличия персонала и учащихся в пункте с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товности  спасательной и санитарной групп к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225-2B9F-4BAB-B9C0-C16B7C2024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3" descr=""/>
          <p:cNvPicPr/>
          <p:nvPr/>
        </p:nvPicPr>
        <p:blipFill>
          <a:blip r:embed="rId2"/>
          <a:srcRect l="11661" t="8484" r="16405" b="7921"/>
          <a:stretch/>
        </p:blipFill>
        <p:spPr>
          <a:xfrm>
            <a:off x="7467480" y="196920"/>
            <a:ext cx="838440" cy="9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вещение и открывание двере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эвак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Объект 2" descr=""/>
          <p:cNvPicPr/>
          <p:nvPr/>
        </p:nvPicPr>
        <p:blipFill>
          <a:blip r:embed="rId2"/>
          <a:stretch/>
        </p:blipFill>
        <p:spPr>
          <a:xfrm>
            <a:off x="536400" y="1401840"/>
            <a:ext cx="8101080" cy="5029200"/>
          </a:xfrm>
          <a:prstGeom prst="rect">
            <a:avLst/>
          </a:prstGeom>
          <a:ln w="0">
            <a:noFill/>
          </a:ln>
        </p:spPr>
      </p:pic>
      <p:sp>
        <p:nvSpPr>
          <p:cNvPr id="9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D6D-F6BA-42CD-B986-C2804C1629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задача при эвакуации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 вывести людей в безопасное мес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(тренер), который проводил занятия с класс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сонально отвечает за жизнь и здоровье учащихся класс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бязанности учителя (тренера) при эвак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ь окна кабин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 список учащихся и лист контроля эвакуации клас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учащихся в колонну по два, проверить их наличие и вывести из кабинета в корид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 закрыть двери в кабинет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на замок не закры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безопасный маршрут и, возглавляя колонну, быстро и организовано, без паник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захода в гардероб и другие помещ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в колонне по два в направлении ближайшего выхода из здания к месту построения на стадион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класс на месте построения на стадионе и проверить по списку наличие учащихся в стро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жить соответствующему завучу о результатах эвакуации и сдать ему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чащегося в период эвакуации – учитель срочно доложить об этом директору для  принятия им решения о направлении спасательной группы для поиска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1BAB-AC1B-4F19-BF8A-D0399E248F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ец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я листа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762120" y="1447920"/>
          <a:ext cx="7315200" cy="46479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64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КОНТРОЛЯ ЭВАК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 а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     Дата: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.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i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иску:          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овало на занятиях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ся в строю:                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ч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на занятиях, но нет в стро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имен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доров Серг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  _________________ _________________  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ель-руководитель эвакуацией класс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 / 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ванов П.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              расшифровка  - разборч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ниц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9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69D4-2296-4FC7-BC9D-9FF1AB930F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 организации эваку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й с ОВЗ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. №ОД-95 от 29.08.2017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м руководителям и учителям, ведущим урок, ежеднев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ть возможности учащихся по самостоятельной эвакуации из здания школы по состоянию здоровья в случае опасностей, возникающих при внезапном нападении противника, угрозе террористического акта, в результате чрезвычайной ситуации и 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в классе учащихся с нарушениями или травмами опорно-двигательного аппарата в начале каждого урока планировать и организовывать оказание им помощи  другими учащимися на случай необходимости эвакуации из здания школы как  во время урока, так и на пер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эвакуац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хся с нарушениями или травмами опорно-двигательного аппарата возложить на классных руководителей и преподавателей, ведущих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7AC5-67F5-4689-A7E6-1E5725A4BB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Ы ПЕРЕНОС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ДЕЙ С ОВ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СПОЛЬЗОВАНИЯ СПЕЦИАЛЬ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ЛЯМ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ЖЕСТКИХ ИЛИ МЯГКИХ НОСИ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ПОДРУЧ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7467480" y="2602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АМОЕ ГЛАВ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 ВНИМ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учения и учебно-материальная база ГО и защиты от ЧС МАОУ СОШ №56 способствует повышению готовности учащихся и работников школы к умелым и адекватным действиям при угрозе и возникновении опасностей, присущих ЧС и военным конфликтам, характерным для района расположения школы и проживания ее работников и учащихся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AD5C-3EAF-4B4F-AB81-363BF7E8EC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31E-BA5D-4609-B847-74EC407D5F0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85800" y="457200"/>
          <a:ext cx="8153280" cy="57913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34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ТЕХНОГЕННЫЕ   ЧС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6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С, связанные со взрывами и пожар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химически опасных объекта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с выбросом радиоактивных вещест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идродинамические авар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езапное обрушение зданий, сооружени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коммунально-энергетических систем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840">
                <a:tc gridSpan="2">
                  <a:txBody>
                    <a:bodyPr lIns="90000" rIns="90000" anchor="t">
                      <a:noAutofit/>
                    </a:bodyPr>
                    <a:p>
                      <a:pPr marL="900000" indent="-36972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анспортные аварии (происшествия и катастрофы на железнодорожном, автомобильном, авиационном, водном, трубопроводном транспорте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6312-F6E1-41AD-99DA-FC4AEF2BCD4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57200" y="122400"/>
          <a:ext cx="8153280" cy="572904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РОДНЫЕ ЧС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е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ид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метео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пожары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1438200" indent="-3585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EC9-5BBA-440D-BFCD-4B5C9BB5A13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457200" y="324000"/>
          <a:ext cx="8229600" cy="618804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БИОЛОГО-СОЦИАЛЬНЫЕ Ч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ссовые заболева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людей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деми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дем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животны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зо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зоот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растений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фит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фитот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ррористические а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жнациональные конфли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бастовки, бун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еноцид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мографические кризисы (взрыв, спа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212-82D9-4197-8A0C-03F801B6239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6"/>
          <p:cNvSpPr/>
          <p:nvPr/>
        </p:nvSpPr>
        <p:spPr>
          <a:xfrm>
            <a:off x="0" y="167652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одготовке к защите и по за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опас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щих при вед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военных действи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следствие эти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ри возникнов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чрезвычайных ситу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ого и техногенн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бщеобразовательном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режден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 ОУ призвана обеспечить 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 ОУ и обучающихся способам защиты от опасностей, возникающих при ведении военных действий или вследствие этих действий, а также при ЧС природного и  техноген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щеобразовательном учрежд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бщих основаниях в соответствии с положением Федерального закона Российской Федерации «О гражданской обороне» и другими доку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главляет ГО ОУ дирек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 должности несёт персональную ответственность за организацию и проведение мероприятий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2:05:21Z</dcterms:modified>
  <cp:revision>7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