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928D-6499-4D79-A963-65A387480E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FBD9-7663-4DDB-B5C8-BC9405047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F699-1A98-4E7E-BAEC-6F293759B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862-347F-406D-A783-9E5E6EE4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22D-147C-4D71-A44D-FF9EF60A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C8BBD-3599-4589-B5C6-402AF75B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995BE-6CF7-4CB9-996D-CB079716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5B2DE-E7E7-4ED8-9A4D-522D4536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575FD-86B8-464A-9D3E-B7683B2C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5F414-1021-4613-89A8-EF1D52CC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A4FD2-5340-4F1B-A1FD-AFC3CEB4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0D1EB-F081-49BC-8613-F154C6FB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779F8-8234-4397-94A7-7F6C0A94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747A7-5F08-4165-BF8F-B0B64A2A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27862-B7CE-4BC8-817C-7EAC2830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382-C4F1-41E3-9211-951C1B7E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61D45-A7F0-4253-A9F8-E6A4863B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2317B-F58B-44FB-BA51-CEB0AE97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067A5-E3AB-4D55-8E35-434B30B0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3FABD-1D92-4771-B349-6E115316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DA389-1B02-449F-92CE-0B107A83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4050F-E0CC-464C-881A-1C24D34A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BDBE4-95FD-4437-BBA7-C61B6ECB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6C45C-F38F-4D0D-B249-49609F4F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B4A52-11E4-44C4-B7A4-898C1294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EE65D-A24C-4AF5-BD62-EDA1B2C7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55C-CC45-4F41-AA39-F59F1545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FD457-4AA0-4792-9F13-70162357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68388-C09E-4A60-A1D1-ED56A8DC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D461F-2CED-4AFA-94F7-08AF851B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F3015-EBD6-44F8-BC8D-FC405E06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9E47E-37E1-4703-B79E-0A85B817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31AAD-4F11-4067-96CA-0B99838C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5A416-C064-4932-9DB3-ACCCBF66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15AC8-51FB-4EE2-BBEE-55C4FF9B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68952-4E99-4369-9B33-8152CCF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A398D-FBA4-408D-A083-9B2FE816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B3ED-2E87-494F-998F-95B1A704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91E82-3E8C-4F41-978A-20EC3DFA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2E837-F8E6-4CE4-8C5C-B8977FF6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5411A-F81D-4529-BDCE-CE512187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840CF-78D7-445E-9CA8-4A09E4DF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CAAC5-F89E-4BF6-8718-33A23025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61636-B82A-4935-8362-EE724E47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B5D8D-9458-477B-9038-1D0B38C7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81209-5F72-4B77-BA44-59896E44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E5C76-3C5C-473D-A1E9-DDA17726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8445B-3B82-431D-98E7-8B3D7778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577B-4C2D-419C-8D3F-6179562B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A6756-E6BF-4FA7-8AAA-3684D4DD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70A9B-A2D4-4515-8DA8-28C5AF36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15A3D-F7E1-490F-80E0-CB18F609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63FE7-9CF8-4E60-9D19-FA41234A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49D5A-FA71-4FEB-B28A-657D26BF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E3203-28A6-42C7-8C87-2DF80039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193AB-52AD-40F3-B3B7-7102A17B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61C4B-2803-4595-A38A-AFEDC1F1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0267C-0A2E-4011-9965-9961E37B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D5A30-E486-41AD-8861-69274BFA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751C-0C0B-4D00-894B-E52AB9BD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BAF05-6E31-4B6C-8A4D-970BA2F0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1EFA1-8742-455D-8ED9-172A2CB7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3A2F4-C1D1-4530-929D-E58B098A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4A87D-75C5-4A79-897B-74FC91D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E4976-45F7-4C07-8221-908B6A54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020D8-3F40-47C8-A598-AFF54DCC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013AF-A6D1-471B-B9CD-4ED9DD06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35E47-4603-4409-B27A-CC5801AE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38EA3-4581-4B0E-AD61-6EFEFB82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830E7-2862-4480-9445-1CEB0D28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5228-A390-4CF6-AC6B-002706F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7CD51-C2FB-413F-90CA-59D2DE19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1E79D-B07A-4907-AAAF-D3782088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3C10A-9C39-4DEE-A60F-5547384F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B5185-CCD6-4DFE-9AB4-7E45F802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0B732-0FDC-46CB-A76B-611BAFB2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24524-B6E4-4DD0-8741-CC4AB95B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AADF9-86D7-4EBD-B2B9-3C40C8AE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3874F-7F1F-4A6E-AA6A-DF7B92FE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46C3B-8230-462F-9C76-399F74FA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BD14C0-7F49-48C3-BD91-68654554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C39D-238D-49D8-A233-0A6B03CD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AFFFC-C06D-4172-8BC5-9EF2E9C5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988701-D59B-4D65-A284-045F4FD9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63639B-9F9F-44F5-AD5F-58BA2A40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C3CE7-1991-4D82-8E47-28BA17CA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001C7-0974-4319-BCF7-87F50F04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53CF5-7D4E-4101-9EFF-422DE41B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99681-5060-498D-A5E0-52280D15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CDED7A-B506-460B-9A07-B7628B73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19BD6-D8C9-42F3-9F13-0AFC3A2F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7C432-024A-4C39-A966-DC4C444E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C37C-8C41-4F3F-BE12-F3FEB5F5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88FBC-956F-4784-87B4-F2489AFD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50E5B-5CEB-4EC2-AB30-AA093EE8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F243B-7052-40FB-9FDF-70324B7D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380DC-59CB-4322-BBC9-25A3B1DB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88624-2D3F-4A1F-A11F-3377AC2F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8836C-C4FB-4FA4-8A12-A89E96E7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CCED0-2CD1-419D-9FE5-690D1C8B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B4880-8CDA-45D9-AB37-116AFCA6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AD1E8-E37F-4F84-9FC7-C1F79154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6F129-C76C-4AE4-8494-F235F957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A126-D24E-4DB8-B30F-5A0FA4D4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48653-939D-4230-9E15-864E21A0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790D3-221A-4028-A5E2-F7FC179B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55D37-9D71-4D9A-9175-A0C3B328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E06B8-EFAA-481B-94BD-A9FC95F6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1A1CFD-36DE-45CC-A796-6294105C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D2F11-DAD3-47BC-A185-B6A248EA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44B7B-7BA3-4E3F-8B0A-D4993F0F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7954B-7AC1-4D5E-B6C8-38A15806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3369E-1505-4D72-AE08-27F502D7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B5AE6-2F92-4DBE-9B2B-254AB71B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1DB-B4AF-43B2-977E-5029CC80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B500-AEBF-40B6-B80A-CCEF7944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94056-183A-4ED9-9553-97203C91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B0681-8E83-4347-8548-FB7BE6D2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B3AEC-126C-4178-93F2-EB60B893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FD5E42-B349-4069-9369-6CAF4E6E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0D521-655F-463B-9ADA-FA79B49A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C3CB-D5C3-46A6-AF5A-A1FA1B04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4AA3-C48E-4B76-A647-5B52C507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ECCC-BF88-44CB-9EA5-63A6160D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4431-B374-4626-BC4A-BD3B39DB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38F9-9953-41BF-AA8E-2C2956BF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A0A53-D031-4E37-800E-6A0DAFEE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BCEA-94A5-469D-8C31-EF8AA2CF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55482-921E-4E92-9330-FB9CA57E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26CE-BD1E-483B-A5D1-1DE0EB88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2A6-33C5-4740-8C17-259C2ACD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311D-DC5B-4576-89EC-CD913F90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63CF-A621-4AC9-A33C-3B20BC94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1785-5A18-432F-A0E7-32C70E8B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1B6D-E9CA-4621-A2D4-E8B589C9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E7F2B-3F2E-4361-BED4-07EA5159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E3E2-2F3B-468E-9701-BE978A43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B25A-BDB0-4741-9BB9-FA46F3AD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ADF97-0B24-4E7B-B4D0-8793B8F1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2557D-2956-4B81-A69E-1BBADAC5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03A3-4266-436A-BDCD-EA0426DA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A87-BC26-4E3A-A382-4110F2E9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80EF1-44DA-4A3A-9C3C-3EBA1986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128E-F7D5-412D-AB62-7EA3B7C3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9A0E3-7555-4335-B8E7-07ED3D03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088B-CAD8-4D5F-BE88-4641456D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179B2-E908-4F63-BF71-E06EFE03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BDA8-3141-4235-A970-F711C44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91A5A-F6DD-4B41-9442-9084EF7E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9971-FB5D-45B6-B2A4-418DA75B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BAEA-2B32-487D-A734-311481D4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F6EB8-55A3-493E-99C2-693E93BB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D86-5384-4058-B630-DFDFB21E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11FEA-9A58-44E3-B037-EB66A8B0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DBEB-EBA0-4DF5-8977-25AC6A61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DA7DC-F4C2-4CA7-99C9-1E23B102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4F9CF-9BEC-4F21-856D-D4D00984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4EECD-89A8-4D1C-8862-48DE1889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E255C-0C5B-4B73-A3E3-EBEFFA56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FF4E7-48B1-4190-A7E6-6A6B31B8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01576-C592-4FCB-BE55-9B0A3398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49458-91C2-409E-BF69-037A93A2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337C8-79D7-415E-BDC1-4ACC7E03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9B8-13E5-41A2-B450-FD2888FF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144DA-AB3D-4196-A4F3-1C86E9BC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F5DC4-8EF9-4352-806E-F8689523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8090E-5AA7-4469-98E2-103BFA05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16EF2-DB15-4F86-AC6C-B4124C25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57341-3CB0-4129-91DB-621027CF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42B9-8CB1-4CAC-9356-18CB7594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04757-74EF-48B4-A1FD-C66E974F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9911A-DA02-4DC4-9A45-E77B006D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202AE-9161-4F4E-AF2F-D76D727D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5FAAA-3EA9-4754-BA77-5B0964B1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0BC-614B-4AF3-98AC-EEF58FA2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E646-0C98-4A36-B417-6C02D3D6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E7BD-3B95-422F-80E5-C6155607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ECDBC-85FF-40F3-8373-ED7E2C43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9B3D5-DAC3-4FB2-990C-F586A954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A23EE-2A1A-4FCF-B958-DEED57DF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8B961-6A89-429E-B32A-73987A94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40D9C-8964-4291-B5A7-BA8968DF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7CF04-D676-4E53-A34E-C4547651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1BB87-14FD-40F5-905E-2E215569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494B8-35DC-4F22-85A9-91073B53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A2D-9376-423A-8FF2-3B26B250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8C18-0E4A-4B45-B742-183F4EC5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772C4-112B-4A7C-A637-3FA19A61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F574B-336B-4D1A-B294-1FE1BD3B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81C67-D82D-4F50-8A0C-FDFE890B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DB761-ADDD-4C17-BA13-7113BBF3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C6FA1-5C80-40D3-8ED5-D3C1670B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E5236-EE18-4EF3-A37B-07E541B2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966AC-CA49-446F-B4AA-F6ACEF27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8DE4E-E8D2-46C6-B388-EF065687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01DC7-FACF-4182-8C7D-B47DD390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BED-884A-4731-B204-293D2BDF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2C108-C9A6-426A-9B38-939C17AD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BA0DF-A55D-48CA-9B7B-2D2B975F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0CA99-D0AD-49FA-8C00-3D87C499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1824E-55A0-49C6-9256-7130276E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02F7F-31A2-42E0-80E9-02648864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758BC-0B15-497C-A2CB-B3F33DD5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274C2-E113-49A1-9BDC-C4A13D1A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78041-ED95-43CE-A835-7BBC1E94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15AA5-F94D-4A6D-B1FB-EBC2AD58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44051-7556-4CDB-BAAE-CB2C3178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4980-6045-41ED-99EA-1996604922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0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3EA3-5735-4AAA-8247-9BF5537896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5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9068-8621-4A52-8CAD-8F6BC22414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4B2B-0D6E-4ACB-92FD-DBD5514259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CBA5-8B7F-41ED-BD2E-218594AE27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FD7D-65AE-4727-A967-42CB92A26EA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6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0A5A-5410-49F2-9F99-D7CEA35EC5F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78ED-79DC-4A6D-9E76-5B66F6FBC8E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5481-75E4-420D-80EC-3C1478AFFC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FD25-3C2F-4C95-BDBD-FD1DECEB0A4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434E-228E-4237-BC81-45EFD0974D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8109-0F9D-427C-ABEF-61C24ED79D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AFCC-C52E-4251-97E4-A17C05F2DD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2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6B78-34BE-4291-A4CD-A43B15D6C9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3FAF-F402-4587-8BA5-7CFF84FE99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1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07EF-789F-4467-9105-EE13A4320B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6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4FD2-9AAD-483D-B9D3-82F508F83A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2;&#1086;&#1077;&#1085;&#1085;&#1099;&#1077;_&#1076;&#1077;&#1081;&#1089;&#1090;&#1074;&#1080;&#1103;" TargetMode="External"/><Relationship Id="rId2" Type="http://schemas.openxmlformats.org/officeDocument/2006/relationships/hyperlink" Target="https://ru.wikipedia.org/wiki/&#1063;&#1088;&#1077;&#1079;&#1074;&#1099;&#1095;&#1072;&#1081;&#1085;&#1072;&#1103;_&#1089;&#1080;&#1090;&#1091;&#1072;&#1094;&#1080;&#1103;" TargetMode="External"/><Relationship Id="rId3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723920"/>
            <a:ext cx="8183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участников образовательного процесса при возникновении чрезвычайной ситуации. Правила безопасного поведения.</a:t>
            </a:r>
            <a:br>
              <a:rPr sz="2800"/>
            </a:br>
            <a:br>
              <a:rPr sz="2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педагогическом совете МАОУ СОШ №56 10.04.2018г.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еподаватель-организатор ОБЖ МАОУ СОШ №56  В.А. Филимонов. </a:t>
            </a:r>
            <a:br>
              <a:rPr sz="1400"/>
            </a:br>
            <a:endParaRPr b="1" lang="en-US" sz="14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769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BD25-373E-44CB-AFB0-5A4E51AA6800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3" descr=""/>
          <p:cNvPicPr/>
          <p:nvPr/>
        </p:nvPicPr>
        <p:blipFill>
          <a:blip r:embed="rId1"/>
          <a:srcRect l="11661" t="8484" r="16405" b="7921"/>
          <a:stretch/>
        </p:blipFill>
        <p:spPr>
          <a:xfrm>
            <a:off x="7620120" y="579600"/>
            <a:ext cx="1025280" cy="1191960"/>
          </a:xfrm>
          <a:prstGeom prst="rect">
            <a:avLst/>
          </a:prstGeom>
          <a:ln w="0">
            <a:noFill/>
          </a:ln>
        </p:spPr>
      </p:pic>
      <p:pic>
        <p:nvPicPr>
          <p:cNvPr id="771" name="Рисунок 5" descr="http://archivebelinskij.pnzreg.ru/files/belinskij_pnzreg_ru/268_3.jpg"/>
          <p:cNvPicPr/>
          <p:nvPr/>
        </p:nvPicPr>
        <p:blipFill>
          <a:blip r:embed="rId2"/>
          <a:srcRect l="32853" t="4807" r="25164" b="0"/>
          <a:stretch/>
        </p:blipFill>
        <p:spPr>
          <a:xfrm>
            <a:off x="604800" y="550800"/>
            <a:ext cx="1447920" cy="1251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" descr=""/>
          <p:cNvPicPr/>
          <p:nvPr/>
        </p:nvPicPr>
        <p:blipFill>
          <a:blip r:embed="rId3"/>
          <a:stretch/>
        </p:blipFill>
        <p:spPr>
          <a:xfrm>
            <a:off x="4038480" y="550800"/>
            <a:ext cx="1447920" cy="17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управления по ГО и Ч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5192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рганизации управления деятельностью учебного заведения по делам ГО и ЧС назначаетс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ник, уполномоченный на решение задач в области ГО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меститель руководителя общеобразовательного учреждения по обеспечению безопас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задач по защите жизни и здоровья обучающихся и персонала в учебном заведении может быть созда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овая комиссия по чрезвычайным ситуациям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комиссия, как правило, создаётся при возникновении ЧС в районе расположения учебного заведени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главляет комиссию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ректор учебного завед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заведении также может быть созда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окомисс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организованного вывода (вывоза) обучающихся и персонала из зон ЧС природного, техногенного и социального характера, их кратковременного размещения в заблаговременно подготовленных местах в районах, находящихся вне зон действия поражающих факторов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главляет эвакокомисс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 правило,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едующий учебной частью учебного заве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3" descr=""/>
          <p:cNvPicPr/>
          <p:nvPr/>
        </p:nvPicPr>
        <p:blipFill>
          <a:blip r:embed="rId1"/>
          <a:srcRect l="11661" t="8484" r="16405" b="7921"/>
          <a:stretch/>
        </p:blipFill>
        <p:spPr>
          <a:xfrm>
            <a:off x="7467480" y="152280"/>
            <a:ext cx="83844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лжностные лица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вопросам ГО и защиты от ЧС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ОУ СОШ № 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22824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228600" y="1397160"/>
          <a:ext cx="8686800" cy="5119560"/>
        </p:xfrm>
        <a:graphic>
          <a:graphicData uri="http://schemas.openxmlformats.org/drawingml/2006/table">
            <a:tbl>
              <a:tblPr/>
              <a:tblGrid>
                <a:gridCol w="3352680"/>
                <a:gridCol w="5334120"/>
              </a:tblGrid>
              <a:tr h="88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ь 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миец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 Владимирович,  директор МАОУ СОШ №56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, уполномоченный на решение задач по ГО и защите от Ч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ано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иколай Александрович, Заместитель директора по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Х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й за проведение вводного инструктажа по ГО и Ч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ано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иколай Александрович, Заместитель директора по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Х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и групп занятий по курсовому обучению работников учреждения по вопросам ГО и защите от Ч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едшие обучение должностные лица по количеству групп в соответствии с приказом директора учреждения на новый учебный 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уппы населения по обучению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ам ГО и защиты от ЧС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уководите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ов исполнительной власти, органов местного самоуправления 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рганиз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лица и работники ГО и РС и Ч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ый состав формирований и служ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ющее насе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ботающее насе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учающиес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ADF9-BD8A-460F-AB0E-AF11C3AD64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ющее насе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ходит занятия по месту работ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вует в учениях, тренировках и других плановых мероприятиях по гражданской оборон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 изучает способы защиты от опасностей, возникающих при ведении военных действий или в следствие этих действ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ае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ный инструктаж по ГО и Ч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иеме на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3CEE-A976-44E4-A2A8-C6AF53A903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ботающее насе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052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ает мероприятия, проводимые по тематике гражданской обороны по месту жительства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Это могут быть беседы, лекции, вечера вопросов и ответов, консультации, показ учебных фильмов и т.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вует в учениях и тренировках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изучает памятки, листовки и пособия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ушивает радиопередачи и просматривает телепрограммы по тематике гражданской об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BE86-A543-461B-9A37-64A5358C9E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учающие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609480" y="17524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т обучение в учебное время по курсу «Основы безопасности жизнедеятельности» и дисциплине «Безопасность жизнедеятельн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ют в учениях и тренировках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изучают памятки, листовки и пособия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ушивают радиопередачи и просматривают телепрограммы по тематике гражданской об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304B-DA1D-4474-9874-234815DC59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курсового обучения по ГО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ОУ СОШ №56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урсов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готовности работников организации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елым и адекватным действиям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угрозе и возникновении опасностей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щих ЧС и военным конфликтам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ктерным для района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ты и 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ивания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тников организ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9C47-23D8-49B4-AE7B-B5EFFA0A46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задач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я  работников  по ГО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2018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80520" y="13716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ми задачами обучения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поражающих факторов источников ЧС, характерных для места расположения организации, а также различных видов оруж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пособов защиты от опасностей, возникающих при ЧС и военных конфли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порядка и последовательности действий по сигнал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ИМАНИЕ ВСЕМ!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приемов оказания первой помощи пострадавш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навыков в пользовании средствами индивидуальной и коллективной защ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практического применения полученных знаний в интересах обеспечения безопасности жизне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работников организации к выполнению своих должностных и специальных обязанностей в условиях угрозы и возникновения опасностей при ЧС и военных конфли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A758-D90D-4745-AE07-5D417378D1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ового 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0520" y="12952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ми принципами курсового обучения являю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аботников организации тому, что необходимо в условиях угрозы и возникновения опасностей при ЧС и военных конфликт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 и максимальное приближение к реальной обстанов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лое сочетание различных форм и методов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сть и методическая последовательность обуч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от простого к сложному, от частного к общему, от известного к неизвестному»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тельность и активность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обу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648C-BD4D-4F38-B0B4-6D4AFEA015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и формы занятий курсового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0456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учебной деятельно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водимые в ходе курсового обучения, подразделяются 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оретическ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ормой теоретических занятий при обучении работников организации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зан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работниками, имеющими автоматизированные рабочие места (персональные компьютеры с выходом в интернет или в локальную компьютерную сеть организации)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проводиться дистанционно (Рабочая программа курсового обучения МАОУ СОШ №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обучения работников организации составляет проведе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х занят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е занят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и ум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енные при освоении тем программы курсового обучения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ую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ходе участия работников организац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нировках и комплексных учениях по ГО и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10FA-9DDF-438A-8831-6F7B6DC5A4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9736-FE12-4A63-924B-83322D9A446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Прямоугольник 4"/>
          <p:cNvSpPr/>
          <p:nvPr/>
        </p:nvSpPr>
        <p:spPr>
          <a:xfrm>
            <a:off x="457200" y="360360"/>
            <a:ext cx="835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резвычайная ситуац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становка на определенной террито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ложившаяся в результ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р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го природного яв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строф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йного или иного бедств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которая может повлечь или повлекла за со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ие жерт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а так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щер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ю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окружающей сре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ые материальные пот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рушение условий жизнедеятельност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на Курсовое обуч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ботников МАОУ С ОШ №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0456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9720" indent="-285840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972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9720" indent="-285840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D3CE-E33A-409E-88A5-DEE545DF82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457200" y="1447920"/>
          <a:ext cx="8153280" cy="4752720"/>
        </p:xfrm>
        <a:graphic>
          <a:graphicData uri="http://schemas.openxmlformats.org/drawingml/2006/table">
            <a:tbl>
              <a:tblPr/>
              <a:tblGrid>
                <a:gridCol w="2057400"/>
                <a:gridCol w="6095880"/>
              </a:tblGrid>
              <a:tr h="1412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Директора МАОУ СОШ №56 от  09 января  2018 года  №ОД- 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 итогах подготовки работников МАОУ СОШ №56 по вопросам гражданской обороне и защиты от чрезвычайных ситуаций в  2017 году и задачах на 2018 год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188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РИКА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- 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09 .01.  2018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учебных групп и руководителей занятий по ГО и ЧС на 2018 год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68688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ка  учений, тренировок на 2018 го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списание занятий по ГО и ЧС на 2018 го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бочая  программа курсового обучения работников МАОУ СОШ №56 в области ГО и Ч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Директора МАОУ СОШ №56 от  09.01.2018 г.  №ОД- 1/4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 итогах подготовки работников МАОУ СОШ №56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 вопросам ГО и защиты от ЧС в  2017 году и задачах на 2018 год»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0456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лавной задачей … на 2018 год считать повышение практической направленности к действиям при угрозе и возникновении опасностей, присущих ЧС…, в том числе и по сигналу «ВНИМАНИЕ ВСЕМ!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дготовку должностных лиц осуществлять на курсах ГО городского округа «Город Калининград» в соответствии с утвержденными планами и заявк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урсовое обучение работников организовать по учебным группам (прилож.№ 1)  в соответствии с действующими программами подготов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ебный год начать 09 января 2018 г., закончить 30 ноября 2018 г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ни проведения занятий – вторник 2</a:t>
            </a:r>
            <a:r>
              <a:rPr b="0" lang="ru-RU" sz="1500" spc="-1" strike="noStrike" u="sng" baseline="30000">
                <a:solidFill>
                  <a:srgbClr val="000000"/>
                </a:solidFill>
                <a:uFillTx/>
                <a:latin typeface="Arial"/>
              </a:rPr>
              <a:t>о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и (или) 4</a:t>
            </a:r>
            <a:r>
              <a:rPr b="0" lang="ru-RU" sz="1500" spc="-1" strike="noStrike" u="sng" baseline="30000">
                <a:solidFill>
                  <a:srgbClr val="000000"/>
                </a:solidFill>
                <a:uFillTx/>
                <a:latin typeface="Arial"/>
              </a:rPr>
              <a:t>о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едели месяц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урсовое обучение … проводить в объеме 16 часов в соответствии с расписанием занятий (прилож. № 3) и программой  обучения (прилож. №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ходе учений, тренировок (прилож. №2) и занятий по ГОЧС основные усилие направить на практическое выполнение должностными лицами своих функциональных обязанностей, на привитие им умения анализировать и оценивать обстановку, принимать грамотные решения … при возникновении  ЧС…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полномоченному … Баранову Н.А. провести инструкторско-методическое занятие с руководителями занятий о порядке их подготовки проведению занятий лично проверять готовность руководителей групп к занятиям, организацию и ход их проведения. По результатам проверок представлять мне сведения о качестве проведенных занят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их посещаем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65EA-BB7E-4B24-98D4-AD2CF33522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4760" y="38052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х групп и руководителей занятий по ГО и ЧС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СОШ №56 на 2018г. </a:t>
            </a: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533520" y="1371600"/>
          <a:ext cx="7848360" cy="4437000"/>
        </p:xfrm>
        <a:graphic>
          <a:graphicData uri="http://schemas.openxmlformats.org/drawingml/2006/table">
            <a:tbl>
              <a:tblPr/>
              <a:tblGrid>
                <a:gridCol w="914400"/>
                <a:gridCol w="685800"/>
                <a:gridCol w="3581280"/>
                <a:gridCol w="1000080"/>
                <a:gridCol w="1666800"/>
              </a:tblGrid>
              <a:tr h="315720"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ные подразделения,  формирования 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176040" indent="-17604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русского языка и литератур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естественного цик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математики и инфор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по У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гун Е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учителей нач.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У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цкая И.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ин. язык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физ. культуры, технологии, 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монов В.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доп.  образ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-организатор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-психолог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педагог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истории, муз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по 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чурская Л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о-техничес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по АХ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нов Н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DF26-DA24-4D5D-899F-74EB4EF6B7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тика  </a:t>
            </a:r>
            <a:br>
              <a:rPr sz="16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й, тренировок по ГО в МАОУ СОШ №56  </a:t>
            </a:r>
            <a:br>
              <a:rPr sz="16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2018 год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457200" y="1371600"/>
          <a:ext cx="8153280" cy="4994280"/>
        </p:xfrm>
        <a:graphic>
          <a:graphicData uri="http://schemas.openxmlformats.org/drawingml/2006/table">
            <a:tbl>
              <a:tblPr/>
              <a:tblGrid>
                <a:gridCol w="549360"/>
                <a:gridCol w="5851440"/>
                <a:gridCol w="1752480"/>
              </a:tblGrid>
              <a:tr h="66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йствия в случае опасностей, возникающих в результате чрезвычайной  ситуации и пожара»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работники и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Экстренная эвакуация обучающихся и работающих из помещений и зданий образовательного учреждения в случае возникновения пожара и других ЧС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работники и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и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 эвакуации обучающихся из помещений образовательного учреждения в противорадиационное укрытие (в соответствии с Рабочей программой по предмету «Основы безопасности жизнедеятельности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х, 10-х и 11-х классо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5C3-E091-43F6-9310-514077CC70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4568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исание занятий по ГО и ЧС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работниками МАОУ СОШ №56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2018 год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304920" y="1371600"/>
          <a:ext cx="8305560" cy="4916520"/>
        </p:xfrm>
        <a:graphic>
          <a:graphicData uri="http://schemas.openxmlformats.org/drawingml/2006/table">
            <a:tbl>
              <a:tblPr/>
              <a:tblGrid>
                <a:gridCol w="685800"/>
                <a:gridCol w="5181480"/>
                <a:gridCol w="609480"/>
                <a:gridCol w="1067040"/>
                <a:gridCol w="761760"/>
              </a:tblGrid>
              <a:tr h="380880"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4132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ражающие факторы источников чрезвычайных ситуаций, характерных для мест расположения и производственной деятельности организации, а также оружия массового поражения и других видов оруж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15192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-7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2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-23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-85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-2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5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-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рядок получения сигнала «ВНИМАНИЕ ВСЕМ!» с информацией о воздушной тревоге, химической тревоге, радиационной опасности или угрозе катастрофического затопления и действий работников организации по н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рядок и правила использования средств индивидуальной и коллективной защиты, а также средств пожаротушения, имеющихся в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ействия работников при аварии, катастрофе и пожаре на территории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.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Действия работников организации при угрозе и возникновении чрезвычайных ситуаций, военных конфликтов, угрозе и совершения террористических а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.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азание перв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ействия работников организации в условиях негативных и опасных факторов бытов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8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59A4-7577-4091-9C02-CACD8D8E59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ируемые результат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ого 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08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и организации должны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ающие факторы источников ЧС, характерных для территории проживания и работы, а также оружия массового поражения и других видов оруж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и средства защиты от опасностей, возникающих при военных конфликтах или вследствие этих конфликтов, а также при ЧС природного и техногенного характера, свои обязанности в области ГО и защиты от 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расположения средств индивидуальной и коллективной защ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расположения первичных средств пожаротушения, имеющихся в орган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лучения средств индивидуальной защиты, а также укрытия в средствах коллективной защиты работников организации, правила поведения в защитных сооруж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ействий по обеспечению личной безопасности в местах массового скопления людей, при пожаре, на водных объектах, в походе и на прир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E39B-36E5-42C0-8518-B19BAB1796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ируемые результат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ого 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и организации должны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овать по сигналу «ВНИМАНИЕ ВСЕМ!», с информацией о воздушной тревоге, химической тревоге, радиационной опасности или угрозе катастрофического затоп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средствами индивидуальной и коллективной защ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частичную санитарную обработ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выполнять мероприятия по реализации основных способов защ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первичными средствами пожаротушения, имеющимися в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ть первую помощь в неотлож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A7D6-BBB2-4331-ADBC-17EBEBC37A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оприятия по обеспечению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при проведении занятий обеспечивается их четкой организацией, точным соблюдением требований безопасности, положениями руководств, приказов и распоряжений прямых начальников, а также применением знаний и навыков, полученных в ходе проведения различных видов инструктажей и занятий по изучению требований безопасности по темам в соответствии с тематическим пл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и занятий обязаны принимать меры по предотвращению травматизма обучаемых, устанавливать необходимые требования безопасности при обращении с приборами, инвентарем, инструментами, другим оборудование, своевременно доводить эти требования и добиваться строгого их вы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безопасности должны выполняться при любых условиях, независимо от времени проведения занятий, наличия обучаемых и материаль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емые, не усвоившие требования безопасности, к занятиям      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   допускаю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9964-E8E5-4FC8-8A32-98C191709C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marL="264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ение вопросам ГО и защиты от Ч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учебном процессе по предмету ОБ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1" name="Объект 3" descr=""/>
          <p:cNvPicPr/>
          <p:nvPr/>
        </p:nvPicPr>
        <p:blipFill>
          <a:blip r:embed="rId1"/>
          <a:stretch/>
        </p:blipFill>
        <p:spPr>
          <a:xfrm>
            <a:off x="560520" y="1603440"/>
            <a:ext cx="7986600" cy="4419360"/>
          </a:xfrm>
          <a:prstGeom prst="rect">
            <a:avLst/>
          </a:prstGeom>
          <a:ln w="0">
            <a:noFill/>
          </a:ln>
        </p:spPr>
      </p:pic>
      <p:sp>
        <p:nvSpPr>
          <p:cNvPr id="85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56B4-12AB-46FE-A99D-E0A1D31879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18676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marL="53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 предмета ОБЖ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Системе обучения вопросам ГО и защиты от ЧС</a:t>
            </a:r>
            <a:br>
              <a:rPr sz="2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Объект 1" descr=""/>
          <p:cNvPicPr/>
          <p:nvPr/>
        </p:nvPicPr>
        <p:blipFill>
          <a:blip r:embed="rId1"/>
          <a:stretch/>
        </p:blipFill>
        <p:spPr>
          <a:xfrm>
            <a:off x="19080" y="987480"/>
            <a:ext cx="8680320" cy="58640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" descr=""/>
          <p:cNvPicPr/>
          <p:nvPr/>
        </p:nvPicPr>
        <p:blipFill>
          <a:blip r:embed="rId2"/>
          <a:stretch/>
        </p:blipFill>
        <p:spPr>
          <a:xfrm>
            <a:off x="7924680" y="33480"/>
            <a:ext cx="838440" cy="977760"/>
          </a:xfrm>
          <a:prstGeom prst="rect">
            <a:avLst/>
          </a:prstGeom>
          <a:ln w="0">
            <a:noFill/>
          </a:ln>
        </p:spPr>
      </p:pic>
      <p:sp>
        <p:nvSpPr>
          <p:cNvPr id="85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2F7D-B77A-4197-8FEE-0FB509A57D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DFD4-6A52-45F9-A0E3-5A2C1959F9C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304920" y="304920"/>
          <a:ext cx="8458200" cy="5527440"/>
        </p:xfrm>
        <a:graphic>
          <a:graphicData uri="http://schemas.openxmlformats.org/drawingml/2006/table">
            <a:tbl>
              <a:tblPr/>
              <a:tblGrid>
                <a:gridCol w="1600200"/>
                <a:gridCol w="2954160"/>
                <a:gridCol w="3903840"/>
              </a:tblGrid>
              <a:tr h="274680">
                <a:tc gridSpan="3"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Классификация ЧС по зонам распространения, потерям и ущерб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052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Gill Sans MT"/>
                        </a:rPr>
                        <a:t>Характер Ч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d1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Gill Sans MT"/>
                        </a:rPr>
                        <a:t>Зона чрезвычайн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d1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Количество пострадавших (погибших или получивших ущерб здоровью) либо ущерб окружающей среде и материальных потерь (размер материального ущерб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d1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71f28"/>
                          </a:solidFill>
                          <a:latin typeface="Gill Sans MT"/>
                        </a:rPr>
                        <a:t>Лок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Зона ЧС не выходит за пределы территории 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1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100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уницип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она ЧС не выходит за пределы территории одного по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 более 5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 более 5 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71f28"/>
                          </a:solidFill>
                          <a:latin typeface="Gill Sans MT"/>
                        </a:rPr>
                        <a:t>Межмуницип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Зона ЧС затрагивает территорию 2-х и более 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5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5 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Регион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она ЧС не выходит за пределы территории одного субъекта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выше 50 чел., но не более 500 чел., свыше 5 млн. руб, но не более 500 млн.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71f28"/>
                          </a:solidFill>
                          <a:latin typeface="Gill Sans MT"/>
                        </a:rPr>
                        <a:t>Межрегион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Зона ЧС затрагивает территорию 2-х и более субъектов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Свыше 50 чел. но не более 500 чел., свыше 5 млн. руб, но не более 500 млн.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Федер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выше 50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выше 500 млн.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Объект 1" descr=""/>
          <p:cNvPicPr/>
          <p:nvPr/>
        </p:nvPicPr>
        <p:blipFill>
          <a:blip r:embed="rId1"/>
          <a:stretch/>
        </p:blipFill>
        <p:spPr>
          <a:xfrm>
            <a:off x="304920" y="129852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990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 вопросам ГО и защиты от Ч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хся 8-х классов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грамме предмета ОБЖ по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Box 2"/>
          <p:cNvSpPr/>
          <p:nvPr/>
        </p:nvSpPr>
        <p:spPr>
          <a:xfrm>
            <a:off x="2142000" y="42670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азде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983C-04D7-49FA-B7BB-B340976EB5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вопросам ГО и защиты от Ч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щихся старшей школы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дуль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ение предмета ОБЖ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2" name="Объект 1" descr=""/>
          <p:cNvPicPr/>
          <p:nvPr/>
        </p:nvPicPr>
        <p:blipFill>
          <a:blip r:embed="rId1"/>
          <a:stretch/>
        </p:blipFill>
        <p:spPr>
          <a:xfrm>
            <a:off x="79200" y="1371600"/>
            <a:ext cx="8382240" cy="5029200"/>
          </a:xfrm>
          <a:prstGeom prst="rect">
            <a:avLst/>
          </a:prstGeom>
          <a:ln w="0">
            <a:noFill/>
          </a:ln>
        </p:spPr>
      </p:pic>
      <p:sp>
        <p:nvSpPr>
          <p:cNvPr id="863" name="TextBox 4"/>
          <p:cNvSpPr/>
          <p:nvPr/>
        </p:nvSpPr>
        <p:spPr>
          <a:xfrm>
            <a:off x="1905120" y="3911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Мод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2412-B5EB-4A59-A046-6B6BEF52CE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marL="63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. 8 класс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ужок «Защитник Отечества»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36680" y="1371600"/>
            <a:ext cx="847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ХБЗ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дства коллективной и индивидуальной защ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дицинская подготов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ервая помощь в экстремаль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овседневной жизни и службы в воинской части (подразделе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евая подгото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невая подготовк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тическая подгото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ладная физическая подгото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воспитательная и организационно-массовая работа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6A26-266F-485A-97D7-E02558BDA6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marL="72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. 10 класс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ые сб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9" name="Объект 3" descr=""/>
          <p:cNvPicPr/>
          <p:nvPr/>
        </p:nvPicPr>
        <p:blipFill>
          <a:blip r:embed="rId1"/>
          <a:stretch/>
        </p:blipFill>
        <p:spPr>
          <a:xfrm>
            <a:off x="603360" y="1517760"/>
            <a:ext cx="8070840" cy="4505040"/>
          </a:xfrm>
          <a:prstGeom prst="rect">
            <a:avLst/>
          </a:prstGeom>
          <a:ln w="0">
            <a:noFill/>
          </a:ln>
        </p:spPr>
      </p:pic>
      <p:sp>
        <p:nvSpPr>
          <p:cNvPr id="870" name="TextBox 4"/>
          <p:cNvSpPr/>
          <p:nvPr/>
        </p:nvSpPr>
        <p:spPr>
          <a:xfrm>
            <a:off x="2787480" y="29559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C069-93BD-4CAB-8A91-09456B027C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539640"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в нашей школе!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О – ДОСУГОВЫЙ ЦЕНТР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Я люблю ОБЖ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76320" y="1189080"/>
          <a:ext cx="8915400" cy="5568840"/>
        </p:xfrm>
        <a:graphic>
          <a:graphicData uri="http://schemas.openxmlformats.org/drawingml/2006/table">
            <a:tbl>
              <a:tblPr/>
              <a:tblGrid>
                <a:gridCol w="1218960"/>
                <a:gridCol w="76964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действие всестороннему гармоничному развитию личности учащегося – гражданина и патриота нашей любимой Род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итие любви и уважения к Родине и ее Вооруженным Сил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ятие психологической нагрузки путем смены вида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коммуникативных способностей в разновозрастном коллективе и  самодисциплины, преодоление комплексов и фоби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способности оценивать себя и других людей по делам и отношению к окружающи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лучение знаний, умений и навыков по вопросам БЖД, Г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НВП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ствование физического развития, содействие в подготовке к сдаче норм ГТ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тремления к ЗОЖ, отвлечение от соблазнов приобретения вредных привычек и совершения проступков, содействие сохранности имущества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ое использование учебно-материальной базы ОБ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87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FBA2-E489-44DE-A5E9-73B45F83ED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635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 здравствует здоровый образ жизни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О – ДОСУГОВЫЙ ЦЕНТР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досуговый центр работ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онедельника по пятницу в первой половине д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492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учащихся любых (всех) классов (возрас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 каждой перем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администрации,  преподавателей и их детей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 любое время на свободных уроках (окнах) и переменах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07D1-0C2E-48A3-9590-6201FE513E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339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тели работ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990720" y="1295280"/>
          <a:ext cx="7238880" cy="4978440"/>
        </p:xfrm>
        <a:graphic>
          <a:graphicData uri="http://schemas.openxmlformats.org/drawingml/2006/table">
            <a:tbl>
              <a:tblPr/>
              <a:tblGrid>
                <a:gridCol w="4816440"/>
                <a:gridCol w="1211040"/>
                <a:gridCol w="1211400"/>
              </a:tblGrid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ней/часов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едель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ей/часов работы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ов работы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школьнико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участников ПД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охв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посе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оличества посещений к количеству школьников 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тителей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D8FD-5085-42CC-A471-6B97E695E9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076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О – ДОСУГОВЫЙ ЦЕНТР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работы 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609480" y="1447920"/>
          <a:ext cx="8001000" cy="5065560"/>
        </p:xfrm>
        <a:graphic>
          <a:graphicData uri="http://schemas.openxmlformats.org/drawingml/2006/table">
            <a:tbl>
              <a:tblPr/>
              <a:tblGrid>
                <a:gridCol w="952560"/>
                <a:gridCol w="501840"/>
                <a:gridCol w="500040"/>
                <a:gridCol w="501480"/>
                <a:gridCol w="500040"/>
                <a:gridCol w="500040"/>
                <a:gridCol w="501840"/>
                <a:gridCol w="500040"/>
                <a:gridCol w="501480"/>
                <a:gridCol w="500040"/>
                <a:gridCol w="1335240"/>
                <a:gridCol w="1206360"/>
              </a:tblGrid>
              <a:tr h="282240"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дней занятий  по месяцам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ения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gridSpan="1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имечание: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учета посещений в дни занятий по расписанию и по отдельным заяв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84" name="Picture 3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712800" cy="817560"/>
          </a:xfrm>
          <a:prstGeom prst="rect">
            <a:avLst/>
          </a:prstGeom>
          <a:ln w="0">
            <a:noFill/>
          </a:ln>
        </p:spPr>
      </p:pic>
      <p:sp>
        <p:nvSpPr>
          <p:cNvPr id="88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F2A0-CBBD-4B9B-A734-08122C7DE4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900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учебно-материальной базы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защиты от Ч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09480" y="1371600"/>
            <a:ext cx="825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абинет ОБЖ – оборудован и оснащен необходимым иму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аборантская ОБ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овременное оборудование 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У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на 1100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редства индивидуальной защиты и приборы РХБ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едицинские тренажеры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олоса препят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идео-фильмы, литература, стационарные и мобильные наглядные пособия и плак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й тир (2 ед. оруж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лковый тир для пневматического оруж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ово-габаритные макеты АК-74 – 2 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е автотренажеры (д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704D-59BF-4D08-A2C1-B0C051F052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723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ояние учебно-материальной базы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 и защиты от Ч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материальная баз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ует предъявляемым к ней требования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держивается в рабочем состояни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вается в соответствии с перспективным планом на 5 л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с интенсивной нагрузкой в урочное и неурочное врем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МБ ГО и ЧС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вое место в г. Калининграде на смотре-конкурсе  2016 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Первое место в Калининградской области в 2014 году (Кубо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07C2-2452-4E53-82AD-1B3FDA0985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B1E9-3782-493B-8FAE-BDB3A2E5C4B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Схема 4" descr=""/>
          <p:cNvPicPr/>
          <p:nvPr/>
        </p:nvPicPr>
        <p:blipFill>
          <a:blip r:embed="rId1"/>
          <a:stretch/>
        </p:blipFill>
        <p:spPr>
          <a:xfrm>
            <a:off x="231840" y="536400"/>
            <a:ext cx="8766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и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нировок по эваку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бные и воспитательны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ать у администрации и работников школы единое понимание задач, мероприятий, последовательности и способов действий в случае опасностей, возникающих при внезапном нападении противника, угрозе террористического акта, в результате ЧС и  пож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практические навыки сотрудников и учащихся школы по эвакуации из здания при внезапном возникновении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ить уверенность учащихся в способности администрации и педагогов школы и своих возможностях обеспечить безопасность в различных Ч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готовность школы к осуществлению внезапной эвакуации при возникновении ЧС в нормативные с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D28F-2298-4644-82F1-B17983FE65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196560"/>
            <a:ext cx="8015400" cy="974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нировок по эваку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3049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35880" indent="-2516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вещение сотрудников, учащихся и посетителей школы о возникновении Ч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временное открытие дверей основных и запасных выходов из 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осуществление эвакуации из здания школы учащихся, сотрудников и посетителей, защита людей на путях эвак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редоточение (построение) персонала и учащихся в месте (пункте) сбора, проверка и учет наличия персонала и учащихся в пункте с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товности  спасательной и санитарной групп к действ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103C-F615-46D8-ADBF-D313CF9B4F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3" descr=""/>
          <p:cNvPicPr/>
          <p:nvPr/>
        </p:nvPicPr>
        <p:blipFill>
          <a:blip r:embed="rId2"/>
          <a:srcRect l="11661" t="8484" r="16405" b="7921"/>
          <a:stretch/>
        </p:blipFill>
        <p:spPr>
          <a:xfrm>
            <a:off x="7467480" y="196920"/>
            <a:ext cx="838440" cy="97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вещение и открывание дверей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эваку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Объект 2" descr=""/>
          <p:cNvPicPr/>
          <p:nvPr/>
        </p:nvPicPr>
        <p:blipFill>
          <a:blip r:embed="rId2"/>
          <a:stretch/>
        </p:blipFill>
        <p:spPr>
          <a:xfrm>
            <a:off x="536400" y="1401840"/>
            <a:ext cx="8101080" cy="5029200"/>
          </a:xfrm>
          <a:prstGeom prst="rect">
            <a:avLst/>
          </a:prstGeom>
          <a:ln w="0">
            <a:noFill/>
          </a:ln>
        </p:spPr>
      </p:pic>
      <p:sp>
        <p:nvSpPr>
          <p:cNvPr id="90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DAA7-DD8B-44DC-820F-336B48B9F5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 задача при эвакуации –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 вывести людей в безопасное мест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045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76040" algn="ctr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(тренер), который проводил занятия с класс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76040" algn="ctr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сонально отвечает за жизнь и здоровье учащихся класс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76040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обязанности учителя (тренера) при эваку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ь окна кабине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 список учащихся и лист контроля эвакуации класс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учащихся в колонну по два, проверить их наличие и вывести из кабинета в корид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 закрыть двери в кабинет –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 на замок не закрыв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безопасный маршрут и, возглавляя колонну, быстро и организовано, без паники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захода в гардероб и другие помещ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в колонне по два в направлении ближайшего выхода из здания к месту построения на стадионе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класс на месте построения на стадионе и проверить по списку наличие учащихся в стро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лист контроля эвакуации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ожить соответствующему завучу о результатах эвакуации и сдать ему лист контроля эвакуации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отсутствия учащегося в период эвакуации – учитель срочно доложить об этом директору для  принятия им решения о направлении спасательной группы для поиска уча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70E9-0488-453B-8166-4037548C46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ец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я листа 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762120" y="1447920"/>
          <a:ext cx="7315200" cy="464796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647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 КОНТРОЛЯ ЭВАК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 а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           Дата: 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. 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0" i="1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иску:                     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овало на занятиях: __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ся в строю:                 __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 че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и на занятиях, но нет в строю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 чел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-имен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доров Серг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  _________________ _________________  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даватель-руководитель эвакуацией класса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дпис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 / __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ванов П.П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              расшифровка  - разборч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ниц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90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C398-A335-4EA8-B63B-538742550E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010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 организации эвакуац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й с ОВЗ </a:t>
            </a:r>
            <a:br>
              <a:rPr sz="2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. №ОД-95 от 29.08.2017г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53316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м руководителям и учителям, ведущим урок, ежеднев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ять возможности учащихся по самостоятельной эвакуации из здания школы по состоянию здоровья в случае опасностей, возникающих при внезапном нападении противника, угрозе террористического акта, в результате чрезвычайной ситуации и  по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в классе учащихся с нарушениями или травмами опорно-двигательного аппарата в начале каждого урока планировать и организовывать оказание им помощи  другими учащимися на случай необходимости эвакуации из здания школы как  во время урока, так и на пере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за эвакуацию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хся с нарушениями или травмами опорно-двигательного аппарата возложить на классных руководителей и преподавателей, ведущих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9515-E157-45E8-BA83-FD4253F51E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СОБЫ ПЕРЕНОСК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ДЕЙ С ОВ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ИСПОЛЬЗОВАНИЯ СПЕЦИАЛЬ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САНИТАРНЫХ ЛЯМ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САНИТАРНЫХ ЖЕСТКИХ ИЛИ МЯГКИХ НОСИ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ПОДРУЧ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2"/>
          <a:stretch/>
        </p:blipFill>
        <p:spPr>
          <a:xfrm>
            <a:off x="7467480" y="2602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АМОЕ ГЛАВ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 ОСТАВ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З ВНИМ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МОЩ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бучения и учебно-материальная база ГО и защиты от ЧС МАОУ СОШ №56 способствует повышению готовности учащихся и работников школы к умелым и адекватным действиям при угрозе и возникновении опасностей, присущих ЧС и военным конфликтам, характерным для района расположения школы и проживания ее работников и учащихся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815E-1EC1-461D-8390-ED5C63B81A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577F-4133-4EF7-9121-B348B4982EF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685800" y="457200"/>
          <a:ext cx="8153280" cy="57913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5349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ТЕХНОГЕННЫЕ   ЧС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6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С, связанные со взрывами и пожарам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варии на химически опасных объектах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варии с выбросом радиоактивных вещест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идродинамические авари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незапное обрушение зданий, сооружени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варии на коммунально-энергетических система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9840">
                <a:tc gridSpan="2">
                  <a:txBody>
                    <a:bodyPr lIns="90000" rIns="90000" anchor="t">
                      <a:noAutofit/>
                    </a:bodyPr>
                    <a:p>
                      <a:pPr marL="900000" indent="-36972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ранспортные аварии (происшествия и катастрофы на железнодорожном, автомобильном, авиационном, водном, трубопроводном транспорте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36B3-F9BB-4462-A05B-BCCD68B4CE9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457200" y="122400"/>
          <a:ext cx="8153280" cy="572904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79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РОДНЫЕ ЧС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480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геологические явления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гидрологические явления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метеорологические явления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пожары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1438200" indent="-3585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8A0D-D056-4001-A544-270D2BDA772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457200" y="324000"/>
          <a:ext cx="8229600" cy="6188040"/>
        </p:xfrm>
        <a:graphic>
          <a:graphicData uri="http://schemas.openxmlformats.org/drawingml/2006/table">
            <a:tbl>
              <a:tblPr/>
              <a:tblGrid>
                <a:gridCol w="4267080"/>
                <a:gridCol w="396252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БИОЛОГО-СОЦИАЛЬНЫЕ Ч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8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ссовые заболеван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45f07"/>
                          </a:solidFill>
                          <a:latin typeface="Corbel"/>
                        </a:rPr>
                        <a:t>людей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пидеми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ндем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45f07"/>
                          </a:solidFill>
                          <a:latin typeface="Corbel"/>
                        </a:rPr>
                        <a:t>сельскохозяйственных животных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пизооти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нзоот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45f07"/>
                          </a:solidFill>
                          <a:latin typeface="Corbel"/>
                        </a:rPr>
                        <a:t>сельскохозяйственных растений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пифитоти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нфитот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ррористические ак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ежнациональные конфлик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бастовки, бун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еноцид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мографические кризисы (взрыв, спад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22AB-22FD-46EF-A624-77E528B44AC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оугольник 6"/>
          <p:cNvSpPr/>
          <p:nvPr/>
        </p:nvSpPr>
        <p:spPr>
          <a:xfrm>
            <a:off x="0" y="1676520"/>
            <a:ext cx="9144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ажданская обор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мероприят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одготовке к защите и по защ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л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ых и культурных цен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опасност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ющих при ведении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военных действи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следствие этих дейст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при возникновении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чрезвычайных ситу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ого и техногенного хар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общеобразовательном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режден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04920" y="12952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 в ОУ призвана обеспечить  обу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а ОУ и обучающихся способам защиты от опасностей, возникающих при ведении военных действий или вследствие этих действий, а также при ЧС природного и  техноген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бщеобразовательном учрежден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бщих основаниях в соответствии с положением Федерального закона Российской Федерации «О гражданской обороне» и другими доку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главляет ГО ОУ дирек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 должности несёт персональную ответственность за организацию и проведение мероприятий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21-09-26T12:05:21Z</dcterms:modified>
  <cp:revision>7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