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3890-7043-432D-A95F-DA4C2A430B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FD5F-4DA6-41C4-950B-ED7A99955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5D7-56CA-42A4-9BDA-3435E4DC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449-A926-440F-AD21-088B16C6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F405E-3903-4638-BB59-37C0005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43AEE-3ACF-49DD-B48E-0FFB0D68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2CF79-DE4B-44DB-8C5D-9CF1CF7B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1002F-4D46-47C6-B001-8A3EA3EE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80146-64AA-444B-B1DA-51A48608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4EDCC-DE75-4848-AE53-BEF3AE17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DF168-628F-4FE9-B108-DB6F6B4B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53CB7-8283-438C-82A6-73E46C58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88C28-9051-4E5B-97DE-61DBD4FF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B5C17-277E-478A-87AC-926E3077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9A4-D147-4FB5-885E-8BE42BA1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46C60-8738-4DB3-BE4D-84C4AF9D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0119F-06E5-4EEC-98F6-C0D036A0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6A059-F327-40DD-BD42-28717572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03B10-CF6B-46F2-B4AA-F6351E9C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8E5CD-B494-4154-872C-5B5CB56E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C63B4-C58F-42CE-8FCC-4F0286B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98AC1-F65E-401D-A0EF-55B8335A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29B3C-7618-466B-BCD5-F5079216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3711C-DEA1-44E8-ADD3-197AB70D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8B17E-8585-49D0-A7E0-37AA6EE3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575-955A-4FA6-9E8A-D7B3A922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D3B3C-C212-4857-9B3E-DD9B012C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BBEA6-6C40-4B5A-952B-688E7165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03F83-F86D-41A8-82DB-24FDA1FC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88868-2A52-4DBE-B064-B935BC34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EAB0D-73FC-41E7-B7F9-A1FC0340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FEC39-CBD9-4824-A983-651B276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9AADB-AA15-4D00-988F-2CE9878B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72A66-63CB-489D-AE1B-4E7B7874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CE5C8-EAF8-46B9-B26F-07069E89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BC9C6-6155-45F6-8DC9-87294DC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85F9-02D7-4054-B720-80ADA36B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BA11F-4DBC-4A95-A441-4050718B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DA6C1-B924-4AB2-AC4E-534737A6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8E686-41C3-4687-B3FE-4CD3591E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42E7B-7F9F-4C2D-89A8-58D6BB85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05C1B-1A97-425B-9EA7-4B732DE8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ECD8B-8163-40C1-BA01-F6957F29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A1CE5-31B1-4D76-A290-9A37B52F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C192B-EA16-4D50-B556-16F66E75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70372-A5FB-4726-9225-A6324398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D430F-AFE1-4C2C-BC19-B07D1BB2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C9B4-D500-460C-8D7F-64B6718E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E1F40-FF54-467B-909B-FEF346D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BB212-688E-4DA6-B05D-4D0FA1C7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C0980-603F-4BC5-8615-6376BF29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5AF61-1EC6-454B-A23A-B473EC4D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7F17A-35FF-4E37-978A-27813CB8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4C476-C3C4-4D36-8AD4-987F4E30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6E837-8D6E-4126-ABB9-A179919D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696C0-C84A-4848-8E3D-C9EC69D6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BC658-A76B-47B3-8E82-0BC1D2F7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796F9-5511-4B6A-B3D8-9F4AEB1E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B478-D886-4593-ADAB-A146384F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19652-3A96-45A6-BC95-A62C2419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78BB5-CE9F-4008-A3CD-4729AEE8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B5319-9451-4614-B956-0628E5E7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8584E-36FC-411D-A2EC-AC8FA1EC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B7891-5818-40B4-9C10-8756B6AC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0CD94-7DB3-42BF-9FB8-0636D318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2A8AA-36BD-4BFC-9857-C26FB2F8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9B94A-F12C-4088-9207-54A6B7AC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4906B-EA36-444B-93BC-36D00D1D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53E9C-227C-462A-BAFC-BC5C908F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BD2F-FE3B-4647-8ADF-7EF04316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14021-CEE8-43F5-9E82-88F8193B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1D1EE-0A44-4F06-A5FF-E2BA1CAE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2B928-7AD5-4140-B595-DD43E931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01C3B-8486-4ABA-8FF9-7EEABF51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90054-7D4B-4975-A40C-571D6D19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07FB1-4C54-4652-817E-504C7BE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4E727-7344-47BE-8783-9A9588EF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6E92C-2FCB-453F-BCEB-1DB910FD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26B36-EEB1-47AD-AD52-DEB18DA8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FE051-C14A-49EF-BF89-F060285C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0ADF-8EB5-4C5E-B695-07A6109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08C68-4A0E-44FB-9C77-FBC87D6C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298E5-3B7E-4D06-B890-D40C547A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C1A1E-B00B-4EDD-8553-0C4450F8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68C02-8EBF-47F1-AC60-E36C534B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F0AAE-2CC9-4794-8E19-59A9C061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77B9D-5A6B-463E-92C4-DB84C72F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83F97-29F2-4062-A472-9D5CB101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95A7E-F816-4AA2-843C-6C3D8DC1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6FEA2-300D-4E4C-B5B4-3898827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3CDE9-8D81-4A33-8F0C-9E646AA9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7BE9-D2EB-4734-BEA0-F58DCDF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A5048-A8DB-4FC4-9CCA-AE8771DD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2B634-10F9-44E8-8DB7-0B808035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1D694-4181-490E-920E-9814981B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339F3-E107-41BA-8A68-DCCC4F55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9DBB5-E507-42C1-87C9-DE9F199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97977-8C26-4D99-8DE3-C2669C1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BBF76-77FD-4251-BAF4-F057FAFF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42B2D-8461-4124-B60B-2C36CC89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C624D-D9F7-40D5-B2F2-F8F70BF4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7EFA9-7075-418F-910E-678EAB91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AD60-D489-42E2-98BA-6B561AAB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4E184-137A-423C-AC5B-BF13123A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1D2DF-3249-4215-A523-5627B151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5DD79-F552-408A-A59E-AE9440B7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3F61D-29DA-486E-A299-351130D8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B5F39-A5B8-447A-A2E4-60167C47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131E4-2CEE-4CFA-86AC-7F884C45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61E28-15A3-4156-82F2-71D1A25F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1479E-481F-44E8-AE2B-D9BC045E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8F5A87-2547-42FE-8165-22918575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63C72-81F3-4415-9534-A861034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FC7-24CC-4C16-9A07-5B240A34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EAA6-6292-4835-9DE5-FBC825E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8909D-E46D-482A-BBCD-D6B61019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25754-A876-495E-9476-8172F16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53B2B-2CAB-47D0-A167-6EB5D641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5A9D8-B1A7-479A-8186-C940343F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A9B38-5C02-4503-834F-DC090C8E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A9DD-2BCE-4A1A-83F7-EB3DE0D4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8AC1-2736-4479-A90F-D73D9A70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7676-3113-4C90-AB74-BD9DFC52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512E-115F-4750-BD71-7C1C8B2F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A65B8-41A6-4967-B3AE-13FE0A54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09CA-9179-4361-845A-2386CCEE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AFEE-F126-4C10-8265-358AAC50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01BC-7D38-4907-B229-90BC86C1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33C8-3313-4C34-BB93-63D800D0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6AE-4A26-443C-ABE2-176C68C0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047F-C4FC-4B79-847C-59A29ABD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9369-3B72-487C-867B-3CA4E128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83EF-B290-4295-94E1-A6C72B5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0497-4C86-45D9-B5A8-45291005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5224-9404-452E-9FD7-A10780D0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DA96-E328-4310-B3A1-CF1275C9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AD37-3ADA-46FE-9988-26BF4324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43CF-47DE-446A-BED0-E7DEE374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3109F-8E1D-4F4B-B736-5D0ACE7D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FE2D1-6D51-43D8-BF9E-7FFA8AFD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97A-4D78-437B-92DD-1E875F6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4A90-AB9D-439B-8F96-233A5769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9755A-3C36-4557-91DE-39A61BA3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5D29C-2EF5-4110-90AF-56D83282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CE43-2221-4995-AF8F-DB6BD00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E82C-8FED-4479-B903-3BAA2293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37BAA-24EC-43FA-9410-8AC1929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9ED67-291A-4819-8A36-57DB2A31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D78B0-5D6B-43CB-ACFF-309025D6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219B-8D61-465B-A0BC-73A43A04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5AD49-AFF1-432A-8FB4-0FE2BC24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1DD-A6FF-4492-A0C0-56688555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859A8-F036-41A1-BF1E-BF619161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73DA3-BEED-41B0-BAD4-8B420EFF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B5B25-FCE4-484F-B90F-3475DA89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C00F0-1234-4AFE-A8AD-2B0AF7E0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5E93A-8F2F-406F-9099-A227133F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992A0-1F02-4590-83A4-412C02A8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00BD6-E308-4A58-B563-33ADE1D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C586-8978-40EF-823D-07FADF0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F2AD5-7503-4AFD-9376-0523AF97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F1EB6-1B20-4BB8-8D94-92225ADC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079-DD3C-4A15-940A-57BE5E3B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668FA-49FB-4CB6-AF46-E0E55D5A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90862-339C-4CA3-83C2-205C6176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2E3F1-779F-4CE5-A5A5-E9046744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A17E2-B9C6-493F-A99D-CB9F0B2F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694B5-EBD3-45B5-99C9-2285F9E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4574-E908-4F67-84E1-1143A253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5262D-A08B-4F6A-8D52-04D11E0A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D3C8-7F22-4D71-B410-A9B8BBC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48EED-1447-41C7-B06C-47E3A4EB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3C488-269D-4B76-9B40-E3FF4F3F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A79-D7B8-417B-B95A-BD40109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33E19-A70E-4690-8720-F495B7F4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4B428-AC67-430B-9F56-9B7F0F9E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D0F0-DA4A-440E-BC0F-5768307E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28156-04B9-4A4E-9AEA-E86C5C4C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72B55-63E4-4CF0-82FD-20FCC98E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49E9-8272-4D83-A197-990248D2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6B35-00B6-475C-BECB-811C311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0C54E-8C7E-4398-B84B-9B81CBA2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B79F3-3BF8-4804-BDEE-4B08BB2D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58659-918D-41CB-87F5-3D5D0668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BAA-8246-45A6-BFA7-C3F2C0E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E3031-4289-4708-B290-51489F5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E88AB-BC4C-4563-B986-460C22A2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4356B-CB26-48BF-B17A-094F9BF9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2D6D-A818-42B5-AAEF-A60727A6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B46D6-2F0B-4D9A-B56F-10C971AD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E0367-B1F1-43FC-9D69-CEBB21E8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5A8C4-56A0-43B1-B61D-3F752414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E41E-4549-49D7-B415-DBB46487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A72C3-422D-4EAB-9569-563B0CA6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8A036-5872-4DAE-89F1-2AB4FAD6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1D9-9006-44A5-8CFB-3A912D2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9CFD3-4848-4DD0-933E-39460942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449AF-8482-4B72-B287-A145199A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F5CD1-3101-4767-99BD-3D6C33B1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78C64-5DFE-41E8-86EF-C66D75AC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7F1CD-67A5-4A33-AA65-D5A73ED0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01425-AA6C-466A-890F-C6CD7BDD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41704-8F2D-44E2-AB62-F78A1600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ECE97-F399-407F-B99F-94DF4E32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82AFB-F5E9-4AE6-8676-59A61F85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52B8C-DFB2-411F-97BE-2A949790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A75A-C11A-4CFD-BF0B-E5EA16D0E5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0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E42B-68DF-44BA-B078-DED4C726BF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5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C7B1-25F2-4289-89CD-F9E0AB7A28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B29B-C2EE-49F9-A2CC-CA8B7FA89A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13D2-57B7-47BA-96C0-E93F6EB0FE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A923-E74E-4798-A952-D8D9C266FF1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6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4B9-6ED9-41D5-8FD8-1F152179D3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1DD1-B43D-4198-AC12-963B738E47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2469-7253-463A-91BB-49D7BE6CEB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901C-FEE1-4458-BD7B-B5FB7C32A7E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E041-884C-4F81-A43F-CF35F51C57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D4D3-1D6B-4959-9152-967B73D592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7861-5561-4676-AA73-89C7A91D67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2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C8DA-7BA7-4A86-A6E6-DF5965D4D4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80AC-2E0E-4D86-8E07-5C5356AC39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7785-8272-44C4-8AC3-C3A6F698C5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D4DC-1EED-4ABB-B8D1-5CB936CD73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РЕДМЕТНО-ДОСУГОВЫЙ ЦЕНТР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«Я ЛЮБЛЮ ОБЖ!»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ал преподаватель-организатор ОБЖ МАОУ СОШ №56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.А. Филимонов</a:t>
            </a:r>
            <a:br>
              <a:rPr sz="16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1"/>
          <a:srcRect l="11661" t="8484" r="16405" b="7921"/>
          <a:stretch/>
        </p:blipFill>
        <p:spPr>
          <a:xfrm>
            <a:off x="4108320" y="685800"/>
            <a:ext cx="873360" cy="1014480"/>
          </a:xfrm>
          <a:prstGeom prst="rect">
            <a:avLst/>
          </a:prstGeom>
          <a:ln w="0">
            <a:noFill/>
          </a:ln>
        </p:spPr>
      </p:pic>
      <p:sp>
        <p:nvSpPr>
          <p:cNvPr id="770" name="Номер слайда 2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D061-0953-437C-97D7-9DCBE1079F0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760" y="38052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олько в нашей школе! </a:t>
            </a:r>
            <a:br>
              <a:rPr sz="28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 люблю ОБЖ»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76320" y="1189080"/>
          <a:ext cx="8915400" cy="5568840"/>
        </p:xfrm>
        <a:graphic>
          <a:graphicData uri="http://schemas.openxmlformats.org/drawingml/2006/table">
            <a:tbl>
              <a:tblPr/>
              <a:tblGrid>
                <a:gridCol w="1218960"/>
                <a:gridCol w="76964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действие всестороннему гармоничному развитию личности учащегося – гражданина и патриота нашей любимой Род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тие любви и уважения к Родине и ее Вооруженным Сил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ятие психологической нагрузки путем смены вида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коммуникативных способностей в разновозрастном коллективе и  самодисциплины, преодоление комплексов и фоби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особности оценивать себя и других людей по делам и отношению к окружающи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знаний, умений и навыков по вопросам БЖД, ГО и НВП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физического развития, содействие в подготовке к сдаче норм ГТ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тремления к ЗОЖ, отвлечение от соблазнов приобретения вредных привычек и совершения проступков, содействие сохранности имущества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3556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учебно-материальной базы ОБ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77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D9AE-808D-4C56-BDE9-4ACE416699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635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 здравствует здоровый образ жизни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досуговый центр рабо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недельника по пятницу в первой половине д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492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учащихся любых (всех) классов (возрас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 каждой перем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ля администрации,  преподавателей и их детей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2800" indent="-18252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 любое время на свободных уроках (окнах) и переменах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DA92-AE95-4FD8-B2E9-9E670DD9A4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 учебно-материальной базы ПД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бинет ОБЖ – оборудован и оснащен необходимым иму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орантская ОБ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ое оборудование 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й тир (2 ед. оруж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ово-габаритные макеты АК-74 – 2 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е автотренажеры (д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У и средства индивидуальной защиты и приборы РХБ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ие тренажеры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ио-фильмы, литература и стационарные и мобильные наглядные пособия и плак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7A6C-CFB7-462A-8F38-E3B3701778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3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овочные показатели работ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990720" y="1295280"/>
          <a:ext cx="7238880" cy="4978440"/>
        </p:xfrm>
        <a:graphic>
          <a:graphicData uri="http://schemas.openxmlformats.org/drawingml/2006/table">
            <a:tbl>
              <a:tblPr/>
              <a:tblGrid>
                <a:gridCol w="4816440"/>
                <a:gridCol w="1211040"/>
                <a:gridCol w="1211400"/>
              </a:tblGrid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ней/часов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едель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ей/часов работы в неделю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ов работы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школьнико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участников ПД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охв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се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оличества посещений к количеству школьников в 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тителей в день, с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24B3-9A8D-4503-8443-D4B55C2BAC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О – ДОСУГОВЫЙ ЦЕНТ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работы в 2016-2017 учебном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609480" y="1447920"/>
          <a:ext cx="8001000" cy="5065560"/>
        </p:xfrm>
        <a:graphic>
          <a:graphicData uri="http://schemas.openxmlformats.org/drawingml/2006/table">
            <a:tbl>
              <a:tblPr/>
              <a:tblGrid>
                <a:gridCol w="952560"/>
                <a:gridCol w="501840"/>
                <a:gridCol w="500040"/>
                <a:gridCol w="501480"/>
                <a:gridCol w="500040"/>
                <a:gridCol w="500040"/>
                <a:gridCol w="501840"/>
                <a:gridCol w="500040"/>
                <a:gridCol w="501480"/>
                <a:gridCol w="500040"/>
                <a:gridCol w="1335240"/>
                <a:gridCol w="1206360"/>
              </a:tblGrid>
              <a:tr h="28224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дней занятий  по месяцам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ения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 gridSpan="1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чание: без учета посещений в дни занятий по расписанию и по отдельным заявк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8606-8419-4321-AF0B-E4A2380B95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ДЦ. Современное снаряжение во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1456-8218-4FB1-BE86-87FB956E06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G:\ПедСовет\Фото УМБ ОБЖ\20160314_141604.jpg"/>
          <p:cNvPicPr/>
          <p:nvPr/>
        </p:nvPicPr>
        <p:blipFill>
          <a:blip r:embed="rId1"/>
          <a:stretch/>
        </p:blipFill>
        <p:spPr>
          <a:xfrm>
            <a:off x="642960" y="1600200"/>
            <a:ext cx="7858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760" y="53316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метно-досуговый центр ОБЖ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A63E-97B1-4591-A27A-2565894FA8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G:\ПедСовет\Фото УМБ ОБЖ\20160908_121951.jpg"/>
          <p:cNvPicPr/>
          <p:nvPr/>
        </p:nvPicPr>
        <p:blipFill>
          <a:blip r:embed="rId1"/>
          <a:stretch/>
        </p:blipFill>
        <p:spPr>
          <a:xfrm>
            <a:off x="642960" y="1600200"/>
            <a:ext cx="7858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о-досуговый центр путем смены умственной и физической деятельности его посетителей способствует укреплению физического здоровья и снятию психологических нагрузок во время учебного процесса, подготовке сотрудников и учащихся школы к сдаче норм Г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 здрав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доровый образ жиз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2797-622E-4D5B-8AA1-4A8FD9AD0A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р</dc:creator>
  <dc:description/>
  <dc:language>en-US</dc:language>
  <cp:lastModifiedBy>user</cp:lastModifiedBy>
  <dcterms:modified xsi:type="dcterms:W3CDTF">2021-09-26T13:10:37Z</dcterms:modified>
  <cp:revision>6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