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C93F-47EB-4C72-BB1D-8F18A1F989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47B8-2617-4368-A49A-CD612980A8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097-B9F0-4CD0-ACA4-7E2A27CB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735-F4FA-483C-A388-B1E03B9A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E3816-2EC8-4846-8F7F-B36410AB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67238-1610-4B27-BC0D-0FFFE473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D1342-8441-48D1-B479-BFF9AB3C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BC147-90FA-48A9-88A5-5E39A9C4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E830C-3D51-451F-B290-C4DA7C34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78831-3C7E-4BBF-B758-92F007F0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C59A5-B5C3-4926-923B-05E8E4ED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DCDD2-D85A-4D6B-A6D2-5933961A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3FA1A-E2CA-40DB-9327-4A398689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F7A6C-0187-4D51-A9B3-9E64EBD9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EAB-8AB7-4FE6-BEEF-46409AEF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C76F0-322B-48B0-BACF-6DE10BA3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8F16D-7E12-4D8D-8530-00FC5012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2E067-F2F1-4CAE-BD00-714A87DB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67E53-7661-4891-BBF3-36FE2677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607B5-A314-491B-A204-77E02D05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30BC5-3042-45CC-8E09-F8EAF15D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0BEED-E492-4AEF-B48A-1AE1BC9A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F0C98-78A6-46DB-AEA5-9AE09F68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155B9-B6F7-42E6-9970-7AA96A13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6A1AD-3D46-4385-AA2A-8EC550BB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85B-2171-4FBA-B68B-3895FCF3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BB740-AE95-4675-B1D5-F44C839F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684FA-A440-4278-9BF1-317D5D52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AD905-35F8-43DF-8B69-B66F079D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103E7-6981-470D-B4D0-57B55C7D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9F035-9E8D-4156-B085-472164BD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94466-3DE0-4B62-A489-6EFFE434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394B4-6641-4A2E-85D3-A8F9D824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6E5FD-95D6-4EF6-B19B-D8DA7B68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E6AA2-36A4-42CF-88A6-3E3F9DC3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B033B-714C-423F-818D-0B374E06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D94C-E4EA-442A-8760-E1962966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F3532-F9CF-4665-8DAF-660ADA65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B0CA4-B0EB-40D6-9757-9067D625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6D374-8B90-4547-8554-B365C559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C953D-E1EB-456A-A535-2BADDBFE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760E5-9699-48CB-BBE5-E99B49D8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DD70C-E1EC-4462-8E7E-454CE8FD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1987E-4C79-46F9-A321-A7EFBB1F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1A521-D634-49ED-B048-CAF70DD6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A9258-324E-4ACD-8703-6CFD8BE0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998B3-C6A2-4797-841C-316CACD3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B94E-45BE-4144-B0D7-FB59ECD9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D3A06-8B29-427C-B06C-03280A02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896FA-76CB-4CB4-BC99-0DACDA08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0AA51-FAD2-4650-8398-2D9C9BC7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5E222-B7E8-4AF7-95CB-88EC9A1C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1C5A6-1A94-4109-AAB3-D4064F61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33C72-F153-4380-B8E4-6FB81058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64179-F855-4DC7-B3BD-6CCE026B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80ADD-0B66-4C5E-BD1A-7E5A8E19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93405-6032-4E56-AC88-811488A5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4612E2-735D-4651-B024-2CEC8779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3FEE-A17F-447F-87B5-437A19A2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D56D8-DD99-4D4D-AFC2-3CE50014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3D7DA-BEBB-4B6E-98AE-26E3ED55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701FA-E9D4-47B8-88FE-ECA38050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90EDC-274D-4962-8470-7AAD3C4C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6AC8D-EC0B-4EBD-B1EE-4DB3E57B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A6A6B-C076-40B5-8396-1D7902A5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986A3-BDD3-4545-8674-724B3346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9B008-08C3-4E16-8D08-32820453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F3888-7061-4F90-8F20-2D6714B9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97BDD-782C-40CC-BC2C-5F586A26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679F-7FE5-4F13-B0AA-BD7D764C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25111-F9A3-4C49-A074-F9999FEB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758A6-AC03-481C-8776-78A8EC27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6E5BF-ED6A-4AAA-A2C0-0277A3EA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4E60C-72BB-4F20-B0A1-746E583D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A8C078-C093-4039-8050-BD48F9B7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EBB2C-19A7-4597-BA43-FBB35EC6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368D59-3E1F-4822-B795-3509AC5B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8B734-59DA-43A7-AD8D-3061B9EE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E1B6E-E77E-422E-9589-B2CB6C21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136648-524D-49F4-8BBD-17F513E9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65B8-815E-4920-B5AD-0E42647C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533D2F-3B1C-47BA-B2EB-45ED1158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136B1-B056-4C90-9B11-A5C56D79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18F73-75D0-4F83-8F78-88816CCF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91124-B55F-41AA-8BF0-715A3B82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91543-50AA-4553-A8D4-966702C5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D31A5B-2B1D-485C-868A-4CBAB68E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A95FAB-26C3-448A-8A96-A7F38E99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F96F4-BC99-4523-A8E3-B3099927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E908D9-D370-460B-9FE9-854F20FA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FF613F-DA4F-40B9-90AB-C14B7B6B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B03E-724B-4C2C-8E0C-19DC657E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00A34-F509-4DD8-946D-58490FAB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8031B-0848-4A32-BA57-7A0FD707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03BFB0-0886-4492-B47F-662576CD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6EE3D-5AAA-4D8F-8A34-3D4FBB37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F18BCB-75CC-4475-BBD3-0881A540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45D23-15D8-4660-BD1A-5DD67B2E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64FA40-A679-47B8-9CA4-0CBC0C99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CC001-C206-40AC-86AC-D8CC4706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A5934-964F-4EA3-82C5-5324DF31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FDDB81-FBDB-4955-A66E-DD63AB27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93F0-5BEA-46E5-8E8C-EDC76CB0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E0042-DA49-4A95-A785-A1869D7B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F6CB4-362B-430D-9DA5-189225FE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35B3C6-3B01-4A25-9902-B8FA2AE5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A3887-2F7C-4442-A2FB-F4A593FD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CAD463-BD2E-4DFF-9FED-D7C86F58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2481A0-1676-4450-BB3C-9E9D0A1C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E54F92-AA68-4ABD-9C69-B0DD0DD0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82E33E-4299-4CA9-8D2D-A20CF726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97C956-9DF1-46FD-9E0E-F6F92694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63BEBA-C1CC-48C8-894E-CD684785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94D-9655-44E6-9FDB-86AF86E5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62A7-C174-4B35-9A2D-261D87ED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413EB6-15BC-41A3-AAC9-2E8B8A0D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F2135-4590-4651-88A9-B04C01C0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8ACE15-6E54-4E1E-B46C-6FEFDE78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4FE39C-171D-48E4-AF95-FD6E3D05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596D25-C6F6-474F-A275-026E8D8F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9A6D-3FFC-40FA-A665-D440CAC1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AFA3-DD3C-4A5F-9E1C-E0AA54A6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4465-80EB-47EC-9875-EB2D236C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EA55-FFC8-4212-9C7F-33E19280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B9DD-4AAA-4E82-BF74-ACCD2771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5925F-5D66-489A-9824-D1325C47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23CAC-4C78-4A11-967B-A06A2511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9A6CC-F8E3-4E3C-B69B-3B8A3FE6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EFDB-37BB-4306-9D3A-78B60583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CFC-160A-4F89-BB0C-3A3BF077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D174C-6983-4DD6-A6A6-B246C728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487D8-7435-4B92-A7EB-3C4D0B69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E56F-A1B1-4150-97F2-48EABC29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358A9-815B-495B-AB57-6C783F5B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618C5-AA43-4601-9BE0-F2A29961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EC51-68FE-4153-8BA9-DC93A3ED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97D24-E395-4689-A61A-D605DA8E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2057A-0D49-44A2-BDC7-61CDA16F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B7228-4F9D-4F4B-9BE2-EA770F5B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CC49-2458-4F3B-8D06-A46516CA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8AA-0CDF-4B4C-BCE2-55301E7F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46360-32E8-4A8A-A201-9002B90B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1A512-6A52-42CC-9BD4-C77FD680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044D8-74A2-439E-8BE2-044A00BD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79FC8-3890-41B7-919F-5371CC14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03C51-B22C-4534-8CC7-092CCE79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20FC1-F06C-4AFB-A53A-E43D7DBC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D668D-5982-4077-8A63-CB808DBE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91580-1E17-40DC-873F-7FF8A10B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E1ED0-F699-4C00-B052-0737259B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577F7-E126-42F0-AB9E-FC31DF76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B6C-742A-4097-9893-81DA4099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6405C-DA64-4C69-B3AF-66D97BDE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ABC28-DE7C-4E96-9D5F-95CA2D9F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80179-9BE2-4D6F-9EE8-5E7BD5AF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B7E38-8749-4592-82C8-AA367DD1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976AF-B89C-4699-9E06-00B0985A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5573E-9C53-43B9-8171-7D7CF0AD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B1573-3466-4702-B3CB-44D7297D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8E8EE-EF1D-40A9-9042-4311EBCC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FD6E2-F322-4708-A267-DA076CC0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2E535-57B0-42AD-BD5A-36A4A13E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3B0-AC14-49E0-9773-D49309FC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799E0-0B3A-42F7-A874-7BF0703A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FF006-BFFC-4E45-B0C6-ED7F065D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8B922-D29B-4F7B-A53F-43F9296E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699BE-C682-4F05-B8CA-7C8AE4CA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D8E43-2EC9-4150-9F20-C00FB315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FEFBB-4809-4ECC-875B-F3DAFFBF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50D2A-F2E7-4E31-B116-B6DE6F8B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B8707-980A-429F-AED5-F6664C66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6A97B-7679-48EE-A1A4-227E480D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EEFEE-F254-41DA-AA17-5CB513C0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450-4FC6-43D9-AE4E-A0A0CB13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4C381-96A8-4E9B-A99E-7B2C7ED2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1F59B-9DB0-40C8-9BE4-7E7122EA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CC8B9-38E7-4AA9-B2A6-62206326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83F03-70CC-4A15-966B-79618F54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A609F-A4C3-4FF2-9493-EA105AF1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120D8-ACAC-495F-8D7A-BB4AE390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06CE4-20E6-4F6F-A20C-1D4BC768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0E59B-7949-4D49-A8CB-D1053D61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FB5F5-26CB-4C49-95FF-3E6C29C0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7C1F4-FAAC-4405-813E-703EBA04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AB8-7FC8-4336-8699-BDB552F3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84D7E-6959-4696-A35B-F7AFFF79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307ED-A2D4-4C3C-ACFD-18A296DE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D3578-FBAF-4587-9F3F-0F1CBCEE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4956D-0C3E-4174-BA18-53996DDD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A7764-3F7E-49AF-8277-235B54E1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3CF35-4ECA-4DD7-8079-CC3DEF0E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2D52E-45B9-443B-8AF4-A547AAE2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DD962-4F2F-42DB-ADDF-403B8168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0C15A-6319-4029-A46D-B5FC5465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5AC74-1975-4CD4-A49B-8C3DB431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852-3B83-4283-B578-9F581162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4AAD0-4EB5-495E-8DCC-CCE762FF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00CD2-F48B-474A-8415-2A1528B8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CAA01-3342-4025-9262-EC21CE59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E6C3B-C7D9-4A01-B938-00F1EAA0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35513-65AB-45F6-A1F5-B8798543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C97C9-0A28-4D45-8F6C-D955A1E3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F18E5-644E-49A6-8980-1BCDD308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F80AC-D07F-4518-AA5F-B5664393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B2D81-CD2B-471B-B0AE-7FBC4ADC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B88D9-6DE3-4431-BCC0-D3112A2C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8286-D71F-496C-9152-F49EEF7449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0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5237-4655-43EF-8C93-CE5ED99718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5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31CD-4ACD-4774-86BA-9D9B0B68A9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9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0718-94D1-42A3-85C3-B1B4B0E405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F625-F85A-441E-BDC0-E32EA8FDED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378F-FB24-4FB7-A081-0476FA5D497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6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BD29-7F91-4502-B468-DD0B9914BF5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BCC1-5107-4059-91FF-3EB892ED913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7E8C-ED18-45BA-B87F-AE4005D5871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6591-3991-49E1-A90F-7C1123A29A6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B3A2-7E16-4AA3-B2FA-C1D98DE5D8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87BB-5289-453F-B901-A9B78EA973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ED24-5CBE-4734-A9AC-3FC3C0AD72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2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BD38-F1B4-4F7A-8331-EED9AE48DA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9270-FA76-455C-965E-AA5C79F60D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1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08CC-B795-448B-9456-F416BA519B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6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7257-7A02-4960-B8BA-8417A4317E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РЕДМЕТНО-ДОСУГОВЫЙ ЦЕНТР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«Я ЛЮБЛЮ ОБЖ!»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4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ал преподаватель-организатор ОБЖ МАОУ СОШ №56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.А. Филимонов</a:t>
            </a:r>
            <a:br>
              <a:rPr sz="16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769" name="Picture 3" descr=""/>
          <p:cNvPicPr/>
          <p:nvPr/>
        </p:nvPicPr>
        <p:blipFill>
          <a:blip r:embed="rId1"/>
          <a:srcRect l="11661" t="8484" r="16405" b="7921"/>
          <a:stretch/>
        </p:blipFill>
        <p:spPr>
          <a:xfrm>
            <a:off x="4108320" y="685800"/>
            <a:ext cx="873360" cy="1014480"/>
          </a:xfrm>
          <a:prstGeom prst="rect">
            <a:avLst/>
          </a:prstGeom>
          <a:ln w="0">
            <a:noFill/>
          </a:ln>
        </p:spPr>
      </p:pic>
      <p:sp>
        <p:nvSpPr>
          <p:cNvPr id="770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32E6-D6A2-4B02-B109-F12A3E3A111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94760" y="38052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олько в нашей школе! </a:t>
            </a:r>
            <a:br>
              <a:rPr sz="28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ЕДМЕТНО – ДОСУГОВЫЙ ЦЕНТР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Я люблю ОБЖ»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76320" y="1189080"/>
          <a:ext cx="8915400" cy="5568840"/>
        </p:xfrm>
        <a:graphic>
          <a:graphicData uri="http://schemas.openxmlformats.org/drawingml/2006/table">
            <a:tbl>
              <a:tblPr/>
              <a:tblGrid>
                <a:gridCol w="1218960"/>
                <a:gridCol w="76964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действие всестороннему гармоничному развитию личности учащегося – гражданина и патриота нашей любимой Род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итие любви и уважения к Родине и ее Вооруженным Сил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ятие психологической нагрузки путем смены вида деятель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коммуникативных способностей в разновозрастном коллективе и  самодисциплины, преодоление комплексов и фоби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способности оценивать себя и других людей по делам и отношению к окружающи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знаний, умений и навыков по вопросам БЖД, ГО и НВП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ствование физического развития, содействие в подготовке к сдаче норм ГТ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стремления к ЗОЖ, отвлечение от соблазнов приобретения вредных привычек и совершения проступков, содействие сохранности имущества шк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ивное использование учебно-материальной базы ОБЖ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77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E67F-40DD-4729-A0C6-A486172D78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635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 здравствует здоровый образ жизни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НО – ДОСУГОВЫЙ ЦЕНТР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метно-досуговый центр работ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онедельника по пятницу в первой половине д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4492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ля учащихся любых (всех) классов (возраст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2800" indent="-18252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на каждой перем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ля администрации,  преподавателей и их детей дошкольного возра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2800" indent="-18252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 любое время на свободных уроках (окнах) и переменах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1226-EEFC-4834-9FE7-F75B795BC8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 учебно-материальной базы ПД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бинет ОБЖ – оборудован и оснащен необходимым имущ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борантская ОБ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ое оборудование 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ый тир (2 ед. оруж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ово-габаритные макеты АК-74 – 2 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ые автотренажеры (д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У и средства индивидуальной защиты и приборы РХБ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цинские тренажеры и им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ио-фильмы, литература и стационарные и мобильные наглядные пособия и плак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706B-EE0B-4ED8-9A54-47BF1DA6E4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339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НО – ДОСУГОВЫЙ ЦЕНТР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иентировочные показатели работы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2016-2017 учебном 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990720" y="1295280"/>
          <a:ext cx="7238880" cy="4978440"/>
        </p:xfrm>
        <a:graphic>
          <a:graphicData uri="http://schemas.openxmlformats.org/drawingml/2006/table">
            <a:tbl>
              <a:tblPr/>
              <a:tblGrid>
                <a:gridCol w="4816440"/>
                <a:gridCol w="1211040"/>
                <a:gridCol w="1211400"/>
              </a:tblGrid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дней/часов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недель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ей/часов работы в неделю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ов работы в день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школьников С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участников ПД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охв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посе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оличества посещений к количеству школьников в С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тителей в день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5DB5-723F-47BA-9FAD-81DD1EF549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НО – ДОСУГОВЫЙ ЦЕНТР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работы в 2016-2017 учебном 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609480" y="1447920"/>
          <a:ext cx="8001000" cy="5065560"/>
        </p:xfrm>
        <a:graphic>
          <a:graphicData uri="http://schemas.openxmlformats.org/drawingml/2006/table">
            <a:tbl>
              <a:tblPr/>
              <a:tblGrid>
                <a:gridCol w="952560"/>
                <a:gridCol w="501840"/>
                <a:gridCol w="500040"/>
                <a:gridCol w="501480"/>
                <a:gridCol w="500040"/>
                <a:gridCol w="500040"/>
                <a:gridCol w="501840"/>
                <a:gridCol w="500040"/>
                <a:gridCol w="501480"/>
                <a:gridCol w="500040"/>
                <a:gridCol w="1335240"/>
                <a:gridCol w="1206360"/>
              </a:tblGrid>
              <a:tr h="282240">
                <a:tc row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дней занятий  по месяцам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щения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и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н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560">
                <a:tc gridSpan="1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чание: без учета посещений в дни занятий по расписанию и по отдельным заявк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3352-8453-44B4-9281-5E862C5A7F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ДЦ. Современное снаряжение во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DF03-A382-495E-9A3A-041B8F5B12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G:\ПедСовет\Фото УМБ ОБЖ\20160314_141604.jpg"/>
          <p:cNvPicPr/>
          <p:nvPr/>
        </p:nvPicPr>
        <p:blipFill>
          <a:blip r:embed="rId1"/>
          <a:stretch/>
        </p:blipFill>
        <p:spPr>
          <a:xfrm>
            <a:off x="642960" y="1600200"/>
            <a:ext cx="78580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760" y="53316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метно-досуговый центр ОБЖ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EDC0-248B-4513-B8D5-E236B4AE39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" descr="G:\ПедСовет\Фото УМБ ОБЖ\20160908_121951.jpg"/>
          <p:cNvPicPr/>
          <p:nvPr/>
        </p:nvPicPr>
        <p:blipFill>
          <a:blip r:embed="rId1"/>
          <a:stretch/>
        </p:blipFill>
        <p:spPr>
          <a:xfrm>
            <a:off x="642960" y="1600200"/>
            <a:ext cx="78580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72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но-досуговый центр путем смены умственной и физической деятельности его посетителей способствует укреплению физического здоровья и снятию психологических нагрузок во время учебного процесса, подготовке сотрудников и учащихся школы к сдаче норм Г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 здравств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доровый образ жиз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5E5C-AC0A-4142-B83A-C4758D36B6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user</cp:lastModifiedBy>
  <dcterms:modified xsi:type="dcterms:W3CDTF">2021-09-26T13:10:37Z</dcterms:modified>
  <cp:revision>6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