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F0D6-18E2-4FEB-B228-DD6ED57B9CB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2D2B-DC6B-42D6-AFC2-8B33804C48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4D2A-9DB3-4BBE-BBD2-DC44DC4E8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D14E-48E0-42A7-9192-85AF979C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36A87A-DDD6-4702-BC7E-AF2FF480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CE017-4D62-4E51-986C-AFD06D4E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F88BF-0AFF-495F-B20F-E25570CF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A735A-28C2-415C-BD3B-766F90B7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4B4AE2-1A80-41AA-B9DE-0262E037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EDCB48-6E65-45E4-8B7A-0D900C98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242DC-140B-4975-BE83-3CAD33EB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2995E-EBE8-4B48-BCD0-503F9F931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874DC2-0B34-48CB-8249-D9C594F7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514E2-8980-4CE2-A92B-87CB608EC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A63B-99F6-4A6A-887A-465DFFD0B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C3277C-13CF-477B-8DA3-B1DF923B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BAFB3A-1FB1-437E-BCA3-11F5CC7B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1D352-BF6A-4385-9997-EF7D09B0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5C101C-2F88-46FA-8F02-B373849A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1247C-9B9F-4559-AE7F-B0F5542E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A8BC70-6093-46FF-BE7E-34B94FFA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248762-5C89-4D38-AC60-8ED04F6A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87ECE6-4329-4DBF-A1D0-C2721B5B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B88AD0-C4E7-4CB5-A910-A538A7D5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F154D5-F6B9-460F-BDBF-79129DEE2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4661-AC9E-4217-BF4D-EDED6E0F4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80933A-BAEC-4981-A0FD-024260C07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968EE-6D4D-4431-8753-21F0AF7EC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48E08-838F-4D0C-91CB-0ACF3963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0834E-1880-4D8F-A6D1-3E978310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6AB75-ED13-464B-B658-5F230C81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9DD1E-0D35-45C2-B028-6D2E6967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A8E73-9AC0-48FA-8016-1690B455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13A56-E9B5-42D1-B805-FD541628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059A3-63AB-4B94-8193-FBB15A3E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66D07-BAB5-4664-AAAF-26A23D87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3A9E-0E3B-4143-BC95-BD7E44D26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2D440-562E-4832-86A3-0C1E8356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CBBF0-88FF-4F4A-A6BC-64DCBD0BC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F3BF3-3A73-43E6-B696-65738A6FD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4E4AD2-F364-494D-9A53-A400DFB90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8150F6-F8B2-4546-B7CD-0CB3377C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38C6F9-18F8-4B7B-A48B-7BDED8F2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2BBAD9-D02C-4D06-BEF3-2611BCC1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EAF9CE-3661-43D1-B4F5-818E257D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190306-1A66-45B3-91F5-0AA16785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69BCCF-2880-4006-AC07-5581D697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F8D2-D81A-4FD3-A342-6576635F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C0D208-DEEE-4FCD-BDF3-A3DB2B3D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6BF70B-B136-417A-BB6E-1415C748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68F0C3-8E83-4F26-BBAC-AC7819CB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865428-5BF7-4934-A2B0-2007D881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8C12CB-3274-4256-8184-B4ACCE606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CBEB4B-7B28-4CB2-A6ED-95ABC5EEE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62F1BC-23BD-4F8E-A0D9-81FB0C3F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D8BECC-C43C-4BC2-85F4-0780A630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15CEFF-69A8-43A0-861E-24F03656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78FBF7-5B23-481E-92DC-98DB93F0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9806-3C27-49E0-8D35-221A5862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91BBE8-EFF2-417F-8AC8-2D3C4CA0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C8EBCA-834F-4C42-9A4E-46E6DB14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031548-8507-430E-85DE-14B5C685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CE5BFE-C899-41E4-AD98-73E2C232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3635F4-39EA-4A4E-A8D9-A725FE8A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412D77-1F51-442A-9A2F-C4ED9AF33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A579CA-9C1A-45CD-B68A-CA3C0823A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D3304C-CB1B-47F2-B11D-AE0F4B2CD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C6C20C-B6B2-4DEB-B1A0-6011A6E9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9ECDA7-6002-42C5-94A0-11C1C4CB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EA9D-1E29-4BCB-8CB2-3C77ABF4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FAC315-AA03-49A6-8741-C6FE1A04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9916BE-0576-4978-A60C-25544458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F8B99E-8B25-4B80-83E3-FA8F48EC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E1C7DE-2AD1-4CC1-8635-CEC1733E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9AB045-8792-45E2-B43B-0691584A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BADC15-9EA5-4BED-B32F-CCE6371F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A30CDD-434A-4CE6-BAA5-2E7DA72C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06F221-1C10-403A-AA6B-054F6BCA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594B45-FB9E-47C2-9774-42E8ABCC7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DBEB7F-C95D-4CAA-ABD2-FA0FC14F9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0209-7B40-4708-B0C9-6ADAE899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99B661-94A9-44E0-BDA0-05DD65CC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4A2B0C-AE46-43D6-A417-6696D92E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CB7AAA-2468-47AA-891D-BA8DFF9D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A4A324-BAD7-46C7-B099-CB2C958E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3DDCAB-BF14-47D5-8953-D2D47036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49F03D-E1C2-4007-B4E1-A9CFA72E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CD2C60-4831-47DB-B16D-796CABFB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2765E9-9122-4568-9242-D64C29E9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9E6AE3-0EA2-4AA1-99BE-AAAF9CEB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02D1D7-9994-4189-BB80-9436E258A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5016-AC6F-43D5-9541-AF354611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2AD577-91AF-49C9-9CD2-25CB6AD9B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206827-BFFE-4CE9-8A4A-C9A671E61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DB8763-C70B-48A3-A565-28F7D961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81E3F1-7866-4F15-AEA6-FFD91EAB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C145E5-B810-4FAD-BCA3-E716E709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CA00ED-2B07-40AC-86E3-2081F6CD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4C8CE7-04DB-4448-81C4-D3995DE7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C1E210-FB85-4547-B922-EF825A72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EA8EFB-AC4F-4025-9ECA-16063ADE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92C7AA-E102-453F-87BF-6239065A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2110-84E5-4781-AF11-F5AB71FD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24AA2D-8083-46B3-AF8D-24C4C218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E6E8BE-FA7A-47CA-A243-FF7E0B4C5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90E72A-79C3-4C5B-8A2B-EFDD01936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5F9F9E-15CA-4591-8402-4825849B4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3A6E41-B3C1-451C-92C0-1E0B412F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ADF8FD-FB99-49CF-9EF4-DC57E5A2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E59693-AB85-4F27-A935-FEAFFCE8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D214AE-6700-4B1B-B19C-EB05F797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284FD4-0BD5-4716-811B-6824778F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863EDC-BAA5-46FF-A7EC-63234A62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7F28-63B7-4199-806C-FF7E62E9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940C-F4F9-4624-921F-9D50F9BE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0773C6-8FF0-4B55-97A9-662CAAF3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79822F-D481-4AD6-9B0A-773914B9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962882-D23B-4CC0-BD98-287650A8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8009B2-5546-405B-8BD7-855228734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C2D5AC-83F2-40A5-A687-375F35404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4ECA-301C-4CEC-8232-DBA35C6F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452D-8011-4F28-ACB7-22480EB2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BDE4-24FC-4189-A48E-0872ADCFD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0477-3137-4419-B635-DF48627C4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F19D5-2754-4084-9E30-9113E1482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2649A-4F84-4B38-970D-15C620C4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FDB92-8149-4B01-926E-30DDF613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946A6-4CDD-4F45-A0A6-DA744D90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0924A-EDC7-4D69-ADB1-6C24FF4A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CF14-737D-4400-B1FD-BF0EAF3B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4D821-7A54-4B4A-8345-2C4DE2B2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FAAFE-2A20-4D75-A8F8-C6692D7D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49771-598E-4A3C-B293-22202DC1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2CA9C-B08E-43F1-AE96-6E7CDF7B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70919-E56A-42BB-8066-73E9BB0A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734C7-4C2D-480F-8D28-119325ADF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DE391-8A5E-425F-AFF8-4C550025E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54753-D99D-4464-9842-BFB3A9A33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E8F24-879B-45FD-810E-C409EB25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2ED95-5183-4913-8809-F7C607A8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C6A0-F104-40CA-8F70-3E3F1BBA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CACDA-3E54-45DC-9D19-7DEB3325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9C068-2E3B-4C4A-8706-D4AA05CE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27D6E-0611-4F88-AEE7-86EF53D2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25A4E-B376-4070-9A37-2586989B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8E2A9-6A9B-4DD2-9E35-15D6AAF7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60047-FAB0-47E1-B968-925A46A4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2E6BB-E48C-45B6-A13C-83452F49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B4A21-7D6A-481E-811D-978D2936E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FB08E-FBE1-48B9-8488-4D50B53D6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02A98-A43C-423C-9264-722DAD96A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3A2C-2E5E-4BFF-9174-97B67E42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B43B6-70A8-42C2-9FD3-32E37DA3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758B4-A81B-4317-A415-D11FAE19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6F5AE-9E85-429F-A7D4-DACF9F3B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507D9-489D-47F9-984C-4AE0D2DE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B875A-B418-4B9E-BA15-C7AE2D5B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B4054-AD8B-4AC3-90B4-2D7A459F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246D2-18C7-4E7E-AD71-BBFFB6FB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EC442-9D72-4C41-B11D-84B087D8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BEF80-150B-4455-9606-9A4B7B4E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55CE8-77AF-41EE-B609-C1CF8B1FF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11C3-F38D-403F-9AF1-9E1AAC4F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1B1B3-D9B1-410D-8AA3-70006D542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BB44F-EDF4-4FFF-B070-6899A95E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8FA80-3BB2-41FE-A85D-C9D17B2C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DB7BF-A084-443A-9EA9-519AF38F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75372-7BDC-410E-8F87-AFF94D7C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D7DCA-90DF-408B-877E-DC3F2921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AD1D1-A068-4152-88FC-E9CE59A4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89C2A-4B31-48EB-B2C1-01AB2A73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6A358-6279-4C56-B5CC-3322CC8B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6E203-5382-4F9A-971D-3AB2AFAB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C994-35E5-4E60-9CDA-F88B4868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FD155-2281-4B34-852D-B41A7347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F5B8E-8BB2-4ECC-8AB5-876753853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773C4-2041-4D2F-97DA-7C850562F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6EF4B-9B5A-459F-8AE2-D5C71C22D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86B52-F885-4487-8142-A8B2A2FE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A70D4-5A7F-409D-B480-E84CD8FD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6C582-096D-44CD-BAC6-BB159A5B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CBEC8-E8F4-4719-B017-C2DDF5CD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6B7F3-6507-450D-B43E-A1BE8C9F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366D5-F230-4C56-B5B2-15884745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6419-A8B6-4C71-9084-75B815D5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EB3F6-537E-4909-A649-A4183864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68DE8-03FC-4981-BE18-330CB249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40B08-93A3-4B88-A79E-1668F541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407DF-EC83-4787-8803-187E6F82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B44F5-C1D6-486F-A077-7FD055A0A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FDD36-5B58-420D-8C57-B495B5EE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CB418-081F-4F7A-A24F-6AC74229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C9C8E-F8B4-48FA-8A71-50E809AB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A5EBE-7345-431B-A902-76D1317D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35927-7C2B-41BE-9C33-262DB986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77E7-F3ED-4F41-84E4-7CB33F38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4F953-739E-47DB-9754-6DB30D34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B1D47-FECD-404F-9731-3EDEE155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026E1-259E-4240-B0CA-51086BA6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0AF0E-E3DD-4E9F-8948-ABAF4A54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644B7-A1A1-46E3-BF44-50E4AEC5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2C9EF-D0D4-48D2-B15B-16D10E665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61969-E73D-464E-9909-6DF5692C5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56ED3A-187C-4670-A98E-D1E17F18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297070-9D26-4B44-B93C-F796A378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1D4F4-E7EB-4339-9272-EEF095D4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F8F2-C8B8-44FD-897A-0B5DDDE6602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0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6530-1CDD-4628-ACA3-6A2A161DB57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5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80C7-4C7B-43B8-BB48-0E7A0A3A2F6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9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6349-140D-4674-807D-EA1092AC165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54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763B-1E87-4AE1-97B9-D351D0A09A6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588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CA56-C9B0-4866-998D-D64AC7EFA88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633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dt" idx="4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ftr" idx="4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 type="sldNum" idx="4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10F5-D724-41CA-84E5-6B3C4845562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4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4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59CF-5A94-47CC-8D85-DC276F0760A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dt" idx="4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 type="ftr" idx="5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 type="sldNum" idx="5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9AC1-1550-4651-8DA5-1527D1D25C8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7342-C4DC-467B-A2A4-DF398ED51DA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91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9D24-85DE-4816-9E96-793FECFBB7E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3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AEB7-9B08-49AC-9A4E-96890FDB13C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8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48DC-5076-461B-8784-81CB7314867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2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99D3-B578-48E9-B462-95B69775983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7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45C6-C176-43A2-9F27-182EC2EC3BF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1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AEB0-8DE0-4F68-A523-3226325E2F9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6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0092-0F52-46DB-8883-0F102EB7BE2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ПРЕДМЕТНО-ДОСУГОВЫЙ ЦЕНТР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«Я ЛЮБЛЮ ОБЖ!»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4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работал преподаватель-организатор ОБЖ МАОУ СОШ №56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.А. Филимонов</a:t>
            </a:r>
            <a:br>
              <a:rPr sz="1600"/>
            </a:br>
            <a:endParaRPr b="1" lang="en-US" sz="1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769" name="Picture 3" descr=""/>
          <p:cNvPicPr/>
          <p:nvPr/>
        </p:nvPicPr>
        <p:blipFill>
          <a:blip r:embed="rId1"/>
          <a:srcRect l="11661" t="8484" r="16405" b="7921"/>
          <a:stretch/>
        </p:blipFill>
        <p:spPr>
          <a:xfrm>
            <a:off x="4108320" y="685800"/>
            <a:ext cx="873360" cy="1014480"/>
          </a:xfrm>
          <a:prstGeom prst="rect">
            <a:avLst/>
          </a:prstGeom>
          <a:ln w="0">
            <a:noFill/>
          </a:ln>
        </p:spPr>
      </p:pic>
      <p:sp>
        <p:nvSpPr>
          <p:cNvPr id="770" name="Номер слайда 2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EDED-6D31-4067-BC15-8E672CD5AE80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94760" y="380520"/>
            <a:ext cx="8015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07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олько в нашей школе! </a:t>
            </a:r>
            <a:br>
              <a:rPr sz="2800"/>
            </a:b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ЕДМЕТНО – ДОСУГОВЫЙ ЦЕНТР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Я люблю ОБЖ»</a:t>
            </a: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609480" y="14479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3" name=""/>
          <p:cNvGraphicFramePr/>
          <p:nvPr/>
        </p:nvGraphicFramePr>
        <p:xfrm>
          <a:off x="76320" y="1189080"/>
          <a:ext cx="8915400" cy="5568840"/>
        </p:xfrm>
        <a:graphic>
          <a:graphicData uri="http://schemas.openxmlformats.org/drawingml/2006/table">
            <a:tbl>
              <a:tblPr/>
              <a:tblGrid>
                <a:gridCol w="1218960"/>
                <a:gridCol w="769644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и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одействие всестороннему гармоничному развитию личности учащегося – гражданина и патриота нашей любимой Род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56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55680" indent="-3556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итие любви и уважения к Родине и ее Вооруженным Сила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3556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ятие психологической нагрузки путем смены вида деятельност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3556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коммуникативных способностей в разновозрастном коллективе и  самодисциплины, преодоление комплексов и фобий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3556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способности оценивать себя и других людей по делам и отношению к окружающи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3556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знаний, умений и навыков по вопросам БЖД, ГО и НВП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3556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ершенствование физического развития, содействие в подготовке к сдаче норм ГТО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3556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стремления к ЗОЖ, отвлечение от соблазнов приобретения вредных привычек и совершения проступков, содействие сохранности имущества школ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3556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ффективное использование учебно-материальной базы ОБЖ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  <p:sp>
        <p:nvSpPr>
          <p:cNvPr id="77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C0CC-5722-414D-B8D7-A77B599905B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94760" y="304920"/>
            <a:ext cx="80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635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а здравствует здоровый образ жизни!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МЕТНО – ДОСУГОВЫЙ ЦЕНТР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609480" y="14479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едметно-досуговый центр работ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понедельника по пятницу в первой половине д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3520" indent="-4492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Для учащихся любых (всех) классов (возрастов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2800" indent="-18252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на каждой переме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Для администрации,  преподавателей и их детей дошкольного возрас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2800" indent="-18252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в любое время на свободных уроках (окнах) и переменах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AE78-3FA0-4932-85E8-312707F2276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тав учебно-материальной базы ПД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609480" y="14479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бинет ОБЖ – оборудован и оснащен необходимым имуще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борантская ОБ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ое оборудование 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ктронный тир (2 ед. оруж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сово-габаритные макеты АК-74 – 2 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ктронные автотренажеры (дв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У и средства индивидуальной защиты и приборы РХБ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дицинские тренажеры и имущ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дио-фильмы, литература и стационарные и мобильные наглядные пособия и плак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F510-BA0B-410E-861E-8DE2ED24B82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339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3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МЕТНО – ДОСУГОВЫЙ ЦЕНТР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иентировочные показатели работы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2016-2017 учебном го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82" name=""/>
          <p:cNvGraphicFramePr/>
          <p:nvPr/>
        </p:nvGraphicFramePr>
        <p:xfrm>
          <a:off x="990720" y="1295280"/>
          <a:ext cx="7238880" cy="4978440"/>
        </p:xfrm>
        <a:graphic>
          <a:graphicData uri="http://schemas.openxmlformats.org/drawingml/2006/table">
            <a:tbl>
              <a:tblPr/>
              <a:tblGrid>
                <a:gridCol w="4816440"/>
                <a:gridCol w="1211040"/>
                <a:gridCol w="1211400"/>
              </a:tblGrid>
              <a:tr h="416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а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17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дней/часов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0/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6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недель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ней/часов работы в неделю, с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асов работы в день, с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школьников СО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участников ПД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охва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посещ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ношение количества посещений к количеству школьников в СО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етителей в день, с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3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5C97-5152-49E7-BFA5-640F62B9F92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МЕТНО – ДОСУГОВЫЙ ЦЕНТР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ализ работы в 2016-2017 учебном го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85" name=""/>
          <p:cNvGraphicFramePr/>
          <p:nvPr/>
        </p:nvGraphicFramePr>
        <p:xfrm>
          <a:off x="609480" y="1447920"/>
          <a:ext cx="8001000" cy="5065560"/>
        </p:xfrm>
        <a:graphic>
          <a:graphicData uri="http://schemas.openxmlformats.org/drawingml/2006/table">
            <a:tbl>
              <a:tblPr/>
              <a:tblGrid>
                <a:gridCol w="952560"/>
                <a:gridCol w="501840"/>
                <a:gridCol w="500040"/>
                <a:gridCol w="501480"/>
                <a:gridCol w="500040"/>
                <a:gridCol w="500040"/>
                <a:gridCol w="501840"/>
                <a:gridCol w="500040"/>
                <a:gridCol w="501480"/>
                <a:gridCol w="500040"/>
                <a:gridCol w="1335240"/>
                <a:gridCol w="1206360"/>
              </a:tblGrid>
              <a:tr h="282240">
                <a:tc rowSpan="3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о дней занятий  по месяцам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ещения 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ники 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я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н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п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560">
                <a:tc gridSpan="12"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чание: без учета посещений в дни занятий по расписанию и по отдельным заявк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86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EEAF-A5F0-4C89-B7F1-D782D1047F5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ДЦ. Современное снаряжение вои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CE35-9A60-4CBD-B835-9D77EF14A73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2" descr="G:\ПедСовет\Фото УМБ ОБЖ\20160314_141604.jpg"/>
          <p:cNvPicPr/>
          <p:nvPr/>
        </p:nvPicPr>
        <p:blipFill>
          <a:blip r:embed="rId1"/>
          <a:stretch/>
        </p:blipFill>
        <p:spPr>
          <a:xfrm>
            <a:off x="642960" y="1600200"/>
            <a:ext cx="785808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94760" y="533160"/>
            <a:ext cx="80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метно-досуговый центр ОБЖ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06F9-3FD5-437B-94EE-B5F92217B54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Picture 2" descr="G:\ПедСовет\Фото УМБ ОБЖ\20160908_121951.jpg"/>
          <p:cNvPicPr/>
          <p:nvPr/>
        </p:nvPicPr>
        <p:blipFill>
          <a:blip r:embed="rId1"/>
          <a:stretch/>
        </p:blipFill>
        <p:spPr>
          <a:xfrm>
            <a:off x="642960" y="1600200"/>
            <a:ext cx="785808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ы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457200" y="13716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метно-досуговый центр путем смены умственной и физической деятельности его посетителей способствует укреплению физического здоровья и снятию психологических нагрузок во время учебного процесса, подготовке сотрудников и учащихся школы к сдаче норм Г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а здравству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доровый образ жизн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07E8-D566-4C9D-A858-58577CF69AC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ир</dc:creator>
  <dc:description/>
  <dc:language>en-US</dc:language>
  <cp:lastModifiedBy>user</cp:lastModifiedBy>
  <dcterms:modified xsi:type="dcterms:W3CDTF">2021-09-26T13:10:37Z</dcterms:modified>
  <cp:revision>6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