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7.png" ContentType="image/pn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395-3CD2-49D2-8DFE-B0F91657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E46-FCEF-448A-B805-496530A4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C513-B93F-4923-BD0A-513A0834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5453-3B11-4B95-B5B9-598CD03E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8135-2B14-4476-AEC5-A8ED9B4E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484E-A285-45B4-8600-A49AA42F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0CCB-2CDA-4966-BA3E-8FD9A16D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7B62-0205-418D-A783-4E2C1CFB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0EA0-9BC2-4279-A5AB-075DF07A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0A6B-F9B6-47BA-9360-41055A42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BB10-8036-4A1C-92BA-A8A13DC6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DA45-25A1-4E7D-A205-B879A96B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57E3-68C4-4C93-AEB8-81404F83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EB1A-3F67-419B-BCBE-9916A820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47AB-93CD-4CA8-97F4-2C27C75C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98A0-C3F0-4F5E-B7EF-A65CB122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DA01-1892-4FCB-8FB2-B3DB1168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F84-F87C-4A9F-B29A-A9B6A005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70FB-63FE-41E0-A83A-AA40D09D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75C-CBA2-4AEC-9F8B-E4328CA2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4789-DA54-4FB3-9332-4C0F3EEA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B33-A312-495E-8FFE-FFF5879B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F006-8F20-4713-929C-24CAD697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15D1-5FF2-48AC-A284-744E2A09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gi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gi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C91B-6E9E-4797-81D5-FCA890C703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152280" y="152280"/>
            <a:ext cx="1904760" cy="1219320"/>
            <a:chOff x="152280" y="152280"/>
            <a:chExt cx="1904760" cy="1219320"/>
          </a:xfrm>
        </p:grpSpPr>
        <p:sp>
          <p:nvSpPr>
            <p:cNvPr id="4" name="Freeform 8"/>
            <p:cNvSpPr/>
            <p:nvPr/>
          </p:nvSpPr>
          <p:spPr>
            <a:xfrm>
              <a:off x="442440" y="190080"/>
              <a:ext cx="1603440" cy="693720"/>
            </a:xfrm>
            <a:custGeom>
              <a:avLst/>
              <a:gdLst>
                <a:gd name="textAreaLeft" fmla="*/ 0 w 1603440"/>
                <a:gd name="textAreaRight" fmla="*/ 1603800 w 160344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1392" h="864">
                  <a:moveTo>
                    <a:pt x="0" y="0"/>
                  </a:moveTo>
                  <a:lnTo>
                    <a:pt x="288" y="384"/>
                  </a:lnTo>
                  <a:lnTo>
                    <a:pt x="768" y="720"/>
                  </a:lnTo>
                  <a:lnTo>
                    <a:pt x="1008" y="864"/>
                  </a:lnTo>
                  <a:lnTo>
                    <a:pt x="1392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9"/>
            <p:cNvSpPr/>
            <p:nvPr/>
          </p:nvSpPr>
          <p:spPr>
            <a:xfrm>
              <a:off x="432000" y="169920"/>
              <a:ext cx="595440" cy="1201680"/>
            </a:xfrm>
            <a:custGeom>
              <a:avLst/>
              <a:gdLst>
                <a:gd name="textAreaLeft" fmla="*/ 0 w 595440"/>
                <a:gd name="textAreaRight" fmla="*/ 595800 w 595440"/>
                <a:gd name="textAreaTop" fmla="*/ 0 h 1201680"/>
                <a:gd name="textAreaBottom" fmla="*/ 1202040 h 1201680"/>
              </a:gdLst>
              <a:ahLst/>
              <a:rect l="textAreaLeft" t="textAreaTop" r="textAreaRight" b="textAreaBottom"/>
              <a:pathLst>
                <a:path w="517" h="1498">
                  <a:moveTo>
                    <a:pt x="482" y="0"/>
                  </a:moveTo>
                  <a:lnTo>
                    <a:pt x="429" y="358"/>
                  </a:lnTo>
                  <a:lnTo>
                    <a:pt x="488" y="546"/>
                  </a:lnTo>
                  <a:lnTo>
                    <a:pt x="517" y="893"/>
                  </a:lnTo>
                  <a:lnTo>
                    <a:pt x="488" y="1069"/>
                  </a:lnTo>
                  <a:lnTo>
                    <a:pt x="194" y="1369"/>
                  </a:lnTo>
                  <a:lnTo>
                    <a:pt x="0" y="149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152280" y="190800"/>
              <a:ext cx="1363680" cy="700200"/>
            </a:xfrm>
            <a:custGeom>
              <a:avLst/>
              <a:gdLst>
                <a:gd name="textAreaLeft" fmla="*/ 0 w 1363680"/>
                <a:gd name="textAreaRight" fmla="*/ 1364040 w 136368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1184" h="872">
                  <a:moveTo>
                    <a:pt x="1184" y="0"/>
                  </a:moveTo>
                  <a:lnTo>
                    <a:pt x="1034" y="159"/>
                  </a:lnTo>
                  <a:lnTo>
                    <a:pt x="932" y="328"/>
                  </a:lnTo>
                  <a:lnTo>
                    <a:pt x="731" y="532"/>
                  </a:lnTo>
                  <a:lnTo>
                    <a:pt x="567" y="723"/>
                  </a:lnTo>
                  <a:lnTo>
                    <a:pt x="402" y="858"/>
                  </a:lnTo>
                  <a:lnTo>
                    <a:pt x="0" y="87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1"/>
            <p:cNvSpPr/>
            <p:nvPr/>
          </p:nvSpPr>
          <p:spPr>
            <a:xfrm>
              <a:off x="269640" y="442800"/>
              <a:ext cx="1787400" cy="189000"/>
            </a:xfrm>
            <a:custGeom>
              <a:avLst/>
              <a:gdLst>
                <a:gd name="textAreaLeft" fmla="*/ 0 w 1787400"/>
                <a:gd name="textAreaRight" fmla="*/ 1787760 w 178740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552" h="236">
                  <a:moveTo>
                    <a:pt x="1552" y="0"/>
                  </a:moveTo>
                  <a:lnTo>
                    <a:pt x="1193" y="189"/>
                  </a:lnTo>
                  <a:lnTo>
                    <a:pt x="858" y="218"/>
                  </a:lnTo>
                  <a:lnTo>
                    <a:pt x="629" y="206"/>
                  </a:lnTo>
                  <a:lnTo>
                    <a:pt x="306" y="236"/>
                  </a:lnTo>
                  <a:lnTo>
                    <a:pt x="124" y="218"/>
                  </a:lnTo>
                  <a:lnTo>
                    <a:pt x="0" y="20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387000" y="190800"/>
              <a:ext cx="1492920" cy="847800"/>
            </a:xfrm>
            <a:custGeom>
              <a:avLst/>
              <a:gdLst>
                <a:gd name="textAreaLeft" fmla="*/ 0 w 1492920"/>
                <a:gd name="textAreaRight" fmla="*/ 1493280 w 14929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296" h="1056">
                  <a:moveTo>
                    <a:pt x="1200" y="864"/>
                  </a:moveTo>
                  <a:lnTo>
                    <a:pt x="1248" y="768"/>
                  </a:lnTo>
                  <a:lnTo>
                    <a:pt x="1248" y="720"/>
                  </a:lnTo>
                  <a:lnTo>
                    <a:pt x="1296" y="432"/>
                  </a:lnTo>
                  <a:lnTo>
                    <a:pt x="864" y="144"/>
                  </a:lnTo>
                  <a:lnTo>
                    <a:pt x="480" y="0"/>
                  </a:lnTo>
                  <a:lnTo>
                    <a:pt x="144" y="96"/>
                  </a:lnTo>
                  <a:lnTo>
                    <a:pt x="96" y="384"/>
                  </a:lnTo>
                  <a:lnTo>
                    <a:pt x="0" y="528"/>
                  </a:lnTo>
                  <a:lnTo>
                    <a:pt x="48" y="720"/>
                  </a:lnTo>
                  <a:lnTo>
                    <a:pt x="144" y="864"/>
                  </a:lnTo>
                  <a:lnTo>
                    <a:pt x="288" y="1056"/>
                  </a:lnTo>
                  <a:lnTo>
                    <a:pt x="528" y="1056"/>
                  </a:lnTo>
                  <a:lnTo>
                    <a:pt x="768" y="1008"/>
                  </a:lnTo>
                  <a:lnTo>
                    <a:pt x="960" y="864"/>
                  </a:lnTo>
                  <a:lnTo>
                    <a:pt x="1104" y="672"/>
                  </a:lnTo>
                  <a:lnTo>
                    <a:pt x="1104" y="528"/>
                  </a:lnTo>
                  <a:lnTo>
                    <a:pt x="1008" y="384"/>
                  </a:lnTo>
                  <a:lnTo>
                    <a:pt x="816" y="144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3"/>
            <p:cNvSpPr/>
            <p:nvPr/>
          </p:nvSpPr>
          <p:spPr>
            <a:xfrm>
              <a:off x="608400" y="306360"/>
              <a:ext cx="830160" cy="61596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4"/>
            <p:cNvSpPr/>
            <p:nvPr/>
          </p:nvSpPr>
          <p:spPr>
            <a:xfrm>
              <a:off x="718560" y="421560"/>
              <a:ext cx="552960" cy="423360"/>
            </a:xfrm>
            <a:custGeom>
              <a:avLst/>
              <a:gdLst>
                <a:gd name="textAreaLeft" fmla="*/ 0 w 552960"/>
                <a:gd name="textAreaRight" fmla="*/ 553320 w 552960"/>
                <a:gd name="textAreaTop" fmla="*/ 0 h 423360"/>
                <a:gd name="textAreaBottom" fmla="*/ 423720 h 423360"/>
              </a:gdLst>
              <a:ahLst/>
              <a:rect l="textAreaLeft" t="textAreaTop" r="textAreaRight" b="textAreaBottom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5"/>
            <p:cNvSpPr/>
            <p:nvPr/>
          </p:nvSpPr>
          <p:spPr>
            <a:xfrm>
              <a:off x="830520" y="497880"/>
              <a:ext cx="331560" cy="231480"/>
            </a:xfrm>
            <a:custGeom>
              <a:avLst/>
              <a:gdLst>
                <a:gd name="textAreaLeft" fmla="*/ 0 w 331560"/>
                <a:gd name="textAreaRight" fmla="*/ 331560 w 3315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6"/>
            <p:cNvSpPr/>
            <p:nvPr/>
          </p:nvSpPr>
          <p:spPr>
            <a:xfrm>
              <a:off x="362880" y="782640"/>
              <a:ext cx="466560" cy="371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404" h="462">
                  <a:moveTo>
                    <a:pt x="0" y="0"/>
                  </a:moveTo>
                  <a:lnTo>
                    <a:pt x="116" y="318"/>
                  </a:lnTo>
                  <a:lnTo>
                    <a:pt x="212" y="414"/>
                  </a:lnTo>
                  <a:lnTo>
                    <a:pt x="404" y="46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7"/>
            <p:cNvSpPr/>
            <p:nvPr/>
          </p:nvSpPr>
          <p:spPr>
            <a:xfrm>
              <a:off x="362880" y="758520"/>
              <a:ext cx="244080" cy="54936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212" h="684">
                  <a:moveTo>
                    <a:pt x="212" y="684"/>
                  </a:moveTo>
                  <a:lnTo>
                    <a:pt x="68" y="492"/>
                  </a:lnTo>
                  <a:lnTo>
                    <a:pt x="68" y="39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8"/>
            <p:cNvSpPr/>
            <p:nvPr/>
          </p:nvSpPr>
          <p:spPr>
            <a:xfrm>
              <a:off x="1491840" y="190080"/>
              <a:ext cx="554040" cy="65520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655200"/>
                <a:gd name="textAreaBottom" fmla="*/ 655200 h 655200"/>
              </a:gdLst>
              <a:ahLst/>
              <a:rect l="textAreaLeft" t="textAreaTop" r="textAreaRight" b="textAreaBottom"/>
              <a:pathLst>
                <a:path w="480" h="816">
                  <a:moveTo>
                    <a:pt x="0" y="0"/>
                  </a:moveTo>
                  <a:lnTo>
                    <a:pt x="192" y="192"/>
                  </a:lnTo>
                  <a:lnTo>
                    <a:pt x="480" y="336"/>
                  </a:lnTo>
                  <a:lnTo>
                    <a:pt x="336" y="528"/>
                  </a:lnTo>
                  <a:lnTo>
                    <a:pt x="336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9"/>
            <p:cNvSpPr/>
            <p:nvPr/>
          </p:nvSpPr>
          <p:spPr>
            <a:xfrm>
              <a:off x="165960" y="343800"/>
              <a:ext cx="1103400" cy="655200"/>
            </a:xfrm>
            <a:custGeom>
              <a:avLst/>
              <a:gdLst>
                <a:gd name="textAreaLeft" fmla="*/ 0 w 1103400"/>
                <a:gd name="textAreaRight" fmla="*/ 1103760 w 1103400"/>
                <a:gd name="textAreaTop" fmla="*/ 0 h 655200"/>
                <a:gd name="textAreaBottom" fmla="*/ 655200 h 655200"/>
              </a:gdLst>
              <a:ahLst/>
              <a:rect l="textAreaLeft" t="textAreaTop" r="textAreaRight" b="textAreaBottom"/>
              <a:pathLst>
                <a:path w="960" h="816">
                  <a:moveTo>
                    <a:pt x="0" y="0"/>
                  </a:moveTo>
                  <a:lnTo>
                    <a:pt x="288" y="192"/>
                  </a:lnTo>
                  <a:lnTo>
                    <a:pt x="480" y="288"/>
                  </a:lnTo>
                  <a:lnTo>
                    <a:pt x="720" y="336"/>
                  </a:lnTo>
                  <a:lnTo>
                    <a:pt x="816" y="528"/>
                  </a:lnTo>
                  <a:lnTo>
                    <a:pt x="960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0"/>
            <p:cNvSpPr/>
            <p:nvPr/>
          </p:nvSpPr>
          <p:spPr>
            <a:xfrm>
              <a:off x="331920" y="152280"/>
              <a:ext cx="939600" cy="6159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816" h="768">
                  <a:moveTo>
                    <a:pt x="816" y="0"/>
                  </a:moveTo>
                  <a:lnTo>
                    <a:pt x="624" y="480"/>
                  </a:lnTo>
                  <a:lnTo>
                    <a:pt x="576" y="576"/>
                  </a:ln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1"/>
            <p:cNvSpPr/>
            <p:nvPr/>
          </p:nvSpPr>
          <p:spPr>
            <a:xfrm>
              <a:off x="995400" y="614160"/>
              <a:ext cx="995040" cy="115200"/>
            </a:xfrm>
            <a:custGeom>
              <a:avLst/>
              <a:gdLst>
                <a:gd name="textAreaLeft" fmla="*/ 0 w 995040"/>
                <a:gd name="textAreaRight" fmla="*/ 995400 w 9950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64" h="144">
                  <a:moveTo>
                    <a:pt x="0" y="0"/>
                  </a:moveTo>
                  <a:lnTo>
                    <a:pt x="384" y="144"/>
                  </a:lnTo>
                  <a:lnTo>
                    <a:pt x="864" y="9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" name="Group 22"/>
          <p:cNvGrpSpPr/>
          <p:nvPr/>
        </p:nvGrpSpPr>
        <p:grpSpPr>
          <a:xfrm>
            <a:off x="-8280" y="0"/>
            <a:ext cx="9152280" cy="1752120"/>
            <a:chOff x="-8280" y="0"/>
            <a:chExt cx="9152280" cy="1752120"/>
          </a:xfrm>
        </p:grpSpPr>
        <p:pic>
          <p:nvPicPr>
            <p:cNvPr id="19" name="Picture 23" descr="4_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24" descr="6"/>
            <p:cNvPicPr/>
            <p:nvPr/>
          </p:nvPicPr>
          <p:blipFill>
            <a:blip r:embed="rId3"/>
            <a:stretch/>
          </p:blipFill>
          <p:spPr>
            <a:xfrm>
              <a:off x="8086680" y="0"/>
              <a:ext cx="10573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25" descr="123"/>
            <p:cNvPicPr/>
            <p:nvPr/>
          </p:nvPicPr>
          <p:blipFill>
            <a:blip r:embed="rId4"/>
            <a:stretch/>
          </p:blipFill>
          <p:spPr>
            <a:xfrm rot="930000">
              <a:off x="76320" y="136800"/>
              <a:ext cx="86184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" name="Picture 26" descr="6"/>
          <p:cNvPicPr/>
          <p:nvPr/>
        </p:nvPicPr>
        <p:blipFill>
          <a:blip r:embed="rId5"/>
          <a:stretch/>
        </p:blipFill>
        <p:spPr>
          <a:xfrm>
            <a:off x="0" y="0"/>
            <a:ext cx="1076400" cy="61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7"/>
          <p:cNvGrpSpPr/>
          <p:nvPr/>
        </p:nvGrpSpPr>
        <p:grpSpPr>
          <a:xfrm>
            <a:off x="-76320" y="228600"/>
            <a:ext cx="2742840" cy="1980720"/>
            <a:chOff x="-76320" y="228600"/>
            <a:chExt cx="2742840" cy="1980720"/>
          </a:xfrm>
        </p:grpSpPr>
        <p:sp>
          <p:nvSpPr>
            <p:cNvPr id="60" name="Freeform 8"/>
            <p:cNvSpPr/>
            <p:nvPr/>
          </p:nvSpPr>
          <p:spPr>
            <a:xfrm>
              <a:off x="341280" y="291240"/>
              <a:ext cx="2316960" cy="1128600"/>
            </a:xfrm>
            <a:custGeom>
              <a:avLst/>
              <a:gdLst>
                <a:gd name="textAreaLeft" fmla="*/ 0 w 2316960"/>
                <a:gd name="textAreaRight" fmla="*/ 2317320 w 231696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92" h="864">
                  <a:moveTo>
                    <a:pt x="0" y="0"/>
                  </a:moveTo>
                  <a:lnTo>
                    <a:pt x="288" y="384"/>
                  </a:lnTo>
                  <a:lnTo>
                    <a:pt x="768" y="720"/>
                  </a:lnTo>
                  <a:lnTo>
                    <a:pt x="1008" y="864"/>
                  </a:lnTo>
                  <a:lnTo>
                    <a:pt x="1392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9"/>
            <p:cNvSpPr/>
            <p:nvPr/>
          </p:nvSpPr>
          <p:spPr>
            <a:xfrm>
              <a:off x="326520" y="257040"/>
              <a:ext cx="857520" cy="1952280"/>
            </a:xfrm>
            <a:custGeom>
              <a:avLst/>
              <a:gdLst>
                <a:gd name="textAreaLeft" fmla="*/ 0 w 857520"/>
                <a:gd name="textAreaRight" fmla="*/ 857880 w 857520"/>
                <a:gd name="textAreaTop" fmla="*/ 0 h 1952280"/>
                <a:gd name="textAreaBottom" fmla="*/ 1952640 h 1952280"/>
              </a:gdLst>
              <a:ahLst/>
              <a:rect l="textAreaLeft" t="textAreaTop" r="textAreaRight" b="textAreaBottom"/>
              <a:pathLst>
                <a:path w="517" h="1498">
                  <a:moveTo>
                    <a:pt x="482" y="0"/>
                  </a:moveTo>
                  <a:lnTo>
                    <a:pt x="429" y="358"/>
                  </a:lnTo>
                  <a:lnTo>
                    <a:pt x="488" y="546"/>
                  </a:lnTo>
                  <a:lnTo>
                    <a:pt x="517" y="893"/>
                  </a:lnTo>
                  <a:lnTo>
                    <a:pt x="488" y="1069"/>
                  </a:lnTo>
                  <a:lnTo>
                    <a:pt x="194" y="1369"/>
                  </a:lnTo>
                  <a:lnTo>
                    <a:pt x="0" y="149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"/>
            <p:cNvSpPr/>
            <p:nvPr/>
          </p:nvSpPr>
          <p:spPr>
            <a:xfrm>
              <a:off x="-76320" y="291240"/>
              <a:ext cx="1963800" cy="1136160"/>
            </a:xfrm>
            <a:custGeom>
              <a:avLst/>
              <a:gdLst>
                <a:gd name="textAreaLeft" fmla="*/ 0 w 1963800"/>
                <a:gd name="textAreaRight" fmla="*/ 1964160 w 196380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1184" h="872">
                  <a:moveTo>
                    <a:pt x="1184" y="0"/>
                  </a:moveTo>
                  <a:lnTo>
                    <a:pt x="1034" y="159"/>
                  </a:lnTo>
                  <a:lnTo>
                    <a:pt x="932" y="328"/>
                  </a:lnTo>
                  <a:lnTo>
                    <a:pt x="731" y="532"/>
                  </a:lnTo>
                  <a:lnTo>
                    <a:pt x="567" y="723"/>
                  </a:lnTo>
                  <a:lnTo>
                    <a:pt x="402" y="858"/>
                  </a:lnTo>
                  <a:lnTo>
                    <a:pt x="0" y="87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1"/>
            <p:cNvSpPr/>
            <p:nvPr/>
          </p:nvSpPr>
          <p:spPr>
            <a:xfrm>
              <a:off x="92880" y="700560"/>
              <a:ext cx="2573640" cy="307080"/>
            </a:xfrm>
            <a:custGeom>
              <a:avLst/>
              <a:gdLst>
                <a:gd name="textAreaLeft" fmla="*/ 0 w 2573640"/>
                <a:gd name="textAreaRight" fmla="*/ 2574000 w 257364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1552" h="236">
                  <a:moveTo>
                    <a:pt x="1552" y="0"/>
                  </a:moveTo>
                  <a:lnTo>
                    <a:pt x="1193" y="189"/>
                  </a:lnTo>
                  <a:lnTo>
                    <a:pt x="858" y="218"/>
                  </a:lnTo>
                  <a:lnTo>
                    <a:pt x="629" y="206"/>
                  </a:lnTo>
                  <a:lnTo>
                    <a:pt x="306" y="236"/>
                  </a:lnTo>
                  <a:lnTo>
                    <a:pt x="124" y="218"/>
                  </a:lnTo>
                  <a:lnTo>
                    <a:pt x="0" y="20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2"/>
            <p:cNvSpPr/>
            <p:nvPr/>
          </p:nvSpPr>
          <p:spPr>
            <a:xfrm>
              <a:off x="261720" y="291240"/>
              <a:ext cx="2149560" cy="1376280"/>
            </a:xfrm>
            <a:custGeom>
              <a:avLst/>
              <a:gdLst>
                <a:gd name="textAreaLeft" fmla="*/ 0 w 2149560"/>
                <a:gd name="textAreaRight" fmla="*/ 2149920 w 2149560"/>
                <a:gd name="textAreaTop" fmla="*/ 0 h 1376280"/>
                <a:gd name="textAreaBottom" fmla="*/ 1376640 h 1376280"/>
              </a:gdLst>
              <a:ahLst/>
              <a:rect l="textAreaLeft" t="textAreaTop" r="textAreaRight" b="textAreaBottom"/>
              <a:pathLst>
                <a:path w="1296" h="1056">
                  <a:moveTo>
                    <a:pt x="1200" y="864"/>
                  </a:moveTo>
                  <a:lnTo>
                    <a:pt x="1248" y="768"/>
                  </a:lnTo>
                  <a:lnTo>
                    <a:pt x="1248" y="720"/>
                  </a:lnTo>
                  <a:lnTo>
                    <a:pt x="1296" y="432"/>
                  </a:lnTo>
                  <a:lnTo>
                    <a:pt x="864" y="144"/>
                  </a:lnTo>
                  <a:lnTo>
                    <a:pt x="480" y="0"/>
                  </a:lnTo>
                  <a:lnTo>
                    <a:pt x="144" y="96"/>
                  </a:lnTo>
                  <a:lnTo>
                    <a:pt x="96" y="384"/>
                  </a:lnTo>
                  <a:lnTo>
                    <a:pt x="0" y="528"/>
                  </a:lnTo>
                  <a:lnTo>
                    <a:pt x="48" y="720"/>
                  </a:lnTo>
                  <a:lnTo>
                    <a:pt x="144" y="864"/>
                  </a:lnTo>
                  <a:lnTo>
                    <a:pt x="288" y="1056"/>
                  </a:lnTo>
                  <a:lnTo>
                    <a:pt x="528" y="1056"/>
                  </a:lnTo>
                  <a:lnTo>
                    <a:pt x="768" y="1008"/>
                  </a:lnTo>
                  <a:lnTo>
                    <a:pt x="960" y="864"/>
                  </a:lnTo>
                  <a:lnTo>
                    <a:pt x="1104" y="672"/>
                  </a:lnTo>
                  <a:lnTo>
                    <a:pt x="1104" y="528"/>
                  </a:lnTo>
                  <a:lnTo>
                    <a:pt x="1008" y="384"/>
                  </a:lnTo>
                  <a:lnTo>
                    <a:pt x="816" y="144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3"/>
            <p:cNvSpPr/>
            <p:nvPr/>
          </p:nvSpPr>
          <p:spPr>
            <a:xfrm>
              <a:off x="580320" y="478800"/>
              <a:ext cx="1194120" cy="998280"/>
            </a:xfrm>
            <a:custGeom>
              <a:avLst/>
              <a:gdLst>
                <a:gd name="textAreaLeft" fmla="*/ 0 w 1194120"/>
                <a:gd name="textAreaRight" fmla="*/ 1194480 w 119412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4"/>
            <p:cNvSpPr/>
            <p:nvPr/>
          </p:nvSpPr>
          <p:spPr>
            <a:xfrm>
              <a:off x="739440" y="666360"/>
              <a:ext cx="795960" cy="686880"/>
            </a:xfrm>
            <a:custGeom>
              <a:avLst/>
              <a:gdLst>
                <a:gd name="textAreaLeft" fmla="*/ 0 w 795960"/>
                <a:gd name="textAreaRight" fmla="*/ 796320 w 795960"/>
                <a:gd name="textAreaTop" fmla="*/ 0 h 686880"/>
                <a:gd name="textAreaBottom" fmla="*/ 687240 h 686880"/>
              </a:gdLst>
              <a:ahLst/>
              <a:rect l="textAreaLeft" t="textAreaTop" r="textAreaRight" b="textAreaBottom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5"/>
            <p:cNvSpPr/>
            <p:nvPr/>
          </p:nvSpPr>
          <p:spPr>
            <a:xfrm>
              <a:off x="898920" y="791640"/>
              <a:ext cx="477360" cy="372960"/>
            </a:xfrm>
            <a:custGeom>
              <a:avLst/>
              <a:gdLst>
                <a:gd name="textAreaLeft" fmla="*/ 0 w 477360"/>
                <a:gd name="textAreaRight" fmla="*/ 477720 w 4773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6"/>
            <p:cNvSpPr/>
            <p:nvPr/>
          </p:nvSpPr>
          <p:spPr>
            <a:xfrm>
              <a:off x="228600" y="1252800"/>
              <a:ext cx="669960" cy="6033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04" h="462">
                  <a:moveTo>
                    <a:pt x="0" y="0"/>
                  </a:moveTo>
                  <a:lnTo>
                    <a:pt x="116" y="318"/>
                  </a:lnTo>
                  <a:lnTo>
                    <a:pt x="212" y="414"/>
                  </a:lnTo>
                  <a:lnTo>
                    <a:pt x="404" y="46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7"/>
            <p:cNvSpPr/>
            <p:nvPr/>
          </p:nvSpPr>
          <p:spPr>
            <a:xfrm>
              <a:off x="228600" y="1213920"/>
              <a:ext cx="351360" cy="888840"/>
            </a:xfrm>
            <a:custGeom>
              <a:avLst/>
              <a:gdLst>
                <a:gd name="textAreaLeft" fmla="*/ 0 w 351360"/>
                <a:gd name="textAreaRight" fmla="*/ 351360 w 35136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212" h="684">
                  <a:moveTo>
                    <a:pt x="212" y="684"/>
                  </a:moveTo>
                  <a:lnTo>
                    <a:pt x="68" y="492"/>
                  </a:lnTo>
                  <a:lnTo>
                    <a:pt x="68" y="39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8"/>
            <p:cNvSpPr/>
            <p:nvPr/>
          </p:nvSpPr>
          <p:spPr>
            <a:xfrm>
              <a:off x="1854360" y="291240"/>
              <a:ext cx="797760" cy="1063080"/>
            </a:xfrm>
            <a:custGeom>
              <a:avLst/>
              <a:gdLst>
                <a:gd name="textAreaLeft" fmla="*/ 0 w 797760"/>
                <a:gd name="textAreaRight" fmla="*/ 798120 w 797760"/>
                <a:gd name="textAreaTop" fmla="*/ 0 h 1063080"/>
                <a:gd name="textAreaBottom" fmla="*/ 1063440 h 1063080"/>
              </a:gdLst>
              <a:ahLst/>
              <a:rect l="textAreaLeft" t="textAreaTop" r="textAreaRight" b="textAreaBottom"/>
              <a:pathLst>
                <a:path w="480" h="816">
                  <a:moveTo>
                    <a:pt x="0" y="0"/>
                  </a:moveTo>
                  <a:lnTo>
                    <a:pt x="192" y="192"/>
                  </a:lnTo>
                  <a:lnTo>
                    <a:pt x="480" y="336"/>
                  </a:lnTo>
                  <a:lnTo>
                    <a:pt x="336" y="528"/>
                  </a:lnTo>
                  <a:lnTo>
                    <a:pt x="336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9"/>
            <p:cNvSpPr/>
            <p:nvPr/>
          </p:nvSpPr>
          <p:spPr>
            <a:xfrm>
              <a:off x="-56160" y="541440"/>
              <a:ext cx="1578960" cy="1063080"/>
            </a:xfrm>
            <a:custGeom>
              <a:avLst/>
              <a:gdLst>
                <a:gd name="textAreaLeft" fmla="*/ 0 w 1578960"/>
                <a:gd name="textAreaRight" fmla="*/ 1579320 w 1578960"/>
                <a:gd name="textAreaTop" fmla="*/ 0 h 1063080"/>
                <a:gd name="textAreaBottom" fmla="*/ 1063440 h 1063080"/>
              </a:gdLst>
              <a:ahLst/>
              <a:rect l="textAreaLeft" t="textAreaTop" r="textAreaRight" b="textAreaBottom"/>
              <a:pathLst>
                <a:path w="960" h="816">
                  <a:moveTo>
                    <a:pt x="0" y="0"/>
                  </a:moveTo>
                  <a:lnTo>
                    <a:pt x="288" y="192"/>
                  </a:lnTo>
                  <a:lnTo>
                    <a:pt x="480" y="288"/>
                  </a:lnTo>
                  <a:lnTo>
                    <a:pt x="720" y="336"/>
                  </a:lnTo>
                  <a:lnTo>
                    <a:pt x="816" y="528"/>
                  </a:lnTo>
                  <a:lnTo>
                    <a:pt x="960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0"/>
            <p:cNvSpPr/>
            <p:nvPr/>
          </p:nvSpPr>
          <p:spPr>
            <a:xfrm>
              <a:off x="182160" y="228600"/>
              <a:ext cx="1353240" cy="1002240"/>
            </a:xfrm>
            <a:custGeom>
              <a:avLst/>
              <a:gdLst>
                <a:gd name="textAreaLeft" fmla="*/ 0 w 1353240"/>
                <a:gd name="textAreaRight" fmla="*/ 1353240 w 1353240"/>
                <a:gd name="textAreaTop" fmla="*/ 0 h 1002240"/>
                <a:gd name="textAreaBottom" fmla="*/ 1002600 h 1002240"/>
              </a:gdLst>
              <a:ahLst/>
              <a:rect l="textAreaLeft" t="textAreaTop" r="textAreaRight" b="textAreaBottom"/>
              <a:pathLst>
                <a:path w="816" h="768">
                  <a:moveTo>
                    <a:pt x="816" y="0"/>
                  </a:moveTo>
                  <a:lnTo>
                    <a:pt x="624" y="480"/>
                  </a:lnTo>
                  <a:lnTo>
                    <a:pt x="576" y="576"/>
                  </a:ln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137600" y="979200"/>
              <a:ext cx="1427760" cy="187560"/>
            </a:xfrm>
            <a:custGeom>
              <a:avLst/>
              <a:gdLst>
                <a:gd name="textAreaLeft" fmla="*/ 0 w 1427760"/>
                <a:gd name="textAreaRight" fmla="*/ 1428120 w 14277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864" h="144">
                  <a:moveTo>
                    <a:pt x="0" y="0"/>
                  </a:moveTo>
                  <a:lnTo>
                    <a:pt x="384" y="144"/>
                  </a:lnTo>
                  <a:lnTo>
                    <a:pt x="864" y="9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2" descr="18009"/>
          <p:cNvPicPr/>
          <p:nvPr/>
        </p:nvPicPr>
        <p:blipFill>
          <a:blip r:embed="rId2"/>
          <a:stretch/>
        </p:blipFill>
        <p:spPr>
          <a:xfrm flipH="1">
            <a:off x="6781320" y="4952880"/>
            <a:ext cx="2057400" cy="16765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3"/>
          <p:cNvGrpSpPr/>
          <p:nvPr/>
        </p:nvGrpSpPr>
        <p:grpSpPr>
          <a:xfrm>
            <a:off x="-8280" y="0"/>
            <a:ext cx="9152280" cy="1752120"/>
            <a:chOff x="-8280" y="0"/>
            <a:chExt cx="9152280" cy="1752120"/>
          </a:xfrm>
        </p:grpSpPr>
        <p:pic>
          <p:nvPicPr>
            <p:cNvPr id="76" name="Picture 24" descr="4_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5" descr="6"/>
            <p:cNvPicPr/>
            <p:nvPr/>
          </p:nvPicPr>
          <p:blipFill>
            <a:blip r:embed="rId4"/>
            <a:stretch/>
          </p:blipFill>
          <p:spPr>
            <a:xfrm>
              <a:off x="8086680" y="0"/>
              <a:ext cx="10573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6" descr="123"/>
            <p:cNvPicPr/>
            <p:nvPr/>
          </p:nvPicPr>
          <p:blipFill>
            <a:blip r:embed="rId5"/>
            <a:stretch/>
          </p:blipFill>
          <p:spPr>
            <a:xfrm rot="930000">
              <a:off x="76320" y="136800"/>
              <a:ext cx="86184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Picture 27" descr="6"/>
          <p:cNvPicPr/>
          <p:nvPr/>
        </p:nvPicPr>
        <p:blipFill>
          <a:blip r:embed="rId6"/>
          <a:stretch/>
        </p:blipFill>
        <p:spPr>
          <a:xfrm>
            <a:off x="0" y="0"/>
            <a:ext cx="1076400" cy="617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8" descr="Ky3uk"/>
          <p:cNvPicPr/>
          <p:nvPr/>
        </p:nvPicPr>
        <p:blipFill>
          <a:blip r:embed="rId7"/>
          <a:stretch/>
        </p:blipFill>
        <p:spPr>
          <a:xfrm>
            <a:off x="1219320" y="380880"/>
            <a:ext cx="1019160" cy="101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9" descr="season_2"/>
          <p:cNvPicPr/>
          <p:nvPr/>
        </p:nvPicPr>
        <p:blipFill>
          <a:blip r:embed="rId8"/>
          <a:srcRect l="53155" t="15130" r="12934" b="45390"/>
          <a:stretch/>
        </p:blipFill>
        <p:spPr>
          <a:xfrm>
            <a:off x="380880" y="1295280"/>
            <a:ext cx="228600" cy="152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FE7C-42E6-4D29-850E-B5B6C7468F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Зимующие и перелётные птиц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Прямоугольник 3"/>
          <p:cNvGrpSpPr/>
          <p:nvPr/>
        </p:nvGrpSpPr>
        <p:grpSpPr>
          <a:xfrm>
            <a:off x="731880" y="5419800"/>
            <a:ext cx="6791400" cy="785880"/>
            <a:chOff x="731880" y="5419800"/>
            <a:chExt cx="6791400" cy="785880"/>
          </a:xfrm>
        </p:grpSpPr>
        <p:pic>
          <p:nvPicPr>
            <p:cNvPr id="123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731880" y="5419800"/>
              <a:ext cx="67914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838080" y="5483160"/>
              <a:ext cx="662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оставила:  воспитател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изёва Анна Евгеньев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х перелётных птиц черней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раг личинок, друг полей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Взад-вперёд по пашне вскач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И зовётся птиц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905120" y="2751120"/>
            <a:ext cx="5572080" cy="3726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шесте -  дворец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дворце – певец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зовут его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191120" cy="3429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4114800" cy="3429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ворона, не синица -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Как зовется эта птица?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римостилась на суку -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Раздалось в лесу "ку-ку"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5105520" cy="3809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ереди – шильце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зади – вильце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груди белое полотенце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же э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3581640" cy="358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505320" cy="3581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торожная слишком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Стоя прямо под ней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Её можно услышать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А увидеть трудне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419720" cy="3409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виду скажем неприметна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ерение не ярко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Шелушить же любит зёрн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зовёт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3657600" cy="3643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х зимующих птиц вы знае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краской  - сероватая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Повадкой – вороватая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Крикунья хрипловатая –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Известная персона. Это…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3429000" cy="2819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ё время стучит, деревья долбит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о их не калечит, а только лечи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2743200" cy="3047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весь день ловлю жуков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Ем букашек, червяк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имовать не улетаю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Под карнизом обитаю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Прыг-скок! Не робей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бывалый …. 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895480" y="3809880"/>
            <a:ext cx="3886200" cy="2743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зый, воркует, людей не боит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4495680" cy="3763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дит на суку, таратори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Со всеми птицами спори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ей вокруг интересн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сем эта птица известн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Помнишь: где была? Далеко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э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514600" y="3213000"/>
            <a:ext cx="4230720" cy="3264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ъезд перелётных птиц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кто же прилетает из тёплых краёв первы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User</cp:lastModifiedBy>
  <dcterms:modified xsi:type="dcterms:W3CDTF">2021-10-17T16:45:58Z</dcterms:modified>
  <cp:revision>76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