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A3F-030D-4272-9246-AC7D80C4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252-DAE2-42AC-B0E3-42E04724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25B-9AA2-46C6-86A0-748AE484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52F-A4F6-469B-B7D8-5FB8ADF3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FA0-5631-4B5D-A008-DDAA6860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7D6-CC6B-45DC-AFAF-8F19761D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B71-1CBD-4886-8352-E6125832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070-30B7-4693-B386-7E1D7198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028-B2B7-4720-9A56-1347239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168-A6FC-48E5-BFEA-BDB6A2B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F73-E621-4195-9C09-74C9671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430-91ED-4DF9-A7DE-75C1D64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36AC-AAE8-407B-A6DC-3ECF866C1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kladiki.ru/tags/zemletryasenie" TargetMode="External"/><Relationship Id="rId3" Type="http://schemas.openxmlformats.org/officeDocument/2006/relationships/hyperlink" Target="http://dokladiki.ru/doklad/doklad-professiya-vracha-2-klass" TargetMode="External"/><Relationship Id="rId4" Type="http://schemas.openxmlformats.org/officeDocument/2006/relationships/hyperlink" Target="http://dokladiki.ru/doklad/professiya-pozharnyy-opisanie-dlya-detey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03480" y="1143000"/>
            <a:ext cx="733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</a:rPr>
              <a:t>Кто нас защищает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63080" y="5904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монова А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5588" t="23945" r="39014" b="48360"/>
          <a:stretch/>
        </p:blipFill>
        <p:spPr>
          <a:xfrm>
            <a:off x="457200" y="328788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64654" t="23937" r="4833" b="14128"/>
          <a:stretch/>
        </p:blipFill>
        <p:spPr>
          <a:xfrm>
            <a:off x="3809880" y="2590920"/>
            <a:ext cx="1905120" cy="289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34135" t="51648" r="35352" b="9239"/>
          <a:stretch/>
        </p:blipFill>
        <p:spPr>
          <a:xfrm>
            <a:off x="6248520" y="3048120"/>
            <a:ext cx="22096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960" y="60948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жарная о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368960"/>
            <a:ext cx="3733560" cy="248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08440" y="1981080"/>
            <a:ext cx="390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 возникновении пожара нас защищают пожарные. Это очень опасная, но нужная профессия.</a:t>
            </a:r>
            <a:r>
              <a:rPr b="0" i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77280" y="48531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3640" y="762120"/>
            <a:ext cx="28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ша ар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13360" y="182880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юбой стране нужна сильная и боеспособная армия для защиты собственных границ, для того чтобы все граждане страны жили в мире и спокойств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733920" cy="210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4336920"/>
            <a:ext cx="381024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3640" y="762120"/>
            <a:ext cx="22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ол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89680" y="1523880"/>
            <a:ext cx="336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полицейских – не допускать и предотвращать хулиганства и преступления. Полицейские охраняют наш покой и помогают людям, попавшим в бе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2514600" cy="177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81480" y="541008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2  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674640"/>
            <a:ext cx="443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Скорая медицинск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733560" cy="208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7937" t="24727" r="35979" b="12636"/>
          <a:stretch/>
        </p:blipFill>
        <p:spPr>
          <a:xfrm>
            <a:off x="762120" y="4038480"/>
            <a:ext cx="2895480" cy="242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13360" y="533520"/>
            <a:ext cx="39020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корая медицинская помощь (СМП) — система организации круглосуточной экстренной медицинской помощи при угрожающих жизни состояниях и заболеваниях на месте происшествия и в пути следования в лечебно-профилактические учреждения.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ая особенность скорой медицинской помощи, отличающая её от других видов медицинской помощи — быстрота 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1280" y="5715000"/>
            <a:ext cx="94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920" y="114300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МЧ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79840" y="380880"/>
            <a:ext cx="35974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Самая важная задача МЧС России – защищать страну и ее население от чрезвычайных ситуаций и стихийных бедствий, например: наводнение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землетрясени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, пожар, аварии на заводах, массовые беспорядки, военная атака другой страны. При возникновении опасности МЧС управляет действиями спасателей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врачей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,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пожарных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и других особых служ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28600" y="2133720"/>
            <a:ext cx="339084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04920" y="472284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38680" y="5638680"/>
            <a:ext cx="13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6T17:40:41Z</dcterms:created>
  <dc:creator>Олеся</dc:creator>
  <dc:description/>
  <dc:language>en-US</dc:language>
  <cp:lastModifiedBy>Олеся</cp:lastModifiedBy>
  <dcterms:modified xsi:type="dcterms:W3CDTF">2019-02-06T18:49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