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B09-AAF8-43F2-B86C-C89AFF09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960-4F43-4162-8B31-1A7A6463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DD9-9984-4C8E-95CB-F4BB4C17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AEE-7238-449B-8542-41B6233A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37E8-DC9C-4308-B0EF-43B1EF3E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CF9-A74D-4869-9C21-97335EDA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A0E-A253-4327-9018-254DBBF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9536-D906-4D96-9263-F9BD254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0561-AFC3-47A8-A476-0A172EE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6DED-487E-4E4E-BC81-2692623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D6C1-31B2-4076-8815-50CC606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998-D403-4D81-8DFA-5B3A50C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4C9-5538-4D29-BCCB-6BB44D7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8E6-0E55-4494-8D00-2641FF9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5A3-E5B7-46B6-9F36-FFB1483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8B9-FD5E-4650-AD3F-7C2B7CE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14C0-B804-48D8-A06C-ECEBEDF5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2B90-D39F-4418-B6A8-27F89F65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28A3-1207-43B6-BE18-7AC79A10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CC3F-C7FE-4C67-B241-B37ACA9A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FCCB-4AD2-494B-9C85-BBBD48B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6711-CE01-4C15-A045-88EE0B1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2E4-49F3-4CE5-A8C5-2CB7FBF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796F-0E34-44A8-8B32-9DC1008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B664-BB4A-4677-A7B9-B93362C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811E-F353-4B06-9764-64B1683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0E4F-528D-44E2-9B3C-0D77807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099D-3203-4F15-B43E-4D3E98B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75B7-7DC2-452F-A8B5-EE45EF4E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F5FC-255F-4CD8-B371-676D0E1E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4D75-F99A-44EC-B6D7-A780BE4E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918F-F821-4522-A177-D22B3242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E486-236D-4A0E-80FD-06460088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4FA-6AC2-4A46-807C-F2894AC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5BEA-3EDB-4ADB-8D16-621B55AD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E006-D15F-472A-BADF-AEF1A6E3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6BFA-D8E5-4A96-94C6-07F7079C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1F6B-416D-420F-A202-47962D7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ED97-B6F5-4EE9-946B-912F9FDC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EED3-3727-4220-93CA-94AC5A5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29EE-4BA6-4DC8-AF57-2EBE539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4D55-F778-4DC1-9550-A774A043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3653-9798-4810-8CCA-19B8F55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DB6-C3E3-441E-ADBC-BA5CD3E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6F3-E47E-4CE4-9B21-7031C90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AE9-339D-4AC8-8B6C-7F0C8B2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D51-3497-4655-8C9F-7601EE0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8B0-658A-4B0C-A48E-5A54521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8CB8-EACA-4DAC-9D4F-158F7B377D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D6D-EC15-4215-99B7-B200252F5B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76F0-F259-498F-9B55-AB07143A1C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A01-C8A9-4827-864A-35ED5FDBBE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7864560" cy="3925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4140360" y="5013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АДОУ №48 г. Челяб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ева Наталья Геннад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7864560" cy="39258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4140360" y="5013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АДОУ №48 г. Челяб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ева Наталья Геннад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это такое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«Утренний круг» -это начало дня, когда дети собираются все вместе для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ого</a:t>
            </a: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, чтобы порадоваться предстоящему дню,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настроится</a:t>
            </a: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на «работу», поделиться впечатлениями, узнать новости, обсудить планы и договориться о правил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https://www.culture.ru/storage/images/b6208f2306bfb71545bb12ae83bf5d2b/ff2f0c03879fc6870f5d2ab487afde1d.jpeg"/>
          <p:cNvPicPr/>
          <p:nvPr/>
        </p:nvPicPr>
        <p:blipFill>
          <a:blip r:embed="rId1"/>
          <a:stretch/>
        </p:blipFill>
        <p:spPr>
          <a:xfrm>
            <a:off x="4643280" y="3645000"/>
            <a:ext cx="36007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468360" y="83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« утреннего круг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780000" y="1935000"/>
            <a:ext cx="49068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32400" indent="-324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иветств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Игр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0" indent="-324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ма дня (недели) или обмен новост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3" descr="https://sun9-39.userapi.com/c850220/v850220031/1718d2/9yor0QsUd0U.jpg"/>
          <p:cNvPicPr/>
          <p:nvPr/>
        </p:nvPicPr>
        <p:blipFill>
          <a:blip r:embed="rId1"/>
          <a:stretch/>
        </p:blipFill>
        <p:spPr>
          <a:xfrm>
            <a:off x="826920" y="1557360"/>
            <a:ext cx="2046600" cy="1366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5" descr="https://rused.ru/irk-mdou183/wp-content/uploads/sites/18/2019/06/diti.jpg"/>
          <p:cNvPicPr/>
          <p:nvPr/>
        </p:nvPicPr>
        <p:blipFill>
          <a:blip r:embed="rId2"/>
          <a:stretch/>
        </p:blipFill>
        <p:spPr>
          <a:xfrm>
            <a:off x="826920" y="2997360"/>
            <a:ext cx="223236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https://i.ytimg.com/vi/7IqtKHeZm44/maxresdefault.jpg"/>
          <p:cNvPicPr/>
          <p:nvPr/>
        </p:nvPicPr>
        <p:blipFill>
          <a:blip r:embed="rId3"/>
          <a:stretch/>
        </p:blipFill>
        <p:spPr>
          <a:xfrm>
            <a:off x="826920" y="4437000"/>
            <a:ext cx="2232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907560"/>
            <a:ext cx="8362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92520" indent="-92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 какого возраста и в какое время проводить «утренний круг»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братить вним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Кто с кем сядет ряд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Кто всегда стремиться сесть рядом с воспитателем, а кто дальш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Есть ли ребёнок, которого не пускают в кру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братите внимание, все ли дети умеют вступать в контакт или избегать нежелательного контакта, могут ли они договориться о совместных действ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2520" indent="-92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90792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айфаки при проведении «утреннего круга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8" descr="https://s.alicdn.com/@sc01/kf/HTB1dRwrXwvGK1Jjy0Faq6z7lpXat/10-PCS-Kids-Music-Instruments-Set-Percussion.jpg"/>
          <p:cNvPicPr/>
          <p:nvPr/>
        </p:nvPicPr>
        <p:blipFill>
          <a:blip r:embed="rId1"/>
          <a:stretch/>
        </p:blipFill>
        <p:spPr>
          <a:xfrm>
            <a:off x="468360" y="1971720"/>
            <a:ext cx="2951280" cy="239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https://img.xn----7sbab2bwgeerdkgd8azb8k.xn--p1ai/images/products/1/178/347979954/Puzzle_%D0%9C%D0%B0%D1%82%D1%80%D0%B0%D1%81_4.jpg"/>
          <p:cNvPicPr/>
          <p:nvPr/>
        </p:nvPicPr>
        <p:blipFill>
          <a:blip r:embed="rId2"/>
          <a:stretch/>
        </p:blipFill>
        <p:spPr>
          <a:xfrm>
            <a:off x="5600880" y="2205000"/>
            <a:ext cx="2931840" cy="216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https://www.eradetstva.ru/products_pictures/big/Soyuzmulytfilym_Popugay_17_sm-12433-00.jpg"/>
          <p:cNvPicPr/>
          <p:nvPr/>
        </p:nvPicPr>
        <p:blipFill>
          <a:blip r:embed="rId3"/>
          <a:stretch/>
        </p:blipFill>
        <p:spPr>
          <a:xfrm>
            <a:off x="3492360" y="3645000"/>
            <a:ext cx="1656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98064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35280" indent="-3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ы для «утреннего круга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бмен новостями после выход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бсуждение разных ситуаций, произошедших в групп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Новая книга или иг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5280" indent="-352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авила групп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https://i.pinimg.com/originals/ed/35/c8/ed35c8083332f9fc8b309672ea136413.jpg"/>
          <p:cNvPicPr/>
          <p:nvPr/>
        </p:nvPicPr>
        <p:blipFill>
          <a:blip r:embed="rId1"/>
          <a:stretch/>
        </p:blipFill>
        <p:spPr>
          <a:xfrm>
            <a:off x="5580000" y="3357720"/>
            <a:ext cx="24480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907920"/>
            <a:ext cx="5976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ект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ланирование предстоящей нед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Свободная те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8" descr="https://www.maam.ru/upload/blogs/detsad-197352-1458963413.jpg"/>
          <p:cNvPicPr/>
          <p:nvPr/>
        </p:nvPicPr>
        <p:blipFill>
          <a:blip r:embed="rId1"/>
          <a:stretch/>
        </p:blipFill>
        <p:spPr>
          <a:xfrm>
            <a:off x="4284720" y="3357720"/>
            <a:ext cx="44845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«Вечерний круг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водится в форме рефлексии-обсуждения с детьми наиболее важных моментов прошедшего дн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Это помогает детям научиться осознавать и анализировать свои поступки и поступки сверстни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https://www.maam.ru/upload/blogs/detsad-197352-1458963413.jpg"/>
          <p:cNvPicPr/>
          <p:nvPr/>
        </p:nvPicPr>
        <p:blipFill>
          <a:blip r:embed="rId1"/>
          <a:stretch/>
        </p:blipFill>
        <p:spPr>
          <a:xfrm>
            <a:off x="4427640" y="3789360"/>
            <a:ext cx="3816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https://e7.pngegg.com/pngimages/673/852/png-clipart-child-development-adoption-confidence-parent-child-tshirt-child.png"/>
          <p:cNvPicPr/>
          <p:nvPr/>
        </p:nvPicPr>
        <p:blipFill>
          <a:blip r:embed="rId1"/>
          <a:stretch/>
        </p:blipFill>
        <p:spPr>
          <a:xfrm>
            <a:off x="1763640" y="765000"/>
            <a:ext cx="5184720" cy="34434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539640" y="4365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ичность развивается в общении и посредством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бщайтесь в удовольств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6-15T16:09:12Z</dcterms:created>
  <dc:creator>irbis</dc:creator>
  <dc:description/>
  <dc:language>en-US</dc:language>
  <cp:lastModifiedBy>irbis</cp:lastModifiedBy>
  <dcterms:modified xsi:type="dcterms:W3CDTF">2021-07-06T10:13:18Z</dcterms:modified>
  <cp:revision>43</cp:revision>
  <dc:subject/>
  <dc:title>СанПиН-2021</dc:title>
</cp:coreProperties>
</file>