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11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833-4256-4546-A262-EFD5B4B7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84A-78DB-45E9-BEDF-6A3DE87F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A61-2956-4B6E-A09D-1F48E19F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884-865F-4079-8D5A-9F8B4F5C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0A3-D3BC-47C4-8B86-71CD17C0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D9B-7571-47E6-9C92-B43D25AC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D51-5D22-4E7D-BBE0-5B02EB10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3AF-A51C-4C71-8F7B-F7830A37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4B9-BFFF-482B-B5CD-D7190F73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456F-A7DC-465E-9F3A-ADCDA8AF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2A95-7787-40E0-ADA2-286C1D0F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022-AF9B-4761-9291-1B13953E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E518-855C-471A-A036-958E16E77B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 Black"/>
              </a:rPr>
              <a:t>По алгебре на тему: Арифметическая прогрессия и последовава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 Black"/>
              </a:rPr>
              <a:t>Выполнила: Алексеева Татьяна 9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905120" y="1752480"/>
            <a:ext cx="5029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7" descr="10343_b"/>
          <p:cNvPicPr/>
          <p:nvPr/>
        </p:nvPicPr>
        <p:blipFill>
          <a:blip r:embed="rId2"/>
          <a:stretch/>
        </p:blipFill>
        <p:spPr>
          <a:xfrm>
            <a:off x="30240" y="304920"/>
            <a:ext cx="178272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gel4"/>
          <p:cNvPicPr/>
          <p:nvPr/>
        </p:nvPicPr>
        <p:blipFill>
          <a:blip r:embed="rId3"/>
          <a:stretch/>
        </p:blipFill>
        <p:spPr>
          <a:xfrm>
            <a:off x="7543800" y="228600"/>
            <a:ext cx="13050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1  ;  1  ; 1  ; 1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20  21  22  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) Бесконечная последов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) Постоянная последов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) Колеблющаяся последов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6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101; 101; -101; 101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) Постоянная пос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) Колеблющаяся пос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) нет верного отв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1066680" y="91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1676520" y="914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2286000" y="914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2819520" y="914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7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115,6; -115,6; -115,6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) постоянная последова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) конечная последова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) бесконечная последова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8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а и только та последовательность, каждый член который больше предыду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) убивающая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) возростающая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) нет верного от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9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а и только та последовательность, каждый член который меньше предыдущ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) убывающая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) возростающая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) нет верного от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10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ледовательность задаётся формулой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ого ч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) рекуррен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) слове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) анали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11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юбой член последовательности начиная с некоторого, выражается через предшествующие чл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) рекуррен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) анали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) слове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Задание последовательности опис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) слове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) рекуррен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) анали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-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5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6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7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8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9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0-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1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2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304920" y="228600"/>
            <a:ext cx="78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6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мопроверка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6" descr="Роза3"/>
          <p:cNvPicPr/>
          <p:nvPr/>
        </p:nvPicPr>
        <p:blipFill>
          <a:blip r:embed="rId4"/>
          <a:stretch/>
        </p:blipFill>
        <p:spPr>
          <a:xfrm>
            <a:off x="0" y="2590920"/>
            <a:ext cx="1616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33ff"/>
                </a:solidFill>
                <a:latin typeface="Monotype Corsiva"/>
              </a:rPr>
              <a:t>Арифметическая прогрес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Script MT Bold"/>
              </a:rPr>
              <a:t>1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Назови, последовательность, каждый член который, начиная со второго, равен предыдущему члену, сложенным с одним и тем же чле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рифметическая прогре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Б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В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т верного от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ngel9"/>
          <p:cNvPicPr/>
          <p:nvPr/>
        </p:nvPicPr>
        <p:blipFill>
          <a:blip r:embed="rId2"/>
          <a:stretch/>
        </p:blipFill>
        <p:spPr>
          <a:xfrm>
            <a:off x="5486400" y="4191120"/>
            <a:ext cx="163980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Script MT Bold"/>
              </a:rPr>
              <a:t>2</a:t>
            </a: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 Как называется число </a:t>
            </a:r>
            <a:r>
              <a:rPr b="0" lang="en-US" sz="4000" spc="-1" strike="noStrike">
                <a:solidFill>
                  <a:srgbClr val="0000ff"/>
                </a:solidFill>
                <a:latin typeface="Monotype Corsiva"/>
              </a:rPr>
              <a:t>d</a:t>
            </a: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 в арифметической  прогрессии      (</a:t>
            </a:r>
            <a:r>
              <a:rPr b="0" lang="en-US" sz="4000" spc="-1" strike="noStrike">
                <a:solidFill>
                  <a:srgbClr val="0000ff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ff"/>
                </a:solidFill>
                <a:latin typeface="Monotype Corsiva"/>
              </a:rPr>
              <a:t>n+1-</a:t>
            </a:r>
            <a:r>
              <a:rPr b="0" lang="en-US" sz="4000" spc="-1" strike="noStrike">
                <a:solidFill>
                  <a:srgbClr val="0000ff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ff"/>
                </a:solidFill>
                <a:latin typeface="Monotype Corsiva"/>
              </a:rPr>
              <a:t>n=</a:t>
            </a:r>
            <a:r>
              <a:rPr b="0" lang="en-US" sz="4000" spc="-1" strike="noStrike">
                <a:solidFill>
                  <a:srgbClr val="0000ff"/>
                </a:solidFill>
                <a:latin typeface="Monotype Corsiva"/>
              </a:rPr>
              <a:t>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ый член последова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ность арифм. прогр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В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тор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Script MT Bold"/>
              </a:rPr>
              <a:t>3</a:t>
            </a: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 Формула </a:t>
            </a:r>
            <a:r>
              <a:rPr b="0" lang="en-US" sz="3600" spc="-1" strike="noStrike">
                <a:solidFill>
                  <a:srgbClr val="0000ff"/>
                </a:solidFill>
                <a:latin typeface="Monotype Corsiva"/>
              </a:rPr>
              <a:t>n</a:t>
            </a: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-ого члена арифметической прогр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+1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=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+1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-1)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angel7"/>
          <p:cNvPicPr/>
          <p:nvPr/>
        </p:nvPicPr>
        <p:blipFill>
          <a:blip r:embed="rId2"/>
          <a:stretch/>
        </p:blipFill>
        <p:spPr>
          <a:xfrm>
            <a:off x="5181480" y="4267080"/>
            <a:ext cx="1413000" cy="19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Script MT Bold"/>
              </a:rPr>
              <a:t>4 </a:t>
            </a: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Любая арифметическая прогрессия может быть задана формулой в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Б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+(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cript MT Bold"/>
              </a:rPr>
              <a:t>5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Формула суммы </a:t>
            </a: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n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первых членов арифметической  прог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Б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(n-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В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т верного отв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ррр"/>
          <p:cNvPicPr/>
          <p:nvPr/>
        </p:nvPicPr>
        <p:blipFill>
          <a:blip r:embed="rId2"/>
          <a:stretch/>
        </p:blipFill>
        <p:spPr>
          <a:xfrm>
            <a:off x="5867280" y="4998960"/>
            <a:ext cx="2067120" cy="16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Script MT Bold"/>
              </a:rPr>
              <a:t>6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Немецкий математик, Его многочисленные исследования в области алгебры, теории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А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Б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оф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В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варист Галу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Script MT Bold"/>
              </a:rPr>
              <a:t>7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Найдите (а22) если а1=15 </a:t>
            </a: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d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=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Б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1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В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5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Г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92b45079489184f2014ad11892a84bd4"/>
          <p:cNvPicPr/>
          <p:nvPr/>
        </p:nvPicPr>
        <p:blipFill>
          <a:blip r:embed="rId2"/>
          <a:stretch/>
        </p:blipFill>
        <p:spPr>
          <a:xfrm>
            <a:off x="7696080" y="152280"/>
            <a:ext cx="120024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92b45079489184f2014ad11892a84bd4"/>
          <p:cNvPicPr/>
          <p:nvPr/>
        </p:nvPicPr>
        <p:blipFill>
          <a:blip r:embed="rId3"/>
          <a:stretch/>
        </p:blipFill>
        <p:spPr>
          <a:xfrm>
            <a:off x="6705720" y="15228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92b45079489184f2014ad11892a84bd4"/>
          <p:cNvPicPr/>
          <p:nvPr/>
        </p:nvPicPr>
        <p:blipFill>
          <a:blip r:embed="rId4"/>
          <a:stretch/>
        </p:blipFill>
        <p:spPr>
          <a:xfrm>
            <a:off x="5715000" y="152280"/>
            <a:ext cx="971640" cy="46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e8e0b09cdb92d5b01a5721403d268a50"/>
          <p:cNvPicPr/>
          <p:nvPr/>
        </p:nvPicPr>
        <p:blipFill>
          <a:blip r:embed="rId5"/>
          <a:stretch/>
        </p:blipFill>
        <p:spPr>
          <a:xfrm>
            <a:off x="4724280" y="4232160"/>
            <a:ext cx="2362320" cy="1825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533520" y="358128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Script MT Bold"/>
              </a:rPr>
              <a:t>8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Найдите сумму 9 первых членов ар. пр.(х</a:t>
            </a:r>
            <a:r>
              <a:rPr b="0" lang="en-US" sz="1800" spc="-1" strike="noStrike">
                <a:solidFill>
                  <a:srgbClr val="0000ff"/>
                </a:solidFill>
                <a:latin typeface="Monotype Corsiva"/>
              </a:rPr>
              <a:t>n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) если: х</a:t>
            </a:r>
            <a:r>
              <a:rPr b="0" lang="ru-RU" sz="1800" spc="-1" strike="noStrike">
                <a:solidFill>
                  <a:srgbClr val="0000ff"/>
                </a:solidFill>
                <a:latin typeface="Monotype Corsiva"/>
              </a:rPr>
              <a:t>1=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5  х</a:t>
            </a:r>
            <a:r>
              <a:rPr b="0" lang="ru-RU" sz="1800" spc="-1" strike="noStrike">
                <a:solidFill>
                  <a:srgbClr val="0000ff"/>
                </a:solidFill>
                <a:latin typeface="Monotype Corsiva"/>
              </a:rPr>
              <a:t>2=-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7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Б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В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7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Script MT Bold"/>
              </a:rPr>
              <a:t>9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Вычислите сумму 5-и первых членов ар. пр. (в</a:t>
            </a: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n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) если: в</a:t>
            </a:r>
            <a:r>
              <a:rPr b="0" lang="ru-RU" sz="1800" spc="-1" strike="noStrike">
                <a:solidFill>
                  <a:srgbClr val="0000ff"/>
                </a:solidFill>
                <a:latin typeface="Monotype Corsiva"/>
              </a:rPr>
              <a:t>1=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16 </a:t>
            </a: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d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5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Б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В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5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ррр"/>
          <p:cNvPicPr/>
          <p:nvPr/>
        </p:nvPicPr>
        <p:blipFill>
          <a:blip r:embed="rId2"/>
          <a:stretch/>
        </p:blipFill>
        <p:spPr>
          <a:xfrm>
            <a:off x="5334120" y="4595760"/>
            <a:ext cx="228600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1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2-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3-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4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5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6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7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8-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9-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124080" y="19051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24113433"/>
          <p:cNvPicPr/>
          <p:nvPr/>
        </p:nvPicPr>
        <p:blipFill>
          <a:blip r:embed="rId2"/>
          <a:stretch/>
        </p:blipFill>
        <p:spPr>
          <a:xfrm>
            <a:off x="4495680" y="2714760"/>
            <a:ext cx="4105440" cy="4143240"/>
          </a:xfrm>
          <a:prstGeom prst="rect">
            <a:avLst/>
          </a:prstGeom>
          <a:ln w="0">
            <a:noFill/>
          </a:ln>
        </p:spPr>
      </p:pic>
      <p:sp>
        <p:nvSpPr>
          <p:cNvPr id="63" name="WordArt 10"/>
          <p:cNvSpPr txBox="1"/>
          <p:nvPr/>
        </p:nvSpPr>
        <p:spPr>
          <a:xfrm>
            <a:off x="609480" y="228600"/>
            <a:ext cx="79250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26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ff"/>
                  </a:solidFill>
                  <a:prstDash val="dashDot"/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проверка</a:t>
            </a:r>
            <a:endParaRPr b="1" lang="en-US" sz="1800" spc="1" strike="noStrike">
              <a:ln w="19080">
                <a:solidFill>
                  <a:srgbClr val="00ffff"/>
                </a:solidFill>
                <a:prstDash val="dashDot"/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Если выписывать в порядке возрастания положительные чётные числа, то получи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) арифм. п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) последова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) нет верного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Числа, образующие последовательность, называют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) членами последова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) числами последова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)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 ым членом последова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28600" y="152280"/>
            <a:ext cx="8763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00"/>
                  </a:solidFill>
                  <a:prstDash val="dash"/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едовательность</a:t>
            </a:r>
            <a:endParaRPr b="1" lang="en-US" sz="1800" spc="1" strike="noStrike">
              <a:ln w="3240">
                <a:solidFill>
                  <a:srgbClr val="ffff00"/>
                </a:solidFill>
                <a:prstDash val="dash"/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Как  обозначают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ый член последователь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)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)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)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55; 65; 75; 8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) колеблющаяся последов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) конечная последов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) постоянная последов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чик</cp:lastModifiedBy>
  <dcterms:modified xsi:type="dcterms:W3CDTF">2021-10-18T16:32:4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