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963-39BE-45C8-B6D7-8A0963ED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981-462B-434B-AC6D-FC48A395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C0D-F5D3-41F8-873B-06A576CD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E8B-5732-4C1D-9A99-3801CE41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6F14-E18B-46A1-8783-0CDDD1BC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2E6F-18C5-4B59-B719-E8B1A038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2947-C03F-474D-81A1-A10CB0B0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DFD9-743A-471C-9CEA-15E96333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D00B-B64C-44D5-B153-ECE7BF19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B4AF-02D2-4E5C-9907-E1722882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803F-1669-45A7-A274-EE2DD994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302-0268-49CE-911C-D976A0AC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BAC8-A4A6-462D-8F48-5CA324B6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4A42-B94F-4F33-B524-6C8AFB80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5058-349C-4553-85A3-997C5317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9EF5-1DB8-4CA6-9BF6-97BFFE89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923B-17F3-432C-BF7F-1EBFC610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2A9-A317-498C-8AF3-93EA2630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CD9-FC6E-4C37-9F1E-C2513563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996-4A86-4071-BFD6-D752FCC5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8C4-AF08-4CB4-85F3-A8A28C26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B9C-BAE8-4A01-8C2B-8CBF990C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E97-BC4A-4A84-8F52-F92ED4C0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73F-D770-42EA-8278-D33685B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A80B-506C-47B7-9838-15CACD5BD6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FE4B-D12D-4A48-A4F4-2243F35AEC6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200"/>
            <a:ext cx="7239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ЧЕТЫРЁХУГОЛЬНИК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620640"/>
            <a:ext cx="7313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рминологический диктант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риан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  2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тырёхугольник      верш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тиволежащий      диагона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рона                    параллелограм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сечение             прямоуголь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иссектриса              теоре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апеция                  полусум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раллельный          треуголь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порциональный   осн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кущая                   угол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-27972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475920"/>
            <a:ext cx="731340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      2.            3.                4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пределить фигуры (написать их номер и название), у которых стороны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 и равны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лежащие углы равны, все стороны рав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тороны и углы рав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углы рав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щиеся диагонали рав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54936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1640" y="549360"/>
            <a:ext cx="172728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404640"/>
            <a:ext cx="1214640" cy="1214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549360"/>
            <a:ext cx="2160360" cy="914400"/>
          </a:xfrm>
          <a:prstGeom prst="parallelogram">
            <a:avLst>
              <a:gd name="adj" fmla="val 5906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956720" y="5661000"/>
            <a:ext cx="826920" cy="755640"/>
          </a:xfrm>
          <a:custGeom>
            <a:avLst/>
            <a:gdLst>
              <a:gd name="textAreaLeft" fmla="*/ 142920 w 826920"/>
              <a:gd name="textAreaRight" fmla="*/ 684000 w 826920"/>
              <a:gd name="textAreaTop" fmla="*/ 142920 h 755640"/>
              <a:gd name="textAreaBottom" fmla="*/ 61272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19553" y="4084"/>
                </a:lnTo>
                <a:lnTo>
                  <a:pt x="4084" y="4084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19553" y="17516"/>
                </a:lnTo>
                <a:lnTo>
                  <a:pt x="19553" y="4084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4084" y="17516"/>
                </a:lnTo>
                <a:lnTo>
                  <a:pt x="19553" y="17516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4084" y="4084"/>
                </a:lnTo>
                <a:lnTo>
                  <a:pt x="4084" y="1751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60280"/>
            <a:ext cx="7773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404640"/>
            <a:ext cx="7313400" cy="553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6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дания 2 группы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рточка №1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Если у четырёхугольника противолежащие углы равны, то он является параллелограмм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У параллелограмма сумма двух соседних углов равна 180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Диагонали ромба рав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Ложным является утверждение № 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рточка №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Квадрат является ромб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Диагонали прямоугольника являются биссектрисами его угл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Все углы ромба рав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Диагонали квадрата пересекаются под прямым угл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Ложными являются утверждения №2 и №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46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8172360" y="5805360"/>
            <a:ext cx="755640" cy="754200"/>
          </a:xfrm>
          <a:custGeom>
            <a:avLst/>
            <a:gdLst>
              <a:gd name="textAreaLeft" fmla="*/ 181080 w 755640"/>
              <a:gd name="textAreaRight" fmla="*/ 574560 w 755640"/>
              <a:gd name="textAreaTop" fmla="*/ 181080 h 754200"/>
              <a:gd name="textAreaBottom" fmla="*/ 573120 h 754200"/>
            </a:gdLst>
            <a:ahLst/>
            <a:rect l="textAreaLeft" t="textAreaTop" r="textAreaRight" b="textAreaBottom"/>
            <a:pathLst>
              <a:path w="21641" h="21600">
                <a:moveTo>
                  <a:pt x="0" y="0"/>
                </a:moveTo>
                <a:lnTo>
                  <a:pt x="21641" y="0"/>
                </a:lnTo>
                <a:lnTo>
                  <a:pt x="21641" y="21600"/>
                </a:lnTo>
                <a:lnTo>
                  <a:pt x="0" y="21600"/>
                </a:lnTo>
                <a:close/>
              </a:path>
              <a:path fill="lightenLess" w="21641" h="21600">
                <a:moveTo>
                  <a:pt x="0" y="0"/>
                </a:moveTo>
                <a:lnTo>
                  <a:pt x="21641" y="0"/>
                </a:lnTo>
                <a:lnTo>
                  <a:pt x="16457" y="5184"/>
                </a:lnTo>
                <a:lnTo>
                  <a:pt x="5184" y="5184"/>
                </a:lnTo>
                <a:close/>
              </a:path>
              <a:path fill="darken" w="21641" h="21600">
                <a:moveTo>
                  <a:pt x="21641" y="0"/>
                </a:moveTo>
                <a:lnTo>
                  <a:pt x="21641" y="21600"/>
                </a:lnTo>
                <a:lnTo>
                  <a:pt x="16457" y="16416"/>
                </a:lnTo>
                <a:lnTo>
                  <a:pt x="16457" y="5184"/>
                </a:lnTo>
                <a:close/>
              </a:path>
              <a:path fill="darkenLess" w="21641" h="21600">
                <a:moveTo>
                  <a:pt x="21641" y="21600"/>
                </a:moveTo>
                <a:lnTo>
                  <a:pt x="0" y="21600"/>
                </a:lnTo>
                <a:lnTo>
                  <a:pt x="5184" y="16416"/>
                </a:lnTo>
                <a:lnTo>
                  <a:pt x="16457" y="16416"/>
                </a:lnTo>
                <a:close/>
              </a:path>
              <a:path fill="lighten" w="21641" h="21600">
                <a:moveTo>
                  <a:pt x="0" y="21600"/>
                </a:moveTo>
                <a:lnTo>
                  <a:pt x="0" y="0"/>
                </a:lnTo>
                <a:lnTo>
                  <a:pt x="5184" y="5184"/>
                </a:lnTo>
                <a:lnTo>
                  <a:pt x="5184" y="1641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 Black"/>
              </a:rPr>
              <a:t>        </a:t>
            </a:r>
            <a:r>
              <a:rPr b="0" lang="ru-RU" sz="4800" spc="-1" strike="noStrike">
                <a:solidFill>
                  <a:srgbClr val="006666"/>
                </a:solidFill>
                <a:latin typeface="Arial Black"/>
              </a:rPr>
              <a:t>КВАДРАТ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ЕТЫРЁХУГОЛЬН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ЯМОУГОЛЬН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557000"/>
            <a:ext cx="7313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Secret Service Typewriter"/>
              </a:rPr>
              <a:t>Задание </a:t>
            </a: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ертите на листе (формат А4) генеалогическое дерево с описанием свойств и признаков всех изученных фигу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Secret Service Typewriter"/>
              </a:rPr>
              <a:t>Задание </a:t>
            </a: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ишите определение фигуры в виде предложения, содержащего причастие или причастный оборот. Сделать синтаксический разбор данного предложения и морфологический разбор причастия из не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Secret Service Typewriter"/>
              </a:rPr>
              <a:t>Задание 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№415 (с.114 уч. «Геометрия 7-9»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cret Service Typewrit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5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Haettenschweiler"/>
              </a:rPr>
              <a:t>Удачи в изучении школьных наук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32000" y="1733400"/>
            <a:ext cx="69850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08:26:25Z</dcterms:created>
  <dc:creator>Администратор</dc:creator>
  <dc:description/>
  <dc:language>en-US</dc:language>
  <cp:lastModifiedBy>Ученик</cp:lastModifiedBy>
  <dcterms:modified xsi:type="dcterms:W3CDTF">2007-10-16T06:53:22Z</dcterms:modified>
  <cp:revision>17</cp:revision>
  <dc:subject/>
  <dc:title>ТЕМА УРОК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