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4DCB1-6DDA-4CB1-AF43-BE8611928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B5F48-F329-4462-AFC0-A0FD55E93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86126B-F46A-4A00-B79F-C1A03C8A9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249F90-DE37-4D88-8754-8F5FCF1CA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C87A5A-0D2B-4E71-BA1B-0496A429F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39A222-E69A-4364-AA7B-A98FA4201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6AA12D-BF7F-41EB-8363-3EE5FC211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066513-4C28-455C-BEC2-F1722A9C1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824D66-6CE0-4324-8317-E289F07B5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6C029C-A928-425A-907D-32616004B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8B700B-05F9-49F9-9AEB-5CDBB635D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6A68E-43FB-4B83-AC72-B36DBFC27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BA287-8434-4C78-9302-01988669F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40DB3-DEE5-4B5F-BCD7-AAC79117F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C641A-FDD2-42D1-B68B-F0E5A67A4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99D22-29DF-4363-8747-0797CA11C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0E3C7-73F5-487B-BEA6-FA18393C6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A8CCF-9473-4182-9F8B-A449333DD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40099-D794-460B-9CF7-B3E3D9D2A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54FD4-ECBA-4A75-A5A0-87FCB66BF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B0D4E-AFCD-4DDA-8838-420600EC7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BD24D-71CA-4D1B-BFCD-02F88FD26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705FE-2EE2-438B-91E1-89CFEE523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04616-8C24-476C-B9A8-2191E63EE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0AE57-3CF2-4D44-9A25-825F55D56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0BA22-24D0-446F-A36E-6DF5295DC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69A164-235A-4DF7-A43B-18AF1F1C4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C21A20-D637-44C0-99B8-0BB75BD46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0F0751-F73A-4C0B-880A-81F3AF4A8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694F0E-2F36-48B8-91C8-4D63D0A94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915D83-2FCC-4343-924E-89EC8A798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CBA56-9EAF-4B24-8B58-6E794F7BF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02CCD3-911E-4394-BC42-CF0746DF6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E91C31-3685-43B9-9923-A292AB20B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05F5E3-9452-4D29-A76E-46F495CBF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4525A5-AAB5-406F-9325-9A892BBA9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E98D25-11E6-4461-ADE2-DD7DEE240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C3984F-3AB8-4FA8-9F79-84144471F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7755C6-AB99-48C6-9DDD-5E9B029CC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0385E9-CC4F-43F8-BC61-0DB263428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F1C81B-6609-4C88-8193-CE3F3D5B2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394C36-24F4-42E8-8122-42431D6A0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EBBBB-6EF2-43A3-84A3-1C96F4407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0EC8F8-6857-41FA-B2EA-6B83C4DC0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0C913C-949E-422D-8E7A-5E6911591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076E48-80AC-4E9A-850C-41F71EB54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173716-6B3A-4646-AF9F-8FA3CEF7F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E18975-A6D4-48B4-A437-2AA7DE679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E22272-CDF0-4C52-B239-80B52F7C3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1942CB-96C0-4613-BE18-E4B3E5FD9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094715-3F0D-43D1-8A98-DF4DD35A6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1E3D4A-8371-406B-9A6B-C49D1C8D0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494FAF-2076-49A3-AFAB-A39514FA1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8984E-897A-45B4-887B-F440E7C32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BCF1A0-6B43-4384-9AAD-FE224BF09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CF0C88-75E6-4C9B-8206-39BA723F3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15A627-BD16-4433-B3E3-26C194708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BD4B31-B440-459B-9B78-4AABD7352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AAEDF2-8E4A-40D1-822D-E4F6819DC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6B4790-EF5C-477E-8D00-D4A4E8936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83B8A5-8EE2-4863-91AE-492425D3E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C419C7-C286-49C8-99CF-AC960669E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216595-B373-4A26-B67E-5CD7C40AA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BDC309-F6FA-43BC-9318-0F5A89EAB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484A0-3D78-4232-957D-5319DBB78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661974-41EC-4D20-8AE6-AB77DEC23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BE1F15-B765-491A-89CD-8D86F4A47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05D8AC-CE17-480A-8921-5C46C418A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0C94B5-1B44-48E6-B441-22DA2734D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F16915-32F9-4363-A29D-421212060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52AD4B-FEEF-407B-A95B-7BDF254D6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671306-4DC0-4DC2-9021-D5241C3B9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375558-E5AB-4C5E-B66A-1AE333B21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124DAB-7971-46CB-9BDE-7AD07C308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EA42BE-AAEE-4F48-8EBD-D98BAF386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4F9F9-0639-45C9-9F51-17C35E7AC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C1334D-E009-4EF4-99E5-D3E11B56F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7A8A4E-0DD1-437E-8929-10F994C03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1E2C94-2E2D-453E-9150-29E330890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95BAA0-7F5B-4A58-A30B-927EE2B2A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71C826-6BF6-4CB0-A26C-FC50A91F4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A82AF3-47C3-412F-8711-2EFE274AC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BF5E75-BEE6-4C1A-931F-78237CE0F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1457CF-D470-49CF-900D-14EA8C7B8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6E6631-323A-46D0-8D08-3D0060117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85BE8E-F3B0-43A0-9402-99522DBFE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B9DBA-C43B-41D1-9EE4-4A9747180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14BFD2-5137-449E-8FF4-B93DDC6A2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020418-F80D-497A-95F8-971E3BFD0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28C80F-D5B3-43F6-8D52-014B7FDFF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EC8825-858C-48B9-AC2E-DBDDEBE41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73D43D-4486-4CA5-916D-54B3BB765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A90048-9D73-4A8A-A02D-7DCDD7286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86CACF-2ACA-4662-A17C-545FD0A88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A60EC0-046B-4269-A91B-E0E613F5F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0E558D-379C-43B6-A93A-473D1931E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7D45C6-F534-4C06-890E-DDCFA0466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8B2B5-6C38-4426-BD02-78F64CD55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31824B-6EBC-4137-822E-2A4DD3F36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5754DF-50AA-4F80-A7CF-30E60DF13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2AE548-F17E-4F22-89E9-655B9F11C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BB6F68-3B2C-4800-92F0-DDF58083E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BCA699-6413-4C9A-99D2-884926DAA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43E475-4D76-4448-AE01-0782D890C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FCEC37-11A2-44EE-AA12-07ABB2997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1ADF58-1414-4F04-AC9B-7A6562976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AB554E-ECA2-447E-98BA-1D40C25A7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90C6E8-2B72-4128-87F0-B0F7F36A0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5C4DA-39DF-4728-BC2E-F294FD0C023D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0063F-5F53-4683-AAFB-294EEC0B2940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EDBC4-D0DB-4D06-9220-40B37109C106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8A04D-3C5D-4FA1-B9E6-0479C48FB417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727DA-7663-4EBE-AFA3-F4FF7E752195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4EFC3-28BE-4F20-BB5F-5E0807BD3AC9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614BE-7A62-4FE8-B8DF-D60E1D3E5D37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31A40-5598-4352-BAF6-342DBC98C1D1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B9318-8F21-4CCC-94EC-5B126C14EEAE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ubTitle"/>
          </p:nvPr>
        </p:nvSpPr>
        <p:spPr>
          <a:xfrm>
            <a:off x="1000080" y="356760"/>
            <a:ext cx="7486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Franklin Gothic Book"/>
              </a:rPr>
              <a:t>Мой любимый город Санкт- Петербург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0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1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2" name="Rectangle 5"/>
          <p:cNvSpPr/>
          <p:nvPr/>
        </p:nvSpPr>
        <p:spPr>
          <a:xfrm>
            <a:off x="285840" y="1148040"/>
            <a:ext cx="850104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 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Санкт- Петербург- это город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 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с 300-летней историей и как любой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 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город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 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имеет свои достопримечательности, свои традиции. И одна из важных наших задач воспитать в детях бережное отношение ко всему тому, что их окружает, осознать себя частью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 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города, заложить фундамент личности в ребенке. Таким образом, заложив фундамент с детства, мы можем надеяться, что воспитаем настоящего патриота.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ребятами на занятиях рисовали, лепили, читали книги о городе, учили стихи. 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03" name="Picture 6" descr=""/>
          <p:cNvPicPr/>
          <p:nvPr/>
        </p:nvPicPr>
        <p:blipFill>
          <a:blip r:embed="rId1"/>
          <a:stretch/>
        </p:blipFill>
        <p:spPr>
          <a:xfrm>
            <a:off x="214200" y="2428920"/>
            <a:ext cx="2979720" cy="401940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7" descr=""/>
          <p:cNvPicPr/>
          <p:nvPr/>
        </p:nvPicPr>
        <p:blipFill>
          <a:blip r:embed="rId2"/>
          <a:stretch/>
        </p:blipFill>
        <p:spPr>
          <a:xfrm>
            <a:off x="3500280" y="2428920"/>
            <a:ext cx="5432760" cy="37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Picture 3" descr=""/>
          <p:cNvPicPr/>
          <p:nvPr/>
        </p:nvPicPr>
        <p:blipFill>
          <a:blip r:embed="rId1"/>
          <a:stretch/>
        </p:blipFill>
        <p:spPr>
          <a:xfrm>
            <a:off x="142920" y="285840"/>
            <a:ext cx="4392720" cy="607212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2" descr=""/>
          <p:cNvPicPr/>
          <p:nvPr/>
        </p:nvPicPr>
        <p:blipFill>
          <a:blip r:embed="rId2"/>
          <a:stretch/>
        </p:blipFill>
        <p:spPr>
          <a:xfrm>
            <a:off x="4786200" y="285840"/>
            <a:ext cx="3857760" cy="607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Picture 2" descr=""/>
          <p:cNvPicPr/>
          <p:nvPr/>
        </p:nvPicPr>
        <p:blipFill>
          <a:blip r:embed="rId1"/>
          <a:stretch/>
        </p:blipFill>
        <p:spPr>
          <a:xfrm>
            <a:off x="142920" y="214200"/>
            <a:ext cx="4376520" cy="324504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4" descr=""/>
          <p:cNvPicPr/>
          <p:nvPr/>
        </p:nvPicPr>
        <p:blipFill>
          <a:blip r:embed="rId2"/>
          <a:stretch/>
        </p:blipFill>
        <p:spPr>
          <a:xfrm>
            <a:off x="4643280" y="214200"/>
            <a:ext cx="4335480" cy="321480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5" descr=""/>
          <p:cNvPicPr/>
          <p:nvPr/>
        </p:nvPicPr>
        <p:blipFill>
          <a:blip r:embed="rId3"/>
          <a:stretch/>
        </p:blipFill>
        <p:spPr>
          <a:xfrm>
            <a:off x="2500200" y="3643200"/>
            <a:ext cx="3857760" cy="286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18T16:48:55Z</dcterms:created>
  <dc:creator>Admin</dc:creator>
  <dc:description/>
  <dc:language>en-US</dc:language>
  <cp:lastModifiedBy>Admin</cp:lastModifiedBy>
  <dcterms:modified xsi:type="dcterms:W3CDTF">2021-10-18T17:05:29Z</dcterms:modified>
  <cp:revision>8</cp:revision>
  <dc:subject/>
  <dc:title>Слайд 1</dc:title>
</cp:coreProperties>
</file>