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44B3-4D69-4A2C-AD45-81F7B12C8D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CD5-D067-41EF-AD78-428372E72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882-D73E-4357-91FE-1759DD84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EE7-A78E-4BE5-B32D-AA17BAE4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7CF-D3C0-442D-BF39-BA947629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5B7-87E6-49A1-9EE8-74314458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E36-591C-4A31-8EBF-58F67197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220-74EE-4CB4-8286-CA333CC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277-28D2-4049-9AFD-8B781B71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532-00A6-48D9-AB82-C1EAE704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7BA-96BB-4CF6-9F06-BAB6D19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4CA-D634-4788-A9DF-72FFFDD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403-E862-43F6-8D39-58DF6CB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306-29AA-4AE1-B435-A008773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0F92-7F15-4B08-B673-405D854A010A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schoolhous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Monotype Corsiva"/>
                <a:ea typeface="Arial"/>
              </a:rPr>
              <a:t>Урок русского язы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6668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Голосовая разминка.</a:t>
            </a: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 Произнесит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гласные переднего ря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1f497d"/>
                </a:solidFill>
                <a:latin typeface="Comic Sans MS"/>
              </a:rPr>
              <a:t>- </a:t>
            </a: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гласные заднего ря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         </a:t>
            </a: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- гласные верхнего подъё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               </a:t>
            </a: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- гласные нижнего подъё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                        </a:t>
            </a:r>
            <a:r>
              <a:rPr b="0" lang="ru-RU" sz="3200" spc="-1" strike="noStrike">
                <a:solidFill>
                  <a:srgbClr val="1f497d"/>
                </a:solidFill>
                <a:latin typeface="Monotype Corsiva"/>
              </a:rPr>
              <a:t>гласные среднего подъё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51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О  том поразмысли, что  ждет  впереди,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        цель выбрав благую, к ней прямо иди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 Фирдоус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Дождь  состоит из отдельных капелек  дожд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есок  - из  отдельных песчин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Дерево - из отдельных частей дерев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Язык народа – из отдельных сл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Слова - из  отдельных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Звуки реч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ысячи разных звуков окружают человека: шум пролетающего самолета, звон металла, завывание ветра, шорох камышей, лай собаки, треск сухих веток, пенье птиц, дробь барабана, раскаты грома, шелест листьев... Окружают нас и особые звуки - звуки речи. Как называется раздел науки о языке, изучающий звуки речи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i="1" lang="ru-RU" sz="3100" spc="-1" strike="noStrike">
                <a:solidFill>
                  <a:srgbClr val="002060"/>
                </a:solidFill>
                <a:latin typeface="Monotype Corsiva"/>
                <a:ea typeface="Arial"/>
              </a:rPr>
              <a:t>Фонетика. Фонетический разбор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Выполнить фонетический разбор сл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Microsoft Himalaya"/>
              </a:rPr>
              <a:t>поздоров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  <a:ea typeface="Microsoft Himalaya"/>
              </a:rPr>
              <a:t>безмолвствовать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Monotype Corsiva"/>
              </a:rPr>
              <a:t>Какие процессы присутствует в словах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огоро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                                </a:t>
            </a: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сдел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                                </a:t>
            </a: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снег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                                </a:t>
            </a: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видит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                                </a:t>
            </a:r>
            <a:r>
              <a:rPr b="0" i="1" lang="ru-RU" sz="2800" spc="-1" strike="noStrike">
                <a:solidFill>
                  <a:srgbClr val="376092"/>
                </a:solidFill>
                <a:latin typeface="Monotype Corsiva"/>
              </a:rPr>
              <a:t>исконны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С глубокой древности сохранились в русском языке исторические чередования: -оро-//-ра-, -оло-//-ла-, - ере-//-ре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дберите к данным словам исторические па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храм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разды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рана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ах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лава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ласть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лад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лад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лен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шлем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рево 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олото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олод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-гла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- вра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- стра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кой звук присутствует  во всех этих  словах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блоко                  здравствуйте             вьющие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йка  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?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азднич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як                     объявление                      узкие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 flipH="1">
            <a:off x="4570560" y="2287440"/>
            <a:ext cx="2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 flipV="1">
            <a:off x="4570560" y="3735000"/>
            <a:ext cx="288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8"/>
          <p:cNvSpPr/>
          <p:nvPr/>
        </p:nvSpPr>
        <p:spPr>
          <a:xfrm>
            <a:off x="1981080" y="2133720"/>
            <a:ext cx="2362320" cy="99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0"/>
          <p:cNvSpPr/>
          <p:nvPr/>
        </p:nvSpPr>
        <p:spPr>
          <a:xfrm>
            <a:off x="1828800" y="3429000"/>
            <a:ext cx="2286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 flipV="1">
            <a:off x="1676520" y="3581280"/>
            <a:ext cx="2590560" cy="9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4"/>
          <p:cNvSpPr/>
          <p:nvPr/>
        </p:nvSpPr>
        <p:spPr>
          <a:xfrm flipH="1" flipV="1">
            <a:off x="4952520" y="3581280"/>
            <a:ext cx="2057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6"/>
          <p:cNvSpPr/>
          <p:nvPr/>
        </p:nvSpPr>
        <p:spPr>
          <a:xfrm flipH="1">
            <a:off x="4800600" y="2133000"/>
            <a:ext cx="1828800" cy="1066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8"/>
          <p:cNvSpPr/>
          <p:nvPr/>
        </p:nvSpPr>
        <p:spPr>
          <a:xfrm flipH="1" flipV="1">
            <a:off x="4800600" y="3429000"/>
            <a:ext cx="1447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757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3" descr="B_card_051121curN copy"/>
          <p:cNvPicPr/>
          <p:nvPr/>
        </p:nvPicPr>
        <p:blipFill>
          <a:blip r:embed="rId1"/>
          <a:stretch/>
        </p:blipFill>
        <p:spPr>
          <a:xfrm>
            <a:off x="179280" y="189000"/>
            <a:ext cx="1594080" cy="1655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4"/>
          <p:cNvSpPr txBox="1"/>
          <p:nvPr/>
        </p:nvSpPr>
        <p:spPr>
          <a:xfrm>
            <a:off x="2486160" y="1125360"/>
            <a:ext cx="5902200" cy="30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лаю успехов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2627280" y="5300640"/>
            <a:ext cx="58132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0:40:15Z</dcterms:created>
  <dc:creator/>
  <dc:description/>
  <dc:language>en-US</dc:language>
  <cp:lastModifiedBy/>
  <dcterms:modified xsi:type="dcterms:W3CDTF">2021-10-18T17:42:3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71291049</vt:lpwstr>
  </property>
</Properties>
</file>