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2EEE-1FEE-430A-BD8F-8DF191240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3AC-A252-4EE1-9993-A094029F5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320-3538-4077-9AA5-D14DCE31D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543-903D-4614-9841-518CBC8DA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20B-61F2-4A7C-AC3A-928336C5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5A0-2C7F-4E79-B62F-7BB9E99C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DF1-3A5B-491D-A2B4-00E6295D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155-885D-4A46-B970-C49C1927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525-A41F-472F-B706-975FA4B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DC2-318C-4BCE-83F2-04ABEB0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445-E293-4E41-9693-D566EAE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675-CD6A-4FCF-AC2D-928A3F6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64F-4A02-468D-91FA-B2646DF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5B1-6A8E-4B5B-80FF-6C0F4D9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B5F-B110-4A61-A417-3C9BAD1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7ED-0598-419C-A914-08280FC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1E23-3A0E-4BFC-8713-6A93DC5347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ub.itdrom.com/files/gallery/gal_photo/photo_etc/800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11142/16/111421629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Calibri"/>
              </a:rPr>
              <a:t>Песни о Великой Отечественной войне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.Сурков «Земля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 008"/>
          <p:cNvPicPr/>
          <p:nvPr/>
        </p:nvPicPr>
        <p:blipFill>
          <a:blip r:embed="rId1"/>
          <a:stretch/>
        </p:blipFill>
        <p:spPr>
          <a:xfrm>
            <a:off x="1285920" y="1571760"/>
            <a:ext cx="66294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раги сожгли родную хату» 1945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00080"/>
            <a:ext cx="4829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Долматовский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 стихотворении М.Исаковского  поражал сюжет: не плачь о погибшем солдате, ставший уже традицией, а плачь солдата по погибшей жене. Песню долго не разрешали исполнять… И все же время для нее пришло. Это песня, славящая советского воина…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6" descr="4 005"/>
          <p:cNvPicPr/>
          <p:nvPr/>
        </p:nvPicPr>
        <p:blipFill>
          <a:blip r:embed="rId1"/>
          <a:stretch/>
        </p:blipFill>
        <p:spPr>
          <a:xfrm>
            <a:off x="5572080" y="1071720"/>
            <a:ext cx="31622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858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ухенвальдский набат» 1958год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7.bmp"/>
          <p:cNvPicPr/>
          <p:nvPr/>
        </p:nvPicPr>
        <p:blipFill>
          <a:blip r:embed="rId1"/>
          <a:stretch/>
        </p:blipFill>
        <p:spPr>
          <a:xfrm>
            <a:off x="5000760" y="1071720"/>
            <a:ext cx="400032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память.jpg"/>
          <p:cNvPicPr/>
          <p:nvPr/>
        </p:nvPicPr>
        <p:blipFill>
          <a:blip r:embed="rId2"/>
          <a:stretch/>
        </p:blipFill>
        <p:spPr>
          <a:xfrm>
            <a:off x="214200" y="2571840"/>
            <a:ext cx="4572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артинка 57 из 1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253360" cy="61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лексей… Алешенька» 1967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дрей Дементье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Это было в Грузии. Пожилая грузинка увидела в кадрах военной хроники своего сына таким, каким она его провожала на фронт. Он пропал без вести. И уже много лет она все еще надеется увидеть сына. Я был потрясен этим и написал стихотворение «Баллада о матери». А через некоторое время композитор Е.Мартынов показал мне песню на эти слова. Так родилась песня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Журавли» 1964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 Френкел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тихи Р.Гамзатова взволновали меня, они стали бесконечно близки и дороги мне. Стихи и музыка слились воедино – они стали частью моей жизни. Наверное, это и есть счастье композито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Картинка 37 из 1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774072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следний бой» 1945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хи и музыка М.Ножк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так давно, мы так давно не отдых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 было просто не до отдыха с т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ол-Европы по-пластунски пропаха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втра, завтра, наконец, последний 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немного, еще чуть-чу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дний бой, он трудный сам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я в Россию, домой хоч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так давно не видел мам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4 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ни о Великой Отечественной вой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79293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есня вместе с Отчизной пошла в бой. Она встала в строй, на правый фланг – ближе к запевалам. По трудным горестным дорогам войны прошла с героями песня. Облетев многие зарубежные страны, она вместе с победителями возвратилась домой – к родным, близким, к созидательному труд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Фатья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енные песни. Они не награждались орденами, о них не сообщалось в сводках Совинформбюро, но для победы нашей, для нашей выстраданной Победы они – песни – сделали очень многое. Может быть, это нельзя назвать подвигом, а вот честной солдатской службой назвать мож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.Рождествен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ень Победы». 1975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71720"/>
            <a:ext cx="64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Харитонов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такой песне я давно мечтал. И шел к ней все эти годы, что прошли от победных незабываемых залпов. «Это радость со слезами на глазах» – та самая строчка, та главная мысль, от которой и пошла вся песня»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8" descr="участнику афганской войны.bmp"/>
          <p:cNvPicPr/>
          <p:nvPr/>
        </p:nvPicPr>
        <p:blipFill>
          <a:blip r:embed="rId1"/>
          <a:stretch/>
        </p:blipFill>
        <p:spPr>
          <a:xfrm>
            <a:off x="6929280" y="442908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ветераны афгана.bmp"/>
          <p:cNvPicPr/>
          <p:nvPr/>
        </p:nvPicPr>
        <p:blipFill>
          <a:blip r:embed="rId2"/>
          <a:stretch/>
        </p:blipFill>
        <p:spPr>
          <a:xfrm>
            <a:off x="6357960" y="928800"/>
            <a:ext cx="2357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001.radikal.ru/0805/f5/2cd794e745c1.jpg"/>
          <p:cNvPicPr/>
          <p:nvPr/>
        </p:nvPicPr>
        <p:blipFill>
          <a:blip r:embed="rId1"/>
          <a:stretch/>
        </p:blipFill>
        <p:spPr>
          <a:xfrm>
            <a:off x="468360" y="18900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corp-gsp.clan.su/gen/1356p.jpg"/>
          <p:cNvPicPr/>
          <p:nvPr/>
        </p:nvPicPr>
        <p:blipFill>
          <a:blip r:embed="rId1"/>
          <a:stretch/>
        </p:blipFill>
        <p:spPr>
          <a:xfrm>
            <a:off x="539640" y="549360"/>
            <a:ext cx="795672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4 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shkolazhizni.ru/img/content/i42/42828_or.jpg"/>
          <p:cNvPicPr/>
          <p:nvPr/>
        </p:nvPicPr>
        <p:blipFill>
          <a:blip r:embed="rId1"/>
          <a:stretch/>
        </p:blipFill>
        <p:spPr>
          <a:xfrm>
            <a:off x="611280" y="476280"/>
            <a:ext cx="7812000" cy="58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mg11.nnm.ru/imagez/gallery/4/1/9/5/c/4195c0a81345a30feeb4bfda8e8e524d_full.jpg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g-fotki.yandex.ru/get/3300/salenaya.0/0_20482_86f0300d_XL"/>
          <p:cNvPicPr/>
          <p:nvPr/>
        </p:nvPicPr>
        <p:blipFill>
          <a:blip r:embed="rId1"/>
          <a:stretch/>
        </p:blipFill>
        <p:spPr>
          <a:xfrm>
            <a:off x="395280" y="404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051.radikal.ru/0905/82/bf3197b3fe34.jpg"/>
          <p:cNvPicPr/>
          <p:nvPr/>
        </p:nvPicPr>
        <p:blipFill>
          <a:blip r:embed="rId1"/>
          <a:stretch/>
        </p:blipFill>
        <p:spPr>
          <a:xfrm>
            <a:off x="324000" y="404640"/>
            <a:ext cx="7932600" cy="59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slutsk.minsk-region.by/apimages/234.jpg"/>
          <p:cNvPicPr/>
          <p:nvPr/>
        </p:nvPicPr>
        <p:blipFill>
          <a:blip r:embed="rId1"/>
          <a:stretch/>
        </p:blipFill>
        <p:spPr>
          <a:xfrm>
            <a:off x="250920" y="260280"/>
            <a:ext cx="846936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468360" y="3571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бессмертные песни! Потому что в них отразилась большая душа народа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10640" y="1413000"/>
            <a:ext cx="79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многих нынешних мальчишек и девчонок Вели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чественная война - это далекое прош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шлое, о котором они знают по рассказам сво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дов или узнают  о войне из фильмов, книг и пес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1331"/>
          <p:cNvPicPr/>
          <p:nvPr/>
        </p:nvPicPr>
        <p:blipFill>
          <a:blip r:embed="rId1"/>
          <a:stretch/>
        </p:blipFill>
        <p:spPr>
          <a:xfrm>
            <a:off x="1643040" y="3071880"/>
            <a:ext cx="2143080" cy="32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504389"/>
          <p:cNvPicPr/>
          <p:nvPr/>
        </p:nvPicPr>
        <p:blipFill>
          <a:blip r:embed="rId2"/>
          <a:stretch/>
        </p:blipFill>
        <p:spPr>
          <a:xfrm>
            <a:off x="5357880" y="3071880"/>
            <a:ext cx="223344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4"/>
          <p:cNvPicPr/>
          <p:nvPr/>
        </p:nvPicPr>
        <p:blipFill>
          <a:blip r:embed="rId1"/>
          <a:stretch/>
        </p:blipFill>
        <p:spPr>
          <a:xfrm>
            <a:off x="152280" y="214200"/>
            <a:ext cx="89154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41-194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6760" y="838080"/>
            <a:ext cx="817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янул год, пришёл чере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ынче мы в от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Россию, за на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 всё на с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Твард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4 001"/>
          <p:cNvPicPr/>
          <p:nvPr/>
        </p:nvPicPr>
        <p:blipFill>
          <a:blip r:embed="rId1"/>
          <a:stretch/>
        </p:blipFill>
        <p:spPr>
          <a:xfrm>
            <a:off x="4429080" y="2071800"/>
            <a:ext cx="419112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эты военной по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.Тихо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.Сур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.Иса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.Твард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.Прокофь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.Щипач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.Симон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друг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4 003"/>
          <p:cNvPicPr/>
          <p:nvPr/>
        </p:nvPicPr>
        <p:blipFill>
          <a:blip r:embed="rId1"/>
          <a:stretch/>
        </p:blipFill>
        <p:spPr>
          <a:xfrm>
            <a:off x="3995640" y="1557360"/>
            <a:ext cx="48769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тюша» (1938г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4200" y="999720"/>
            <a:ext cx="5429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.Исаковск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Мы как бы уже предчувствовали войну, хотя и не знали, когда и откуда она может прийти. В 1938 году еще пылало пламя войны в Испании; в том же году Красная Армия вела тяжелые бои с японскими самураями у озера Хасан; не очень спокойно было на западных наших границах.  По этим причинам я не мог пройти мимо темы Родины, ее защиты даже в лирических песня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36f"/>
          <p:cNvPicPr/>
          <p:nvPr/>
        </p:nvPicPr>
        <p:blipFill>
          <a:blip r:embed="rId1"/>
          <a:stretch/>
        </p:blipFill>
        <p:spPr>
          <a:xfrm>
            <a:off x="5715000" y="928800"/>
            <a:ext cx="32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284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луй, никогда за время существования советской поэзии не было написано столько лирических стихов, как за годы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Сур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" descr="4 002"/>
          <p:cNvPicPr/>
          <p:nvPr/>
        </p:nvPicPr>
        <p:blipFill>
          <a:blip r:embed="rId1"/>
          <a:stretch/>
        </p:blipFill>
        <p:spPr>
          <a:xfrm>
            <a:off x="1714680" y="2428920"/>
            <a:ext cx="535752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вященная война» 1941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99720"/>
            <a:ext cx="56865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4 июня 1941г газеты «Известия» и «Красная звезда» опубликовали стихотворение Василия Лебедева-Кумача «Священная война». А потом состоялась премьера песни. Ветеран ансамбля песни и пляски Красной армии Ю.Емельянов вспоминал: «С первых же тактов мы почувствовали, что песня захватила бойцов. Все встали, как во время исполнения гимна. На лицах – волнение, слезы… Песня утихла, но бойцы потребовали повторения.» Так начался славный и долгий путь этой пес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145f"/>
          <p:cNvPicPr/>
          <p:nvPr/>
        </p:nvPicPr>
        <p:blipFill>
          <a:blip r:embed="rId1"/>
          <a:stretch/>
        </p:blipFill>
        <p:spPr>
          <a:xfrm>
            <a:off x="6143760" y="1000080"/>
            <a:ext cx="273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землянке» 1941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85716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нерал армии А.Белобородов вспоминал: «Алексей Сурков стал бойцом в самом начале войны. Он всегда рвался в самое пекло боя. Вместе со штабом полка вырвался из вражеского окружения и попал… на минное поле. Это было, действительно, «до смерти четыре шага». После этого, промерзший, усталый, в шинели, посеченной осколками, Сурков просидел над своим блокнотом в землянке, у солдатской печурки. Тогда и родилась знаменитая «Землянка»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2:24:52Z</dcterms:created>
  <dc:creator>Людмила</dc:creator>
  <dc:description/>
  <dc:language>en-US</dc:language>
  <cp:lastModifiedBy>Андрей</cp:lastModifiedBy>
  <dcterms:modified xsi:type="dcterms:W3CDTF">2021-10-18T10:41:09Z</dcterms:modified>
  <cp:revision>23</cp:revision>
  <dc:subject/>
  <dc:title>Песни о Великой Отечественной войне.</dc:title>
</cp:coreProperties>
</file>