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2.gif" ContentType="image/gif"/>
  <Override PartName="/ppt/media/image5.png" ContentType="image/png"/>
  <Override PartName="/ppt/media/image29.jpeg" ContentType="image/jpeg"/>
  <Override PartName="/ppt/media/image11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10.png" ContentType="image/png"/>
  <Override PartName="/ppt/media/image14.png" ContentType="image/png"/>
  <Override PartName="/ppt/media/image27.jpeg" ContentType="image/jpeg"/>
  <Override PartName="/ppt/media/image17.gif" ContentType="image/gif"/>
  <Override PartName="/ppt/media/image21.jpeg" ContentType="image/jpeg"/>
  <Override PartName="/ppt/media/image6.gif" ContentType="image/gif"/>
  <Override PartName="/ppt/media/image18.gif" ContentType="image/gif"/>
  <Override PartName="/ppt/media/image19.gif" ContentType="image/gif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FE5-32B7-434A-B607-F1A357F5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A97-1098-4FED-A541-37090FF1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AFD-8D12-497E-8E7A-936BE2EC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68D-4795-4313-BB9B-5EA75A39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58B-7A47-499B-8F73-997D0B09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7086-771A-422F-91EA-7DA8659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941B-97DE-42AC-8D47-844D115B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299A-A538-41C5-94FB-2FD8E494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C90D-BAED-4A8F-86DB-FD6AC5BF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9646-6481-4CF8-B2EB-53F5FB7B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98FA-E280-4ACA-811B-F984DA78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D3B-CCC8-484A-BFBB-61D45154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3626-DF4C-4FC4-A35E-EFD4A28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6F6C-91A2-498F-92F5-289A4DA2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3691-C8F3-423D-9F42-03A2AC73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EEFF-57A2-4D0F-9C45-A71EC7AE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641D-147A-4FAA-8DBC-63A98146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1F9-11DD-44AB-8A91-DC68B950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FF8-2BD0-438C-92E9-4ED23F73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3F7-10D7-4E7E-9085-C45EF5B4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CA1-DEF9-486F-BC89-41DF3580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61B-712F-43A0-88F5-72CD025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8AB-E381-484A-9791-84DD82C5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A68-1778-4D85-9CC7-0336915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2107-3B66-4473-8DEF-33656120A8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83C2-F5DD-46A2-8681-BA68425939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820000" cy="259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Урок 1: «Введение в геометрию»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еометрия –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азурненская СО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читель математики Мещанинец А.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5589720"/>
            <a:ext cx="266544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3300"/>
                </a:solidFill>
                <a:latin typeface="Comic Sans MS"/>
              </a:rPr>
              <a:t>Основные школьные геометрические инструмент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линейка;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транспортир;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циркуль;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карандаш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043080" cy="3384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1238400" cy="1809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1523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020000" y="5950080"/>
            <a:ext cx="1512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 rot="21213600">
            <a:off x="-353880" y="-460080"/>
            <a:ext cx="9467640" cy="5327640"/>
          </a:xfrm>
          <a:prstGeom prst="cloudCallout">
            <a:avLst>
              <a:gd name="adj1" fmla="val 42731"/>
              <a:gd name="adj2" fmla="val 5105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хника безопасности на уроке геометр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торожно обращайся с циркулем и другими инструментами (можно поранить себя и других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разбирай инструменты на уро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2149560" cy="2349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03640" y="5661000"/>
            <a:ext cx="2160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веть на вопрос: «Какие фигуры из планиметрии и стереометрии ты встречаешь в жизни?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рисуй рисунок из простейших геометрических фигур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4103640" cy="2592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15130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1ce8"/>
                </a:solidFill>
                <a:latin typeface="Comic Sans MS"/>
              </a:rPr>
              <a:t>     </a:t>
            </a:r>
            <a:r>
              <a:rPr b="1" lang="en-US" sz="4000" spc="-1" strike="noStrike">
                <a:solidFill>
                  <a:srgbClr val="821ce8"/>
                </a:solidFill>
                <a:latin typeface="Comic Sans MS"/>
              </a:rPr>
              <a:t>Выставка работ ребят</a:t>
            </a:r>
            <a:br>
              <a:rPr sz="4000"/>
            </a:br>
            <a:r>
              <a:rPr b="1" lang="en-US" sz="4000" spc="-1" strike="noStrike">
                <a:solidFill>
                  <a:srgbClr val="821ce8"/>
                </a:solidFill>
                <a:latin typeface="Comic Sans MS"/>
              </a:rPr>
              <a:t>         прошлых лет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83528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 rot="20943600">
            <a:off x="179280" y="1125360"/>
            <a:ext cx="1656000" cy="1438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2232000" cy="1729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 rot="886800">
            <a:off x="6948000" y="1341000"/>
            <a:ext cx="1974960" cy="1569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 rot="21038400">
            <a:off x="250920" y="3428640"/>
            <a:ext cx="1879560" cy="2695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 rot="579600">
            <a:off x="6443280" y="3212640"/>
            <a:ext cx="2335320" cy="3168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4356000" y="1628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2411280" y="3716280"/>
            <a:ext cx="360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1ce8"/>
                </a:solidFill>
                <a:latin typeface="Comic Sans MS"/>
              </a:rPr>
              <a:t>Работы на компьютер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 rot="20199000">
            <a:off x="315720" y="34444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1231800">
            <a:off x="5285880" y="3076560"/>
            <a:ext cx="3521160" cy="2639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4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0810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8120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Что это такое – </a:t>
            </a:r>
            <a:r>
              <a:rPr b="0" lang="en-US" sz="4000" spc="-1" strike="noStrike">
                <a:solidFill>
                  <a:srgbClr val="993300"/>
                </a:solidFill>
                <a:latin typeface="Comic Sans MS"/>
              </a:rPr>
              <a:t>ГЕОМЕТРИ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переводе с греческого слово «</a:t>
            </a:r>
            <a:r>
              <a:rPr b="0" lang="ru-RU" sz="3600" spc="-1" strike="noStrike">
                <a:solidFill>
                  <a:srgbClr val="993300"/>
                </a:solidFill>
                <a:latin typeface="Comic Sans MS"/>
              </a:rPr>
              <a:t>геометрия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» означает «</a:t>
            </a:r>
            <a:r>
              <a:rPr b="0" lang="ru-RU" sz="3600" spc="-1" strike="noStrike">
                <a:solidFill>
                  <a:srgbClr val="993300"/>
                </a:solidFill>
                <a:latin typeface="Comic Sans MS"/>
              </a:rPr>
              <a:t>землемери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«гео» - по-гречески земля, а «метрео» - мерить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16360" y="4221000"/>
            <a:ext cx="230364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762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сторическая справк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зникновение геометрии относится к глубокой древности и обусловлено практическими потребностями измерения земельных участков, объёмов и др. Строгое построение геометрии как системы предложений (теорем), последовательно выводимых из немногочисленных определений основных понятий и истин, принимаемых без доказательств (аксиом), было дано в Древней Греци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ое изложение геометрии в «Началах» Евклид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ок. 300 до н.э.) в течении  почти 2 тыс. лет служил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зцом и называлась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евклидовой геометри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зрождение наук и искусств в Европе стимулировал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геометри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не Декарт предложил метод координат, позволивш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вязать геометрию с алгеброй и математическим анализо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породило аналитическую геометрию 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фференциальную геометр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ьшой вклад в развитие геометрии внёс Н. И. Лобачевски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1826 г. построил т. н. Лобачевского геометрию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личавшуюся от евклидовой аксиомой о параллельны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93080" y="3500280"/>
            <a:ext cx="141912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9640" y="5013360"/>
            <a:ext cx="136836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9640" y="2276640"/>
            <a:ext cx="1584360" cy="15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так: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202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Comic Sans MS"/>
              </a:rPr>
              <a:t>ГЕОМЕТРИЯ – это наука занимающаяся изучением геометрических фигур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708360" y="4076640"/>
            <a:ext cx="3809880" cy="2583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800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ие геометрические фигуры вы знает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39640" y="2924280"/>
            <a:ext cx="216072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08360" y="2565360"/>
            <a:ext cx="144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249228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2421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2421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340000" y="3141360"/>
            <a:ext cx="3240000" cy="115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4149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276720" y="4076280"/>
            <a:ext cx="57456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76720" y="5013000"/>
            <a:ext cx="158256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20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3933720"/>
            <a:ext cx="1440000" cy="505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5157720"/>
            <a:ext cx="914400" cy="914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4437000"/>
            <a:ext cx="1295280" cy="12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5373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80360" y="278136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62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Школьная геометрия состоит из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675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Планиметрии (7-9кл)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Стереометрии (10-11кл)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3280" y="5373720"/>
            <a:ext cx="2665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667640" y="4076640"/>
            <a:ext cx="84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ру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6000" y="2349360"/>
            <a:ext cx="1295280" cy="122400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Comic Sans MS"/>
              </a:rPr>
              <a:t>Планиметрия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рассматривает свойства фигур на плоскост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1989000"/>
            <a:ext cx="2067120" cy="1203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4005360"/>
            <a:ext cx="914400" cy="91440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2205000"/>
            <a:ext cx="1057320" cy="1706760"/>
          </a:xfrm>
          <a:prstGeom prst="triangle">
            <a:avLst>
              <a:gd name="adj" fmla="val 50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4797360"/>
            <a:ext cx="2305080" cy="914400"/>
          </a:xfrm>
          <a:prstGeom prst="parallelogram">
            <a:avLst>
              <a:gd name="adj" fmla="val 63022"/>
            </a:avLst>
          </a:prstGeom>
          <a:solidFill>
            <a:srgbClr val="821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3132000" y="4508640"/>
            <a:ext cx="2232000" cy="914400"/>
          </a:xfrm>
          <a:custGeom>
            <a:avLst/>
            <a:gdLst>
              <a:gd name="textAreaLeft" fmla="*/ 490680 w 2232000"/>
              <a:gd name="textAreaRight" fmla="*/ 1741320 w 22320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060640"/>
            <a:ext cx="1203480" cy="1201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50920" y="3284640"/>
            <a:ext cx="3124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ямоуголь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42920" y="5084640"/>
            <a:ext cx="165744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адра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700360" y="4076640"/>
            <a:ext cx="25909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угольни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3640" y="3357720"/>
            <a:ext cx="1944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кружнос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132000" y="5661000"/>
            <a:ext cx="20005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трапе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76720" y="6021360"/>
            <a:ext cx="3448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12366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101080" cy="17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Comic Sans MS"/>
              </a:rPr>
              <a:t>Стереометри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зучает свойства фигур в пространств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1773360"/>
            <a:ext cx="1152360" cy="25207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7640" y="1916280"/>
            <a:ext cx="1214640" cy="237636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1916280"/>
            <a:ext cx="1419120" cy="1346040"/>
          </a:xfrm>
          <a:prstGeom prst="ellipse">
            <a:avLst/>
          </a:prstGeom>
          <a:solidFill>
            <a:srgbClr val="821ce8"/>
          </a:solidFill>
          <a:ln w="9360">
            <a:solidFill>
              <a:srgbClr val="821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4221000"/>
            <a:ext cx="1214640" cy="121464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4437000"/>
            <a:ext cx="201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цилинд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 rot="892800">
            <a:off x="4352400" y="3018960"/>
            <a:ext cx="10083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92360" y="5516640"/>
            <a:ext cx="10083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9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б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32360" y="4724280"/>
            <a:ext cx="3610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араллелепип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158436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Фигуры стереометр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0920" y="2708280"/>
            <a:ext cx="19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косаэд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016360" cy="2019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508720" y="3068640"/>
            <a:ext cx="31986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вёздчатый октаэд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2484360" cy="2200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835280" y="3284640"/>
            <a:ext cx="35258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льшой додекаэд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788000" y="3789360"/>
            <a:ext cx="4105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льшой звёздчатый додекаэд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796000" y="4265640"/>
            <a:ext cx="2741400" cy="2592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0" y="5589720"/>
            <a:ext cx="21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бооктаэд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0" y="3747960"/>
            <a:ext cx="1908000" cy="1841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2340000" y="3860640"/>
            <a:ext cx="2376360" cy="2305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268360" y="6308640"/>
            <a:ext cx="296388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гран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0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0:07:47Z</dcterms:created>
  <dc:creator>User</dc:creator>
  <dc:description/>
  <dc:language>en-US</dc:language>
  <cp:lastModifiedBy>школа</cp:lastModifiedBy>
  <dcterms:modified xsi:type="dcterms:W3CDTF">2008-11-10T04:48:40Z</dcterms:modified>
  <cp:revision>12</cp:revision>
  <dc:subject/>
  <dc:title>Начальные геометрические сведения</dc:title>
</cp:coreProperties>
</file>