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3798-940E-40FF-983C-139D45F28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5304-D165-480A-9C96-12C027DA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2E30-D90A-43B4-BF8B-339C7504A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89BE-2FC4-4846-A2BF-2362CB2E3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5039-DE9F-4826-B47A-3B04F2CE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84F4-4C8E-4263-A5CE-FBB2C8A0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4177-7294-473F-9CBD-C068362A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2458-5A69-4B33-8E23-CE195EEC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9369-A2B3-421D-A9FE-DE17DDEE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6563-0907-463F-A224-9401172D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6657-8431-4213-BAE8-4F3BBFF5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C2F0-D5AC-4CD2-B005-47ECCF03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3547-DBD7-416C-9430-7694A0E1EB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Группа 1"/>
          <p:cNvGrpSpPr/>
          <p:nvPr/>
        </p:nvGrpSpPr>
        <p:grpSpPr>
          <a:xfrm>
            <a:off x="3124080" y="2362320"/>
            <a:ext cx="5791320" cy="2595600"/>
            <a:chOff x="3124080" y="2362320"/>
            <a:chExt cx="5791320" cy="2595600"/>
          </a:xfrm>
        </p:grpSpPr>
        <p:pic>
          <p:nvPicPr>
            <p:cNvPr id="42" name="TextBox 3" descr=""/>
            <p:cNvPicPr/>
            <p:nvPr/>
          </p:nvPicPr>
          <p:blipFill>
            <a:blip r:embed="rId2"/>
            <a:stretch/>
          </p:blipFill>
          <p:spPr>
            <a:xfrm>
              <a:off x="3270240" y="2362320"/>
              <a:ext cx="5645160" cy="232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Прямоугольник 3"/>
            <p:cNvSpPr/>
            <p:nvPr/>
          </p:nvSpPr>
          <p:spPr>
            <a:xfrm>
              <a:off x="3124080" y="4519080"/>
              <a:ext cx="566928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https://expertology.ru/upload/medialibrary/b86/Volter.jpg"/>
          <p:cNvPicPr/>
          <p:nvPr/>
        </p:nvPicPr>
        <p:blipFill>
          <a:blip r:embed="rId1"/>
          <a:stretch/>
        </p:blipFill>
        <p:spPr>
          <a:xfrm>
            <a:off x="2286000" y="-4680"/>
            <a:ext cx="495288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i.mycdn.me/i?r=AzEPZsRbOZEKgBhR0XGMT1RkFYqsHpKvMHOuYC7bX7_2j6aKTM5SRkZCeTgDn6uOyic"/>
          <p:cNvPicPr/>
          <p:nvPr/>
        </p:nvPicPr>
        <p:blipFill>
          <a:blip r:embed="rId1"/>
          <a:stretch/>
        </p:blipFill>
        <p:spPr>
          <a:xfrm>
            <a:off x="4680" y="380880"/>
            <a:ext cx="91393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s://biographe.ru/wp-content/uploads/2018/01/2-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https://fb.ru/misc/i/gallery/43131/2822075.jpg"/>
          <p:cNvPicPr/>
          <p:nvPr/>
        </p:nvPicPr>
        <p:blipFill>
          <a:blip r:embed="rId1"/>
          <a:stretch/>
        </p:blipFill>
        <p:spPr>
          <a:xfrm>
            <a:off x="1600200" y="-3240"/>
            <a:ext cx="5715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yten</cp:lastModifiedBy>
  <dcterms:modified xsi:type="dcterms:W3CDTF">2020-09-24T16:24:46Z</dcterms:modified>
  <cp:revision>1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