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6.gif" ContentType="image/gif"/>
  <Override PartName="/ppt/media/image5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380-5176-4297-AE70-12B942DAD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7FA3-948B-4747-9C94-F2C3CD559DA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4E9C-2869-4465-9E9C-EF3D40581745}" type="slidenum">
              <a:rPr b="0" lang="ru-RU" sz="1200" spc="-1" strike="noStrike">
                <a:solidFill>
                  <a:srgbClr val="ffcc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660E-E09A-4702-885D-7AEC166B54F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329-A7B1-4A4A-A362-E9674B9AA24A}" type="slidenum">
              <a:rPr b="0" lang="ru-RU" sz="1200" spc="-1" strike="noStrike">
                <a:solidFill>
                  <a:srgbClr val="ffcc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F2A-89CA-48D4-A2D1-2DF76A46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DBD-84E9-481D-844B-89526D36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FCB-0BAF-4B81-AEAD-3B9C5E46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10F-5AD5-49BE-98A7-CC9ABD52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1D5B-F9A4-4482-A550-759ED4C2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ABC-6EF8-4C7B-B1EA-E169605F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7BF3-E383-4F8A-BBDB-0119AC9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FD3-96AF-4366-B187-5B18991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A98-7FE5-4ADE-A3A6-C77D2D4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4FD7-6225-463E-BCBB-AACE61B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70B-35EA-4CDA-A548-3C816B91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821-F960-4E6A-9FDF-31AC4317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207B-8386-44C3-B2DA-0EB3689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7F6-386D-4072-82DF-F1CA3800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298-4B36-41CA-A960-A06DDEA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6CF7-B94C-4917-A54B-FB7E0789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7B04-8C22-45A1-ADF2-593192C5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14B-CA94-42D8-A9C6-28B0D05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F70-9F0D-4E03-9B57-A0FCE92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82B-1A62-41F0-8C41-53F6038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D6B-8A5F-4771-A78D-5005C544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4A2-C682-4358-A1CA-67E4EF7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0C6-58B4-4367-A701-91E6AFD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793-765E-4C58-BAC5-70D5072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C074-D1F2-44F5-A578-DFBB5BE1C25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2C8-FD69-4E45-B892-7F72F73404A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smiles.33b.ru/smile.101785.html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Admin\Мои документы\Мои рисунки\Отечественная война\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0" y="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ДЕТЯМ</a:t>
            </a:r>
            <a:r>
              <a:rPr b="0" lang="ru-RU" sz="8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О ВОЙНЕ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9 мая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День Победы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708360" y="486900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446_Marsh_den_pobedyi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:\внеклассная работа\отечественная война фото\4485cb40e087[1].jpg"/>
          <p:cNvPicPr/>
          <p:nvPr/>
        </p:nvPicPr>
        <p:blipFill>
          <a:blip r:embed="rId1"/>
          <a:stretch/>
        </p:blipFill>
        <p:spPr>
          <a:xfrm>
            <a:off x="0" y="2000160"/>
            <a:ext cx="5715000" cy="4857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F:\внеклассная работа\отечественная война фото\58417ef50937[1].jpg"/>
          <p:cNvPicPr/>
          <p:nvPr/>
        </p:nvPicPr>
        <p:blipFill>
          <a:blip r:embed="rId2"/>
          <a:srcRect l="0" t="0" r="0" b="8109"/>
          <a:stretch/>
        </p:blipFill>
        <p:spPr>
          <a:xfrm>
            <a:off x="4786200" y="20001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428760" y="928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1071720" y="285840"/>
            <a:ext cx="11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шем тылу тоже шла битва- рабочая битва, все кто не мог уйти на фронт трудились на заводах, выпускали танки, самолёты, снаряды. По 12-15 часов стояли люди у станков, это был их трудовой фронт, их трудовой подвиг. Они верили в победу и ждали с войны своих мужей, сыновей, отцов, братье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C:\Documents and Settings\User\Мои документы\Мои рисунки\Анимация\фоны\den_pobedy_str_14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2"/>
          <p:cNvSpPr/>
          <p:nvPr/>
        </p:nvSpPr>
        <p:spPr>
          <a:xfrm>
            <a:off x="4716360" y="333360"/>
            <a:ext cx="44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От всех, кто вами был спасён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От всех, кто нынче рядом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Примите наш земной поклон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Советские солдаты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1"/>
          <p:cNvPicPr/>
          <p:nvPr/>
        </p:nvPicPr>
        <p:blipFill>
          <a:blip r:embed="rId2"/>
          <a:stretch/>
        </p:blipFill>
        <p:spPr>
          <a:xfrm>
            <a:off x="2556000" y="6076800"/>
            <a:ext cx="3876480" cy="781200"/>
          </a:xfrm>
          <a:prstGeom prst="rect">
            <a:avLst/>
          </a:prstGeom>
          <a:ln w="0">
            <a:noFill/>
          </a:ln>
        </p:spPr>
      </p:pic>
      <p:pic>
        <p:nvPicPr>
          <p:cNvPr id="397" name="446_Marsh_den_pobedyi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1189080" y="407880"/>
            <a:ext cx="6796080" cy="1219320"/>
          </a:xfrm>
          <a:prstGeom prst="rect">
            <a:avLst/>
          </a:prstGeom>
          <a:ln w="0">
            <a:noFill/>
          </a:ln>
        </p:spPr>
      </p:pic>
      <p:pic>
        <p:nvPicPr>
          <p:cNvPr id="363" name="TextBox 2" descr=""/>
          <p:cNvPicPr/>
          <p:nvPr/>
        </p:nvPicPr>
        <p:blipFill>
          <a:blip r:embed="rId2"/>
          <a:stretch/>
        </p:blipFill>
        <p:spPr>
          <a:xfrm>
            <a:off x="146160" y="2206800"/>
            <a:ext cx="8832600" cy="3066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2d42912194ae10c91f02621ba0feac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267160"/>
            <a:ext cx="1000080" cy="1590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ec85d8015c38696db5a225b7bcd8285"/>
          <p:cNvPicPr/>
          <p:nvPr/>
        </p:nvPicPr>
        <p:blipFill>
          <a:blip r:embed="rId5"/>
          <a:stretch/>
        </p:blipFill>
        <p:spPr>
          <a:xfrm>
            <a:off x="255600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ec85d8015c38696db5a225b7bcd8285"/>
          <p:cNvPicPr/>
          <p:nvPr/>
        </p:nvPicPr>
        <p:blipFill>
          <a:blip r:embed="rId6"/>
          <a:stretch/>
        </p:blipFill>
        <p:spPr>
          <a:xfrm>
            <a:off x="147636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ec85d8015c38696db5a225b7bcd8285"/>
          <p:cNvPicPr/>
          <p:nvPr/>
        </p:nvPicPr>
        <p:blipFill>
          <a:blip r:embed="rId7"/>
          <a:stretch/>
        </p:blipFill>
        <p:spPr>
          <a:xfrm>
            <a:off x="468360" y="530064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F:\внеклассная работа\отечественная война фото\soldat_leters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F:\внеклассная работа\отечественная война фото\248278[1].jpg"/>
          <p:cNvPicPr/>
          <p:nvPr/>
        </p:nvPicPr>
        <p:blipFill>
          <a:blip r:embed="rId2"/>
          <a:stretch/>
        </p:blipFill>
        <p:spPr>
          <a:xfrm>
            <a:off x="4143240" y="1857240"/>
            <a:ext cx="5000760" cy="5000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F:\внеклассная работа\отечественная война фото\12565[1].jpg"/>
          <p:cNvPicPr/>
          <p:nvPr/>
        </p:nvPicPr>
        <p:blipFill>
          <a:blip r:embed="rId3"/>
          <a:stretch/>
        </p:blipFill>
        <p:spPr>
          <a:xfrm>
            <a:off x="0" y="0"/>
            <a:ext cx="4714920" cy="46767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428760" y="0"/>
            <a:ext cx="871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Дорогая мамочк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Ты обо мне в слезах не вспомина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Оставь свою заботу и тревог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Неблизок путь, далёк родимый кра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Но я вернусь к знакомому порог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По-прежнему моя любовь с тобой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С тобою родина, ты не одна, родна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"/>
          <p:cNvPicPr/>
          <p:nvPr/>
        </p:nvPicPr>
        <p:blipFill>
          <a:blip r:embed="rId1"/>
          <a:srcRect l="2939" t="28415" r="6176" b="14949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F:\внеклассная работа\отечественная война фото\Stalingrad[1].jpg"/>
          <p:cNvPicPr/>
          <p:nvPr/>
        </p:nvPicPr>
        <p:blipFill>
          <a:blip r:embed="rId2"/>
          <a:stretch/>
        </p:blipFill>
        <p:spPr>
          <a:xfrm>
            <a:off x="4143240" y="3357720"/>
            <a:ext cx="5000760" cy="3500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0" y="3500280"/>
            <a:ext cx="5141880" cy="33577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йна не щадила никого, на фронте гибли солдаты, раненых с поля  боя под пулями вытаскивали молоденькие девушки-медсёстры, санитарки. В госпиталях воинов выхаживали военные медики, трудившиеся без сна и отдыха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Картинка 303 из 51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TextBox 1" descr=""/>
          <p:cNvPicPr/>
          <p:nvPr/>
        </p:nvPicPr>
        <p:blipFill>
          <a:blip r:embed="rId2"/>
          <a:stretch/>
        </p:blipFill>
        <p:spPr>
          <a:xfrm>
            <a:off x="-463680" y="768240"/>
            <a:ext cx="1007136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F:\внеклассная работа\отечественная война фото\repphoto_6500_798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нинград был окружён. Город остался без продовольствия,топлива и сообщения с другими городами. Но ленинградцы несмотря на холод, голод, болезни продолжали работать, спасать памятники, дворцы от зажигательных бом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F:\внеклассная работа\отечественная война фото\0_a032_f96feb79_XL[1].jpg"/>
          <p:cNvPicPr/>
          <p:nvPr/>
        </p:nvPicPr>
        <p:blipFill>
          <a:blip r:embed="rId1"/>
          <a:srcRect l="0" t="35284" r="0" b="0"/>
          <a:stretch/>
        </p:blipFill>
        <p:spPr>
          <a:xfrm>
            <a:off x="4572000" y="0"/>
            <a:ext cx="4572000" cy="3699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0" y="41497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ждый день сотни ленинградцев умирали  от голода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замерзали на улицах , погибали под бомбёжкам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08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F:\внеклассная работа\отечественная война фото\19752s[1].jpg"/>
          <p:cNvPicPr/>
          <p:nvPr/>
        </p:nvPicPr>
        <p:blipFill>
          <a:blip r:embed="rId1"/>
          <a:srcRect l="17697" t="18819" r="0" b="0"/>
          <a:stretch/>
        </p:blipFill>
        <p:spPr>
          <a:xfrm>
            <a:off x="4067280" y="3645000"/>
            <a:ext cx="5076720" cy="3213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Картинка 326 из 49987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629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Картинка 326 из 49987"/>
          <p:cNvPicPr/>
          <p:nvPr/>
        </p:nvPicPr>
        <p:blipFill>
          <a:blip r:embed="rId3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0" y="2858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люди выстояли, они сохранили красивейший город мира- свой Ленинград, свой Санкт- Петербург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F:\внеклассная работа\отечественная война фото\russian_infantry1[1].jpg"/>
          <p:cNvPicPr/>
          <p:nvPr/>
        </p:nvPicPr>
        <p:blipFill>
          <a:blip r:embed="rId1"/>
          <a:srcRect l="0" t="8287" r="0" b="0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"/>
          <p:cNvSpPr/>
          <p:nvPr/>
        </p:nvSpPr>
        <p:spPr>
          <a:xfrm flipH="1">
            <a:off x="285840" y="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локада Ленинграда была прорвана. Но впереди было ещё много тяжёлых боёв. На фронте воевали все: мужчины, женщины с автоматами в руках били фашистов,  совершали диверсии в тылу врага, бомбили  вражеские войска с неб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6:34:45Z</dcterms:created>
  <dc:creator>Dell</dc:creator>
  <dc:description/>
  <dc:language>en-US</dc:language>
  <cp:lastModifiedBy>Методист</cp:lastModifiedBy>
  <dcterms:modified xsi:type="dcterms:W3CDTF">2021-10-19T14:54:38Z</dcterms:modified>
  <cp:revision>19</cp:revision>
  <dc:subject/>
  <dc:title>Слайд 1</dc:title>
</cp:coreProperties>
</file>